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41A23B2-A472-4B73-BA60-E09FD14C4C27}"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E182BD08-76E1-457D-832F-260A2FCFC32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83B3BA89-2B5E-4525-A921-25911FFC6E3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8: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4:07:58Z</dcterms:modified>
  <cp:revision>275</cp:revision>
  <dc:subject/>
  <dc:title>Cover Slide Example</dc:title>
</cp:coreProperties>
</file>