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ECCF2A14-B5F1-474F-9AC1-E52C780D8B8E}"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4400" y="4225680"/>
            <a:ext cx="4686480" cy="379548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eme that weaves throughout the course (and which is introduced in this lecture) is that architectures do not exist by themselves, but are part of a cycle.  Architecture is a means towards an end.  It is influenced by the functional and quality goals of both the customer and the development organization.  It is also influenced by the architect’s background and experiences, and by the technical environment.  Architecture, in turn, influences the system being developed, and it is also potentially a core asset that influences the development organization.  The system also has an effect on the development organization, the architecture, and potentially, the technical environment.  This affects the future goals for the system and its organization.  The influences and feedback loops that surround an architecture form the architecture business cycle (ABC).</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14400" y="4225680"/>
            <a:ext cx="477504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some of the many stakeholders of a system. Each type of stakeholder has a different set of requirements.  In some cases, the requirements overlap (low cost is a recurring theme!), but in other cases, the requirements may be mutually exclusive.  It is the architect’s job to juggle and balance the conflicting requirements of the various stakeholders.  The result is that the architect may feel overwhelmed by the volume and conflicting nature of all the various requirements, which can affect the decisions made in choosing or developing an architecture.  As we will see later in this lecture, it is important for the architect to seek and encourage the active engagement of all stakeholders early in the project.  This places the architect in a better position to make adjustments and trade-offs when conflicting stakeholder requirements are identifi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organization and the customer may or may not be the same.  In either case, the interests of the development organization are different from those of the customer.  There are three different classes of influences that come from the role of the development organization:  immediate business issues, long-term business issues, and organizational structure.  </a:t>
            </a:r>
            <a:r>
              <a:rPr b="0" i="1" lang="en-US" sz="1000" spc="-1" strike="noStrike">
                <a:solidFill>
                  <a:srgbClr val="000000"/>
                </a:solidFill>
                <a:latin typeface="Arial"/>
              </a:rPr>
              <a:t>(The latter point is discuss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have an immediate business investment in certain assets such as an investment in existing architectures and the products based on them.  The foundation of a development project may be that the proposed system is the next in a sequence of similar systems, and the cost estimates assume a high degree of asset reuse.  Similarly, in the short-run, the availability of personnel for work on a project, or the amount and type of experience possessed by the existing development staff may affect architecture cho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wish to make a long-term business investment in an infrastructure to pursue strategic goals and may view the proposed system as one means of financing and extending that infrastructure.  The organization’s need to develop skills in or to expand the existing personnel base may also affect decisions about whether or how to invest in an architecture and the products based on i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software architecture.  Because internal groups often have a strong voice in specifying requirements or in deciding work breakdown structures, there may be pressure to use an architecture that maintains the status quo in terms of ensuring continued employment for existing personnel or in maintaining the standard method of doing business.  On the other hand, the need for specialized expertise that is not available in-house may lead to compartmentalization of system functions so that work may be subcontracted out, or it may necessitate the hiring of new personnel with the required specialized skil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case studies will illustrate the ways in which organizational structure issues and architecture affect each other.</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architecture:  The flight simulator case study describes how the development of some subsystems was subcontracted because the subcontractors provided specialized expertise.  This was made possible by a division of functionality in the architecture that allowed isolation of the specialties.</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shape the organizational structure:  The CelsiusTech case study describes how separate groups were responsible for building and maintaining separate portions of the organization’s architecture for a family of products.  So, in any design undertaken by the organization at large, these groups had a strong voice in the system’s decomposition, pressuring for the continued existence of those architectural portion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environment that is current when an architecture is designed will influence that architecture.  The environment might include industry standard practices or software engineering techniques prevalent in the architect’s professional commun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vailability (or non-availability) of technology that can help the system to achieve its desired requirements also affects the architecture.  Rapid changes in the technical environment (such as the appearance and proliferation of the World Wide Web and the need for systems that support use of this network) means that the system an architect builds today is not the same as the system built a few years ago, nor is it the same as a system that will be built a few years henc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s for a system have had good results using a particular architectural approach (such as distributed objects or implicit invocation), chances are that their first inclination will be to try that same approach again on a new development effort.  Conversely, if a prior experience was disastrous, the architect may be reluctant to try that approach agai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choices may also come from an architect’s education and training, exposure to successful architectural styles, or exposure to systems that have worked particularly poorly or particularly well.  The architect may also wish to experiment with an architectural style or technique learned from reading a book or taking a course (such as this on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 is influenced by many factors.  Among these are the stated or implicit requirements for the system (which come from stakeholder requests and from the needs and business goals of the development organization), the current technical environment, and the architect’s experience and professional backgrou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5040" y="4225680"/>
            <a:ext cx="477504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ition statement is needed here to tie the following slides in with the sec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preceded it.  We suggest words to the effect of the follo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t>
            </a:r>
            <a:r>
              <a:rPr b="0" i="1" lang="en-US" sz="1000" spc="-1" strike="noStrike">
                <a:solidFill>
                  <a:srgbClr val="000000"/>
                </a:solidFill>
                <a:latin typeface="Arial"/>
              </a:rPr>
              <a:t>The relationships between business goals, product requirements, practition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perience, architectures, and fielded systems form a cycle.  Just a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factors (which we have just discussed) that affect and influence architectures,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rchitecture itself affects the factors that influenced i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step listed on this slide will be discussed in detail on slides 20 through 24,</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 there is no need to go into detail here; this slide is a roadmap outlin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teps in the ABC.  The bullets give a high-level overview of how the cyc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affects the structure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the enterprise goal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customer requirements for the next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this system will affect the architect’s experience for subsequent system 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may influence and/or actually change the technical environment in which the system opera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ementation of the architecture may change and influence the architecture itsel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nfluences the structure of the development organization:  An architecture prescribes a structure for a system; in particular (as we shall see later in the course), an architecture prescribes the units of software that must be integrated to form the system.  These units correspond to work assignments, and these work assignments form the basis for the development project’s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short term, teams are formed for each software unit to be integrated; the development, test, and integration activities all revolve around the units.  Schedules and budgets allocate resources in chunks corresponding to uni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long term, if a company becomes adept at building families of similar systems, it will tend to invest in each of the teams by nurturing each area of expertise.  Teams become engraved in the organization’s structure.  Thus, the architecture influences the development organization by allowing for the development of expertise in the specific system element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enterprise goals of the development organization:  A successful system can enable a company to establish a foothold in a particular market are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uccessful system can provide opportunities for the efficient production and deployment of similar systems.  Often, the architecture itself is a primary factor in this efficiency and acts as a core asset of invested capit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terprise may adjust its goals to take advantage of its newfound expertise to plumb the market.  This is feedback from the system to the development organiz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customer requirements for the next system by presenting the customer with the opportunity to receive an upgraded system (based on the same architecture) in a manner that is more reliable, timely, and economical than if the subsequent system were built from scratch.  The customer may be willing to relax some requirements to gain these econom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influenced by many factors, including concerns of the system stakeholders, various technical and organizational factors, and the background and experience of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have an influence on the very factors that influenced them.  Some of these influences come from the architecture itself and some come from the system that is built from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the ABC include the influences on the architect(s), the resultant architecture, the system built from the architecture, the relationships among these components, and the timeframe underlying the system lifecyc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a system from an architecture will affect the architect’s experience for subsequent systems by having added to the corporate experience base.  A system that was successfully built around a tool bus or an object request broker or encapsulated finite-state machines will engender future similar systems that are built the same way.  On the other hand, architectures that failed are not likely to be chosen again in the near fu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systems will influence and actually change the software engineering culture, the technical environment in which system builders operate and learn.  The first relational databases, compiler generators, and table-driven operating systems had this effect in the 1960s and early 1970s.  The first spreadsheets and windowing systems had this effect in the 1980s.  When such pathfinder systems are constructed, subsequent systems are affected by their legac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re is a cycle of influences that exists between an architecture an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that developed it.  These and other feedback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 what we call the ABC, or Architectural Business Cycl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 components of the ABC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culture and business of the development organization o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perties of the architecture that determine how the system is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architecture on the development organization and the archit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is also built on a recognition that shrewd organizations can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vantage of the organizational, enterprise, and experiential effec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ing an architecture and can use those effects to position their busines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ategically for future projec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works like th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and organizational goals influence and/or determine the set of system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the current technical environment, and the architect’s experience lead to a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yiel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nd their successes or failures, suggest future new organizational capabilities and requirements.  They also add to the architect’s experience that will come into play for future system designs, and may influence or even change the technical environmen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hould be apparent that the architects need more than just technical skills.  For an effective architect, diplomacy, negotiation, and communication skills are also essenti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most never are the properties required by the business and enterprise goals consciously understood, let alone fully articulated.  Indeed, even customer requirements are seldom documented completely.  However, it is important for architects to know and understand the kinds of constraints on the project as early as possible.  Therefore, </a:t>
            </a:r>
            <a:r>
              <a:rPr b="0" i="1" lang="en-US" sz="1000" spc="-1" strike="noStrike">
                <a:solidFill>
                  <a:srgbClr val="000000"/>
                </a:solidFill>
                <a:latin typeface="Arial"/>
              </a:rPr>
              <a:t>architects must identify and actively engage the stakeholders to solicit their needs and expectations</a:t>
            </a:r>
            <a:r>
              <a:rPr b="0" lang="en-US" sz="1000" spc="-1" strike="noStrike">
                <a:solidFill>
                  <a:srgbClr val="000000"/>
                </a:solidFill>
                <a:latin typeface="Arial"/>
              </a:rPr>
              <a:t>.  Without such active engagement, the stakeholders will, at some point, engage the architect to explain why each proposed architecture is unacceptable, thus delaying the project and idling workers.  Early engagement of stakeholders allows the architects to understand the constraints of the task, to manage expectations, and to negotiate priorities.  Architecture reviews and iterative prototyping (which will both be discussed later in the course) are two means for achieving early engagement of the system’s stakeholders.  The architect must also use people skills in persuading teams to work together effectively to produce the system from the chose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hat architects understand the nature, source, and priorities of the various constraints on the task.  This places the architect in a better position to make informed choices about trade-offs when conflicts among competing constraints aris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tinual explanations to one stakeholder or another will be required to explain why the chosen priorities of different properties are not honored and why particular stakeholders are not having all of their expectations satisfied.  The abilities of listening to and understanding multiple viewpoints, and of tactfully communicating information to stakeholders are needed to be an effective architect.  Likewise, a good architect also needs to have the ability to clearly convey needed information (both verbally and in writing) to work teams so that each group understands the requirements and constraints imposed on it by the architecture and its resultant work breakdown struc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rue that, given the same technical requirements for a system, two different architects in different organizations will produce different architectures.  So, how can we tell if either of them is the </a:t>
            </a:r>
            <a:r>
              <a:rPr b="0" lang="en-US" sz="1000" spc="-1" strike="noStrike" u="sng">
                <a:solidFill>
                  <a:srgbClr val="000000"/>
                </a:solidFill>
                <a:uFillTx/>
                <a:latin typeface="Arial"/>
              </a:rPr>
              <a:t>right</a:t>
            </a:r>
            <a:r>
              <a:rPr b="0" i="1" lang="en-US" sz="1000" spc="-1" strike="noStrike">
                <a:solidFill>
                  <a:srgbClr val="000000"/>
                </a:solidFill>
                <a:latin typeface="Arial"/>
              </a:rPr>
              <a:t> </a:t>
            </a:r>
            <a:r>
              <a:rPr b="0" lang="en-US" sz="1000" spc="-1" strike="noStrike">
                <a:solidFill>
                  <a:srgbClr val="000000"/>
                </a:solidFill>
                <a:latin typeface="Arial"/>
              </a:rPr>
              <a:t>o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nswer is that there is no such thing as an inherently good or bad architecture.  Rather, architectures are either more or less fit for a stated purpose.  An architecture that works well for a complex system may be inappropriate for a “throwaway” prototype.  There are rules of thumb that should be followed when designing an architecture, and there are methods of evaluating an architecture for fitness in a given situation.  (These will be discussed in lecture 10.)</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time being, however, two important characteristics of a good architecture can be mentioned.  These are that the architecture is achievable within a reasonable budget and in a reasonable time.  An architecture may be feasible from the technical perspective, but it is useless in practical application if the implementation is prohibitively expensive or if the system will take so long to build that it will be obsolete by the time it is complet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 except for the last question in group #3:  The answer to “do stakeholder goals ever conflict” is generally “y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compass rose symbol found in the upper right corner of this slide is an indicator that the text on the slide is a “roadmap,” an outline of topics that will be discussed in detail on subsequent slides.  Therefore, there is no need to expound in detail on the items listed on this (or any) roadmap slide.  The compass rose symbol is used throughout the course to indicate roadmap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s describe the business aspects of architecture, as listed under the third text group on the slide.  Technical aspects of architectures ar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an architecture for a specific system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n organization with leverage to enter or control a specific area in the marketplace (e.g., Microso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 vehicle for management oversight:  understanding the architecture allows you to track the progress of a project, ask questions, and have insight into the working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s an organization to focus on a particular niche in the marketplace:  many system qualities (such as interoperability) are determined in whole or in part by the architecture, allowing for development of systems and products that will with other, similar systems or products in that same market nich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s as a mechanism for scoping products:  architecture is an artifact of the system and allows you to see what functionalities are within the scope of the system or are outside its bounda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used as a sales tool:  being able to tell the customer that a system or product conforms to industry standards (such as DII COE) can give a competitive advanta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prise architectures are architectures for a collection of systems.  Just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dvantages to having an architecture for a single system, enterpri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provide business advantages.  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rter learning time:  if you understand the operation and functionality of one system within a collection, you can learn the operation and functionality of other, similar systems in the collection much faster than if you had to start from the ground 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tool support:  it is often advantageous and sometimes necessary to build a tool for a specialized software development need.  Having a collection of similar systems enables specialized tools to be reused in later development and implementation; it is more cost effective to have specialized tools if they can be used to build other systems because the cost can be amortized over the lifetime of several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ing of infrastructure among systems:  just as tool cost can be amortized over application to several systems, the costs of infrastructure (e.g., a particular type of communication system) can be spread across use in multiple, related syste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lides 7 through 15 include details regarding the factors influencing architectur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4680" y="4225680"/>
            <a:ext cx="487980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engineering literature makes a clean distinction between the customer and the end user:  the customer pays for the development or purchase of a system and specifies the requirements that ensure suitability to the end user, whereas the end user just uses the system.  In reality, the line between customer and end user may be blurred.  By our definition, “customers” are the people who pay (directly or indirectly) for system development; thus, customers can be either internal or external to the development organization.  And, as we will see on the next slide, there are many different categories of “end user” besides just those people who simply “use” the system as a finished produ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reality is that the customer is most concerned with cost, even to the point of compromising usability or other requirements.  Secondary concerns of the customer include usability of the system, the length of the system’s lifetime, the system’s interoperability with other systems, rapid time to market, and the capability to operate multiple platform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 requirements may have an effect on the architecture that is developed.  The desire for a low-cost product or need for rapid time-to-market may influence architecture in a very different way than a requirement for a highly reliable system or one that directly affects human safety.  Conversely, the availability of a system or an architecture may affect the customer’s requirements.  Shrink-wrapped software has clearly affected people’s requirements by providing solutions that are not tailored to their precise needs but which are inexpensive and (in the best of all possible worlds) of high quality.  Product lines have the same effect on customers who cannot be so flexible with their requirements.  (The CelsiusTech case study will show how the existence of a product-line architecture caused customers to happily compromise their requirements because they could get high-quality software that fit their basic needs quickly, reliably, and at relatively low cos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saw on the previous slide, the software engineering literature cleanly defines the term “end users” to mean the people who use the system as a finished product.  In reality, there are many different categories of end users: those who provide input to the system, system administrators, and those who receive output from the system, to name just a f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availability of needed functions:  Does the system do what the user needs or wants it to do?  Having an acceptable system involves behavior of the system, as well as other properties such as performance, reliability, availability, platform compatibility, memory utilization, network usage, security, modifiability, and interoperability with other systems.  All of these properties and others affect the way in which the delivered system is viewed by its eventual recipient.  Some properties (such as modifiability) may become apparent to the end user only over tim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listing a few of the other stakeholders of a system.  They will each be discussed on a subsequent slid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3A344BEC-20EB-4A55-A0BE-C486950113F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9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88638E81-E513-4867-8AD5-B5B74B311D8A}"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5200" y="1552320"/>
            <a:ext cx="781344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600"/>
            </a:br>
            <a:r>
              <a:rPr b="0" lang="en-US" sz="4800" spc="-1" strike="noStrike">
                <a:solidFill>
                  <a:srgbClr val="ffffff"/>
                </a:solidFill>
                <a:latin typeface="Century Schoolbook"/>
              </a:rPr>
              <a:t>Software Architecture in Practice</a:t>
            </a:r>
            <a:br>
              <a:rPr sz="4400"/>
            </a:br>
            <a:br>
              <a:rPr sz="4400"/>
            </a:br>
            <a:r>
              <a:rPr b="0" lang="en-US" sz="3600" spc="-1" strike="noStrike">
                <a:solidFill>
                  <a:srgbClr val="ffffff"/>
                </a:solidFill>
                <a:latin typeface="Century Schoolbook"/>
              </a:rPr>
              <a:t>Chapter 1: The Architecture</a:t>
            </a:r>
            <a:br>
              <a:rPr sz="3600"/>
            </a:br>
            <a:r>
              <a:rPr b="0" lang="en-US" sz="3600" spc="-1" strike="noStrike">
                <a:solidFill>
                  <a:srgbClr val="ffffff"/>
                </a:solidFill>
                <a:latin typeface="Century Schoolbook"/>
              </a:rPr>
              <a:t>Business Cycl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keholders of a System</a:t>
            </a:r>
            <a:endParaRPr b="0" lang="en-US" sz="3600" spc="-1" strike="noStrike">
              <a:solidFill>
                <a:srgbClr val="ffffff"/>
              </a:solidFill>
              <a:latin typeface="Century Schoolbook"/>
            </a:endParaRPr>
          </a:p>
        </p:txBody>
      </p:sp>
      <p:sp>
        <p:nvSpPr>
          <p:cNvPr id="150" name=""/>
          <p:cNvSpPr/>
          <p:nvPr/>
        </p:nvSpPr>
        <p:spPr>
          <a:xfrm>
            <a:off x="222300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rketing</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51" name=""/>
          <p:cNvGrpSpPr/>
          <p:nvPr/>
        </p:nvGrpSpPr>
        <p:grpSpPr>
          <a:xfrm>
            <a:off x="142560" y="1379520"/>
            <a:ext cx="8885520" cy="5284800"/>
            <a:chOff x="142560" y="1379520"/>
            <a:chExt cx="8885520" cy="5284800"/>
          </a:xfrm>
        </p:grpSpPr>
        <p:sp>
          <p:nvSpPr>
            <p:cNvPr id="152" name=""/>
            <p:cNvSpPr/>
            <p:nvPr/>
          </p:nvSpPr>
          <p:spPr>
            <a:xfrm>
              <a:off x="3181320" y="146844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921200" y="1541520"/>
              <a:ext cx="227160" cy="2630520"/>
            </a:xfrm>
            <a:custGeom>
              <a:avLst/>
              <a:gdLst/>
              <a:ahLst/>
              <a:rect l="l" t="t" r="r" b="b"/>
              <a:pathLst>
                <a:path w="143" h="1657">
                  <a:moveTo>
                    <a:pt x="6" y="0"/>
                  </a:moveTo>
                  <a:lnTo>
                    <a:pt x="110" y="25"/>
                  </a:lnTo>
                  <a:lnTo>
                    <a:pt x="142" y="291"/>
                  </a:lnTo>
                  <a:lnTo>
                    <a:pt x="34" y="1656"/>
                  </a:lnTo>
                  <a:lnTo>
                    <a:pt x="0" y="1644"/>
                  </a:lnTo>
                  <a:lnTo>
                    <a:pt x="120" y="293"/>
                  </a:lnTo>
                  <a:lnTo>
                    <a:pt x="88" y="37"/>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287960" y="3905280"/>
              <a:ext cx="1422360" cy="799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417560" y="3914640"/>
              <a:ext cx="1236600" cy="81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ffffff"/>
                </a:solidFill>
                <a:latin typeface="Times New Roman"/>
              </a:endParaRPr>
            </a:p>
          </p:txBody>
        </p:sp>
        <p:sp>
          <p:nvSpPr>
            <p:cNvPr id="156" name=""/>
            <p:cNvSpPr/>
            <p:nvPr/>
          </p:nvSpPr>
          <p:spPr>
            <a:xfrm>
              <a:off x="1774800" y="1508040"/>
              <a:ext cx="255600" cy="2727360"/>
            </a:xfrm>
            <a:custGeom>
              <a:avLst/>
              <a:gdLst/>
              <a:ahLst/>
              <a:rect l="l" t="t" r="r" b="b"/>
              <a:pathLst>
                <a:path w="161" h="1718">
                  <a:moveTo>
                    <a:pt x="14" y="0"/>
                  </a:moveTo>
                  <a:lnTo>
                    <a:pt x="126" y="18"/>
                  </a:lnTo>
                  <a:lnTo>
                    <a:pt x="160" y="290"/>
                  </a:lnTo>
                  <a:lnTo>
                    <a:pt x="37" y="1717"/>
                  </a:lnTo>
                  <a:lnTo>
                    <a:pt x="0" y="1708"/>
                  </a:lnTo>
                  <a:lnTo>
                    <a:pt x="136" y="294"/>
                  </a:lnTo>
                  <a:lnTo>
                    <a:pt x="103" y="3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35080" y="3925800"/>
              <a:ext cx="1711080" cy="1084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42560" y="3981600"/>
              <a:ext cx="1931400" cy="997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ing peopl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d, leveraging </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corporat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s!</a:t>
              </a:r>
              <a:endParaRPr b="0" lang="en-US" sz="1400" spc="-1" strike="noStrike">
                <a:solidFill>
                  <a:srgbClr val="ffffff"/>
                </a:solidFill>
                <a:latin typeface="Times New Roman"/>
              </a:endParaRPr>
            </a:p>
          </p:txBody>
        </p:sp>
        <p:sp>
          <p:nvSpPr>
            <p:cNvPr id="159" name=""/>
            <p:cNvSpPr/>
            <p:nvPr/>
          </p:nvSpPr>
          <p:spPr>
            <a:xfrm>
              <a:off x="6459480" y="1554120"/>
              <a:ext cx="270000" cy="2471760"/>
            </a:xfrm>
            <a:custGeom>
              <a:avLst/>
              <a:gdLst/>
              <a:ahLst/>
              <a:rect l="l" t="t" r="r" b="b"/>
              <a:pathLst>
                <a:path w="170" h="1557">
                  <a:moveTo>
                    <a:pt x="17" y="0"/>
                  </a:moveTo>
                  <a:lnTo>
                    <a:pt x="133" y="27"/>
                  </a:lnTo>
                  <a:lnTo>
                    <a:pt x="169" y="277"/>
                  </a:lnTo>
                  <a:lnTo>
                    <a:pt x="39" y="1556"/>
                  </a:lnTo>
                  <a:lnTo>
                    <a:pt x="0" y="1544"/>
                  </a:lnTo>
                  <a:lnTo>
                    <a:pt x="143" y="279"/>
                  </a:lnTo>
                  <a:lnTo>
                    <a:pt x="110" y="37"/>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8134200" y="160812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001960" y="3957480"/>
              <a:ext cx="2171520" cy="951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911920" y="3919680"/>
              <a:ext cx="1181160" cy="417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196040" y="3963960"/>
              <a:ext cx="1805040" cy="817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143840" y="4067280"/>
              <a:ext cx="1884240" cy="635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timel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not chang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often!</a:t>
              </a:r>
              <a:endParaRPr b="0" lang="en-US" sz="1400" spc="-1" strike="noStrike">
                <a:solidFill>
                  <a:srgbClr val="ffffff"/>
                </a:solidFill>
                <a:latin typeface="Times New Roman"/>
              </a:endParaRPr>
            </a:p>
          </p:txBody>
        </p:sp>
        <p:sp>
          <p:nvSpPr>
            <p:cNvPr id="165" name=""/>
            <p:cNvSpPr/>
            <p:nvPr/>
          </p:nvSpPr>
          <p:spPr>
            <a:xfrm>
              <a:off x="5918400" y="3967200"/>
              <a:ext cx="11682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ability!</a:t>
              </a:r>
              <a:endParaRPr b="0" lang="en-US" sz="1400" spc="-1" strike="noStrike">
                <a:solidFill>
                  <a:srgbClr val="ffffff"/>
                </a:solidFill>
                <a:latin typeface="Times New Roman"/>
              </a:endParaRPr>
            </a:p>
          </p:txBody>
        </p:sp>
        <p:sp>
          <p:nvSpPr>
            <p:cNvPr id="166" name=""/>
            <p:cNvSpPr/>
            <p:nvPr/>
          </p:nvSpPr>
          <p:spPr>
            <a:xfrm>
              <a:off x="2183760" y="4038480"/>
              <a:ext cx="1815840" cy="77364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features,</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time to market,</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parity with</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products!</a:t>
              </a:r>
              <a:endParaRPr b="0" lang="en-US" sz="1400" spc="-1" strike="noStrike">
                <a:solidFill>
                  <a:srgbClr val="ffffff"/>
                </a:solidFill>
                <a:latin typeface="Times New Roman"/>
              </a:endParaRPr>
            </a:p>
          </p:txBody>
        </p:sp>
        <p:grpSp>
          <p:nvGrpSpPr>
            <p:cNvPr id="167" name=""/>
            <p:cNvGrpSpPr/>
            <p:nvPr/>
          </p:nvGrpSpPr>
          <p:grpSpPr>
            <a:xfrm>
              <a:off x="5130720" y="4626000"/>
              <a:ext cx="2155320" cy="2038320"/>
              <a:chOff x="5130720" y="4626000"/>
              <a:chExt cx="2155320" cy="2038320"/>
            </a:xfrm>
          </p:grpSpPr>
          <p:grpSp>
            <p:nvGrpSpPr>
              <p:cNvPr id="168" name=""/>
              <p:cNvGrpSpPr/>
              <p:nvPr/>
            </p:nvGrpSpPr>
            <p:grpSpPr>
              <a:xfrm>
                <a:off x="6183720" y="5132160"/>
                <a:ext cx="1102320" cy="424080"/>
                <a:chOff x="6183720" y="5132160"/>
                <a:chExt cx="1102320" cy="424080"/>
              </a:xfrm>
            </p:grpSpPr>
            <p:sp>
              <p:nvSpPr>
                <p:cNvPr id="169" name=""/>
                <p:cNvSpPr/>
                <p:nvPr/>
              </p:nvSpPr>
              <p:spPr>
                <a:xfrm rot="11580000">
                  <a:off x="6192360" y="5176800"/>
                  <a:ext cx="411120" cy="12528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0" name=""/>
                <p:cNvSpPr/>
                <p:nvPr/>
              </p:nvSpPr>
              <p:spPr>
                <a:xfrm>
                  <a:off x="6340320" y="5222880"/>
                  <a:ext cx="906480" cy="33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316200" y="5241960"/>
                  <a:ext cx="9698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hhhh...</a:t>
                  </a:r>
                  <a:endParaRPr b="0" lang="en-US" sz="1400" spc="-1" strike="noStrike">
                    <a:solidFill>
                      <a:srgbClr val="ffffff"/>
                    </a:solidFill>
                    <a:latin typeface="Times New Roman"/>
                  </a:endParaRPr>
                </a:p>
              </p:txBody>
            </p:sp>
          </p:grpSp>
          <p:grpSp>
            <p:nvGrpSpPr>
              <p:cNvPr id="172" name=""/>
              <p:cNvGrpSpPr/>
              <p:nvPr/>
            </p:nvGrpSpPr>
            <p:grpSpPr>
              <a:xfrm>
                <a:off x="5130720" y="4626000"/>
                <a:ext cx="1084320" cy="2038320"/>
                <a:chOff x="5130720" y="4626000"/>
                <a:chExt cx="1084320" cy="2038320"/>
              </a:xfrm>
            </p:grpSpPr>
            <p:grpSp>
              <p:nvGrpSpPr>
                <p:cNvPr id="173" name=""/>
                <p:cNvGrpSpPr/>
                <p:nvPr/>
              </p:nvGrpSpPr>
              <p:grpSpPr>
                <a:xfrm>
                  <a:off x="5176800" y="4626000"/>
                  <a:ext cx="1013040" cy="2038320"/>
                  <a:chOff x="5176800" y="4626000"/>
                  <a:chExt cx="1013040" cy="2038320"/>
                </a:xfrm>
              </p:grpSpPr>
              <p:sp>
                <p:nvSpPr>
                  <p:cNvPr id="174" name=""/>
                  <p:cNvSpPr/>
                  <p:nvPr/>
                </p:nvSpPr>
                <p:spPr>
                  <a:xfrm>
                    <a:off x="5538960" y="4822920"/>
                    <a:ext cx="298440" cy="303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5600880" y="4911840"/>
                    <a:ext cx="63360" cy="2376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76" name=""/>
                  <p:cNvSpPr/>
                  <p:nvPr/>
                </p:nvSpPr>
                <p:spPr>
                  <a:xfrm flipH="1" flipV="1">
                    <a:off x="5717880" y="4917960"/>
                    <a:ext cx="6516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77" name=""/>
                  <p:cNvSpPr/>
                  <p:nvPr/>
                </p:nvSpPr>
                <p:spPr>
                  <a:xfrm>
                    <a:off x="5645160" y="4992840"/>
                    <a:ext cx="93600" cy="8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8" name=""/>
                  <p:cNvSpPr/>
                  <p:nvPr/>
                </p:nvSpPr>
                <p:spPr>
                  <a:xfrm>
                    <a:off x="5176800" y="4626000"/>
                    <a:ext cx="1013040" cy="2038320"/>
                  </a:xfrm>
                  <a:custGeom>
                    <a:avLst/>
                    <a:gdLst/>
                    <a:ahLst/>
                    <a:rect l="l" t="t" r="r" b="b"/>
                    <a:pathLst>
                      <a:path w="638" h="1284">
                        <a:moveTo>
                          <a:pt x="280" y="54"/>
                        </a:moveTo>
                        <a:lnTo>
                          <a:pt x="216" y="13"/>
                        </a:lnTo>
                        <a:lnTo>
                          <a:pt x="0" y="350"/>
                        </a:lnTo>
                        <a:lnTo>
                          <a:pt x="159" y="531"/>
                        </a:lnTo>
                        <a:lnTo>
                          <a:pt x="176" y="741"/>
                        </a:lnTo>
                        <a:lnTo>
                          <a:pt x="54" y="975"/>
                        </a:lnTo>
                        <a:lnTo>
                          <a:pt x="233" y="1283"/>
                        </a:lnTo>
                        <a:lnTo>
                          <a:pt x="383" y="1259"/>
                        </a:lnTo>
                        <a:lnTo>
                          <a:pt x="276" y="992"/>
                        </a:lnTo>
                        <a:lnTo>
                          <a:pt x="476" y="741"/>
                        </a:lnTo>
                        <a:lnTo>
                          <a:pt x="496" y="484"/>
                        </a:lnTo>
                        <a:lnTo>
                          <a:pt x="637" y="347"/>
                        </a:lnTo>
                        <a:lnTo>
                          <a:pt x="630" y="338"/>
                        </a:lnTo>
                        <a:lnTo>
                          <a:pt x="413" y="0"/>
                        </a:lnTo>
                        <a:lnTo>
                          <a:pt x="363" y="33"/>
                        </a:lnTo>
                        <a:lnTo>
                          <a:pt x="530" y="343"/>
                        </a:lnTo>
                        <a:lnTo>
                          <a:pt x="113" y="343"/>
                        </a:lnTo>
                        <a:lnTo>
                          <a:pt x="280" y="5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9" name=""/>
                <p:cNvSpPr/>
                <p:nvPr/>
              </p:nvSpPr>
              <p:spPr>
                <a:xfrm>
                  <a:off x="5130720" y="5119560"/>
                  <a:ext cx="1084320" cy="324360"/>
                </a:xfrm>
                <a:prstGeom prst="rect">
                  <a:avLst/>
                </a:prstGeom>
                <a:noFill/>
                <a:ln w="0">
                  <a:noFill/>
                </a:ln>
              </p:spPr>
              <p:style>
                <a:lnRef idx="0"/>
                <a:fillRef idx="0"/>
                <a:effectRef idx="0"/>
                <a:fontRef idx="minor"/>
              </p:style>
              <p:txBody>
                <a:bodyPr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rchitect</a:t>
                  </a:r>
                  <a:endParaRPr b="0" lang="en-US" sz="1400" spc="-1" strike="noStrike">
                    <a:solidFill>
                      <a:srgbClr val="ffffff"/>
                    </a:solidFill>
                    <a:latin typeface="Times New Roman"/>
                  </a:endParaRPr>
                </a:p>
              </p:txBody>
            </p:sp>
          </p:grpSp>
        </p:grpSp>
        <p:sp>
          <p:nvSpPr>
            <p:cNvPr id="180" name=""/>
            <p:cNvSpPr/>
            <p:nvPr/>
          </p:nvSpPr>
          <p:spPr>
            <a:xfrm>
              <a:off x="110160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1" name=""/>
            <p:cNvGrpSpPr/>
            <p:nvPr/>
          </p:nvGrpSpPr>
          <p:grpSpPr>
            <a:xfrm>
              <a:off x="704880" y="1500120"/>
              <a:ext cx="1166760" cy="2362320"/>
              <a:chOff x="704880" y="1500120"/>
              <a:chExt cx="1166760" cy="2362320"/>
            </a:xfrm>
          </p:grpSpPr>
          <p:sp>
            <p:nvSpPr>
              <p:cNvPr id="182" name=""/>
              <p:cNvSpPr/>
              <p:nvPr/>
            </p:nvSpPr>
            <p:spPr>
              <a:xfrm>
                <a:off x="1208160" y="16509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17000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4" name=""/>
              <p:cNvSpPr/>
              <p:nvPr/>
            </p:nvSpPr>
            <p:spPr>
              <a:xfrm flipH="1">
                <a:off x="132696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5" name=""/>
              <p:cNvSpPr/>
              <p:nvPr/>
            </p:nvSpPr>
            <p:spPr>
              <a:xfrm>
                <a:off x="70488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 name=""/>
            <p:cNvSpPr/>
            <p:nvPr/>
          </p:nvSpPr>
          <p:spPr>
            <a:xfrm>
              <a:off x="576720" y="1798560"/>
              <a:ext cx="1420200" cy="886680"/>
            </a:xfrm>
            <a:prstGeom prst="rect">
              <a:avLst/>
            </a:prstGeom>
            <a:noFill/>
            <a:ln w="0">
              <a:noFill/>
            </a:ln>
          </p:spPr>
          <p:style>
            <a:lnRef idx="0"/>
            <a:fillRef idx="0"/>
            <a:effectRef idx="0"/>
            <a:fontRef idx="minor"/>
          </p:style>
          <p:txBody>
            <a:bodyPr wrap="none" lIns="158760" rIns="158760" tIns="81000" bIns="81000" anchor="t">
              <a:spAutoFit/>
            </a:bodyPr>
            <a:p>
              <a:pPr algn="ctr">
                <a:lnSpc>
                  <a:spcPct val="85000"/>
                </a:lnSpc>
                <a:tabLst>
                  <a:tab algn="l" pos="0"/>
                  <a:tab algn="l" pos="2744640"/>
                  <a:tab algn="l" pos="5489640"/>
                  <a:tab algn="l" pos="8234280"/>
                </a:tabLst>
              </a:pPr>
              <a:r>
                <a:rPr b="0" lang="en-US" sz="1400" spc="-1" strike="noStrike">
                  <a:solidFill>
                    <a:srgbClr val="ffffff"/>
                  </a:solidFill>
                  <a:latin typeface="Arial"/>
                </a:rPr>
                <a:t>Develop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organization’s</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manage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7" name=""/>
            <p:cNvSpPr/>
            <p:nvPr/>
          </p:nvSpPr>
          <p:spPr>
            <a:xfrm>
              <a:off x="380736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End us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8" name=""/>
            <p:cNvSpPr/>
            <p:nvPr/>
          </p:nvSpPr>
          <p:spPr>
            <a:xfrm>
              <a:off x="5292000" y="1900080"/>
              <a:ext cx="1298160" cy="6832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intenance</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organization</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89" name=""/>
            <p:cNvGrpSpPr/>
            <p:nvPr/>
          </p:nvGrpSpPr>
          <p:grpSpPr>
            <a:xfrm>
              <a:off x="2241720" y="1379520"/>
              <a:ext cx="1166760" cy="2482920"/>
              <a:chOff x="2241720" y="1379520"/>
              <a:chExt cx="1166760" cy="2482920"/>
            </a:xfrm>
          </p:grpSpPr>
          <p:sp>
            <p:nvSpPr>
              <p:cNvPr id="190" name=""/>
              <p:cNvSpPr/>
              <p:nvPr/>
            </p:nvSpPr>
            <p:spPr>
              <a:xfrm>
                <a:off x="263844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2241720" y="1500120"/>
                <a:ext cx="1166760" cy="2362320"/>
                <a:chOff x="2241720" y="1500120"/>
                <a:chExt cx="1166760" cy="2362320"/>
              </a:xfrm>
            </p:grpSpPr>
            <p:sp>
              <p:nvSpPr>
                <p:cNvPr id="192" name=""/>
                <p:cNvSpPr/>
                <p:nvPr/>
              </p:nvSpPr>
              <p:spPr>
                <a:xfrm>
                  <a:off x="2744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70684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4" name=""/>
                <p:cNvSpPr/>
                <p:nvPr/>
              </p:nvSpPr>
              <p:spPr>
                <a:xfrm flipH="1">
                  <a:off x="286380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5" name=""/>
                <p:cNvSpPr/>
                <p:nvPr/>
              </p:nvSpPr>
              <p:spPr>
                <a:xfrm>
                  <a:off x="224172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6" name=""/>
            <p:cNvGrpSpPr/>
            <p:nvPr/>
          </p:nvGrpSpPr>
          <p:grpSpPr>
            <a:xfrm>
              <a:off x="3816360" y="1379520"/>
              <a:ext cx="1166760" cy="2482920"/>
              <a:chOff x="3816360" y="1379520"/>
              <a:chExt cx="1166760" cy="2482920"/>
            </a:xfrm>
          </p:grpSpPr>
          <p:sp>
            <p:nvSpPr>
              <p:cNvPr id="197" name=""/>
              <p:cNvSpPr/>
              <p:nvPr/>
            </p:nvSpPr>
            <p:spPr>
              <a:xfrm>
                <a:off x="421308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3816360" y="1500120"/>
                <a:ext cx="1166760" cy="2362320"/>
                <a:chOff x="3816360" y="1500120"/>
                <a:chExt cx="1166760" cy="2362320"/>
              </a:xfrm>
            </p:grpSpPr>
            <p:sp>
              <p:nvSpPr>
                <p:cNvPr id="199" name=""/>
                <p:cNvSpPr/>
                <p:nvPr/>
              </p:nvSpPr>
              <p:spPr>
                <a:xfrm>
                  <a:off x="4319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28148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1" name=""/>
                <p:cNvSpPr/>
                <p:nvPr/>
              </p:nvSpPr>
              <p:spPr>
                <a:xfrm flipH="1">
                  <a:off x="443844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2" name=""/>
                <p:cNvSpPr/>
                <p:nvPr/>
              </p:nvSpPr>
              <p:spPr>
                <a:xfrm>
                  <a:off x="381636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5353200" y="1379520"/>
              <a:ext cx="1166760" cy="2482920"/>
              <a:chOff x="5353200" y="1379520"/>
              <a:chExt cx="1166760" cy="2482920"/>
            </a:xfrm>
          </p:grpSpPr>
          <p:sp>
            <p:nvSpPr>
              <p:cNvPr id="204" name=""/>
              <p:cNvSpPr/>
              <p:nvPr/>
            </p:nvSpPr>
            <p:spPr>
              <a:xfrm>
                <a:off x="574992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 name=""/>
              <p:cNvGrpSpPr/>
              <p:nvPr/>
            </p:nvGrpSpPr>
            <p:grpSpPr>
              <a:xfrm>
                <a:off x="5353200" y="1500120"/>
                <a:ext cx="1166760" cy="2362320"/>
                <a:chOff x="5353200" y="1500120"/>
                <a:chExt cx="1166760" cy="2362320"/>
              </a:xfrm>
            </p:grpSpPr>
            <p:sp>
              <p:nvSpPr>
                <p:cNvPr id="206" name=""/>
                <p:cNvSpPr/>
                <p:nvPr/>
              </p:nvSpPr>
              <p:spPr>
                <a:xfrm>
                  <a:off x="585612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81832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8" name=""/>
                <p:cNvSpPr/>
                <p:nvPr/>
              </p:nvSpPr>
              <p:spPr>
                <a:xfrm flipH="1">
                  <a:off x="597528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9" name=""/>
                <p:cNvSpPr/>
                <p:nvPr/>
              </p:nvSpPr>
              <p:spPr>
                <a:xfrm>
                  <a:off x="535320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0" name=""/>
            <p:cNvGrpSpPr/>
            <p:nvPr/>
          </p:nvGrpSpPr>
          <p:grpSpPr>
            <a:xfrm>
              <a:off x="7105680" y="1379520"/>
              <a:ext cx="1166760" cy="2495520"/>
              <a:chOff x="7105680" y="1379520"/>
              <a:chExt cx="1166760" cy="2495520"/>
            </a:xfrm>
          </p:grpSpPr>
          <p:sp>
            <p:nvSpPr>
              <p:cNvPr id="211" name=""/>
              <p:cNvSpPr/>
              <p:nvPr/>
            </p:nvSpPr>
            <p:spPr>
              <a:xfrm>
                <a:off x="7502400" y="1379520"/>
                <a:ext cx="379440" cy="378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2" name=""/>
              <p:cNvGrpSpPr/>
              <p:nvPr/>
            </p:nvGrpSpPr>
            <p:grpSpPr>
              <a:xfrm>
                <a:off x="7105680" y="1500120"/>
                <a:ext cx="1166760" cy="2374920"/>
                <a:chOff x="7105680" y="1500120"/>
                <a:chExt cx="1166760" cy="2374920"/>
              </a:xfrm>
            </p:grpSpPr>
            <p:sp>
              <p:nvSpPr>
                <p:cNvPr id="213" name=""/>
                <p:cNvSpPr/>
                <p:nvPr/>
              </p:nvSpPr>
              <p:spPr>
                <a:xfrm>
                  <a:off x="7608960" y="16527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570800" y="1504800"/>
                  <a:ext cx="874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5" name=""/>
                <p:cNvSpPr/>
                <p:nvPr/>
              </p:nvSpPr>
              <p:spPr>
                <a:xfrm flipH="1">
                  <a:off x="7727760" y="1500120"/>
                  <a:ext cx="838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6" name=""/>
                <p:cNvSpPr/>
                <p:nvPr/>
              </p:nvSpPr>
              <p:spPr>
                <a:xfrm>
                  <a:off x="7105680" y="1808280"/>
                  <a:ext cx="1166760" cy="2066760"/>
                </a:xfrm>
                <a:custGeom>
                  <a:avLst/>
                  <a:gdLst/>
                  <a:ahLst/>
                  <a:rect l="l" t="t" r="r" b="b"/>
                  <a:pathLst>
                    <a:path w="735" h="1302">
                      <a:moveTo>
                        <a:pt x="145" y="510"/>
                      </a:moveTo>
                      <a:lnTo>
                        <a:pt x="145" y="627"/>
                      </a:lnTo>
                      <a:lnTo>
                        <a:pt x="239" y="1301"/>
                      </a:lnTo>
                      <a:lnTo>
                        <a:pt x="497" y="1301"/>
                      </a:lnTo>
                      <a:lnTo>
                        <a:pt x="588" y="636"/>
                      </a:lnTo>
                      <a:lnTo>
                        <a:pt x="588" y="510"/>
                      </a:lnTo>
                      <a:lnTo>
                        <a:pt x="624" y="510"/>
                      </a:lnTo>
                      <a:lnTo>
                        <a:pt x="624" y="627"/>
                      </a:lnTo>
                      <a:lnTo>
                        <a:pt x="734" y="627"/>
                      </a:lnTo>
                      <a:lnTo>
                        <a:pt x="734" y="0"/>
                      </a:lnTo>
                      <a:lnTo>
                        <a:pt x="0" y="0"/>
                      </a:lnTo>
                      <a:lnTo>
                        <a:pt x="0" y="622"/>
                      </a:lnTo>
                      <a:lnTo>
                        <a:pt x="105" y="622"/>
                      </a:lnTo>
                      <a:lnTo>
                        <a:pt x="105" y="510"/>
                      </a:lnTo>
                      <a:lnTo>
                        <a:pt x="145" y="5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7" name=""/>
            <p:cNvSpPr/>
            <p:nvPr/>
          </p:nvSpPr>
          <p:spPr>
            <a:xfrm>
              <a:off x="708084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Custom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842760"/>
            <a:ext cx="7912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1</a:t>
            </a:r>
            <a:endParaRPr b="0" lang="en-US" sz="3600" spc="-1" strike="noStrike">
              <a:solidFill>
                <a:srgbClr val="ffffff"/>
              </a:solidFill>
              <a:latin typeface="Century Schoolbook"/>
            </a:endParaRPr>
          </a:p>
        </p:txBody>
      </p:sp>
      <p:sp>
        <p:nvSpPr>
          <p:cNvPr id="219" name="PlaceHolder 2"/>
          <p:cNvSpPr>
            <a:spLocks noGrp="1"/>
          </p:cNvSpPr>
          <p:nvPr>
            <p:ph/>
          </p:nvPr>
        </p:nvSpPr>
        <p:spPr>
          <a:xfrm>
            <a:off x="914040" y="2146320"/>
            <a:ext cx="782316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mediate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rtizing the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cost of installation 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ing personn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erm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an infrastructure to reach strategic goa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personne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2</a:t>
            </a:r>
            <a:endParaRPr b="0" lang="en-US" sz="3600" spc="-1" strike="noStrike">
              <a:solidFill>
                <a:srgbClr val="ffffff"/>
              </a:solidFill>
              <a:latin typeface="Century Schoolbook"/>
            </a:endParaRPr>
          </a:p>
        </p:txBody>
      </p:sp>
      <p:sp>
        <p:nvSpPr>
          <p:cNvPr id="221" name="PlaceHolder 2"/>
          <p:cNvSpPr>
            <a:spLocks noGrp="1"/>
          </p:cNvSpPr>
          <p:nvPr>
            <p:ph/>
          </p:nvPr>
        </p:nvSpPr>
        <p:spPr>
          <a:xfrm>
            <a:off x="914400" y="2145960"/>
            <a:ext cx="7569360" cy="4181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structur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rthering vested interest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an existing database organiz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specialized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the standard method of doing busin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chnical Environment</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7575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trends: today’s information system will likely employ 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browser for delivery and distribution across platfor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was not true 10 years ag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technology: decisions on using a centralized or decentralized system depend on processor cost and communication speed; both are changing quant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s Background</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develop their mindset from their past experien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good experiences will lead to replication of prior de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bad experiences will be avoided in the new desig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mmary: Influences on the Architect</a:t>
            </a:r>
            <a:endParaRPr b="0" lang="en-US" sz="3600" spc="-1" strike="noStrike">
              <a:solidFill>
                <a:srgbClr val="ffffff"/>
              </a:solidFill>
              <a:latin typeface="Century Schoolbook"/>
            </a:endParaRPr>
          </a:p>
        </p:txBody>
      </p:sp>
      <p:grpSp>
        <p:nvGrpSpPr>
          <p:cNvPr id="227" name=""/>
          <p:cNvGrpSpPr/>
          <p:nvPr/>
        </p:nvGrpSpPr>
        <p:grpSpPr>
          <a:xfrm>
            <a:off x="695160" y="2235240"/>
            <a:ext cx="7707600" cy="4280040"/>
            <a:chOff x="695160" y="2235240"/>
            <a:chExt cx="7707600" cy="4280040"/>
          </a:xfrm>
        </p:grpSpPr>
        <p:sp>
          <p:nvSpPr>
            <p:cNvPr id="228"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30"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31"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32"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33"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34"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35" name=""/>
            <p:cNvSpPr/>
            <p:nvPr/>
          </p:nvSpPr>
          <p:spPr>
            <a:xfrm>
              <a:off x="145728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863960" y="2565360"/>
              <a:ext cx="1800" cy="262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06560" y="27748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073320" y="2768760"/>
              <a:ext cx="468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73320" y="3098880"/>
              <a:ext cx="273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879800" y="3476520"/>
              <a:ext cx="23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46"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48" name=""/>
            <p:cNvGrpSpPr/>
            <p:nvPr/>
          </p:nvGrpSpPr>
          <p:grpSpPr>
            <a:xfrm>
              <a:off x="5181480" y="2468520"/>
              <a:ext cx="1043280" cy="2691000"/>
              <a:chOff x="5181480" y="2468520"/>
              <a:chExt cx="1043280" cy="2691000"/>
            </a:xfrm>
          </p:grpSpPr>
          <p:sp>
            <p:nvSpPr>
              <p:cNvPr id="249"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1"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52" name=""/>
            <p:cNvSpPr/>
            <p:nvPr/>
          </p:nvSpPr>
          <p:spPr>
            <a:xfrm>
              <a:off x="4879800" y="359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842760"/>
            <a:ext cx="7772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actors Influenced by Architectures</a:t>
            </a:r>
            <a:endParaRPr b="0" lang="en-US" sz="3200" spc="-1" strike="noStrike">
              <a:solidFill>
                <a:srgbClr val="ffffff"/>
              </a:solidFill>
              <a:latin typeface="Century Schoolbook"/>
            </a:endParaRPr>
          </a:p>
        </p:txBody>
      </p:sp>
      <p:sp>
        <p:nvSpPr>
          <p:cNvPr id="256" name="PlaceHolder 2"/>
          <p:cNvSpPr>
            <a:spLocks noGrp="1"/>
          </p:cNvSpPr>
          <p:nvPr>
            <p:ph/>
          </p:nvPr>
        </p:nvSpPr>
        <p:spPr>
          <a:xfrm>
            <a:off x="91440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goal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experie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environ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p:txBody>
      </p:sp>
      <p:graphicFrame>
        <p:nvGraphicFramePr>
          <p:cNvPr id="257" name=""/>
          <p:cNvGraphicFramePr/>
          <p:nvPr/>
        </p:nvGraphicFramePr>
        <p:xfrm>
          <a:off x="7920000" y="50760"/>
          <a:ext cx="1158840" cy="1282680"/>
        </p:xfrm>
        <a:graphic>
          <a:graphicData uri="http://schemas.openxmlformats.org/presentationml/2006/ole">
            <p:oleObj r:id="rId1" spid="">
              <p:embed/>
              <p:pic>
                <p:nvPicPr>
                  <p:cNvPr id="25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98560" y="850680"/>
            <a:ext cx="78897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the Development Organization Structure</a:t>
            </a:r>
            <a:endParaRPr b="0" lang="en-US" sz="3600" spc="-1" strike="noStrike">
              <a:solidFill>
                <a:srgbClr val="ffffff"/>
              </a:solidFill>
              <a:latin typeface="Century Schoolbook"/>
            </a:endParaRPr>
          </a:p>
        </p:txBody>
      </p:sp>
      <p:sp>
        <p:nvSpPr>
          <p:cNvPr id="260" name="PlaceHolder 2"/>
          <p:cNvSpPr>
            <a:spLocks noGrp="1"/>
          </p:cNvSpPr>
          <p:nvPr>
            <p:ph/>
          </p:nvPr>
        </p:nvSpPr>
        <p:spPr>
          <a:xfrm>
            <a:off x="910800" y="2200320"/>
            <a:ext cx="7239240" cy="4098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erm: Work units are organized around architectural units for a particular system under constru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term: When company constructs collection of similar systems, organizational units reflect common components (e.g., operating system unit or database un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850680"/>
            <a:ext cx="8228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Development Organization Enterprise Goals</a:t>
            </a:r>
            <a:endParaRPr b="0" lang="en-US" sz="3200" spc="-1" strike="noStrike">
              <a:solidFill>
                <a:srgbClr val="ffffff"/>
              </a:solidFill>
              <a:latin typeface="Century Schoolbook"/>
            </a:endParaRPr>
          </a:p>
        </p:txBody>
      </p:sp>
      <p:sp>
        <p:nvSpPr>
          <p:cNvPr id="262" name="PlaceHolder 2"/>
          <p:cNvSpPr>
            <a:spLocks noGrp="1"/>
          </p:cNvSpPr>
          <p:nvPr>
            <p:ph/>
          </p:nvPr>
        </p:nvSpPr>
        <p:spPr>
          <a:xfrm>
            <a:off x="898560" y="2199960"/>
            <a:ext cx="7251840" cy="4187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a system may establish a foothold in the market nich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ing known for developing particular kinds of systems becomes a marketing dev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becomes a leveraging point for additional market opportunities and net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040" y="843120"/>
            <a:ext cx="7311960" cy="782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Customer Requirements</a:t>
            </a:r>
            <a:endParaRPr b="0" lang="en-US" sz="3600" spc="-1" strike="noStrike">
              <a:solidFill>
                <a:srgbClr val="ffffff"/>
              </a:solidFill>
              <a:latin typeface="Century Schoolbook"/>
            </a:endParaRPr>
          </a:p>
        </p:txBody>
      </p:sp>
      <p:sp>
        <p:nvSpPr>
          <p:cNvPr id="264" name="PlaceHolder 2"/>
          <p:cNvSpPr>
            <a:spLocks noGrp="1"/>
          </p:cNvSpPr>
          <p:nvPr>
            <p:ph/>
          </p:nvPr>
        </p:nvSpPr>
        <p:spPr>
          <a:xfrm>
            <a:off x="911160" y="2214720"/>
            <a:ext cx="7300800" cy="3208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 of similar fielded systems leads customers to ask for particular fea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will alter their requirements on the basis of the availability of existi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introduc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ing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ed by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onents of the architecture business cycl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040" y="850680"/>
            <a:ext cx="8001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Architect’s Experience and Technical Environment</a:t>
            </a:r>
            <a:endParaRPr b="0" lang="en-US" sz="3200" spc="-1" strike="noStrike">
              <a:solidFill>
                <a:srgbClr val="ffffff"/>
              </a:solidFill>
              <a:latin typeface="Century Schoolbook"/>
            </a:endParaRPr>
          </a:p>
        </p:txBody>
      </p:sp>
      <p:sp>
        <p:nvSpPr>
          <p:cNvPr id="266" name="PlaceHolder 2"/>
          <p:cNvSpPr>
            <a:spLocks noGrp="1"/>
          </p:cNvSpPr>
          <p:nvPr>
            <p:ph/>
          </p:nvPr>
        </p:nvSpPr>
        <p:spPr>
          <a:xfrm>
            <a:off x="914400" y="2212920"/>
            <a:ext cx="7772400" cy="4340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 of a system affects the architect’s back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asionally, a system or an architecture will affect the technical environm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WW for information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hree-tier architecture for databas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 Cycle of Influences</a:t>
            </a:r>
            <a:endParaRPr b="0" lang="en-US" sz="3600" spc="-1" strike="noStrike">
              <a:solidFill>
                <a:srgbClr val="ffffff"/>
              </a:solidFill>
              <a:latin typeface="Century Schoolbook"/>
            </a:endParaRPr>
          </a:p>
        </p:txBody>
      </p:sp>
      <p:sp>
        <p:nvSpPr>
          <p:cNvPr id="26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nd organizations influence each oth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s to and from architectures form a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 can manage this cycle to its advan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Architecture Business Cycle (ABC)</a:t>
            </a:r>
            <a:endParaRPr b="0" lang="en-US" sz="3400" spc="-1" strike="noStrike">
              <a:solidFill>
                <a:srgbClr val="ffffff"/>
              </a:solidFill>
              <a:latin typeface="Century Schoolbook"/>
            </a:endParaRPr>
          </a:p>
        </p:txBody>
      </p:sp>
      <p:grpSp>
        <p:nvGrpSpPr>
          <p:cNvPr id="270" name=""/>
          <p:cNvGrpSpPr/>
          <p:nvPr/>
        </p:nvGrpSpPr>
        <p:grpSpPr>
          <a:xfrm>
            <a:off x="695160" y="1533600"/>
            <a:ext cx="7707600" cy="4981680"/>
            <a:chOff x="695160" y="1533600"/>
            <a:chExt cx="7707600" cy="4981680"/>
          </a:xfrm>
        </p:grpSpPr>
        <p:sp>
          <p:nvSpPr>
            <p:cNvPr id="271"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73"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74"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75"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76"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77"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78" name=""/>
            <p:cNvSpPr/>
            <p:nvPr/>
          </p:nvSpPr>
          <p:spPr>
            <a:xfrm>
              <a:off x="146196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a:off x="4865760" y="2562120"/>
              <a:ext cx="1440" cy="263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806560" y="277020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073320" y="2768760"/>
              <a:ext cx="3240" cy="66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073320" y="3098880"/>
              <a:ext cx="250920" cy="1440"/>
            </a:xfrm>
            <a:prstGeom prst="line">
              <a:avLst/>
            </a:prstGeom>
            <a:ln w="12600">
              <a:solidFill>
                <a:srgbClr val="ffffff"/>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83" name=""/>
            <p:cNvSpPr/>
            <p:nvPr/>
          </p:nvSpPr>
          <p:spPr>
            <a:xfrm>
              <a:off x="4879800" y="347652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89"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91" name=""/>
            <p:cNvGrpSpPr/>
            <p:nvPr/>
          </p:nvGrpSpPr>
          <p:grpSpPr>
            <a:xfrm>
              <a:off x="5181480" y="2468520"/>
              <a:ext cx="1043280" cy="2691000"/>
              <a:chOff x="5181480" y="2468520"/>
              <a:chExt cx="1043280" cy="2691000"/>
            </a:xfrm>
          </p:grpSpPr>
          <p:sp>
            <p:nvSpPr>
              <p:cNvPr id="292"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95" name=""/>
            <p:cNvSpPr/>
            <p:nvPr/>
          </p:nvSpPr>
          <p:spPr>
            <a:xfrm>
              <a:off x="4879800" y="359100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041720" y="1533600"/>
              <a:ext cx="3270240" cy="1758960"/>
            </a:xfrm>
            <a:custGeom>
              <a:avLst/>
              <a:gdLst/>
              <a:ahLst/>
              <a:rect l="l" t="t" r="r" b="b"/>
              <a:pathLst>
                <a:path w="2060" h="1108">
                  <a:moveTo>
                    <a:pt x="2059" y="1107"/>
                  </a:moveTo>
                  <a:lnTo>
                    <a:pt x="2057" y="1087"/>
                  </a:lnTo>
                  <a:lnTo>
                    <a:pt x="2057" y="1068"/>
                  </a:lnTo>
                  <a:lnTo>
                    <a:pt x="2056" y="1048"/>
                  </a:lnTo>
                  <a:lnTo>
                    <a:pt x="2055" y="1028"/>
                  </a:lnTo>
                  <a:lnTo>
                    <a:pt x="2053" y="1009"/>
                  </a:lnTo>
                  <a:lnTo>
                    <a:pt x="2050" y="989"/>
                  </a:lnTo>
                  <a:lnTo>
                    <a:pt x="2047" y="971"/>
                  </a:lnTo>
                  <a:lnTo>
                    <a:pt x="2044" y="951"/>
                  </a:lnTo>
                  <a:lnTo>
                    <a:pt x="2041" y="931"/>
                  </a:lnTo>
                  <a:lnTo>
                    <a:pt x="2037" y="912"/>
                  </a:lnTo>
                  <a:lnTo>
                    <a:pt x="2034" y="893"/>
                  </a:lnTo>
                  <a:lnTo>
                    <a:pt x="2030" y="873"/>
                  </a:lnTo>
                  <a:lnTo>
                    <a:pt x="2025" y="855"/>
                  </a:lnTo>
                  <a:lnTo>
                    <a:pt x="2019" y="835"/>
                  </a:lnTo>
                  <a:lnTo>
                    <a:pt x="2014" y="816"/>
                  </a:lnTo>
                  <a:lnTo>
                    <a:pt x="2009" y="797"/>
                  </a:lnTo>
                  <a:lnTo>
                    <a:pt x="2002" y="778"/>
                  </a:lnTo>
                  <a:lnTo>
                    <a:pt x="1996" y="760"/>
                  </a:lnTo>
                  <a:lnTo>
                    <a:pt x="1989" y="742"/>
                  </a:lnTo>
                  <a:lnTo>
                    <a:pt x="1983" y="723"/>
                  </a:lnTo>
                  <a:lnTo>
                    <a:pt x="1975" y="704"/>
                  </a:lnTo>
                  <a:lnTo>
                    <a:pt x="1968" y="686"/>
                  </a:lnTo>
                  <a:lnTo>
                    <a:pt x="1960" y="669"/>
                  </a:lnTo>
                  <a:lnTo>
                    <a:pt x="1952" y="651"/>
                  </a:lnTo>
                  <a:lnTo>
                    <a:pt x="1943" y="633"/>
                  </a:lnTo>
                  <a:lnTo>
                    <a:pt x="1934" y="614"/>
                  </a:lnTo>
                  <a:lnTo>
                    <a:pt x="1925" y="597"/>
                  </a:lnTo>
                  <a:lnTo>
                    <a:pt x="1915" y="579"/>
                  </a:lnTo>
                  <a:lnTo>
                    <a:pt x="1906" y="563"/>
                  </a:lnTo>
                  <a:lnTo>
                    <a:pt x="1895" y="546"/>
                  </a:lnTo>
                  <a:lnTo>
                    <a:pt x="1885" y="529"/>
                  </a:lnTo>
                  <a:lnTo>
                    <a:pt x="1875" y="512"/>
                  </a:lnTo>
                  <a:lnTo>
                    <a:pt x="1864" y="496"/>
                  </a:lnTo>
                  <a:lnTo>
                    <a:pt x="1852" y="480"/>
                  </a:lnTo>
                  <a:lnTo>
                    <a:pt x="1841" y="463"/>
                  </a:lnTo>
                  <a:lnTo>
                    <a:pt x="1830" y="448"/>
                  </a:lnTo>
                  <a:lnTo>
                    <a:pt x="1817" y="432"/>
                  </a:lnTo>
                  <a:lnTo>
                    <a:pt x="1805" y="417"/>
                  </a:lnTo>
                  <a:lnTo>
                    <a:pt x="1792" y="403"/>
                  </a:lnTo>
                  <a:lnTo>
                    <a:pt x="1779" y="388"/>
                  </a:lnTo>
                  <a:lnTo>
                    <a:pt x="1766" y="373"/>
                  </a:lnTo>
                  <a:lnTo>
                    <a:pt x="1753" y="359"/>
                  </a:lnTo>
                  <a:lnTo>
                    <a:pt x="1739" y="344"/>
                  </a:lnTo>
                  <a:lnTo>
                    <a:pt x="1725" y="330"/>
                  </a:lnTo>
                  <a:lnTo>
                    <a:pt x="1712" y="316"/>
                  </a:lnTo>
                  <a:lnTo>
                    <a:pt x="1697" y="303"/>
                  </a:lnTo>
                  <a:lnTo>
                    <a:pt x="1682" y="289"/>
                  </a:lnTo>
                  <a:lnTo>
                    <a:pt x="1668" y="277"/>
                  </a:lnTo>
                  <a:lnTo>
                    <a:pt x="1653" y="264"/>
                  </a:lnTo>
                  <a:lnTo>
                    <a:pt x="1637" y="251"/>
                  </a:lnTo>
                  <a:lnTo>
                    <a:pt x="1622" y="239"/>
                  </a:lnTo>
                  <a:lnTo>
                    <a:pt x="1607" y="227"/>
                  </a:lnTo>
                  <a:lnTo>
                    <a:pt x="1590" y="216"/>
                  </a:lnTo>
                  <a:lnTo>
                    <a:pt x="1574" y="203"/>
                  </a:lnTo>
                  <a:lnTo>
                    <a:pt x="1558" y="193"/>
                  </a:lnTo>
                  <a:lnTo>
                    <a:pt x="1542" y="181"/>
                  </a:lnTo>
                  <a:lnTo>
                    <a:pt x="1525" y="171"/>
                  </a:lnTo>
                  <a:lnTo>
                    <a:pt x="1508" y="161"/>
                  </a:lnTo>
                  <a:lnTo>
                    <a:pt x="1492" y="151"/>
                  </a:lnTo>
                  <a:lnTo>
                    <a:pt x="1475" y="141"/>
                  </a:lnTo>
                  <a:lnTo>
                    <a:pt x="1457" y="132"/>
                  </a:lnTo>
                  <a:lnTo>
                    <a:pt x="1440" y="123"/>
                  </a:lnTo>
                  <a:lnTo>
                    <a:pt x="1422" y="114"/>
                  </a:lnTo>
                  <a:lnTo>
                    <a:pt x="1405" y="105"/>
                  </a:lnTo>
                  <a:lnTo>
                    <a:pt x="1387" y="97"/>
                  </a:lnTo>
                  <a:lnTo>
                    <a:pt x="1368" y="89"/>
                  </a:lnTo>
                  <a:lnTo>
                    <a:pt x="1351" y="82"/>
                  </a:lnTo>
                  <a:lnTo>
                    <a:pt x="1332" y="75"/>
                  </a:lnTo>
                  <a:lnTo>
                    <a:pt x="1313" y="68"/>
                  </a:lnTo>
                  <a:lnTo>
                    <a:pt x="1295" y="61"/>
                  </a:lnTo>
                  <a:lnTo>
                    <a:pt x="1276" y="55"/>
                  </a:lnTo>
                  <a:lnTo>
                    <a:pt x="1257" y="50"/>
                  </a:lnTo>
                  <a:lnTo>
                    <a:pt x="1238" y="44"/>
                  </a:lnTo>
                  <a:lnTo>
                    <a:pt x="1219" y="38"/>
                  </a:lnTo>
                  <a:lnTo>
                    <a:pt x="1200" y="33"/>
                  </a:lnTo>
                  <a:lnTo>
                    <a:pt x="1181" y="29"/>
                  </a:lnTo>
                  <a:lnTo>
                    <a:pt x="1162" y="25"/>
                  </a:lnTo>
                  <a:lnTo>
                    <a:pt x="1142" y="21"/>
                  </a:lnTo>
                  <a:lnTo>
                    <a:pt x="1122" y="17"/>
                  </a:lnTo>
                  <a:lnTo>
                    <a:pt x="1104" y="14"/>
                  </a:lnTo>
                  <a:lnTo>
                    <a:pt x="1084" y="11"/>
                  </a:lnTo>
                  <a:lnTo>
                    <a:pt x="1064" y="9"/>
                  </a:lnTo>
                  <a:lnTo>
                    <a:pt x="1044" y="6"/>
                  </a:lnTo>
                  <a:lnTo>
                    <a:pt x="1025" y="4"/>
                  </a:lnTo>
                  <a:lnTo>
                    <a:pt x="1005" y="3"/>
                  </a:lnTo>
                  <a:lnTo>
                    <a:pt x="986" y="2"/>
                  </a:lnTo>
                  <a:lnTo>
                    <a:pt x="966" y="1"/>
                  </a:lnTo>
                  <a:lnTo>
                    <a:pt x="946" y="0"/>
                  </a:lnTo>
                  <a:lnTo>
                    <a:pt x="926" y="0"/>
                  </a:lnTo>
                  <a:lnTo>
                    <a:pt x="906" y="0"/>
                  </a:lnTo>
                  <a:lnTo>
                    <a:pt x="887" y="1"/>
                  </a:lnTo>
                  <a:lnTo>
                    <a:pt x="867" y="2"/>
                  </a:lnTo>
                  <a:lnTo>
                    <a:pt x="849" y="4"/>
                  </a:lnTo>
                  <a:lnTo>
                    <a:pt x="829" y="5"/>
                  </a:lnTo>
                  <a:lnTo>
                    <a:pt x="809" y="7"/>
                  </a:lnTo>
                  <a:lnTo>
                    <a:pt x="790" y="9"/>
                  </a:lnTo>
                  <a:lnTo>
                    <a:pt x="770" y="12"/>
                  </a:lnTo>
                  <a:lnTo>
                    <a:pt x="750" y="15"/>
                  </a:lnTo>
                  <a:lnTo>
                    <a:pt x="731" y="18"/>
                  </a:lnTo>
                  <a:lnTo>
                    <a:pt x="712" y="21"/>
                  </a:lnTo>
                  <a:lnTo>
                    <a:pt x="692" y="25"/>
                  </a:lnTo>
                  <a:lnTo>
                    <a:pt x="673" y="30"/>
                  </a:lnTo>
                  <a:lnTo>
                    <a:pt x="654" y="34"/>
                  </a:lnTo>
                  <a:lnTo>
                    <a:pt x="635" y="39"/>
                  </a:lnTo>
                  <a:lnTo>
                    <a:pt x="615" y="45"/>
                  </a:lnTo>
                  <a:lnTo>
                    <a:pt x="597" y="50"/>
                  </a:lnTo>
                  <a:lnTo>
                    <a:pt x="578" y="56"/>
                  </a:lnTo>
                  <a:lnTo>
                    <a:pt x="559" y="62"/>
                  </a:lnTo>
                  <a:lnTo>
                    <a:pt x="541" y="69"/>
                  </a:lnTo>
                  <a:lnTo>
                    <a:pt x="522" y="76"/>
                  </a:lnTo>
                  <a:lnTo>
                    <a:pt x="504" y="83"/>
                  </a:lnTo>
                  <a:lnTo>
                    <a:pt x="485" y="91"/>
                  </a:lnTo>
                  <a:lnTo>
                    <a:pt x="468" y="99"/>
                  </a:lnTo>
                  <a:lnTo>
                    <a:pt x="450" y="108"/>
                  </a:lnTo>
                  <a:lnTo>
                    <a:pt x="432" y="116"/>
                  </a:lnTo>
                  <a:lnTo>
                    <a:pt x="414" y="124"/>
                  </a:lnTo>
                  <a:lnTo>
                    <a:pt x="397" y="133"/>
                  </a:lnTo>
                  <a:lnTo>
                    <a:pt x="379" y="143"/>
                  </a:lnTo>
                  <a:lnTo>
                    <a:pt x="363" y="153"/>
                  </a:lnTo>
                  <a:lnTo>
                    <a:pt x="346" y="163"/>
                  </a:lnTo>
                  <a:lnTo>
                    <a:pt x="329" y="173"/>
                  </a:lnTo>
                  <a:lnTo>
                    <a:pt x="312" y="184"/>
                  </a:lnTo>
                  <a:lnTo>
                    <a:pt x="296" y="195"/>
                  </a:lnTo>
                  <a:lnTo>
                    <a:pt x="279" y="206"/>
                  </a:lnTo>
                  <a:lnTo>
                    <a:pt x="263" y="217"/>
                  </a:lnTo>
                  <a:lnTo>
                    <a:pt x="248" y="229"/>
                  </a:lnTo>
                  <a:lnTo>
                    <a:pt x="232" y="241"/>
                  </a:lnTo>
                  <a:lnTo>
                    <a:pt x="217" y="254"/>
                  </a:lnTo>
                  <a:lnTo>
                    <a:pt x="202" y="267"/>
                  </a:lnTo>
                  <a:lnTo>
                    <a:pt x="188" y="279"/>
                  </a:lnTo>
                  <a:lnTo>
                    <a:pt x="172" y="292"/>
                  </a:lnTo>
                  <a:lnTo>
                    <a:pt x="158" y="305"/>
                  </a:lnTo>
                  <a:lnTo>
                    <a:pt x="144" y="319"/>
                  </a:lnTo>
                  <a:lnTo>
                    <a:pt x="130" y="333"/>
                  </a:lnTo>
                  <a:lnTo>
                    <a:pt x="116" y="346"/>
                  </a:lnTo>
                  <a:lnTo>
                    <a:pt x="103" y="362"/>
                  </a:lnTo>
                  <a:lnTo>
                    <a:pt x="89" y="376"/>
                  </a:lnTo>
                  <a:lnTo>
                    <a:pt x="76" y="390"/>
                  </a:lnTo>
                  <a:lnTo>
                    <a:pt x="63" y="405"/>
                  </a:lnTo>
                  <a:lnTo>
                    <a:pt x="51" y="420"/>
                  </a:lnTo>
                  <a:lnTo>
                    <a:pt x="39" y="436"/>
                  </a:lnTo>
                  <a:lnTo>
                    <a:pt x="27" y="451"/>
                  </a:lnTo>
                  <a:lnTo>
                    <a:pt x="15" y="467"/>
                  </a:lnTo>
                  <a:lnTo>
                    <a:pt x="3" y="483"/>
                  </a:lnTo>
                  <a:lnTo>
                    <a:pt x="0" y="488"/>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138560" y="1635120"/>
              <a:ext cx="3084480" cy="1657440"/>
            </a:xfrm>
            <a:custGeom>
              <a:avLst/>
              <a:gdLst/>
              <a:ahLst/>
              <a:rect l="l" t="t" r="r" b="b"/>
              <a:pathLst>
                <a:path w="1943" h="1044">
                  <a:moveTo>
                    <a:pt x="1942" y="1043"/>
                  </a:moveTo>
                  <a:lnTo>
                    <a:pt x="1941" y="1024"/>
                  </a:lnTo>
                  <a:lnTo>
                    <a:pt x="1940" y="1005"/>
                  </a:lnTo>
                  <a:lnTo>
                    <a:pt x="1939" y="987"/>
                  </a:lnTo>
                  <a:lnTo>
                    <a:pt x="1937" y="968"/>
                  </a:lnTo>
                  <a:lnTo>
                    <a:pt x="1936" y="949"/>
                  </a:lnTo>
                  <a:lnTo>
                    <a:pt x="1933" y="931"/>
                  </a:lnTo>
                  <a:lnTo>
                    <a:pt x="1930" y="914"/>
                  </a:lnTo>
                  <a:lnTo>
                    <a:pt x="1927" y="895"/>
                  </a:lnTo>
                  <a:lnTo>
                    <a:pt x="1924" y="877"/>
                  </a:lnTo>
                  <a:lnTo>
                    <a:pt x="1921" y="858"/>
                  </a:lnTo>
                  <a:lnTo>
                    <a:pt x="1917" y="840"/>
                  </a:lnTo>
                  <a:lnTo>
                    <a:pt x="1913" y="822"/>
                  </a:lnTo>
                  <a:lnTo>
                    <a:pt x="1908" y="803"/>
                  </a:lnTo>
                  <a:lnTo>
                    <a:pt x="1903" y="785"/>
                  </a:lnTo>
                  <a:lnTo>
                    <a:pt x="1897" y="767"/>
                  </a:lnTo>
                  <a:lnTo>
                    <a:pt x="1892" y="749"/>
                  </a:lnTo>
                  <a:lnTo>
                    <a:pt x="1886" y="731"/>
                  </a:lnTo>
                  <a:lnTo>
                    <a:pt x="1880" y="714"/>
                  </a:lnTo>
                  <a:lnTo>
                    <a:pt x="1873" y="696"/>
                  </a:lnTo>
                  <a:lnTo>
                    <a:pt x="1867" y="679"/>
                  </a:lnTo>
                  <a:lnTo>
                    <a:pt x="1860" y="661"/>
                  </a:lnTo>
                  <a:lnTo>
                    <a:pt x="1853" y="644"/>
                  </a:lnTo>
                  <a:lnTo>
                    <a:pt x="1845" y="626"/>
                  </a:lnTo>
                  <a:lnTo>
                    <a:pt x="1837" y="610"/>
                  </a:lnTo>
                  <a:lnTo>
                    <a:pt x="1829" y="593"/>
                  </a:lnTo>
                  <a:lnTo>
                    <a:pt x="1821" y="576"/>
                  </a:lnTo>
                  <a:lnTo>
                    <a:pt x="1811" y="560"/>
                  </a:lnTo>
                  <a:lnTo>
                    <a:pt x="1802" y="543"/>
                  </a:lnTo>
                  <a:lnTo>
                    <a:pt x="1793" y="527"/>
                  </a:lnTo>
                  <a:lnTo>
                    <a:pt x="1784" y="511"/>
                  </a:lnTo>
                  <a:lnTo>
                    <a:pt x="1774" y="495"/>
                  </a:lnTo>
                  <a:lnTo>
                    <a:pt x="1763" y="480"/>
                  </a:lnTo>
                  <a:lnTo>
                    <a:pt x="1753" y="464"/>
                  </a:lnTo>
                  <a:lnTo>
                    <a:pt x="1743" y="449"/>
                  </a:lnTo>
                  <a:lnTo>
                    <a:pt x="1731" y="433"/>
                  </a:lnTo>
                  <a:lnTo>
                    <a:pt x="1720" y="418"/>
                  </a:lnTo>
                  <a:lnTo>
                    <a:pt x="1708" y="404"/>
                  </a:lnTo>
                  <a:lnTo>
                    <a:pt x="1696" y="389"/>
                  </a:lnTo>
                  <a:lnTo>
                    <a:pt x="1684" y="375"/>
                  </a:lnTo>
                  <a:lnTo>
                    <a:pt x="1672" y="361"/>
                  </a:lnTo>
                  <a:lnTo>
                    <a:pt x="1659" y="347"/>
                  </a:lnTo>
                  <a:lnTo>
                    <a:pt x="1647" y="334"/>
                  </a:lnTo>
                  <a:lnTo>
                    <a:pt x="1634" y="320"/>
                  </a:lnTo>
                  <a:lnTo>
                    <a:pt x="1620" y="307"/>
                  </a:lnTo>
                  <a:lnTo>
                    <a:pt x="1607" y="295"/>
                  </a:lnTo>
                  <a:lnTo>
                    <a:pt x="1593" y="281"/>
                  </a:lnTo>
                  <a:lnTo>
                    <a:pt x="1579" y="269"/>
                  </a:lnTo>
                  <a:lnTo>
                    <a:pt x="1565" y="256"/>
                  </a:lnTo>
                  <a:lnTo>
                    <a:pt x="1551" y="245"/>
                  </a:lnTo>
                  <a:lnTo>
                    <a:pt x="1536" y="233"/>
                  </a:lnTo>
                  <a:lnTo>
                    <a:pt x="1521" y="221"/>
                  </a:lnTo>
                  <a:lnTo>
                    <a:pt x="1507" y="210"/>
                  </a:lnTo>
                  <a:lnTo>
                    <a:pt x="1491" y="199"/>
                  </a:lnTo>
                  <a:lnTo>
                    <a:pt x="1476" y="188"/>
                  </a:lnTo>
                  <a:lnTo>
                    <a:pt x="1461" y="178"/>
                  </a:lnTo>
                  <a:lnTo>
                    <a:pt x="1444" y="168"/>
                  </a:lnTo>
                  <a:lnTo>
                    <a:pt x="1430" y="158"/>
                  </a:lnTo>
                  <a:lnTo>
                    <a:pt x="1413" y="148"/>
                  </a:lnTo>
                  <a:lnTo>
                    <a:pt x="1397" y="139"/>
                  </a:lnTo>
                  <a:lnTo>
                    <a:pt x="1380" y="130"/>
                  </a:lnTo>
                  <a:lnTo>
                    <a:pt x="1364" y="121"/>
                  </a:lnTo>
                  <a:lnTo>
                    <a:pt x="1347" y="113"/>
                  </a:lnTo>
                  <a:lnTo>
                    <a:pt x="1331" y="104"/>
                  </a:lnTo>
                  <a:lnTo>
                    <a:pt x="1313" y="97"/>
                  </a:lnTo>
                  <a:lnTo>
                    <a:pt x="1297" y="89"/>
                  </a:lnTo>
                  <a:lnTo>
                    <a:pt x="1279" y="82"/>
                  </a:lnTo>
                  <a:lnTo>
                    <a:pt x="1262" y="74"/>
                  </a:lnTo>
                  <a:lnTo>
                    <a:pt x="1244" y="68"/>
                  </a:lnTo>
                  <a:lnTo>
                    <a:pt x="1227" y="61"/>
                  </a:lnTo>
                  <a:lnTo>
                    <a:pt x="1209" y="55"/>
                  </a:lnTo>
                  <a:lnTo>
                    <a:pt x="1191" y="50"/>
                  </a:lnTo>
                  <a:lnTo>
                    <a:pt x="1174" y="44"/>
                  </a:lnTo>
                  <a:lnTo>
                    <a:pt x="1156" y="39"/>
                  </a:lnTo>
                  <a:lnTo>
                    <a:pt x="1138" y="34"/>
                  </a:lnTo>
                  <a:lnTo>
                    <a:pt x="1119" y="30"/>
                  </a:lnTo>
                  <a:lnTo>
                    <a:pt x="1101" y="26"/>
                  </a:lnTo>
                  <a:lnTo>
                    <a:pt x="1082" y="22"/>
                  </a:lnTo>
                  <a:lnTo>
                    <a:pt x="1064" y="18"/>
                  </a:lnTo>
                  <a:lnTo>
                    <a:pt x="1046" y="15"/>
                  </a:lnTo>
                  <a:lnTo>
                    <a:pt x="1027" y="12"/>
                  </a:lnTo>
                  <a:lnTo>
                    <a:pt x="1008" y="9"/>
                  </a:lnTo>
                  <a:lnTo>
                    <a:pt x="990" y="8"/>
                  </a:lnTo>
                  <a:lnTo>
                    <a:pt x="971" y="5"/>
                  </a:lnTo>
                  <a:lnTo>
                    <a:pt x="953" y="3"/>
                  </a:lnTo>
                  <a:lnTo>
                    <a:pt x="933" y="2"/>
                  </a:lnTo>
                  <a:lnTo>
                    <a:pt x="916" y="1"/>
                  </a:lnTo>
                  <a:lnTo>
                    <a:pt x="896" y="1"/>
                  </a:lnTo>
                  <a:lnTo>
                    <a:pt x="878" y="0"/>
                  </a:lnTo>
                  <a:lnTo>
                    <a:pt x="859" y="0"/>
                  </a:lnTo>
                  <a:lnTo>
                    <a:pt x="840" y="1"/>
                  </a:lnTo>
                  <a:lnTo>
                    <a:pt x="821" y="2"/>
                  </a:lnTo>
                  <a:lnTo>
                    <a:pt x="802" y="2"/>
                  </a:lnTo>
                  <a:lnTo>
                    <a:pt x="785" y="3"/>
                  </a:lnTo>
                  <a:lnTo>
                    <a:pt x="766" y="6"/>
                  </a:lnTo>
                  <a:lnTo>
                    <a:pt x="748" y="7"/>
                  </a:lnTo>
                  <a:lnTo>
                    <a:pt x="729" y="9"/>
                  </a:lnTo>
                  <a:lnTo>
                    <a:pt x="711" y="12"/>
                  </a:lnTo>
                  <a:lnTo>
                    <a:pt x="692" y="16"/>
                  </a:lnTo>
                  <a:lnTo>
                    <a:pt x="674" y="18"/>
                  </a:lnTo>
                  <a:lnTo>
                    <a:pt x="655" y="22"/>
                  </a:lnTo>
                  <a:lnTo>
                    <a:pt x="637" y="26"/>
                  </a:lnTo>
                  <a:lnTo>
                    <a:pt x="619" y="30"/>
                  </a:lnTo>
                  <a:lnTo>
                    <a:pt x="600" y="35"/>
                  </a:lnTo>
                  <a:lnTo>
                    <a:pt x="583" y="40"/>
                  </a:lnTo>
                  <a:lnTo>
                    <a:pt x="564" y="45"/>
                  </a:lnTo>
                  <a:lnTo>
                    <a:pt x="546" y="51"/>
                  </a:lnTo>
                  <a:lnTo>
                    <a:pt x="528" y="56"/>
                  </a:lnTo>
                  <a:lnTo>
                    <a:pt x="511" y="62"/>
                  </a:lnTo>
                  <a:lnTo>
                    <a:pt x="493" y="69"/>
                  </a:lnTo>
                  <a:lnTo>
                    <a:pt x="476" y="75"/>
                  </a:lnTo>
                  <a:lnTo>
                    <a:pt x="458" y="82"/>
                  </a:lnTo>
                  <a:lnTo>
                    <a:pt x="441" y="90"/>
                  </a:lnTo>
                  <a:lnTo>
                    <a:pt x="424" y="98"/>
                  </a:lnTo>
                  <a:lnTo>
                    <a:pt x="407" y="106"/>
                  </a:lnTo>
                  <a:lnTo>
                    <a:pt x="390" y="113"/>
                  </a:lnTo>
                  <a:lnTo>
                    <a:pt x="373" y="122"/>
                  </a:lnTo>
                  <a:lnTo>
                    <a:pt x="357" y="131"/>
                  </a:lnTo>
                  <a:lnTo>
                    <a:pt x="340" y="140"/>
                  </a:lnTo>
                  <a:lnTo>
                    <a:pt x="324" y="149"/>
                  </a:lnTo>
                  <a:lnTo>
                    <a:pt x="308" y="159"/>
                  </a:lnTo>
                  <a:lnTo>
                    <a:pt x="292" y="169"/>
                  </a:lnTo>
                  <a:lnTo>
                    <a:pt x="277" y="179"/>
                  </a:lnTo>
                  <a:lnTo>
                    <a:pt x="261" y="190"/>
                  </a:lnTo>
                  <a:lnTo>
                    <a:pt x="246" y="200"/>
                  </a:lnTo>
                  <a:lnTo>
                    <a:pt x="230" y="212"/>
                  </a:lnTo>
                  <a:lnTo>
                    <a:pt x="215" y="223"/>
                  </a:lnTo>
                  <a:lnTo>
                    <a:pt x="201" y="234"/>
                  </a:lnTo>
                  <a:lnTo>
                    <a:pt x="187" y="247"/>
                  </a:lnTo>
                  <a:lnTo>
                    <a:pt x="173" y="258"/>
                  </a:lnTo>
                  <a:lnTo>
                    <a:pt x="158" y="271"/>
                  </a:lnTo>
                  <a:lnTo>
                    <a:pt x="145" y="284"/>
                  </a:lnTo>
                  <a:lnTo>
                    <a:pt x="132" y="296"/>
                  </a:lnTo>
                  <a:lnTo>
                    <a:pt x="118" y="309"/>
                  </a:lnTo>
                  <a:lnTo>
                    <a:pt x="104" y="323"/>
                  </a:lnTo>
                  <a:lnTo>
                    <a:pt x="92" y="336"/>
                  </a:lnTo>
                  <a:lnTo>
                    <a:pt x="79" y="348"/>
                  </a:lnTo>
                  <a:lnTo>
                    <a:pt x="66" y="363"/>
                  </a:lnTo>
                  <a:lnTo>
                    <a:pt x="54" y="377"/>
                  </a:lnTo>
                  <a:lnTo>
                    <a:pt x="42" y="390"/>
                  </a:lnTo>
                  <a:lnTo>
                    <a:pt x="30" y="405"/>
                  </a:lnTo>
                  <a:lnTo>
                    <a:pt x="18" y="420"/>
                  </a:lnTo>
                  <a:lnTo>
                    <a:pt x="7" y="435"/>
                  </a:lnTo>
                  <a:lnTo>
                    <a:pt x="0" y="447"/>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087800" y="4392720"/>
              <a:ext cx="3208320" cy="1593720"/>
            </a:xfrm>
            <a:custGeom>
              <a:avLst/>
              <a:gdLst/>
              <a:ahLst/>
              <a:rect l="l" t="t" r="r" b="b"/>
              <a:pathLst>
                <a:path w="2021" h="1004">
                  <a:moveTo>
                    <a:pt x="0" y="559"/>
                  </a:moveTo>
                  <a:lnTo>
                    <a:pt x="12" y="574"/>
                  </a:lnTo>
                  <a:lnTo>
                    <a:pt x="24" y="589"/>
                  </a:lnTo>
                  <a:lnTo>
                    <a:pt x="37" y="605"/>
                  </a:lnTo>
                  <a:lnTo>
                    <a:pt x="50" y="619"/>
                  </a:lnTo>
                  <a:lnTo>
                    <a:pt x="63" y="634"/>
                  </a:lnTo>
                  <a:lnTo>
                    <a:pt x="76" y="648"/>
                  </a:lnTo>
                  <a:lnTo>
                    <a:pt x="90" y="663"/>
                  </a:lnTo>
                  <a:lnTo>
                    <a:pt x="103" y="677"/>
                  </a:lnTo>
                  <a:lnTo>
                    <a:pt x="118" y="691"/>
                  </a:lnTo>
                  <a:lnTo>
                    <a:pt x="132" y="704"/>
                  </a:lnTo>
                  <a:lnTo>
                    <a:pt x="147" y="717"/>
                  </a:lnTo>
                  <a:lnTo>
                    <a:pt x="162" y="730"/>
                  </a:lnTo>
                  <a:lnTo>
                    <a:pt x="176" y="743"/>
                  </a:lnTo>
                  <a:lnTo>
                    <a:pt x="191" y="755"/>
                  </a:lnTo>
                  <a:lnTo>
                    <a:pt x="206" y="767"/>
                  </a:lnTo>
                  <a:lnTo>
                    <a:pt x="222" y="779"/>
                  </a:lnTo>
                  <a:lnTo>
                    <a:pt x="239" y="791"/>
                  </a:lnTo>
                  <a:lnTo>
                    <a:pt x="254" y="802"/>
                  </a:lnTo>
                  <a:lnTo>
                    <a:pt x="271" y="814"/>
                  </a:lnTo>
                  <a:lnTo>
                    <a:pt x="288" y="824"/>
                  </a:lnTo>
                  <a:lnTo>
                    <a:pt x="304" y="835"/>
                  </a:lnTo>
                  <a:lnTo>
                    <a:pt x="320" y="845"/>
                  </a:lnTo>
                  <a:lnTo>
                    <a:pt x="338" y="855"/>
                  </a:lnTo>
                  <a:lnTo>
                    <a:pt x="355" y="865"/>
                  </a:lnTo>
                  <a:lnTo>
                    <a:pt x="372" y="873"/>
                  </a:lnTo>
                  <a:lnTo>
                    <a:pt x="390" y="883"/>
                  </a:lnTo>
                  <a:lnTo>
                    <a:pt x="408" y="891"/>
                  </a:lnTo>
                  <a:lnTo>
                    <a:pt x="426" y="899"/>
                  </a:lnTo>
                  <a:lnTo>
                    <a:pt x="444" y="908"/>
                  </a:lnTo>
                  <a:lnTo>
                    <a:pt x="462" y="916"/>
                  </a:lnTo>
                  <a:lnTo>
                    <a:pt x="480" y="923"/>
                  </a:lnTo>
                  <a:lnTo>
                    <a:pt x="499" y="930"/>
                  </a:lnTo>
                  <a:lnTo>
                    <a:pt x="517" y="937"/>
                  </a:lnTo>
                  <a:lnTo>
                    <a:pt x="536" y="943"/>
                  </a:lnTo>
                  <a:lnTo>
                    <a:pt x="555" y="949"/>
                  </a:lnTo>
                  <a:lnTo>
                    <a:pt x="574" y="956"/>
                  </a:lnTo>
                  <a:lnTo>
                    <a:pt x="592" y="961"/>
                  </a:lnTo>
                  <a:lnTo>
                    <a:pt x="611" y="966"/>
                  </a:lnTo>
                  <a:lnTo>
                    <a:pt x="631" y="971"/>
                  </a:lnTo>
                  <a:lnTo>
                    <a:pt x="650" y="976"/>
                  </a:lnTo>
                  <a:lnTo>
                    <a:pt x="669" y="980"/>
                  </a:lnTo>
                  <a:lnTo>
                    <a:pt x="688" y="983"/>
                  </a:lnTo>
                  <a:lnTo>
                    <a:pt x="708" y="986"/>
                  </a:lnTo>
                  <a:lnTo>
                    <a:pt x="727" y="990"/>
                  </a:lnTo>
                  <a:lnTo>
                    <a:pt x="747" y="993"/>
                  </a:lnTo>
                  <a:lnTo>
                    <a:pt x="766" y="995"/>
                  </a:lnTo>
                  <a:lnTo>
                    <a:pt x="786" y="997"/>
                  </a:lnTo>
                  <a:lnTo>
                    <a:pt x="806" y="999"/>
                  </a:lnTo>
                  <a:lnTo>
                    <a:pt x="824" y="1001"/>
                  </a:lnTo>
                  <a:lnTo>
                    <a:pt x="844" y="1001"/>
                  </a:lnTo>
                  <a:lnTo>
                    <a:pt x="863" y="1003"/>
                  </a:lnTo>
                  <a:lnTo>
                    <a:pt x="883" y="1003"/>
                  </a:lnTo>
                  <a:lnTo>
                    <a:pt x="903" y="1003"/>
                  </a:lnTo>
                  <a:lnTo>
                    <a:pt x="923" y="1002"/>
                  </a:lnTo>
                  <a:lnTo>
                    <a:pt x="942" y="1002"/>
                  </a:lnTo>
                  <a:lnTo>
                    <a:pt x="962" y="1001"/>
                  </a:lnTo>
                  <a:lnTo>
                    <a:pt x="982" y="1000"/>
                  </a:lnTo>
                  <a:lnTo>
                    <a:pt x="1002" y="998"/>
                  </a:lnTo>
                  <a:lnTo>
                    <a:pt x="1021" y="996"/>
                  </a:lnTo>
                  <a:lnTo>
                    <a:pt x="1041" y="994"/>
                  </a:lnTo>
                  <a:lnTo>
                    <a:pt x="1060" y="991"/>
                  </a:lnTo>
                  <a:lnTo>
                    <a:pt x="1080" y="988"/>
                  </a:lnTo>
                  <a:lnTo>
                    <a:pt x="1100" y="985"/>
                  </a:lnTo>
                  <a:lnTo>
                    <a:pt x="1119" y="981"/>
                  </a:lnTo>
                  <a:lnTo>
                    <a:pt x="1138" y="977"/>
                  </a:lnTo>
                  <a:lnTo>
                    <a:pt x="1157" y="973"/>
                  </a:lnTo>
                  <a:lnTo>
                    <a:pt x="1177" y="967"/>
                  </a:lnTo>
                  <a:lnTo>
                    <a:pt x="1195" y="963"/>
                  </a:lnTo>
                  <a:lnTo>
                    <a:pt x="1214" y="957"/>
                  </a:lnTo>
                  <a:lnTo>
                    <a:pt x="1233" y="952"/>
                  </a:lnTo>
                  <a:lnTo>
                    <a:pt x="1252" y="945"/>
                  </a:lnTo>
                  <a:lnTo>
                    <a:pt x="1271" y="939"/>
                  </a:lnTo>
                  <a:lnTo>
                    <a:pt x="1289" y="933"/>
                  </a:lnTo>
                  <a:lnTo>
                    <a:pt x="1308" y="926"/>
                  </a:lnTo>
                  <a:lnTo>
                    <a:pt x="1326" y="918"/>
                  </a:lnTo>
                  <a:lnTo>
                    <a:pt x="1345" y="911"/>
                  </a:lnTo>
                  <a:lnTo>
                    <a:pt x="1362" y="902"/>
                  </a:lnTo>
                  <a:lnTo>
                    <a:pt x="1381" y="894"/>
                  </a:lnTo>
                  <a:lnTo>
                    <a:pt x="1398" y="886"/>
                  </a:lnTo>
                  <a:lnTo>
                    <a:pt x="1416" y="877"/>
                  </a:lnTo>
                  <a:lnTo>
                    <a:pt x="1433" y="867"/>
                  </a:lnTo>
                  <a:lnTo>
                    <a:pt x="1450" y="858"/>
                  </a:lnTo>
                  <a:lnTo>
                    <a:pt x="1467" y="848"/>
                  </a:lnTo>
                  <a:lnTo>
                    <a:pt x="1483" y="839"/>
                  </a:lnTo>
                  <a:lnTo>
                    <a:pt x="1500" y="828"/>
                  </a:lnTo>
                  <a:lnTo>
                    <a:pt x="1517" y="816"/>
                  </a:lnTo>
                  <a:lnTo>
                    <a:pt x="1533" y="806"/>
                  </a:lnTo>
                  <a:lnTo>
                    <a:pt x="1549" y="795"/>
                  </a:lnTo>
                  <a:lnTo>
                    <a:pt x="1566" y="783"/>
                  </a:lnTo>
                  <a:lnTo>
                    <a:pt x="1582" y="771"/>
                  </a:lnTo>
                  <a:lnTo>
                    <a:pt x="1597" y="759"/>
                  </a:lnTo>
                  <a:lnTo>
                    <a:pt x="1612" y="747"/>
                  </a:lnTo>
                  <a:lnTo>
                    <a:pt x="1628" y="734"/>
                  </a:lnTo>
                  <a:lnTo>
                    <a:pt x="1642" y="721"/>
                  </a:lnTo>
                  <a:lnTo>
                    <a:pt x="1657" y="708"/>
                  </a:lnTo>
                  <a:lnTo>
                    <a:pt x="1672" y="694"/>
                  </a:lnTo>
                  <a:lnTo>
                    <a:pt x="1686" y="681"/>
                  </a:lnTo>
                  <a:lnTo>
                    <a:pt x="1700" y="668"/>
                  </a:lnTo>
                  <a:lnTo>
                    <a:pt x="1714" y="653"/>
                  </a:lnTo>
                  <a:lnTo>
                    <a:pt x="1727" y="639"/>
                  </a:lnTo>
                  <a:lnTo>
                    <a:pt x="1740" y="625"/>
                  </a:lnTo>
                  <a:lnTo>
                    <a:pt x="1754" y="609"/>
                  </a:lnTo>
                  <a:lnTo>
                    <a:pt x="1766" y="594"/>
                  </a:lnTo>
                  <a:lnTo>
                    <a:pt x="1779" y="579"/>
                  </a:lnTo>
                  <a:lnTo>
                    <a:pt x="1791" y="564"/>
                  </a:lnTo>
                  <a:lnTo>
                    <a:pt x="1803" y="549"/>
                  </a:lnTo>
                  <a:lnTo>
                    <a:pt x="1814" y="532"/>
                  </a:lnTo>
                  <a:lnTo>
                    <a:pt x="1826" y="517"/>
                  </a:lnTo>
                  <a:lnTo>
                    <a:pt x="1837" y="500"/>
                  </a:lnTo>
                  <a:lnTo>
                    <a:pt x="1847" y="484"/>
                  </a:lnTo>
                  <a:lnTo>
                    <a:pt x="1859" y="467"/>
                  </a:lnTo>
                  <a:lnTo>
                    <a:pt x="1869" y="450"/>
                  </a:lnTo>
                  <a:lnTo>
                    <a:pt x="1878" y="432"/>
                  </a:lnTo>
                  <a:lnTo>
                    <a:pt x="1888" y="416"/>
                  </a:lnTo>
                  <a:lnTo>
                    <a:pt x="1897" y="398"/>
                  </a:lnTo>
                  <a:lnTo>
                    <a:pt x="1906" y="381"/>
                  </a:lnTo>
                  <a:lnTo>
                    <a:pt x="1915" y="363"/>
                  </a:lnTo>
                  <a:lnTo>
                    <a:pt x="1923" y="345"/>
                  </a:lnTo>
                  <a:lnTo>
                    <a:pt x="1931" y="327"/>
                  </a:lnTo>
                  <a:lnTo>
                    <a:pt x="1940" y="309"/>
                  </a:lnTo>
                  <a:lnTo>
                    <a:pt x="1946" y="291"/>
                  </a:lnTo>
                  <a:lnTo>
                    <a:pt x="1954" y="272"/>
                  </a:lnTo>
                  <a:lnTo>
                    <a:pt x="1961" y="254"/>
                  </a:lnTo>
                  <a:lnTo>
                    <a:pt x="1967" y="235"/>
                  </a:lnTo>
                  <a:lnTo>
                    <a:pt x="1974" y="217"/>
                  </a:lnTo>
                  <a:lnTo>
                    <a:pt x="1979" y="198"/>
                  </a:lnTo>
                  <a:lnTo>
                    <a:pt x="1984" y="179"/>
                  </a:lnTo>
                  <a:lnTo>
                    <a:pt x="1990" y="160"/>
                  </a:lnTo>
                  <a:lnTo>
                    <a:pt x="1995" y="141"/>
                  </a:lnTo>
                  <a:lnTo>
                    <a:pt x="1999" y="122"/>
                  </a:lnTo>
                  <a:lnTo>
                    <a:pt x="2003" y="102"/>
                  </a:lnTo>
                  <a:lnTo>
                    <a:pt x="2007" y="83"/>
                  </a:lnTo>
                  <a:lnTo>
                    <a:pt x="2011" y="64"/>
                  </a:lnTo>
                  <a:lnTo>
                    <a:pt x="2014" y="43"/>
                  </a:lnTo>
                  <a:lnTo>
                    <a:pt x="2016" y="25"/>
                  </a:lnTo>
                  <a:lnTo>
                    <a:pt x="2019" y="4"/>
                  </a:lnTo>
                  <a:lnTo>
                    <a:pt x="2020"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152960" y="4414680"/>
              <a:ext cx="3043080" cy="1474920"/>
            </a:xfrm>
            <a:custGeom>
              <a:avLst/>
              <a:gdLst/>
              <a:ahLst/>
              <a:rect l="l" t="t" r="r" b="b"/>
              <a:pathLst>
                <a:path w="1917" h="929">
                  <a:moveTo>
                    <a:pt x="0" y="507"/>
                  </a:moveTo>
                  <a:lnTo>
                    <a:pt x="12" y="522"/>
                  </a:lnTo>
                  <a:lnTo>
                    <a:pt x="24" y="536"/>
                  </a:lnTo>
                  <a:lnTo>
                    <a:pt x="36" y="551"/>
                  </a:lnTo>
                  <a:lnTo>
                    <a:pt x="48" y="565"/>
                  </a:lnTo>
                  <a:lnTo>
                    <a:pt x="61" y="578"/>
                  </a:lnTo>
                  <a:lnTo>
                    <a:pt x="74" y="591"/>
                  </a:lnTo>
                  <a:lnTo>
                    <a:pt x="86" y="605"/>
                  </a:lnTo>
                  <a:lnTo>
                    <a:pt x="100" y="618"/>
                  </a:lnTo>
                  <a:lnTo>
                    <a:pt x="113" y="632"/>
                  </a:lnTo>
                  <a:lnTo>
                    <a:pt x="126" y="644"/>
                  </a:lnTo>
                  <a:lnTo>
                    <a:pt x="139" y="657"/>
                  </a:lnTo>
                  <a:lnTo>
                    <a:pt x="154" y="669"/>
                  </a:lnTo>
                  <a:lnTo>
                    <a:pt x="168" y="682"/>
                  </a:lnTo>
                  <a:lnTo>
                    <a:pt x="183" y="693"/>
                  </a:lnTo>
                  <a:lnTo>
                    <a:pt x="198" y="705"/>
                  </a:lnTo>
                  <a:lnTo>
                    <a:pt x="213" y="716"/>
                  </a:lnTo>
                  <a:lnTo>
                    <a:pt x="228" y="727"/>
                  </a:lnTo>
                  <a:lnTo>
                    <a:pt x="243" y="738"/>
                  </a:lnTo>
                  <a:lnTo>
                    <a:pt x="258" y="748"/>
                  </a:lnTo>
                  <a:lnTo>
                    <a:pt x="274" y="759"/>
                  </a:lnTo>
                  <a:lnTo>
                    <a:pt x="290" y="769"/>
                  </a:lnTo>
                  <a:lnTo>
                    <a:pt x="306" y="778"/>
                  </a:lnTo>
                  <a:lnTo>
                    <a:pt x="322" y="787"/>
                  </a:lnTo>
                  <a:lnTo>
                    <a:pt x="339" y="797"/>
                  </a:lnTo>
                  <a:lnTo>
                    <a:pt x="355" y="806"/>
                  </a:lnTo>
                  <a:lnTo>
                    <a:pt x="372" y="814"/>
                  </a:lnTo>
                  <a:lnTo>
                    <a:pt x="389" y="823"/>
                  </a:lnTo>
                  <a:lnTo>
                    <a:pt x="405" y="831"/>
                  </a:lnTo>
                  <a:lnTo>
                    <a:pt x="423" y="838"/>
                  </a:lnTo>
                  <a:lnTo>
                    <a:pt x="440" y="845"/>
                  </a:lnTo>
                  <a:lnTo>
                    <a:pt x="457" y="853"/>
                  </a:lnTo>
                  <a:lnTo>
                    <a:pt x="475" y="859"/>
                  </a:lnTo>
                  <a:lnTo>
                    <a:pt x="492" y="866"/>
                  </a:lnTo>
                  <a:lnTo>
                    <a:pt x="510" y="872"/>
                  </a:lnTo>
                  <a:lnTo>
                    <a:pt x="528" y="877"/>
                  </a:lnTo>
                  <a:lnTo>
                    <a:pt x="546" y="883"/>
                  </a:lnTo>
                  <a:lnTo>
                    <a:pt x="564" y="888"/>
                  </a:lnTo>
                  <a:lnTo>
                    <a:pt x="582" y="893"/>
                  </a:lnTo>
                  <a:lnTo>
                    <a:pt x="600" y="898"/>
                  </a:lnTo>
                  <a:lnTo>
                    <a:pt x="619" y="902"/>
                  </a:lnTo>
                  <a:lnTo>
                    <a:pt x="637" y="907"/>
                  </a:lnTo>
                  <a:lnTo>
                    <a:pt x="655" y="910"/>
                  </a:lnTo>
                  <a:lnTo>
                    <a:pt x="674" y="912"/>
                  </a:lnTo>
                  <a:lnTo>
                    <a:pt x="692" y="916"/>
                  </a:lnTo>
                  <a:lnTo>
                    <a:pt x="711" y="918"/>
                  </a:lnTo>
                  <a:lnTo>
                    <a:pt x="730" y="921"/>
                  </a:lnTo>
                  <a:lnTo>
                    <a:pt x="748" y="923"/>
                  </a:lnTo>
                  <a:lnTo>
                    <a:pt x="766" y="924"/>
                  </a:lnTo>
                  <a:lnTo>
                    <a:pt x="785" y="926"/>
                  </a:lnTo>
                  <a:lnTo>
                    <a:pt x="803" y="927"/>
                  </a:lnTo>
                  <a:lnTo>
                    <a:pt x="822" y="928"/>
                  </a:lnTo>
                  <a:lnTo>
                    <a:pt x="840" y="928"/>
                  </a:lnTo>
                  <a:lnTo>
                    <a:pt x="860" y="928"/>
                  </a:lnTo>
                  <a:lnTo>
                    <a:pt x="878" y="928"/>
                  </a:lnTo>
                  <a:lnTo>
                    <a:pt x="896" y="927"/>
                  </a:lnTo>
                  <a:lnTo>
                    <a:pt x="915" y="926"/>
                  </a:lnTo>
                  <a:lnTo>
                    <a:pt x="934" y="925"/>
                  </a:lnTo>
                  <a:lnTo>
                    <a:pt x="953" y="924"/>
                  </a:lnTo>
                  <a:lnTo>
                    <a:pt x="972" y="921"/>
                  </a:lnTo>
                  <a:lnTo>
                    <a:pt x="990" y="919"/>
                  </a:lnTo>
                  <a:lnTo>
                    <a:pt x="1009" y="916"/>
                  </a:lnTo>
                  <a:lnTo>
                    <a:pt x="1027" y="913"/>
                  </a:lnTo>
                  <a:lnTo>
                    <a:pt x="1046" y="910"/>
                  </a:lnTo>
                  <a:lnTo>
                    <a:pt x="1064" y="907"/>
                  </a:lnTo>
                  <a:lnTo>
                    <a:pt x="1082" y="903"/>
                  </a:lnTo>
                  <a:lnTo>
                    <a:pt x="1100" y="899"/>
                  </a:lnTo>
                  <a:lnTo>
                    <a:pt x="1119" y="894"/>
                  </a:lnTo>
                  <a:lnTo>
                    <a:pt x="1137" y="890"/>
                  </a:lnTo>
                  <a:lnTo>
                    <a:pt x="1155" y="885"/>
                  </a:lnTo>
                  <a:lnTo>
                    <a:pt x="1173" y="879"/>
                  </a:lnTo>
                  <a:lnTo>
                    <a:pt x="1191" y="873"/>
                  </a:lnTo>
                  <a:lnTo>
                    <a:pt x="1209" y="867"/>
                  </a:lnTo>
                  <a:lnTo>
                    <a:pt x="1226" y="861"/>
                  </a:lnTo>
                  <a:lnTo>
                    <a:pt x="1244" y="854"/>
                  </a:lnTo>
                  <a:lnTo>
                    <a:pt x="1261" y="847"/>
                  </a:lnTo>
                  <a:lnTo>
                    <a:pt x="1279" y="840"/>
                  </a:lnTo>
                  <a:lnTo>
                    <a:pt x="1296" y="833"/>
                  </a:lnTo>
                  <a:lnTo>
                    <a:pt x="1312" y="825"/>
                  </a:lnTo>
                  <a:lnTo>
                    <a:pt x="1329" y="816"/>
                  </a:lnTo>
                  <a:lnTo>
                    <a:pt x="1346" y="807"/>
                  </a:lnTo>
                  <a:lnTo>
                    <a:pt x="1363" y="799"/>
                  </a:lnTo>
                  <a:lnTo>
                    <a:pt x="1379" y="790"/>
                  </a:lnTo>
                  <a:lnTo>
                    <a:pt x="1395" y="780"/>
                  </a:lnTo>
                  <a:lnTo>
                    <a:pt x="1411" y="771"/>
                  </a:lnTo>
                  <a:lnTo>
                    <a:pt x="1426" y="761"/>
                  </a:lnTo>
                  <a:lnTo>
                    <a:pt x="1443" y="751"/>
                  </a:lnTo>
                  <a:lnTo>
                    <a:pt x="1457" y="741"/>
                  </a:lnTo>
                  <a:lnTo>
                    <a:pt x="1473" y="730"/>
                  </a:lnTo>
                  <a:lnTo>
                    <a:pt x="1488" y="719"/>
                  </a:lnTo>
                  <a:lnTo>
                    <a:pt x="1503" y="708"/>
                  </a:lnTo>
                  <a:lnTo>
                    <a:pt x="1518" y="696"/>
                  </a:lnTo>
                  <a:lnTo>
                    <a:pt x="1533" y="684"/>
                  </a:lnTo>
                  <a:lnTo>
                    <a:pt x="1547" y="672"/>
                  </a:lnTo>
                  <a:lnTo>
                    <a:pt x="1561" y="660"/>
                  </a:lnTo>
                  <a:lnTo>
                    <a:pt x="1575" y="647"/>
                  </a:lnTo>
                  <a:lnTo>
                    <a:pt x="1588" y="634"/>
                  </a:lnTo>
                  <a:lnTo>
                    <a:pt x="1602" y="622"/>
                  </a:lnTo>
                  <a:lnTo>
                    <a:pt x="1615" y="608"/>
                  </a:lnTo>
                  <a:lnTo>
                    <a:pt x="1629" y="595"/>
                  </a:lnTo>
                  <a:lnTo>
                    <a:pt x="1641" y="581"/>
                  </a:lnTo>
                  <a:lnTo>
                    <a:pt x="1654" y="568"/>
                  </a:lnTo>
                  <a:lnTo>
                    <a:pt x="1666" y="554"/>
                  </a:lnTo>
                  <a:lnTo>
                    <a:pt x="1679" y="540"/>
                  </a:lnTo>
                  <a:lnTo>
                    <a:pt x="1690" y="525"/>
                  </a:lnTo>
                  <a:lnTo>
                    <a:pt x="1702" y="511"/>
                  </a:lnTo>
                  <a:lnTo>
                    <a:pt x="1713" y="495"/>
                  </a:lnTo>
                  <a:lnTo>
                    <a:pt x="1724" y="481"/>
                  </a:lnTo>
                  <a:lnTo>
                    <a:pt x="1735" y="465"/>
                  </a:lnTo>
                  <a:lnTo>
                    <a:pt x="1745" y="450"/>
                  </a:lnTo>
                  <a:lnTo>
                    <a:pt x="1756" y="434"/>
                  </a:lnTo>
                  <a:lnTo>
                    <a:pt x="1766" y="418"/>
                  </a:lnTo>
                  <a:lnTo>
                    <a:pt x="1775" y="402"/>
                  </a:lnTo>
                  <a:lnTo>
                    <a:pt x="1784" y="386"/>
                  </a:lnTo>
                  <a:lnTo>
                    <a:pt x="1794" y="369"/>
                  </a:lnTo>
                  <a:lnTo>
                    <a:pt x="1803" y="353"/>
                  </a:lnTo>
                  <a:lnTo>
                    <a:pt x="1811" y="337"/>
                  </a:lnTo>
                  <a:lnTo>
                    <a:pt x="1820" y="319"/>
                  </a:lnTo>
                  <a:lnTo>
                    <a:pt x="1828" y="303"/>
                  </a:lnTo>
                  <a:lnTo>
                    <a:pt x="1835" y="286"/>
                  </a:lnTo>
                  <a:lnTo>
                    <a:pt x="1842" y="268"/>
                  </a:lnTo>
                  <a:lnTo>
                    <a:pt x="1850" y="251"/>
                  </a:lnTo>
                  <a:lnTo>
                    <a:pt x="1856" y="233"/>
                  </a:lnTo>
                  <a:lnTo>
                    <a:pt x="1863" y="216"/>
                  </a:lnTo>
                  <a:lnTo>
                    <a:pt x="1869" y="198"/>
                  </a:lnTo>
                  <a:lnTo>
                    <a:pt x="1874" y="180"/>
                  </a:lnTo>
                  <a:lnTo>
                    <a:pt x="1880" y="162"/>
                  </a:lnTo>
                  <a:lnTo>
                    <a:pt x="1885" y="144"/>
                  </a:lnTo>
                  <a:lnTo>
                    <a:pt x="1890" y="126"/>
                  </a:lnTo>
                  <a:lnTo>
                    <a:pt x="1895" y="108"/>
                  </a:lnTo>
                  <a:lnTo>
                    <a:pt x="1899" y="89"/>
                  </a:lnTo>
                  <a:lnTo>
                    <a:pt x="1904" y="71"/>
                  </a:lnTo>
                  <a:lnTo>
                    <a:pt x="1907" y="53"/>
                  </a:lnTo>
                  <a:lnTo>
                    <a:pt x="1909" y="34"/>
                  </a:lnTo>
                  <a:lnTo>
                    <a:pt x="1913" y="16"/>
                  </a:lnTo>
                  <a:lnTo>
                    <a:pt x="1916"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1</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57520"/>
            <a:ext cx="7890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e competing interests of multiple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inter-team collabor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skills: mu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s between qualities and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ess a current understanding of technolo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at most requirements for an architecture are not written down in any requirements docu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2</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convey the architecture to teams (both verbally and in wri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en to and understand multiple viewpoi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ure?</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ness for purpo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ti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Lecture 10 deals with evaluating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575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volves more than just technical requirements for a system.  It also involves non-technical fact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s backgrou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goals of the sponsoring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fluences the factors that affect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learn from experie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 is expanded and al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gain new marketing possibi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does the nature of your enterprise affect the </a:t>
            </a:r>
            <a:r>
              <a:rPr b="1" lang="en-US" sz="2400" spc="-1" strike="noStrike">
                <a:solidFill>
                  <a:srgbClr val="ffffff"/>
                </a:solidFill>
                <a:latin typeface="Arial"/>
              </a:rPr>
              <a:t>	</a:t>
            </a:r>
            <a:r>
              <a:rPr b="1" lang="en-US" sz="2400" spc="-1" strike="noStrike">
                <a:solidFill>
                  <a:srgbClr val="ffffff"/>
                </a:solidFill>
                <a:latin typeface="Arial"/>
              </a:rPr>
              <a:t>architectures that it develops?  How d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s affect the nature of the 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kind of business goals drive (or have driv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creation of the software architectures of your</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Who are the stakeholders that exert the most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luence over the architecture of systems in your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at are their goals?  Do the goal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ver conflict?</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both the business and technical aspects of an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e technical aspects later in the cour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spects of architec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 a common infrastructure for a collection of system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Open Blueprin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D DII COE</a:t>
            </a:r>
            <a:endParaRPr b="1" lang="en-US" sz="2400" spc="-1" strike="noStrike">
              <a:solidFill>
                <a:srgbClr val="ffffff"/>
              </a:solidFill>
              <a:latin typeface="Arial"/>
            </a:endParaRPr>
          </a:p>
        </p:txBody>
      </p:sp>
      <p:graphicFrame>
        <p:nvGraphicFramePr>
          <p:cNvPr id="131" name=""/>
          <p:cNvGraphicFramePr/>
          <p:nvPr/>
        </p:nvGraphicFramePr>
        <p:xfrm>
          <a:off x="7920000" y="50760"/>
          <a:ext cx="1158840" cy="1282680"/>
        </p:xfrm>
        <a:graphic>
          <a:graphicData uri="http://schemas.openxmlformats.org/presentationml/2006/ole">
            <p:oleObj r:id="rId1" spid="">
              <p:embed/>
              <p:pic>
                <p:nvPicPr>
                  <p:cNvPr id="132"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8163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1</a:t>
            </a:r>
            <a:endParaRPr b="0" lang="en-US" sz="3200" spc="-1" strike="noStrike">
              <a:solidFill>
                <a:srgbClr val="ffffff"/>
              </a:solidFill>
              <a:latin typeface="Century Schoolbook"/>
            </a:endParaRPr>
          </a:p>
        </p:txBody>
      </p:sp>
      <p:sp>
        <p:nvSpPr>
          <p:cNvPr id="1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leverage of control of a marketplace (e.g., Microsof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ehicle for management oversight an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cus on a niche in the marketplace (e.g., 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for the scoping of produ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used as a sales tool (e.g., conforms to industry standar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2</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760" y="1782720"/>
            <a:ext cx="7864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s en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er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tool sup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 of infrastructure costs amo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ctors Influencing Architectures</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re influenc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of a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and organizational fa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background</a:t>
            </a:r>
            <a:endParaRPr b="1" lang="en-US" sz="2400" spc="-1" strike="noStrike">
              <a:solidFill>
                <a:srgbClr val="ffffff"/>
              </a:solidFill>
              <a:latin typeface="Arial"/>
            </a:endParaRPr>
          </a:p>
        </p:txBody>
      </p:sp>
      <p:graphicFrame>
        <p:nvGraphicFramePr>
          <p:cNvPr id="139" name=""/>
          <p:cNvGraphicFramePr/>
          <p:nvPr/>
        </p:nvGraphicFramePr>
        <p:xfrm>
          <a:off x="7920000" y="50760"/>
          <a:ext cx="1158840" cy="1282680"/>
        </p:xfrm>
        <a:graphic>
          <a:graphicData uri="http://schemas.openxmlformats.org/presentationml/2006/ole">
            <p:oleObj r:id="rId1" spid="">
              <p:embed/>
              <p:pic>
                <p:nvPicPr>
                  <p:cNvPr id="14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stomers</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are the people who pay for system developmen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concer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and lifetime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with other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 port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nd Users</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the people who use the system. They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egular”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concerned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fun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ther Stakeholder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6640" y="17953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enance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47" name=""/>
          <p:cNvGraphicFramePr/>
          <p:nvPr/>
        </p:nvGraphicFramePr>
        <p:xfrm>
          <a:off x="7920000" y="50760"/>
          <a:ext cx="1158840" cy="1282680"/>
        </p:xfrm>
        <a:graphic>
          <a:graphicData uri="http://schemas.openxmlformats.org/presentationml/2006/ole">
            <p:oleObj r:id="rId1" spid="">
              <p:embed/>
              <p:pic>
                <p:nvPicPr>
                  <p:cNvPr id="14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3T20:50:10Z</cp:lastPrinted>
  <dcterms:modified xsi:type="dcterms:W3CDTF">1998-10-26T13:07:24Z</dcterms:modified>
  <cp:revision>349</cp:revision>
  <dc:subject/>
  <dc:title>Cover Slide Example</dc:title>
</cp:coreProperties>
</file>