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A54E6276-0676-4B4E-B6C5-21EDF25C9E2A}"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33560" y="657360"/>
            <a:ext cx="4321080" cy="3240000"/>
          </a:xfrm>
          <a:prstGeom prst="rect">
            <a:avLst/>
          </a:prstGeom>
          <a:ln w="0">
            <a:noFill/>
          </a:ln>
        </p:spPr>
      </p:sp>
      <p:sp>
        <p:nvSpPr>
          <p:cNvPr id="5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orld Wide Web was created out of a single organization’s desire to exchange information about its research, but has far outgrown these original goals.  This case study describes the architecture of the software underlying the Web; how this architecture has changed to allow the growth of the Web; and how this growth, in turn, has greatly influenced the organizations that use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31760" y="657360"/>
            <a:ext cx="4324320" cy="3240000"/>
          </a:xfrm>
          <a:prstGeom prst="rect">
            <a:avLst/>
          </a:prstGeom>
          <a:ln w="0">
            <a:noFill/>
          </a:ln>
        </p:spPr>
      </p:sp>
      <p:sp>
        <p:nvSpPr>
          <p:cNvPr id="59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eneric utilities provide a portability layer on which the rest of the system rests.  Layers was one of the architectural styles previously discussed in this course.  The utilities layer includes basic building blocks for the system such as network management, data types (such as container classes), and string manipulation utilities.  Through the services provided by this layer, all higher levels can be made platform independent, and the task of porting to a new hardware or software platform is almost entirely contained within the task of porting the utilities layer, which needs to be done only once per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31760" y="657360"/>
            <a:ext cx="4324320" cy="3240000"/>
          </a:xfrm>
          <a:prstGeom prst="rect">
            <a:avLst/>
          </a:prstGeom>
          <a:ln w="0">
            <a:noFill/>
          </a:ln>
        </p:spPr>
      </p:sp>
      <p:sp>
        <p:nvSpPr>
          <p:cNvPr id="594"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e layer contains the skeletal functionality of a WWW application - net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data management and parsing, logging, etc.</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itself, the core layer does nothing.  It provides a standard interface of a WW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o be built upon.  The actual functionality is provided by plug-in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out functions that are registered by an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lug-ins</a:t>
            </a:r>
            <a:r>
              <a:rPr b="0" lang="en-US" sz="1000" spc="-1" strike="noStrike">
                <a:solidFill>
                  <a:srgbClr val="000000"/>
                </a:solidFill>
                <a:latin typeface="Arial"/>
              </a:rPr>
              <a:t> are modules that are registered by the application at runtime.  Plug-ins do the actual work of the core layer - sending and manipulating data.  These modules typically support protocols, handle low-level transport, and understand data formats.  Plug-ins can be changed dynamically, which means that it is easy to add new functionality or even to change the very nature of the Web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ll-out</a:t>
            </a:r>
            <a:r>
              <a:rPr b="0" lang="en-US" sz="1000" spc="-1" strike="noStrike">
                <a:solidFill>
                  <a:srgbClr val="000000"/>
                </a:solidFill>
                <a:latin typeface="Arial"/>
              </a:rPr>
              <a:t> functions provide another means for applications to extend the functionality provided in the core layer.  Call-outs are arbitrary application-specific functions that can be called before or after requests to protocol 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is the relationship between the generic utilities and the core?  The gener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provide utility functions in a platform-independent manner, but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could be used to build any networked application.  The core layer, o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hand, provides the abstractions specific to building a WWW applic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1760" y="657360"/>
            <a:ext cx="4324320" cy="3240000"/>
          </a:xfrm>
          <a:prstGeom prst="rect">
            <a:avLst/>
          </a:prstGeom>
          <a:ln w="0">
            <a:noFill/>
          </a:ln>
        </p:spPr>
      </p:sp>
      <p:sp>
        <p:nvSpPr>
          <p:cNvPr id="59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am layer provides the abstraction of a stream of data.  All data transported between the application and the network use this abstraction.  This layer is responsible for breaking streams (for outgoing data) into packets (or vice versa for incoming data).</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031760" y="657360"/>
            <a:ext cx="4324320" cy="3240000"/>
          </a:xfrm>
          <a:prstGeom prst="rect">
            <a:avLst/>
          </a:prstGeom>
          <a:ln w="0">
            <a:noFill/>
          </a:ln>
        </p:spPr>
      </p:sp>
      <p:sp>
        <p:nvSpPr>
          <p:cNvPr id="598"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layer provides a set of network-protocol-aware modul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 set of protocols that libWWW support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ypertext transfer protocol (HTTP, the underlying protocol of the 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de area information server (WAIS, a networked information-retrieval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le transfer protocol (FT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l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log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p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l fil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relatively simple matter to add new protocol modules because they are bui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on the abstractions of the lower layer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031760" y="657360"/>
            <a:ext cx="4324320" cy="3240000"/>
          </a:xfrm>
          <a:prstGeom prst="rect">
            <a:avLst/>
          </a:prstGeom>
          <a:ln w="0">
            <a:noFill/>
          </a:ln>
        </p:spPr>
      </p:sp>
      <p:sp>
        <p:nvSpPr>
          <p:cNvPr id="600"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ppermost layer consists of the WWW application modules.  This layer is not an actual application, but rather a set of functionality that is useful for writing applications.  The application layer includes modules for common functionality such as caching, logging, registering proxy servers (for protocol translation) and gateways (for dealing with security firewalls, for example), history maintenance,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031760" y="657360"/>
            <a:ext cx="4324320" cy="3240000"/>
          </a:xfrm>
          <a:prstGeom prst="rect">
            <a:avLst/>
          </a:prstGeom>
          <a:ln w="0">
            <a:noFill/>
          </a:ln>
        </p:spPr>
      </p:sp>
      <p:sp>
        <p:nvSpPr>
          <p:cNvPr id="602" name="PlaceHolder 2"/>
          <p:cNvSpPr>
            <a:spLocks noGrp="1"/>
          </p:cNvSpPr>
          <p:nvPr>
            <p:ph type="body"/>
          </p:nvPr>
        </p:nvSpPr>
        <p:spPr>
          <a:xfrm>
            <a:off x="917280" y="4213080"/>
            <a:ext cx="5143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have been many releases of libWWW.  As a result of building libWWW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applications that rest upon this foundation, several lessons have been lear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alized application program interfaces (APIs) are required.  These are the interfaces that present libWWW functionality to the rest of the software architecture, in particular to the programs being built on top of libWWW functionality.  For this reason, APIs should be specified in a language-independent fashion because libWWW is meant to support application development on a wide variety of platforms and langu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and the APIs that present that functionality must be layered.  Different applications will need access to different levels of service abstraction.  These levels are most naturally provided by a layered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ibrary must support a dynamic, open-ended set of features.  All features of the library must be able to be replaced, and it must be possible to make this replacement at runtime (i.e., without restarting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es built on the software must be thread safe.  Web-based applications must support the ability to perform several functions simultaneously, particularly because some operations, such as downloading large files over a slow communication link, may take a considerable amount of real time.  To do this, the applications require the use of several simultaneous threads of control.  Thus, the functionality exposed by the APIs must be safe to use in a threaded environ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libWWW does not support all of these goals as well as it might.  For examp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core makes some assumptions about essential services, so not all fea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dynamically replaced.  Furthermore, since libWWW is meant to run on m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s, it could not depend on a single-thread model; thus, it has implemen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seudothreads, which provide some, but not all, of the functionality required.  Fin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current implementations of Web applications do not support dynamic fea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figuration; they require a restart before new services are register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031760" y="657360"/>
            <a:ext cx="4324320" cy="3240000"/>
          </a:xfrm>
          <a:prstGeom prst="rect">
            <a:avLst/>
          </a:prstGeom>
          <a:ln w="0">
            <a:noFill/>
          </a:ln>
        </p:spPr>
      </p:sp>
      <p:sp>
        <p:nvSpPr>
          <p:cNvPr id="60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s on the following slides show an architecture of a typical WWW client-server built using the services of libWWW.  Notice that layers of libWWW disappear in the runtime vi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1760" y="657360"/>
            <a:ext cx="4324320" cy="3240000"/>
          </a:xfrm>
          <a:prstGeom prst="rect">
            <a:avLst/>
          </a:prstGeom>
          <a:ln w="0">
            <a:noFill/>
          </a:ln>
        </p:spPr>
      </p:sp>
      <p:sp>
        <p:nvSpPr>
          <p:cNvPr id="60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use this example to make a few points about libWWW.  In particular, it should be noted that not all parts of a client-server are built from libWWW.  For example, the user-interface functionality is independent of libWWW.  Also, the names of the managers do not directly correspond to the layers of libWWW.  Although the access manager, protocol manager, and stream manager are clearly related to the access and stream layers, the cache manager uses the services of the application layer.  The stream managers in the client-server manage the low-level communications, thus ensuring (for the other parts of the system), transparent communications across a networ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client” half of a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8387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handles the look and feel of the client’s user interface.  However, given that the set of resources that a WWW system can handle is open ended, another component, the presentation manager, can delegate information display to external programs (viewers) to view resources that are known by the system but not directly supported by the UI manager.  For example, most Web viewers use an external program to view QuickTime mov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captures a user’s request for information retrieval in the form of a URL and passes the information to the access manag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manager determines if the requested URL exists in cache and also interprets history-based navigation (e.g., “back”).  If the file is cached, it is retrieved from the cache manager and passed to the presentation manger for display to either the UI or an external viewer.  If the file is not cached, the protocol manager determines the type of request and invokes the appropriate protocol suite to service the request.  This protocol is used by the client stream manager for communicating the request to the server.  Once the client stream manager receives a response from the server in the form of a document, this information is mapped to the presentation manager for appropriate display.  the presentation manager consults a static view control configuration file (mimerc, mailcap, etc.) that aids in the mapping of document types to external server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server half of the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31760" y="657360"/>
            <a:ext cx="4324320" cy="3240000"/>
          </a:xfrm>
          <a:prstGeom prst="rect">
            <a:avLst/>
          </a:prstGeom>
          <a:ln w="0">
            <a:noFill/>
          </a:ln>
        </p:spPr>
      </p:sp>
      <p:sp>
        <p:nvSpPr>
          <p:cNvPr id="576"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context for the instruct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y the most dramatic example of the workings of the architecture business cycle (ABC) can be found in the way in which the goals, business model, and architecture of the World Wide Web (WWW) has changed since its introduction in 1990.  No one - not the customers, the users, or the architect (Tim Berners-Lee) - could have foreseen the explosive growth and evolution of the WWW.  In this lecture, we interpret the WWW from the point of view of the ABC and observe how the changes in the architecture of the WWW reflect the changing goals and business needs of the various players.  We first look at the origins of the WWW in terms of the original requirements and the players in the ABC.</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ensures transparent access to the file system - the source of the documents that the Web exists to transfer.  The server does this either by handling the access directly (for known resource types) or through a proxy. When a request is received by the server stream manager, the type of request is determined and the path of the URL is resolved via the path resolv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consults an access list to determine if the requesting client is authorized to access the data pointed to by the URL.  The HTTP server might initiate a password authentication session with the client to permit access to secured data.  Assuming authentication succeeds, the HTTP server accesses the file system (which is outside the WWW server boundary) and writes th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ed information to the output stream.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is a special document type that allows customized access to other data or programs - CGI handles resource types that a native server cannot handle and handles extension of the functionality of the server.  If a program is to be executed, a process is made available (either new or polled) through the CGI and the program is executed, with the output written by the server stream manager back to the WWW clien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information served by a server is static; it changes only when its auth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es it on its home file system.  CGI scripts, on the other hand, a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ynamic, request-specific information to be returned by a server.  CGI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gment serve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reate virtual documents - documents that are dynamically synthesized in response to a user request.  For example, when a user does an Internet search, the search engine creates a reply to the search request, and a CGI script creates a new HTML document from the reply and returns that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input of information to existing data ba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ustomized sear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lickable imag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re written in a variety of languages, some of which are compiled (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 Fortran), and some of which are interpreted (Perl, VisualBasic, AppleScri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tc.).  CGI scripts run as separate process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llow a developer to extend a server’s functionality.  They also allow users to “put” information into the Web, in contrast to the “get” operation that servers normally provide; users can put information in application-specific ways, such as adding information to a database by filling out a 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because CGI scripts may contain any functionality that one can write in C, Perl, and other languages, they represent an enormous security hole for any system on which they are installed.  For example, a script (which runs as a process separate from a server) may be “tricked” into executing an arbitrary command on the host server on behalf of a remote us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shortcoming is portability:  CGI scripts written in VisualBasic, AppleScript, and C Shell work on Windows-based PCs, Macintoshes, and UNIX-based systems, respectively.  These scripts cannot be (easily) moved from one platform to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a discussion of a current proposal for meeting some of the new WWW requirements:  Jigsaw.  Jigsaw is the result of the realization that the WWW has strayed sufficiently far from its original requirements that its base architecture no longer suffices and that it is time to create a new architecture to support the new requirements of the WWW.</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640" y="4213080"/>
            <a:ext cx="5124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an object-oriented server written entirely in Java.  Jigsaw was creat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 new design from the bottom up that completely bypasses the services provid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ibWWW.  The main functional enhancement that Jigsaw was to provide was better handling for the put operation, allowing clients to add information directly to Web sites (rather than through CGI scripts, with their portability and security shortcom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supports portability, security, and ease of creation (at least in part) beca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ritten in Java.  Java was designed to run on heterogeneous computing platforms and has been designed from the start to be as secure as possible (since it was designed with the expectation that it would support distributed computing, particularly embedded Web-based applications).  Java aids in security in three ways:  a lack of pointer arithmetic, automatic garbage collecting, and strong type checking.  These features remove the ability to access data outside of the program’s address space.  Prohibiting uncontrolled data accesses is a major component of ensuring secu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ava also helps to ease Web-based program creation by directly supporting threads.  The use of a programming language cannot guarantee any nonfunctional quality, but it can make the achievement of that quality easier, less costly, or more likely to achie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also provides extensibility through the use of resource objects - encapsulated pieces of functionality that know how to handle particular Web resource types.  Because resource objects are Java objects, they can run in their own thread, rather than having to run in separate processes, as CGI script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iciency is addressed by minimizing file accesses, through the caching of persistent resource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the architectural solution to the new requirements of the WWW.</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ABC for the WWW tod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and qualities are the same.  However, the customers for the WWW are now the WWW software server and browser providers, the WWW service providers, and the content providers.  The end users are intended to be the whole population of the world.  The technical environment now includes the WWW, and this adds an upward compatibility requirement to the qualities.  The architect’s experience has expanded to include lessons learned from previous implementation of the WW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s role is now provided by the WWW Consortium, rather than by a singl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has expanded to include Jigsaw.</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of the WWW have not changed, but the ways of realizing them ha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terogeneity is now achieved by defining a new protocol realizable on any platform, and isolating platform dependencies onto the libWWW lay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centralization is now achieved by allowing each data item to have links to other data items.  The system is a client-server, with servers communicating through a universal naming sche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to existing data is achieved by user-specified view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ility to add data to existing databases is achieved by defining links at runtime from existing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lability is achieved by using open-ended architectural skeletons that allow protocol-aware modules to be plugged i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31760" y="657360"/>
            <a:ext cx="4324320" cy="3240000"/>
          </a:xfrm>
          <a:prstGeom prst="rect">
            <a:avLst/>
          </a:prstGeom>
          <a:ln w="0">
            <a:noFill/>
          </a:ln>
        </p:spPr>
      </p:sp>
      <p:sp>
        <p:nvSpPr>
          <p:cNvPr id="578" name="PlaceHolder 2"/>
          <p:cNvSpPr>
            <a:spLocks noGrp="1"/>
          </p:cNvSpPr>
          <p:nvPr>
            <p:ph type="body"/>
          </p:nvPr>
        </p:nvSpPr>
        <p:spPr>
          <a:xfrm>
            <a:off x="917280" y="4213080"/>
            <a:ext cx="4971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proposal for the WWW came from Tim Berners-Lee, a researcher with CERN, the European laboratory for particle physics.  Berners-Lee observed that the several thousand researchers at CERN formed an evolving human “web.”  People came and went, developed new research associations, lost old ones, shared papers, chatted in the hallways, and so on.  Berners-Lee wanted to support this informal web with a similar web of electronic information.  In 1989, he created and circulated a document entitled “Information Management: A Proposal” throughout CERN.  By October 1990, a reformulated version of the proposal was approved by management, the name World Wide Web was chosen, and development work bega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initial WWW as approved by CERN management is shown above.  The proposed system was intended to promote interaction among CERN researchers (the end users) within the constraints of a heterogeneous computing environment (the technical environment).  The customer was CERN management and the development organization was a lone CERN researcher.  The architect’s experience was the Internet, with weak notions of central control (with volunteer committees whose responsibilities were to set protocols for communication among different nodes and to charter new newsgroups) and an unregulated style of human interaction, primarily through specialized newsgroups.  Hypertext systems were also used by Berners-Lee to allow users to create links within the browser and to allow both authors and readers to annotate information.  The first WWW program was developed on the NeXT platform using a client-server architecture featuring a library (libWWW) that masks all hardware, operating systems, and protocol dependencies.  The system, the initial version of WWW, was completed in November 199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31760" y="657360"/>
            <a:ext cx="4324320" cy="3240000"/>
          </a:xfrm>
          <a:prstGeom prst="rect">
            <a:avLst/>
          </a:prstGeom>
          <a:ln w="0">
            <a:noFill/>
          </a:ln>
        </p:spPr>
      </p:sp>
      <p:sp>
        <p:nvSpPr>
          <p:cNvPr id="580"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as conceived and initially implemented at CERN, had the following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and several desirable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mote remote access across networks</a:t>
            </a:r>
            <a:r>
              <a:rPr b="0" lang="en-US" sz="1000" spc="-1" strike="noStrike">
                <a:solidFill>
                  <a:srgbClr val="000000"/>
                </a:solidFill>
                <a:latin typeface="Arial"/>
              </a:rPr>
              <a:t>.  Any information had to be accessible from any machine on a CERN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eterogeneity</a:t>
            </a:r>
            <a:r>
              <a:rPr b="0" lang="en-US" sz="1000" spc="-1" strike="noStrike">
                <a:solidFill>
                  <a:srgbClr val="000000"/>
                </a:solidFill>
                <a:latin typeface="Arial"/>
              </a:rPr>
              <a:t>.  The system could not be limited to run on any specific hardware or software platf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oncentralization</a:t>
            </a:r>
            <a:r>
              <a:rPr b="0" lang="en-US" sz="1000" spc="-1" strike="noStrike">
                <a:solidFill>
                  <a:srgbClr val="000000"/>
                </a:solidFill>
                <a:latin typeface="Arial"/>
              </a:rPr>
              <a:t>.  In the spirit of a human web and of the Internet, there should not be any single source of data or services.  This requirement was in anticipation that the Web would grow.  The operation of linking to a document, in particular, had to be decentraliz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ccess to existing data</a:t>
            </a:r>
            <a:r>
              <a:rPr b="0" lang="en-US" sz="1000" spc="-1" strike="noStrike">
                <a:solidFill>
                  <a:srgbClr val="000000"/>
                </a:solidFill>
                <a:latin typeface="Arial"/>
              </a:rPr>
              <a:t>.  Existing databases had to be acce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bility for users to add data</a:t>
            </a:r>
            <a:r>
              <a:rPr b="0" lang="en-US" sz="1000" spc="-1" strike="noStrike">
                <a:solidFill>
                  <a:srgbClr val="000000"/>
                </a:solidFill>
                <a:latin typeface="Arial"/>
              </a:rPr>
              <a:t>.  Users should be able to “publish” their own data on the Web, using the same interface to read others’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ata analysis</a:t>
            </a:r>
            <a:r>
              <a:rPr b="0" lang="en-US" sz="1000" spc="-1" strike="noStrike">
                <a:solidFill>
                  <a:srgbClr val="000000"/>
                </a:solidFill>
                <a:latin typeface="Arial"/>
              </a:rPr>
              <a:t>.  One should be able to search across the various databases and look for anomalies, regularities, and so on.  Berners-Lee gives, as examples, the ability to look for undocumented software or organizations with no peo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ive links</a:t>
            </a:r>
            <a:r>
              <a:rPr b="0" lang="en-US" sz="1000" spc="-1" strike="noStrike">
                <a:solidFill>
                  <a:srgbClr val="000000"/>
                </a:solidFill>
                <a:latin typeface="Arial"/>
              </a:rPr>
              <a:t>.  Given that information changes all the time, there should be some way of updating a user’s view of the information.  This could be by simply retrieving the information anew every time the link is accessed or (in a more sophisticated fashion) by notifying a user of a link whenever the information has chang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requirements led to the quality goals of remote access, interoper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and scalability, which in turn led to libWWW, the original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rary that supported Web-based development and a distributed client-ser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realization of these properties in the original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ed an infrastructure that effectively supported the WWW’s tremendous grow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31760" y="657360"/>
            <a:ext cx="4324320" cy="3240000"/>
          </a:xfrm>
          <a:prstGeom prst="rect">
            <a:avLst/>
          </a:prstGeom>
          <a:ln w="0">
            <a:noFill/>
          </a:ln>
        </p:spPr>
      </p:sp>
      <p:sp>
        <p:nvSpPr>
          <p:cNvPr id="5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many of the original requirements formed the essence of what we thin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s the WWW today, several of them either were not realized or only parti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ized, or their impact was dramatically underestimated.  There were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nonrequirements identified in the original proposa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raphics and multimedia</a:t>
            </a:r>
            <a:r>
              <a:rPr b="0" lang="en-US" sz="1000" spc="-1" strike="noStrike">
                <a:solidFill>
                  <a:srgbClr val="000000"/>
                </a:solidFill>
                <a:latin typeface="Arial"/>
              </a:rPr>
              <a:t> were requirements that originally were greatly underestimated. Although graphics today carry the bulk of interest and consume the bulk of the Internet traffic generated by the WWW, the initial Web browser was line oriented.  Similarly, the original proposal eschewed any interest in multimedia research for supporting sound and vide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fferent link types</a:t>
            </a:r>
            <a:r>
              <a:rPr b="0" lang="en-US" sz="1000" spc="-1" strike="noStrike">
                <a:solidFill>
                  <a:srgbClr val="000000"/>
                </a:solidFill>
                <a:latin typeface="Arial"/>
              </a:rPr>
              <a:t> to express differing relationships among nodes was a requirement that was missing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Visual history</a:t>
            </a:r>
            <a:r>
              <a:rPr b="0" lang="en-US" sz="1000" spc="-1" strike="noStrike">
                <a:solidFill>
                  <a:srgbClr val="000000"/>
                </a:solidFill>
                <a:latin typeface="Arial"/>
              </a:rPr>
              <a:t>, defining navigational techniques, and similar user-interface requirements were also absent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pyright enforcement and data security</a:t>
            </a:r>
            <a:r>
              <a:rPr b="0" lang="en-US" sz="1000" spc="-1" strike="noStrike">
                <a:solidFill>
                  <a:srgbClr val="000000"/>
                </a:solidFill>
                <a:latin typeface="Arial"/>
              </a:rPr>
              <a:t> were explicitly mentioned as requirements that the original project would </a:t>
            </a:r>
            <a:r>
              <a:rPr b="0" lang="en-US" sz="1000" spc="-1" strike="noStrike" u="sng">
                <a:solidFill>
                  <a:srgbClr val="000000"/>
                </a:solidFill>
                <a:uFillTx/>
                <a:latin typeface="Arial"/>
              </a:rPr>
              <a:t>not</a:t>
            </a:r>
            <a:r>
              <a:rPr b="0" lang="en-US" sz="1000" spc="-1" strike="noStrike">
                <a:solidFill>
                  <a:srgbClr val="000000"/>
                </a:solidFill>
                <a:latin typeface="Arial"/>
              </a:rPr>
              <a:t> deal with.  The Web, as initially conceived, was to be a public medium.  However, these issues have become increasingly substantial issues with the growth of the Web as a carrier for commercial traffic.  Security is being dealt with technically by encrypting private information (such as credit card numbers), though there is no guarantee that even encrypted data cannot be stolen from the Internet and deco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ivacy</a:t>
            </a:r>
            <a:r>
              <a:rPr b="0" lang="en-US" sz="1000" spc="-1" strike="noStrike">
                <a:solidFill>
                  <a:srgbClr val="000000"/>
                </a:solidFill>
                <a:latin typeface="Arial"/>
              </a:rPr>
              <a:t>.  Related to security is the privacy issue.  Protected access to private data cannot be guaranteed if security is difficult to ensure - the Web opens a window onto your computer and some uninvited guests may crawl through the open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up format</a:t>
            </a:r>
            <a:r>
              <a:rPr b="0" lang="en-US" sz="1000" spc="-1" strike="noStrike">
                <a:solidFill>
                  <a:srgbClr val="000000"/>
                </a:solidFill>
                <a:latin typeface="Arial"/>
              </a:rPr>
              <a:t>.  The original proposal explicitly noted that users should not have to use any particular mark-up form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31760" y="657360"/>
            <a:ext cx="4324320" cy="3240000"/>
          </a:xfrm>
          <a:prstGeom prst="rect">
            <a:avLst/>
          </a:prstGeom>
          <a:ln w="0">
            <a:noFill/>
          </a:ln>
        </p:spPr>
      </p:sp>
      <p:sp>
        <p:nvSpPr>
          <p:cNvPr id="5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one could have foreseen the tremendous growth of the World Wide Web, or of the Internet, over the past few years.  According to recent statistics, the Web has been doubling in size every three to six months, from about 130 sites in mid-1993 to an estimated 650,000 sites in early 1997, as shown in the table above.  Similarly, the number of Internet hosts - at least as counted by registered Internet Protocol (IP) addresses - had grown from 1.3 million in 1993 to 9.5 million by January 1996.</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have the Web and the Internet grown, but the Web has grown much faster than the Internet as a whole.  This can be seen in the final column of the table, where we see that the ratio of Internet hosts to Web servers keeps decreasing.  This means that an ever-greater proportion of the Internet hosts are becoming Web serv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enormous growth, the nature of the Web has changed, as indicated by the third column of the table.  Although the Web’s beginnings were in the research community, it is increasingly dominated by commercial traffic, as indicated by Internet hosts whose names end in “.com.”</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31760" y="657360"/>
            <a:ext cx="4324320" cy="3240000"/>
          </a:xfrm>
          <a:prstGeom prst="rect">
            <a:avLst/>
          </a:prstGeom>
          <a:ln w="0">
            <a:noFill/>
          </a:ln>
        </p:spPr>
      </p:sp>
      <p:sp>
        <p:nvSpPr>
          <p:cNvPr id="586"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ent of easy, widespread access to the Web had an interesting side effect.  Easy access to graphics in a distributed, largely uncontrolled fashion spawned the “cyberporn” industry.  This has lead to a new requirement:  that content be labeled and access to content be controllable.  The result of this requirement was the platform for Internet content selection (PICS) specification.  PICS is an industry-wide set of principles, and specific vendors’ implementation of those principles, that allow the labeling of content and flexible selection criteria.  In this way, content producers are not limited to what they provide, but content consumers can tailor what they view or what they permit others to view, according to their own tastes or criteria.  For example, a parent can prevent a child from viewing movies other than those rated G or PG., and an employer can prevent an employee form accessing non-business-related sites during business ho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ee how far and how fast the WWW has diverged from its original concept, suppose Berners-Lee had put a requirement for restriction of content to prevent children from accessing pornography into his original proposal.  The management of CERN would have tossed his proposal out without discussion.  We return to this point about change of customer when we revisit the ABC for the WWW later in the lecture (on slide 25).</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31760" y="657360"/>
            <a:ext cx="4324320" cy="3240000"/>
          </a:xfrm>
          <a:prstGeom prst="rect">
            <a:avLst/>
          </a:prstGeom>
          <a:ln w="0">
            <a:noFill/>
          </a:ln>
        </p:spPr>
      </p:sp>
      <p:sp>
        <p:nvSpPr>
          <p:cNvPr id="58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asic architectural approach used in the WWW was a dependence on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ervers and on using a library (libWWW) that masks all hardware, oper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protocol dependencies.  The figure above shows how the cont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ers and consumers interact through their respective servers and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er places content on a server machine and the content is describ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TML.  The server communicates with a client using the hypertext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tocol (HTTP).  The software on both the server and the client is based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and so the details of the protocol and the dependencies on the platfor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asked from the software.  One of the components on the client is a brows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knows how to display HTML so that the content consumer is presented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able im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previously mentioned some of the quality goals of the WWW.  The cli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r architecture and use of libWWW were key mechanisms for achiev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goa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mote access</a:t>
            </a:r>
            <a:r>
              <a:rPr b="0" lang="en-US" sz="1000" spc="-1" strike="noStrike">
                <a:solidFill>
                  <a:srgbClr val="000000"/>
                </a:solidFill>
                <a:latin typeface="Arial"/>
              </a:rPr>
              <a:t> was achieved by building WWW on top of the Inter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was achieved by using libWWW to mask platform detai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software</a:t>
            </a:r>
            <a:r>
              <a:rPr b="0" lang="en-US" sz="1000" spc="-1" strike="noStrike">
                <a:solidFill>
                  <a:srgbClr val="000000"/>
                </a:solidFill>
                <a:latin typeface="Arial"/>
              </a:rPr>
              <a:t> was achieved by isolating the protocol and data type extensions in lib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data</a:t>
            </a:r>
            <a:r>
              <a:rPr b="0" lang="en-US" sz="1000" spc="-1" strike="noStrike">
                <a:solidFill>
                  <a:srgbClr val="000000"/>
                </a:solidFill>
                <a:latin typeface="Arial"/>
              </a:rPr>
              <a:t> was achieved by keeping each data item independent except for the reference it contr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calability</a:t>
            </a:r>
            <a:r>
              <a:rPr b="0" lang="en-US" sz="1000" spc="-1" strike="noStrike">
                <a:solidFill>
                  <a:srgbClr val="000000"/>
                </a:solidFill>
                <a:latin typeface="Arial"/>
              </a:rPr>
              <a:t> was achieved by using client-server architecture and keeping references to other data local by referring data loc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1760" y="657360"/>
            <a:ext cx="4324320" cy="3240000"/>
          </a:xfrm>
          <a:prstGeom prst="rect">
            <a:avLst/>
          </a:prstGeom>
          <a:ln w="0">
            <a:noFill/>
          </a:ln>
        </p:spPr>
      </p:sp>
      <p:sp>
        <p:nvSpPr>
          <p:cNvPr id="590"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n no need to explain the diagram; that will be done in the next section of the lecture.  Instead,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ow go into more detail about both libWWW and the client-server architecture.  We have already mentioned that the dynamic view of the architecture, from the user’s point of view, is client-server.  The developer’s view is a layered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tated earlier, libWWW is a library of software used to create applications that run on either the client or the server.  This library provides the generic functionality that is shared by most applications:  the ability to connect with remote hosts, the ability to understand streams of HTML, data, and so on.  The goals for the libWWW were to create a compact, portable library that could be built upon to create Web-based applications such as clients, servers, databases and Web spiders.  It was organized into five layers, as shown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examine each layer in tur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8  - page </a:t>
            </a:r>
            <a:fld id="{43804F9A-56AB-4554-92F1-EBF6F4637780}"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57680"/>
            <a:ext cx="7313760" cy="208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8  - page </a:t>
            </a:r>
            <a:fld id="{5F9725E0-B5A6-4EFF-84AB-D569178CCC2E}"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99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104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8: The World Wide Web -  </a:t>
            </a:r>
            <a:br>
              <a:rPr sz="3200"/>
            </a:br>
            <a:r>
              <a:rPr b="0" lang="en-US" sz="3200" spc="-1" strike="noStrike">
                <a:solidFill>
                  <a:srgbClr val="ffffff"/>
                </a:solidFill>
                <a:latin typeface="Century Schoolbook"/>
              </a:rPr>
              <a:t>A Case Study in Interope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ric Utilities</a:t>
            </a:r>
            <a:endParaRPr b="0" lang="en-US" sz="3600" spc="-1" strike="noStrike">
              <a:solidFill>
                <a:srgbClr val="ffffff"/>
              </a:solidFill>
              <a:latin typeface="Century Schoolbook"/>
            </a:endParaRPr>
          </a:p>
        </p:txBody>
      </p:sp>
      <p:sp>
        <p:nvSpPr>
          <p:cNvPr id="235" name="PlaceHolder 2"/>
          <p:cNvSpPr>
            <a:spLocks noGrp="1"/>
          </p:cNvSpPr>
          <p:nvPr>
            <p:ph/>
          </p:nvPr>
        </p:nvSpPr>
        <p:spPr>
          <a:xfrm>
            <a:off x="898200" y="1846080"/>
            <a:ext cx="4473720" cy="2065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building blocks for the system</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ypes (such as container cla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ng manipulation utilities</a:t>
            </a:r>
            <a:endParaRPr b="1" lang="en-US" sz="2000" spc="-1" strike="noStrike">
              <a:solidFill>
                <a:srgbClr val="ffffff"/>
              </a:solidFill>
              <a:latin typeface="Arial"/>
            </a:endParaRPr>
          </a:p>
        </p:txBody>
      </p:sp>
      <p:grpSp>
        <p:nvGrpSpPr>
          <p:cNvPr id="236" name=""/>
          <p:cNvGrpSpPr/>
          <p:nvPr/>
        </p:nvGrpSpPr>
        <p:grpSpPr>
          <a:xfrm>
            <a:off x="5886360" y="1812960"/>
            <a:ext cx="2806920" cy="2921760"/>
            <a:chOff x="5886360" y="1812960"/>
            <a:chExt cx="2806920" cy="2921760"/>
          </a:xfrm>
        </p:grpSpPr>
        <p:grpSp>
          <p:nvGrpSpPr>
            <p:cNvPr id="237" name=""/>
            <p:cNvGrpSpPr/>
            <p:nvPr/>
          </p:nvGrpSpPr>
          <p:grpSpPr>
            <a:xfrm>
              <a:off x="5886360" y="1812960"/>
              <a:ext cx="2806920" cy="262080"/>
              <a:chOff x="5886360" y="1812960"/>
              <a:chExt cx="2806920" cy="262080"/>
            </a:xfrm>
          </p:grpSpPr>
          <p:sp>
            <p:nvSpPr>
              <p:cNvPr id="238"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41"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42"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43" name=""/>
            <p:cNvGrpSpPr/>
            <p:nvPr/>
          </p:nvGrpSpPr>
          <p:grpSpPr>
            <a:xfrm>
              <a:off x="7275600" y="3402000"/>
              <a:ext cx="28440" cy="370080"/>
              <a:chOff x="7275600" y="3402000"/>
              <a:chExt cx="28440" cy="370080"/>
            </a:xfrm>
          </p:grpSpPr>
          <p:sp>
            <p:nvSpPr>
              <p:cNvPr id="244"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247" name=""/>
            <p:cNvGrpSpPr/>
            <p:nvPr/>
          </p:nvGrpSpPr>
          <p:grpSpPr>
            <a:xfrm>
              <a:off x="5886360" y="2486160"/>
              <a:ext cx="2806920" cy="261720"/>
              <a:chOff x="5886360" y="2486160"/>
              <a:chExt cx="2806920" cy="261720"/>
            </a:xfrm>
          </p:grpSpPr>
          <p:sp>
            <p:nvSpPr>
              <p:cNvPr id="248"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 name=""/>
            <p:cNvGrpSpPr/>
            <p:nvPr/>
          </p:nvGrpSpPr>
          <p:grpSpPr>
            <a:xfrm>
              <a:off x="5886360" y="3139920"/>
              <a:ext cx="2806920" cy="263520"/>
              <a:chOff x="5886360" y="3139920"/>
              <a:chExt cx="2806920" cy="263520"/>
            </a:xfrm>
          </p:grpSpPr>
          <p:sp>
            <p:nvSpPr>
              <p:cNvPr id="251"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 name=""/>
            <p:cNvGrpSpPr/>
            <p:nvPr/>
          </p:nvGrpSpPr>
          <p:grpSpPr>
            <a:xfrm>
              <a:off x="5886360" y="3800520"/>
              <a:ext cx="2806920" cy="261720"/>
              <a:chOff x="5886360" y="3800520"/>
              <a:chExt cx="2806920" cy="261720"/>
            </a:xfrm>
          </p:grpSpPr>
          <p:sp>
            <p:nvSpPr>
              <p:cNvPr id="254"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7275600" y="2744640"/>
              <a:ext cx="28440" cy="370080"/>
              <a:chOff x="7275600" y="2744640"/>
              <a:chExt cx="28440" cy="370080"/>
            </a:xfrm>
          </p:grpSpPr>
          <p:sp>
            <p:nvSpPr>
              <p:cNvPr id="257"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7275600" y="2077920"/>
              <a:ext cx="28440" cy="370080"/>
              <a:chOff x="7275600" y="2077920"/>
              <a:chExt cx="28440" cy="370080"/>
            </a:xfrm>
          </p:grpSpPr>
          <p:sp>
            <p:nvSpPr>
              <p:cNvPr id="260"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7275600" y="4059360"/>
              <a:ext cx="28440" cy="369720"/>
              <a:chOff x="7275600" y="4059360"/>
              <a:chExt cx="28440" cy="369720"/>
            </a:xfrm>
          </p:grpSpPr>
          <p:sp>
            <p:nvSpPr>
              <p:cNvPr id="263"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6549120" y="4451400"/>
              <a:ext cx="14814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Generic utilities</a:t>
              </a:r>
              <a:endParaRPr b="0" lang="en-US" sz="1400" spc="-1" strike="noStrike">
                <a:solidFill>
                  <a:srgbClr val="ffffff"/>
                </a:solidFill>
                <a:latin typeface="Times New Roman"/>
              </a:endParaRPr>
            </a:p>
          </p:txBody>
        </p:sp>
        <p:grpSp>
          <p:nvGrpSpPr>
            <p:cNvPr id="266" name=""/>
            <p:cNvGrpSpPr/>
            <p:nvPr/>
          </p:nvGrpSpPr>
          <p:grpSpPr>
            <a:xfrm>
              <a:off x="5886360" y="4457880"/>
              <a:ext cx="2806920" cy="261720"/>
              <a:chOff x="5886360" y="4457880"/>
              <a:chExt cx="2806920" cy="261720"/>
            </a:xfrm>
          </p:grpSpPr>
          <p:sp>
            <p:nvSpPr>
              <p:cNvPr id="267" name=""/>
              <p:cNvSpPr/>
              <p:nvPr/>
            </p:nvSpPr>
            <p:spPr>
              <a:xfrm>
                <a:off x="5886360" y="445788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19840" y="449568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e</a:t>
            </a:r>
            <a:endParaRPr b="0" lang="en-US" sz="3600" spc="-1" strike="noStrike">
              <a:solidFill>
                <a:srgbClr val="ffffff"/>
              </a:solidFill>
              <a:latin typeface="Century Schoolbook"/>
            </a:endParaRPr>
          </a:p>
        </p:txBody>
      </p:sp>
      <p:sp>
        <p:nvSpPr>
          <p:cNvPr id="270" name="PlaceHolder 2"/>
          <p:cNvSpPr>
            <a:spLocks noGrp="1"/>
          </p:cNvSpPr>
          <p:nvPr>
            <p:ph/>
          </p:nvPr>
        </p:nvSpPr>
        <p:spPr>
          <a:xfrm>
            <a:off x="914040" y="1833480"/>
            <a:ext cx="4305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al function of a WWW applicati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acce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s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does nothing.  Actual work done by</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ug-i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outs</a:t>
            </a:r>
            <a:endParaRPr b="1" lang="en-US" sz="2000" spc="-1" strike="noStrike">
              <a:solidFill>
                <a:srgbClr val="ffffff"/>
              </a:solidFill>
              <a:latin typeface="Arial"/>
            </a:endParaRPr>
          </a:p>
        </p:txBody>
      </p:sp>
      <p:grpSp>
        <p:nvGrpSpPr>
          <p:cNvPr id="271" name=""/>
          <p:cNvGrpSpPr/>
          <p:nvPr/>
        </p:nvGrpSpPr>
        <p:grpSpPr>
          <a:xfrm>
            <a:off x="5886360" y="1812960"/>
            <a:ext cx="2806920" cy="262080"/>
            <a:chOff x="5886360" y="1812960"/>
            <a:chExt cx="2806920" cy="262080"/>
          </a:xfrm>
        </p:grpSpPr>
        <p:sp>
          <p:nvSpPr>
            <p:cNvPr id="27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75"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7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77" name=""/>
          <p:cNvGrpSpPr/>
          <p:nvPr/>
        </p:nvGrpSpPr>
        <p:grpSpPr>
          <a:xfrm>
            <a:off x="7275600" y="3402000"/>
            <a:ext cx="28440" cy="370080"/>
            <a:chOff x="7275600" y="3402000"/>
            <a:chExt cx="28440" cy="370080"/>
          </a:xfrm>
        </p:grpSpPr>
        <p:sp>
          <p:nvSpPr>
            <p:cNvPr id="27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0" name=""/>
          <p:cNvSpPr/>
          <p:nvPr/>
        </p:nvSpPr>
        <p:spPr>
          <a:xfrm>
            <a:off x="7017840" y="3794040"/>
            <a:ext cx="5457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ore</a:t>
            </a:r>
            <a:endParaRPr b="0" lang="en-US" sz="1400" spc="-1" strike="noStrike">
              <a:solidFill>
                <a:srgbClr val="ffffff"/>
              </a:solidFill>
              <a:latin typeface="Times New Roman"/>
            </a:endParaRPr>
          </a:p>
        </p:txBody>
      </p:sp>
      <p:grpSp>
        <p:nvGrpSpPr>
          <p:cNvPr id="281" name=""/>
          <p:cNvGrpSpPr/>
          <p:nvPr/>
        </p:nvGrpSpPr>
        <p:grpSpPr>
          <a:xfrm>
            <a:off x="5886360" y="2486160"/>
            <a:ext cx="2806920" cy="261720"/>
            <a:chOff x="5886360" y="2486160"/>
            <a:chExt cx="2806920" cy="261720"/>
          </a:xfrm>
        </p:grpSpPr>
        <p:sp>
          <p:nvSpPr>
            <p:cNvPr id="282"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886360" y="3139920"/>
            <a:ext cx="2806920" cy="263520"/>
            <a:chOff x="5886360" y="3139920"/>
            <a:chExt cx="2806920" cy="263520"/>
          </a:xfrm>
        </p:grpSpPr>
        <p:sp>
          <p:nvSpPr>
            <p:cNvPr id="28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5886360" y="3800520"/>
            <a:ext cx="2806920" cy="261720"/>
            <a:chOff x="5886360" y="3800520"/>
            <a:chExt cx="2806920" cy="261720"/>
          </a:xfrm>
        </p:grpSpPr>
        <p:sp>
          <p:nvSpPr>
            <p:cNvPr id="288" name=""/>
            <p:cNvSpPr/>
            <p:nvPr/>
          </p:nvSpPr>
          <p:spPr>
            <a:xfrm>
              <a:off x="5886360" y="380052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919840" y="3838680"/>
              <a:ext cx="2749320" cy="1839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7275600" y="2744640"/>
            <a:ext cx="28440" cy="370080"/>
            <a:chOff x="7275600" y="2744640"/>
            <a:chExt cx="28440" cy="370080"/>
          </a:xfrm>
        </p:grpSpPr>
        <p:sp>
          <p:nvSpPr>
            <p:cNvPr id="29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7275600" y="2077920"/>
            <a:ext cx="28440" cy="370080"/>
            <a:chOff x="7275600" y="2077920"/>
            <a:chExt cx="28440" cy="370080"/>
          </a:xfrm>
        </p:grpSpPr>
        <p:sp>
          <p:nvSpPr>
            <p:cNvPr id="29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7275600" y="4059360"/>
            <a:ext cx="28440" cy="369720"/>
            <a:chOff x="7275600" y="4059360"/>
            <a:chExt cx="28440" cy="369720"/>
          </a:xfrm>
        </p:grpSpPr>
        <p:sp>
          <p:nvSpPr>
            <p:cNvPr id="29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00" name=""/>
          <p:cNvGrpSpPr/>
          <p:nvPr/>
        </p:nvGrpSpPr>
        <p:grpSpPr>
          <a:xfrm>
            <a:off x="5886360" y="4457880"/>
            <a:ext cx="2806920" cy="261720"/>
            <a:chOff x="5886360" y="4457880"/>
            <a:chExt cx="2806920" cy="261720"/>
          </a:xfrm>
        </p:grpSpPr>
        <p:sp>
          <p:nvSpPr>
            <p:cNvPr id="30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am Modules</a:t>
            </a:r>
            <a:endParaRPr b="0" lang="en-US" sz="3600" spc="-1" strike="noStrike">
              <a:solidFill>
                <a:srgbClr val="ffffff"/>
              </a:solidFill>
              <a:latin typeface="Century Schoolbook"/>
            </a:endParaRPr>
          </a:p>
        </p:txBody>
      </p:sp>
      <p:sp>
        <p:nvSpPr>
          <p:cNvPr id="304" name="PlaceHolder 2"/>
          <p:cNvSpPr>
            <a:spLocks noGrp="1"/>
          </p:cNvSpPr>
          <p:nvPr>
            <p:ph/>
          </p:nvPr>
        </p:nvSpPr>
        <p:spPr>
          <a:xfrm>
            <a:off x="949320" y="1833480"/>
            <a:ext cx="4384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bstraction</a:t>
            </a:r>
            <a:r>
              <a:rPr b="1" lang="en-US" sz="2000" spc="-1" strike="noStrike">
                <a:solidFill>
                  <a:srgbClr val="ffffff"/>
                </a:solidFill>
                <a:latin typeface="Arial"/>
              </a:rPr>
              <a:t> of a stream of data</a:t>
            </a:r>
            <a:endParaRPr b="1" lang="en-US" sz="2000" spc="-1" strike="noStrike">
              <a:solidFill>
                <a:srgbClr val="ffffff"/>
              </a:solidFill>
              <a:latin typeface="Arial"/>
            </a:endParaRPr>
          </a:p>
        </p:txBody>
      </p:sp>
      <p:grpSp>
        <p:nvGrpSpPr>
          <p:cNvPr id="305" name=""/>
          <p:cNvGrpSpPr/>
          <p:nvPr/>
        </p:nvGrpSpPr>
        <p:grpSpPr>
          <a:xfrm>
            <a:off x="5886360" y="1812960"/>
            <a:ext cx="2806920" cy="2914920"/>
            <a:chOff x="5886360" y="1812960"/>
            <a:chExt cx="2806920" cy="2914920"/>
          </a:xfrm>
        </p:grpSpPr>
        <p:grpSp>
          <p:nvGrpSpPr>
            <p:cNvPr id="306" name=""/>
            <p:cNvGrpSpPr/>
            <p:nvPr/>
          </p:nvGrpSpPr>
          <p:grpSpPr>
            <a:xfrm>
              <a:off x="5886360" y="1812960"/>
              <a:ext cx="2806920" cy="262080"/>
              <a:chOff x="5886360" y="1812960"/>
              <a:chExt cx="2806920" cy="262080"/>
            </a:xfrm>
          </p:grpSpPr>
          <p:sp>
            <p:nvSpPr>
              <p:cNvPr id="307"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1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11" name=""/>
            <p:cNvSpPr/>
            <p:nvPr/>
          </p:nvSpPr>
          <p:spPr>
            <a:xfrm>
              <a:off x="6527160" y="3133800"/>
              <a:ext cx="152712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Stream modules</a:t>
              </a:r>
              <a:endParaRPr b="0" lang="en-US" sz="1400" spc="-1" strike="noStrike">
                <a:solidFill>
                  <a:srgbClr val="ffffff"/>
                </a:solidFill>
                <a:latin typeface="Times New Roman"/>
              </a:endParaRPr>
            </a:p>
          </p:txBody>
        </p:sp>
        <p:grpSp>
          <p:nvGrpSpPr>
            <p:cNvPr id="312" name=""/>
            <p:cNvGrpSpPr/>
            <p:nvPr/>
          </p:nvGrpSpPr>
          <p:grpSpPr>
            <a:xfrm>
              <a:off x="7275600" y="3402000"/>
              <a:ext cx="28440" cy="370080"/>
              <a:chOff x="7275600" y="3402000"/>
              <a:chExt cx="28440" cy="370080"/>
            </a:xfrm>
          </p:grpSpPr>
          <p:sp>
            <p:nvSpPr>
              <p:cNvPr id="31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16" name=""/>
            <p:cNvGrpSpPr/>
            <p:nvPr/>
          </p:nvGrpSpPr>
          <p:grpSpPr>
            <a:xfrm>
              <a:off x="5886360" y="2486160"/>
              <a:ext cx="2806920" cy="261720"/>
              <a:chOff x="5886360" y="2486160"/>
              <a:chExt cx="2806920" cy="261720"/>
            </a:xfrm>
          </p:grpSpPr>
          <p:sp>
            <p:nvSpPr>
              <p:cNvPr id="31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9" name=""/>
            <p:cNvGrpSpPr/>
            <p:nvPr/>
          </p:nvGrpSpPr>
          <p:grpSpPr>
            <a:xfrm>
              <a:off x="5886360" y="3139920"/>
              <a:ext cx="2806920" cy="263520"/>
              <a:chOff x="5886360" y="3139920"/>
              <a:chExt cx="2806920" cy="263520"/>
            </a:xfrm>
          </p:grpSpPr>
          <p:sp>
            <p:nvSpPr>
              <p:cNvPr id="320" name=""/>
              <p:cNvSpPr/>
              <p:nvPr/>
            </p:nvSpPr>
            <p:spPr>
              <a:xfrm>
                <a:off x="5886360" y="3139920"/>
                <a:ext cx="2806920" cy="2635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919840" y="317808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886360" y="3800520"/>
              <a:ext cx="2806920" cy="261720"/>
              <a:chOff x="5886360" y="3800520"/>
              <a:chExt cx="2806920" cy="261720"/>
            </a:xfrm>
          </p:grpSpPr>
          <p:sp>
            <p:nvSpPr>
              <p:cNvPr id="32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7275600" y="2744640"/>
              <a:ext cx="28440" cy="370080"/>
              <a:chOff x="7275600" y="2744640"/>
              <a:chExt cx="28440" cy="370080"/>
            </a:xfrm>
          </p:grpSpPr>
          <p:sp>
            <p:nvSpPr>
              <p:cNvPr id="32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7275600" y="2077920"/>
              <a:ext cx="28440" cy="370080"/>
              <a:chOff x="7275600" y="2077920"/>
              <a:chExt cx="28440" cy="370080"/>
            </a:xfrm>
          </p:grpSpPr>
          <p:sp>
            <p:nvSpPr>
              <p:cNvPr id="32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7275600" y="4059360"/>
              <a:ext cx="28440" cy="369720"/>
              <a:chOff x="7275600" y="4059360"/>
              <a:chExt cx="28440" cy="369720"/>
            </a:xfrm>
          </p:grpSpPr>
          <p:sp>
            <p:nvSpPr>
              <p:cNvPr id="33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35" name=""/>
            <p:cNvGrpSpPr/>
            <p:nvPr/>
          </p:nvGrpSpPr>
          <p:grpSpPr>
            <a:xfrm>
              <a:off x="5886360" y="4457880"/>
              <a:ext cx="2806920" cy="261720"/>
              <a:chOff x="5886360" y="4457880"/>
              <a:chExt cx="2806920" cy="261720"/>
            </a:xfrm>
          </p:grpSpPr>
          <p:sp>
            <p:nvSpPr>
              <p:cNvPr id="33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cess Modules</a:t>
            </a:r>
            <a:endParaRPr b="0" lang="en-US" sz="3600" spc="-1" strike="noStrike">
              <a:solidFill>
                <a:srgbClr val="ffffff"/>
              </a:solidFill>
              <a:latin typeface="Century Schoolbook"/>
            </a:endParaRPr>
          </a:p>
        </p:txBody>
      </p:sp>
      <p:sp>
        <p:nvSpPr>
          <p:cNvPr id="339" name="PlaceHolder 2"/>
          <p:cNvSpPr>
            <a:spLocks noGrp="1"/>
          </p:cNvSpPr>
          <p:nvPr>
            <p:ph/>
          </p:nvPr>
        </p:nvSpPr>
        <p:spPr>
          <a:xfrm>
            <a:off x="948960" y="1846440"/>
            <a:ext cx="4651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on for network protocol-aware modul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logi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pher</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file system</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add new protocols</a:t>
            </a:r>
            <a:endParaRPr b="1" lang="en-US" sz="2000" spc="-1" strike="noStrike">
              <a:solidFill>
                <a:srgbClr val="ffffff"/>
              </a:solidFill>
              <a:latin typeface="Arial"/>
            </a:endParaRPr>
          </a:p>
        </p:txBody>
      </p:sp>
      <p:grpSp>
        <p:nvGrpSpPr>
          <p:cNvPr id="340" name=""/>
          <p:cNvGrpSpPr/>
          <p:nvPr/>
        </p:nvGrpSpPr>
        <p:grpSpPr>
          <a:xfrm>
            <a:off x="5886360" y="1812960"/>
            <a:ext cx="2806920" cy="2914920"/>
            <a:chOff x="5886360" y="1812960"/>
            <a:chExt cx="2806920" cy="2914920"/>
          </a:xfrm>
        </p:grpSpPr>
        <p:grpSp>
          <p:nvGrpSpPr>
            <p:cNvPr id="341" name=""/>
            <p:cNvGrpSpPr/>
            <p:nvPr/>
          </p:nvGrpSpPr>
          <p:grpSpPr>
            <a:xfrm>
              <a:off x="5886360" y="1812960"/>
              <a:ext cx="2806920" cy="262080"/>
              <a:chOff x="5886360" y="1812960"/>
              <a:chExt cx="2806920" cy="262080"/>
            </a:xfrm>
          </p:grpSpPr>
          <p:sp>
            <p:nvSpPr>
              <p:cNvPr id="34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45" name=""/>
            <p:cNvSpPr/>
            <p:nvPr/>
          </p:nvSpPr>
          <p:spPr>
            <a:xfrm>
              <a:off x="6517080" y="2479680"/>
              <a:ext cx="154548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ccess modules</a:t>
              </a:r>
              <a:endParaRPr b="0" lang="en-US" sz="1400" spc="-1" strike="noStrike">
                <a:solidFill>
                  <a:srgbClr val="ffffff"/>
                </a:solidFill>
                <a:latin typeface="Times New Roman"/>
              </a:endParaRPr>
            </a:p>
          </p:txBody>
        </p:sp>
        <p:sp>
          <p:nvSpPr>
            <p:cNvPr id="34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47" name=""/>
            <p:cNvGrpSpPr/>
            <p:nvPr/>
          </p:nvGrpSpPr>
          <p:grpSpPr>
            <a:xfrm>
              <a:off x="7275600" y="3402000"/>
              <a:ext cx="28440" cy="370080"/>
              <a:chOff x="7275600" y="3402000"/>
              <a:chExt cx="28440" cy="370080"/>
            </a:xfrm>
          </p:grpSpPr>
          <p:sp>
            <p:nvSpPr>
              <p:cNvPr id="34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51" name=""/>
            <p:cNvGrpSpPr/>
            <p:nvPr/>
          </p:nvGrpSpPr>
          <p:grpSpPr>
            <a:xfrm>
              <a:off x="5886360" y="2486160"/>
              <a:ext cx="2806920" cy="261720"/>
              <a:chOff x="5886360" y="2486160"/>
              <a:chExt cx="2806920" cy="261720"/>
            </a:xfrm>
          </p:grpSpPr>
          <p:sp>
            <p:nvSpPr>
              <p:cNvPr id="352" name=""/>
              <p:cNvSpPr/>
              <p:nvPr/>
            </p:nvSpPr>
            <p:spPr>
              <a:xfrm>
                <a:off x="5886360" y="248616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5919840" y="252396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5886360" y="3139920"/>
              <a:ext cx="2806920" cy="263520"/>
              <a:chOff x="5886360" y="3139920"/>
              <a:chExt cx="2806920" cy="263520"/>
            </a:xfrm>
          </p:grpSpPr>
          <p:sp>
            <p:nvSpPr>
              <p:cNvPr id="35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7" name=""/>
            <p:cNvGrpSpPr/>
            <p:nvPr/>
          </p:nvGrpSpPr>
          <p:grpSpPr>
            <a:xfrm>
              <a:off x="5886360" y="3800520"/>
              <a:ext cx="2806920" cy="261720"/>
              <a:chOff x="5886360" y="3800520"/>
              <a:chExt cx="2806920" cy="261720"/>
            </a:xfrm>
          </p:grpSpPr>
          <p:sp>
            <p:nvSpPr>
              <p:cNvPr id="358"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0" name=""/>
            <p:cNvGrpSpPr/>
            <p:nvPr/>
          </p:nvGrpSpPr>
          <p:grpSpPr>
            <a:xfrm>
              <a:off x="7275600" y="2744640"/>
              <a:ext cx="28440" cy="370080"/>
              <a:chOff x="7275600" y="2744640"/>
              <a:chExt cx="28440" cy="370080"/>
            </a:xfrm>
          </p:grpSpPr>
          <p:sp>
            <p:nvSpPr>
              <p:cNvPr id="36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7275600" y="2077920"/>
              <a:ext cx="28440" cy="370080"/>
              <a:chOff x="7275600" y="2077920"/>
              <a:chExt cx="28440" cy="370080"/>
            </a:xfrm>
          </p:grpSpPr>
          <p:sp>
            <p:nvSpPr>
              <p:cNvPr id="36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7275600" y="4059360"/>
              <a:ext cx="28440" cy="369720"/>
              <a:chOff x="7275600" y="4059360"/>
              <a:chExt cx="28440" cy="369720"/>
            </a:xfrm>
          </p:grpSpPr>
          <p:sp>
            <p:nvSpPr>
              <p:cNvPr id="36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70" name=""/>
            <p:cNvGrpSpPr/>
            <p:nvPr/>
          </p:nvGrpSpPr>
          <p:grpSpPr>
            <a:xfrm>
              <a:off x="5886360" y="4457880"/>
              <a:ext cx="2806920" cy="261720"/>
              <a:chOff x="5886360" y="4457880"/>
              <a:chExt cx="2806920" cy="261720"/>
            </a:xfrm>
          </p:grpSpPr>
          <p:sp>
            <p:nvSpPr>
              <p:cNvPr id="37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Modules</a:t>
            </a:r>
            <a:endParaRPr b="0" lang="en-US" sz="3600" spc="-1" strike="noStrike">
              <a:solidFill>
                <a:srgbClr val="ffffff"/>
              </a:solidFill>
              <a:latin typeface="Century Schoolbook"/>
            </a:endParaRPr>
          </a:p>
        </p:txBody>
      </p:sp>
      <p:sp>
        <p:nvSpPr>
          <p:cNvPr id="374" name="PlaceHolder 2"/>
          <p:cNvSpPr>
            <a:spLocks noGrp="1"/>
          </p:cNvSpPr>
          <p:nvPr>
            <p:ph/>
          </p:nvPr>
        </p:nvSpPr>
        <p:spPr>
          <a:xfrm>
            <a:off x="936720" y="1846440"/>
            <a:ext cx="437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n actual application; again, a skeleton</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unctionality useful for writing applicatio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ch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ing proxy server</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nd gateway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y maintenance</a:t>
            </a:r>
            <a:endParaRPr b="1" lang="en-US" sz="2000" spc="-1" strike="noStrike">
              <a:solidFill>
                <a:srgbClr val="ffffff"/>
              </a:solidFill>
              <a:latin typeface="Arial"/>
            </a:endParaRPr>
          </a:p>
        </p:txBody>
      </p:sp>
      <p:grpSp>
        <p:nvGrpSpPr>
          <p:cNvPr id="375" name=""/>
          <p:cNvGrpSpPr/>
          <p:nvPr/>
        </p:nvGrpSpPr>
        <p:grpSpPr>
          <a:xfrm>
            <a:off x="5886360" y="1806480"/>
            <a:ext cx="2806920" cy="2921400"/>
            <a:chOff x="5886360" y="1806480"/>
            <a:chExt cx="2806920" cy="2921400"/>
          </a:xfrm>
        </p:grpSpPr>
        <p:grpSp>
          <p:nvGrpSpPr>
            <p:cNvPr id="376" name=""/>
            <p:cNvGrpSpPr/>
            <p:nvPr/>
          </p:nvGrpSpPr>
          <p:grpSpPr>
            <a:xfrm>
              <a:off x="5886360" y="1812960"/>
              <a:ext cx="2806920" cy="262080"/>
              <a:chOff x="5886360" y="1812960"/>
              <a:chExt cx="2806920" cy="262080"/>
            </a:xfrm>
          </p:grpSpPr>
          <p:sp>
            <p:nvSpPr>
              <p:cNvPr id="377" name=""/>
              <p:cNvSpPr/>
              <p:nvPr/>
            </p:nvSpPr>
            <p:spPr>
              <a:xfrm>
                <a:off x="5886360" y="1812960"/>
                <a:ext cx="2806920" cy="26208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919840" y="185112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9" name=""/>
            <p:cNvSpPr/>
            <p:nvPr/>
          </p:nvSpPr>
          <p:spPr>
            <a:xfrm>
              <a:off x="6345000" y="1806480"/>
              <a:ext cx="189144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pplication modules</a:t>
              </a:r>
              <a:endParaRPr b="0" lang="en-US" sz="1400" spc="-1" strike="noStrike">
                <a:solidFill>
                  <a:srgbClr val="ffffff"/>
                </a:solidFill>
                <a:latin typeface="Times New Roman"/>
              </a:endParaRPr>
            </a:p>
          </p:txBody>
        </p:sp>
        <p:sp>
          <p:nvSpPr>
            <p:cNvPr id="38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81"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82" name=""/>
            <p:cNvGrpSpPr/>
            <p:nvPr/>
          </p:nvGrpSpPr>
          <p:grpSpPr>
            <a:xfrm>
              <a:off x="7275600" y="3402000"/>
              <a:ext cx="28440" cy="370080"/>
              <a:chOff x="7275600" y="3402000"/>
              <a:chExt cx="28440" cy="370080"/>
            </a:xfrm>
          </p:grpSpPr>
          <p:sp>
            <p:nvSpPr>
              <p:cNvPr id="38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86" name=""/>
            <p:cNvGrpSpPr/>
            <p:nvPr/>
          </p:nvGrpSpPr>
          <p:grpSpPr>
            <a:xfrm>
              <a:off x="5886360" y="2486160"/>
              <a:ext cx="2806920" cy="261720"/>
              <a:chOff x="5886360" y="2486160"/>
              <a:chExt cx="2806920" cy="261720"/>
            </a:xfrm>
          </p:grpSpPr>
          <p:sp>
            <p:nvSpPr>
              <p:cNvPr id="38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5886360" y="3139920"/>
              <a:ext cx="2806920" cy="263520"/>
              <a:chOff x="5886360" y="3139920"/>
              <a:chExt cx="2806920" cy="263520"/>
            </a:xfrm>
          </p:grpSpPr>
          <p:sp>
            <p:nvSpPr>
              <p:cNvPr id="390"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5886360" y="3800520"/>
              <a:ext cx="2806920" cy="261720"/>
              <a:chOff x="5886360" y="3800520"/>
              <a:chExt cx="2806920" cy="261720"/>
            </a:xfrm>
          </p:grpSpPr>
          <p:sp>
            <p:nvSpPr>
              <p:cNvPr id="39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7275600" y="2744640"/>
              <a:ext cx="28440" cy="370080"/>
              <a:chOff x="7275600" y="2744640"/>
              <a:chExt cx="28440" cy="370080"/>
            </a:xfrm>
          </p:grpSpPr>
          <p:sp>
            <p:nvSpPr>
              <p:cNvPr id="39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7275600" y="2077920"/>
              <a:ext cx="28440" cy="370080"/>
              <a:chOff x="7275600" y="2077920"/>
              <a:chExt cx="28440" cy="370080"/>
            </a:xfrm>
          </p:grpSpPr>
          <p:sp>
            <p:nvSpPr>
              <p:cNvPr id="39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7275600" y="4059360"/>
              <a:ext cx="28440" cy="369720"/>
              <a:chOff x="7275600" y="4059360"/>
              <a:chExt cx="28440" cy="369720"/>
            </a:xfrm>
          </p:grpSpPr>
          <p:sp>
            <p:nvSpPr>
              <p:cNvPr id="40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405" name=""/>
            <p:cNvGrpSpPr/>
            <p:nvPr/>
          </p:nvGrpSpPr>
          <p:grpSpPr>
            <a:xfrm>
              <a:off x="5886360" y="4457880"/>
              <a:ext cx="2806920" cy="261720"/>
              <a:chOff x="5886360" y="4457880"/>
              <a:chExt cx="2806920" cy="261720"/>
            </a:xfrm>
          </p:grpSpPr>
          <p:sp>
            <p:nvSpPr>
              <p:cNvPr id="40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bWWW Lessons Learned</a:t>
            </a:r>
            <a:endParaRPr b="0" lang="en-US" sz="3600" spc="-1" strike="noStrike">
              <a:solidFill>
                <a:srgbClr val="ffffff"/>
              </a:solidFill>
              <a:latin typeface="Century Schoolbook"/>
            </a:endParaRPr>
          </a:p>
        </p:txBody>
      </p:sp>
      <p:sp>
        <p:nvSpPr>
          <p:cNvPr id="4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has had many relea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 learned from the many iteratio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ized application program interfaces (APIs) are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support a dynamic, open-ended set of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thread saf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of these goals have been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ynamic View of Typical WWW Architecture</a:t>
            </a:r>
            <a:endParaRPr b="0" lang="en-US" sz="3600" spc="-1" strike="noStrike">
              <a:solidFill>
                <a:srgbClr val="ffffff"/>
              </a:solidFill>
              <a:latin typeface="Century Schoolbook"/>
            </a:endParaRPr>
          </a:p>
        </p:txBody>
      </p:sp>
      <p:sp>
        <p:nvSpPr>
          <p:cNvPr id="411" name="PlaceHolder 2"/>
          <p:cNvSpPr>
            <a:spLocks noGrp="1"/>
          </p:cNvSpPr>
          <p:nvPr>
            <p:ph/>
          </p:nvPr>
        </p:nvSpPr>
        <p:spPr>
          <a:xfrm>
            <a:off x="923400" y="2311200"/>
            <a:ext cx="7301160" cy="392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typical client serv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s of libWWW disappear in the runtime 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WWW Client</a:t>
            </a:r>
            <a:endParaRPr b="0" lang="en-US" sz="3600" spc="-1" strike="noStrike">
              <a:solidFill>
                <a:srgbClr val="ffffff"/>
              </a:solidFill>
              <a:latin typeface="Century Schoolbook"/>
            </a:endParaRPr>
          </a:p>
        </p:txBody>
      </p:sp>
      <p:grpSp>
        <p:nvGrpSpPr>
          <p:cNvPr id="413" name=""/>
          <p:cNvGrpSpPr/>
          <p:nvPr/>
        </p:nvGrpSpPr>
        <p:grpSpPr>
          <a:xfrm>
            <a:off x="2533680" y="1533600"/>
            <a:ext cx="5727600" cy="4613040"/>
            <a:chOff x="2533680" y="1533600"/>
            <a:chExt cx="5727600" cy="4613040"/>
          </a:xfrm>
        </p:grpSpPr>
        <p:grpSp>
          <p:nvGrpSpPr>
            <p:cNvPr id="414" name=""/>
            <p:cNvGrpSpPr/>
            <p:nvPr/>
          </p:nvGrpSpPr>
          <p:grpSpPr>
            <a:xfrm>
              <a:off x="6407280" y="5460840"/>
              <a:ext cx="1854000" cy="641160"/>
              <a:chOff x="6407280" y="5460840"/>
              <a:chExt cx="1854000" cy="641160"/>
            </a:xfrm>
          </p:grpSpPr>
          <p:sp>
            <p:nvSpPr>
              <p:cNvPr id="415" name=""/>
              <p:cNvSpPr/>
              <p:nvPr/>
            </p:nvSpPr>
            <p:spPr>
              <a:xfrm>
                <a:off x="6407280" y="5772240"/>
                <a:ext cx="1854000" cy="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607080" y="546084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grpSp>
        <p:sp>
          <p:nvSpPr>
            <p:cNvPr id="417" name=""/>
            <p:cNvSpPr/>
            <p:nvPr/>
          </p:nvSpPr>
          <p:spPr>
            <a:xfrm flipV="1">
              <a:off x="3019320" y="2865600"/>
              <a:ext cx="3403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2859120" y="307800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857680" y="2869920"/>
              <a:ext cx="17604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022200" y="614664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6578640" y="308124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6413400" y="5924520"/>
              <a:ext cx="16200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421320" y="2870280"/>
              <a:ext cx="15732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2857680" y="5934240"/>
              <a:ext cx="16488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71880" y="2529000"/>
              <a:ext cx="149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client</a:t>
              </a:r>
              <a:endParaRPr b="0" lang="en-US" sz="1800" spc="-1" strike="noStrike">
                <a:solidFill>
                  <a:srgbClr val="ffffff"/>
                </a:solidFill>
                <a:latin typeface="Times New Roman"/>
              </a:endParaRPr>
            </a:p>
          </p:txBody>
        </p:sp>
        <p:sp>
          <p:nvSpPr>
            <p:cNvPr id="426" name=""/>
            <p:cNvSpPr/>
            <p:nvPr/>
          </p:nvSpPr>
          <p:spPr>
            <a:xfrm flipV="1">
              <a:off x="3492360" y="3695760"/>
              <a:ext cx="0" cy="939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3645000" y="3720960"/>
              <a:ext cx="0" cy="9273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4076640" y="2209680"/>
              <a:ext cx="1015920" cy="86364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15600" y="29368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I</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0" name=""/>
            <p:cNvGrpSpPr/>
            <p:nvPr/>
          </p:nvGrpSpPr>
          <p:grpSpPr>
            <a:xfrm>
              <a:off x="4927680" y="2938320"/>
              <a:ext cx="1460520" cy="584280"/>
              <a:chOff x="4927680" y="2938320"/>
              <a:chExt cx="1460520" cy="584280"/>
            </a:xfrm>
          </p:grpSpPr>
          <p:sp>
            <p:nvSpPr>
              <p:cNvPr id="431" name=""/>
              <p:cNvSpPr/>
              <p:nvPr/>
            </p:nvSpPr>
            <p:spPr>
              <a:xfrm>
                <a:off x="4927680" y="29383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959360" y="29732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5115600" y="37720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4" name=""/>
            <p:cNvGrpSpPr/>
            <p:nvPr/>
          </p:nvGrpSpPr>
          <p:grpSpPr>
            <a:xfrm>
              <a:off x="4927680" y="3773520"/>
              <a:ext cx="1460520" cy="584280"/>
              <a:chOff x="4927680" y="3773520"/>
              <a:chExt cx="1460520" cy="584280"/>
            </a:xfrm>
          </p:grpSpPr>
          <p:sp>
            <p:nvSpPr>
              <p:cNvPr id="435" name=""/>
              <p:cNvSpPr/>
              <p:nvPr/>
            </p:nvSpPr>
            <p:spPr>
              <a:xfrm>
                <a:off x="4927680" y="37735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959360" y="38084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115600" y="46353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8" name=""/>
            <p:cNvGrpSpPr/>
            <p:nvPr/>
          </p:nvGrpSpPr>
          <p:grpSpPr>
            <a:xfrm>
              <a:off x="4927680" y="4637160"/>
              <a:ext cx="1460520" cy="584280"/>
              <a:chOff x="4927680" y="4637160"/>
              <a:chExt cx="1460520" cy="584280"/>
            </a:xfrm>
          </p:grpSpPr>
          <p:sp>
            <p:nvSpPr>
              <p:cNvPr id="439" name=""/>
              <p:cNvSpPr/>
              <p:nvPr/>
            </p:nvSpPr>
            <p:spPr>
              <a:xfrm>
                <a:off x="4927680" y="46371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959360" y="467208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1" name=""/>
            <p:cNvSpPr/>
            <p:nvPr/>
          </p:nvSpPr>
          <p:spPr>
            <a:xfrm>
              <a:off x="5115600" y="54705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2" name=""/>
            <p:cNvGrpSpPr/>
            <p:nvPr/>
          </p:nvGrpSpPr>
          <p:grpSpPr>
            <a:xfrm>
              <a:off x="4927680" y="5479920"/>
              <a:ext cx="1460520" cy="584280"/>
              <a:chOff x="4927680" y="5479920"/>
              <a:chExt cx="1460520" cy="584280"/>
            </a:xfrm>
          </p:grpSpPr>
          <p:sp>
            <p:nvSpPr>
              <p:cNvPr id="443" name=""/>
              <p:cNvSpPr/>
              <p:nvPr/>
            </p:nvSpPr>
            <p:spPr>
              <a:xfrm>
                <a:off x="4927680" y="54799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59360" y="55148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5" name=""/>
            <p:cNvSpPr/>
            <p:nvPr/>
          </p:nvSpPr>
          <p:spPr>
            <a:xfrm>
              <a:off x="3008160" y="3089160"/>
              <a:ext cx="146520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6" name=""/>
            <p:cNvGrpSpPr/>
            <p:nvPr/>
          </p:nvGrpSpPr>
          <p:grpSpPr>
            <a:xfrm>
              <a:off x="3009960" y="3090960"/>
              <a:ext cx="1460520" cy="584280"/>
              <a:chOff x="3009960" y="3090960"/>
              <a:chExt cx="1460520" cy="584280"/>
            </a:xfrm>
          </p:grpSpPr>
          <p:sp>
            <p:nvSpPr>
              <p:cNvPr id="447" name=""/>
              <p:cNvSpPr/>
              <p:nvPr/>
            </p:nvSpPr>
            <p:spPr>
              <a:xfrm>
                <a:off x="3009960" y="30909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041640" y="3125880"/>
                <a:ext cx="1397160" cy="5140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9" name=""/>
            <p:cNvSpPr/>
            <p:nvPr/>
          </p:nvSpPr>
          <p:spPr>
            <a:xfrm>
              <a:off x="3210480" y="46371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50" name=""/>
            <p:cNvGrpSpPr/>
            <p:nvPr/>
          </p:nvGrpSpPr>
          <p:grpSpPr>
            <a:xfrm>
              <a:off x="3022560" y="4638600"/>
              <a:ext cx="1460520" cy="584280"/>
              <a:chOff x="3022560" y="4638600"/>
              <a:chExt cx="1460520" cy="584280"/>
            </a:xfrm>
          </p:grpSpPr>
          <p:sp>
            <p:nvSpPr>
              <p:cNvPr id="451" name=""/>
              <p:cNvSpPr/>
              <p:nvPr/>
            </p:nvSpPr>
            <p:spPr>
              <a:xfrm>
                <a:off x="3022560" y="463860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054240" y="467352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4832280" y="16606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867200" y="167796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052240" y="1731960"/>
              <a:ext cx="142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control</a:t>
              </a:r>
              <a:endParaRPr b="0" lang="en-US" sz="1800" spc="-1" strike="noStrike">
                <a:solidFill>
                  <a:srgbClr val="ffffff"/>
                </a:solidFill>
                <a:latin typeface="Times New Roman"/>
              </a:endParaRPr>
            </a:p>
          </p:txBody>
        </p:sp>
        <p:sp>
          <p:nvSpPr>
            <p:cNvPr id="456" name=""/>
            <p:cNvSpPr/>
            <p:nvPr/>
          </p:nvSpPr>
          <p:spPr>
            <a:xfrm>
              <a:off x="2533680" y="153360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85960" y="159696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846520" y="16732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863080" y="1744560"/>
              <a:ext cx="1744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iewer</a:t>
              </a:r>
              <a:endParaRPr b="0" lang="en-US" sz="1800" spc="-1" strike="noStrike">
                <a:solidFill>
                  <a:srgbClr val="ffffff"/>
                </a:solidFill>
                <a:latin typeface="Times New Roman"/>
              </a:endParaRPr>
            </a:p>
          </p:txBody>
        </p:sp>
        <p:sp>
          <p:nvSpPr>
            <p:cNvPr id="460" name=""/>
            <p:cNvSpPr/>
            <p:nvPr/>
          </p:nvSpPr>
          <p:spPr>
            <a:xfrm flipV="1">
              <a:off x="3492360" y="2197080"/>
              <a:ext cx="0" cy="876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3632040" y="2196720"/>
              <a:ext cx="12960" cy="901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V="1">
              <a:off x="3492360" y="5245200"/>
              <a:ext cx="0" cy="622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645000" y="5244840"/>
              <a:ext cx="0" cy="469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505320" y="5867280"/>
              <a:ext cx="14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632040" y="5708520"/>
              <a:ext cx="128916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66" name=""/>
            <p:cNvSpPr/>
            <p:nvPr/>
          </p:nvSpPr>
          <p:spPr>
            <a:xfrm>
              <a:off x="4076640" y="3975120"/>
              <a:ext cx="0" cy="622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229280" y="4127400"/>
              <a:ext cx="0" cy="470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076640" y="3975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229280" y="4127400"/>
              <a:ext cx="711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flipV="1">
              <a:off x="4076640" y="3708000"/>
              <a:ext cx="874800" cy="17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4190760" y="3720960"/>
              <a:ext cx="812520" cy="170352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600880" y="353232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715000" y="350532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600880" y="438300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715000" y="435600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600880" y="523404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715000" y="520704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0480" y="3276720"/>
              <a:ext cx="444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70480" y="3403440"/>
              <a:ext cx="4316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 Components</a:t>
            </a:r>
            <a:endParaRPr b="0" lang="en-US" sz="3600" spc="-1" strike="noStrike">
              <a:solidFill>
                <a:srgbClr val="ffffff"/>
              </a:solidFill>
              <a:latin typeface="Century Schoolbook"/>
            </a:endParaRPr>
          </a:p>
        </p:txBody>
      </p:sp>
      <p:sp>
        <p:nvSpPr>
          <p:cNvPr id="481" name="PlaceHolder 2"/>
          <p:cNvSpPr>
            <a:spLocks noGrp="1"/>
          </p:cNvSpPr>
          <p:nvPr>
            <p:ph/>
          </p:nvPr>
        </p:nvSpPr>
        <p:spPr>
          <a:xfrm>
            <a:off x="911160" y="1795320"/>
            <a:ext cx="78264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interface (UI) manager is responsible for the look and feel of the UI (e.g., Web brows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manager delegates document types to viewers. </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 QuickTime movi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TML to UI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I manager captures user’s request for URL and passes to access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manager determines if URL has been cached and if it has not, it initiates retrieval through protocol and stream manager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Server</a:t>
            </a:r>
            <a:endParaRPr b="0" lang="en-US" sz="3600" spc="-1" strike="noStrike">
              <a:solidFill>
                <a:srgbClr val="ffffff"/>
              </a:solidFill>
              <a:latin typeface="Century Schoolbook"/>
            </a:endParaRPr>
          </a:p>
        </p:txBody>
      </p:sp>
      <p:sp>
        <p:nvSpPr>
          <p:cNvPr id="483" name=""/>
          <p:cNvSpPr/>
          <p:nvPr/>
        </p:nvSpPr>
        <p:spPr>
          <a:xfrm>
            <a:off x="2800440" y="2432160"/>
            <a:ext cx="1143000" cy="48240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075840" y="250344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sp>
        <p:nvSpPr>
          <p:cNvPr id="485" name=""/>
          <p:cNvSpPr/>
          <p:nvPr/>
        </p:nvSpPr>
        <p:spPr>
          <a:xfrm>
            <a:off x="2800440" y="1596960"/>
            <a:ext cx="1778040" cy="50796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835360" y="161460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019320" y="166860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a:t>
            </a:r>
            <a:endParaRPr b="0" lang="en-US" sz="1800" spc="-1" strike="noStrike">
              <a:solidFill>
                <a:srgbClr val="ffffff"/>
              </a:solidFill>
              <a:latin typeface="Times New Roman"/>
            </a:endParaRPr>
          </a:p>
        </p:txBody>
      </p:sp>
      <p:sp>
        <p:nvSpPr>
          <p:cNvPr id="488" name=""/>
          <p:cNvSpPr/>
          <p:nvPr/>
        </p:nvSpPr>
        <p:spPr>
          <a:xfrm>
            <a:off x="2719440" y="334476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20880" y="3142800"/>
            <a:ext cx="168480" cy="2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2882520" y="6413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6438960" y="334800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273360" y="6191280"/>
            <a:ext cx="16524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272280" y="3143160"/>
            <a:ext cx="16668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717280" y="6200280"/>
            <a:ext cx="16524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734000" y="2795760"/>
            <a:ext cx="158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496" name=""/>
          <p:cNvSpPr/>
          <p:nvPr/>
        </p:nvSpPr>
        <p:spPr>
          <a:xfrm>
            <a:off x="4819680" y="3308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051880" y="3319560"/>
            <a:ext cx="99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er</a:t>
            </a:r>
            <a:endParaRPr b="0" lang="en-US" sz="1800" spc="-1" strike="noStrike">
              <a:solidFill>
                <a:srgbClr val="ffffff"/>
              </a:solidFill>
              <a:latin typeface="Times New Roman"/>
            </a:endParaRPr>
          </a:p>
        </p:txBody>
      </p:sp>
      <p:sp>
        <p:nvSpPr>
          <p:cNvPr id="498" name=""/>
          <p:cNvSpPr/>
          <p:nvPr/>
        </p:nvSpPr>
        <p:spPr>
          <a:xfrm>
            <a:off x="4851360" y="334800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959200" y="453564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3279600" y="4546440"/>
            <a:ext cx="81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501" name=""/>
          <p:cNvSpPr/>
          <p:nvPr/>
        </p:nvSpPr>
        <p:spPr>
          <a:xfrm>
            <a:off x="2990880" y="457524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59200" y="5594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47120" y="5605560"/>
            <a:ext cx="1084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sp>
        <p:nvSpPr>
          <p:cNvPr id="504" name=""/>
          <p:cNvSpPr/>
          <p:nvPr/>
        </p:nvSpPr>
        <p:spPr>
          <a:xfrm>
            <a:off x="2990880" y="563400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714840" y="5232240"/>
            <a:ext cx="0" cy="385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664080" y="5240160"/>
            <a:ext cx="0" cy="38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7" name=""/>
          <p:cNvGrpSpPr/>
          <p:nvPr/>
        </p:nvGrpSpPr>
        <p:grpSpPr>
          <a:xfrm>
            <a:off x="4851360" y="4546440"/>
            <a:ext cx="1397160" cy="641160"/>
            <a:chOff x="4851360" y="4546440"/>
            <a:chExt cx="1397160" cy="641160"/>
          </a:xfrm>
        </p:grpSpPr>
        <p:sp>
          <p:nvSpPr>
            <p:cNvPr id="508" name=""/>
            <p:cNvSpPr/>
            <p:nvPr/>
          </p:nvSpPr>
          <p:spPr>
            <a:xfrm>
              <a:off x="5089320" y="4546440"/>
              <a:ext cx="9212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Times New Roman"/>
              </a:endParaRPr>
            </a:p>
          </p:txBody>
        </p:sp>
        <p:sp>
          <p:nvSpPr>
            <p:cNvPr id="509" name=""/>
            <p:cNvSpPr/>
            <p:nvPr/>
          </p:nvSpPr>
          <p:spPr>
            <a:xfrm>
              <a:off x="4851360" y="457524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flipH="1" flipV="1">
            <a:off x="4432320" y="4854600"/>
            <a:ext cx="419040" cy="93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511" name=""/>
          <p:cNvSpPr/>
          <p:nvPr/>
        </p:nvSpPr>
        <p:spPr>
          <a:xfrm flipH="1">
            <a:off x="4431960" y="4038480"/>
            <a:ext cx="1143000" cy="520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4474800" y="4038480"/>
            <a:ext cx="957240" cy="455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3365640" y="2095200"/>
            <a:ext cx="0" cy="3301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352680" y="2921040"/>
            <a:ext cx="0" cy="161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3505320" y="2921040"/>
            <a:ext cx="0" cy="16128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013280" y="2108160"/>
            <a:ext cx="0" cy="24130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092240" y="5918040"/>
            <a:ext cx="185400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519" name=""/>
          <p:cNvSpPr/>
          <p:nvPr/>
        </p:nvSpPr>
        <p:spPr>
          <a:xfrm flipH="1">
            <a:off x="2882520" y="3146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 between the architecture of the World Wide Web (WWW) and the architectural environments that spawned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echniques used by the WWW’s software developers to support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hifting requirements can cause an architecture to change over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1</a:t>
            </a:r>
            <a:endParaRPr b="0" lang="en-US" sz="3600" spc="-1" strike="noStrike">
              <a:solidFill>
                <a:srgbClr val="ffffff"/>
              </a:solidFill>
              <a:latin typeface="Century Schoolbook"/>
            </a:endParaRPr>
          </a:p>
        </p:txBody>
      </p:sp>
      <p:sp>
        <p:nvSpPr>
          <p:cNvPr id="521" name="PlaceHolder 2"/>
          <p:cNvSpPr>
            <a:spLocks noGrp="1"/>
          </p:cNvSpPr>
          <p:nvPr>
            <p:ph/>
          </p:nvPr>
        </p:nvSpPr>
        <p:spPr>
          <a:xfrm>
            <a:off x="923760" y="1782720"/>
            <a:ext cx="7801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ertext transfer protocol (HTTP) server receives request for URL, and passes that to the path resolver, which determines the file location for the document (assuming lo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server checks the access list to see if access is permitted and then gets the document from the fil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2</a:t>
            </a:r>
            <a:endParaRPr b="0" lang="en-US" sz="3600" spc="-1" strike="noStrike">
              <a:solidFill>
                <a:srgbClr val="ffffff"/>
              </a:solidFill>
              <a:latin typeface="Century Schoolbook"/>
            </a:endParaRPr>
          </a:p>
        </p:txBody>
      </p:sp>
      <p:sp>
        <p:nvSpPr>
          <p:cNvPr id="5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gateway interface (CGI) is a special document type that allows customized access to other data or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ML is served by the HTTP server back to cli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tending the Server</a:t>
            </a:r>
            <a:endParaRPr b="0" lang="en-US" sz="3600" spc="-1" strike="noStrike">
              <a:solidFill>
                <a:srgbClr val="ffffff"/>
              </a:solidFill>
              <a:latin typeface="Century Schoolbook"/>
            </a:endParaRPr>
          </a:p>
        </p:txBody>
      </p:sp>
      <p:sp>
        <p:nvSpPr>
          <p:cNvPr id="525" name="PlaceHolder 2"/>
          <p:cNvSpPr>
            <a:spLocks noGrp="1"/>
          </p:cNvSpPr>
          <p:nvPr>
            <p:ph/>
          </p:nvPr>
        </p:nvSpPr>
        <p:spPr>
          <a:xfrm>
            <a:off x="923400" y="1795320"/>
            <a:ext cx="745812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allow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docu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 of data to existing databa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ed quer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abl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scrip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written in a variety of languag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as separate process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blems With CGI</a:t>
            </a:r>
            <a:endParaRPr b="0" lang="en-US" sz="3600" spc="-1" strike="noStrike">
              <a:solidFill>
                <a:srgbClr val="ffffff"/>
              </a:solidFill>
              <a:latin typeface="Century Schoolbook"/>
            </a:endParaRPr>
          </a:p>
        </p:txBody>
      </p:sp>
      <p:sp>
        <p:nvSpPr>
          <p:cNvPr id="5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and “put” principally supported by CGI scripts in libWWW applica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has security ho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is not portabl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olution: Jigsaw resource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w Server Base</a:t>
            </a:r>
            <a:endParaRPr b="0" lang="en-US" sz="3600" spc="-1" strike="noStrike">
              <a:solidFill>
                <a:srgbClr val="ffffff"/>
              </a:solidFill>
              <a:latin typeface="Century Schoolbook"/>
            </a:endParaRPr>
          </a:p>
        </p:txBody>
      </p:sp>
      <p:sp>
        <p:nvSpPr>
          <p:cNvPr id="529" name="PlaceHolder 2"/>
          <p:cNvSpPr>
            <a:spLocks noGrp="1"/>
          </p:cNvSpPr>
          <p:nvPr>
            <p:ph/>
          </p:nvPr>
        </p:nvSpPr>
        <p:spPr>
          <a:xfrm>
            <a:off x="923760" y="1782720"/>
            <a:ext cx="76996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is an object-oriented serv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Jav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to replace libWWW for server sid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addres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cre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through use of resource obj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through minimization of file ac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al solution is Jigsa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Today</a:t>
            </a:r>
            <a:endParaRPr b="0" lang="en-US" sz="3600" spc="-1" strike="noStrike">
              <a:solidFill>
                <a:srgbClr val="ffffff"/>
              </a:solidFill>
              <a:latin typeface="Century Schoolbook"/>
            </a:endParaRPr>
          </a:p>
        </p:txBody>
      </p:sp>
      <p:sp>
        <p:nvSpPr>
          <p:cNvPr id="531" name=""/>
          <p:cNvSpPr/>
          <p:nvPr/>
        </p:nvSpPr>
        <p:spPr>
          <a:xfrm>
            <a:off x="1600200" y="3578400"/>
            <a:ext cx="6780240" cy="233820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633320" y="231156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533" name=""/>
          <p:cNvSpPr/>
          <p:nvPr/>
        </p:nvSpPr>
        <p:spPr>
          <a:xfrm>
            <a:off x="661680" y="2608200"/>
            <a:ext cx="1802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ontent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ervice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hole world</a:t>
            </a:r>
            <a:endParaRPr b="0" lang="en-US" sz="1400" spc="-1" strike="noStrike">
              <a:solidFill>
                <a:srgbClr val="ffffff"/>
              </a:solidFill>
              <a:latin typeface="Times New Roman"/>
            </a:endParaRPr>
          </a:p>
        </p:txBody>
      </p:sp>
      <p:sp>
        <p:nvSpPr>
          <p:cNvPr id="534" name=""/>
          <p:cNvSpPr/>
          <p:nvPr/>
        </p:nvSpPr>
        <p:spPr>
          <a:xfrm>
            <a:off x="664920" y="3551400"/>
            <a:ext cx="184500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535" name=""/>
          <p:cNvSpPr/>
          <p:nvPr/>
        </p:nvSpPr>
        <p:spPr>
          <a:xfrm>
            <a:off x="675720" y="4092480"/>
            <a:ext cx="1901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6" name=""/>
          <p:cNvSpPr/>
          <p:nvPr/>
        </p:nvSpPr>
        <p:spPr>
          <a:xfrm>
            <a:off x="664560" y="4983120"/>
            <a:ext cx="197316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7" name=""/>
          <p:cNvSpPr/>
          <p:nvPr/>
        </p:nvSpPr>
        <p:spPr>
          <a:xfrm>
            <a:off x="2901960" y="2919240"/>
            <a:ext cx="1849680" cy="1532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ward compatibility</a:t>
            </a:r>
            <a:endParaRPr b="0" lang="en-US" sz="1400" spc="-1" strike="noStrike">
              <a:solidFill>
                <a:srgbClr val="ffffff"/>
              </a:solidFill>
              <a:latin typeface="Times New Roman"/>
            </a:endParaRPr>
          </a:p>
        </p:txBody>
      </p:sp>
      <p:sp>
        <p:nvSpPr>
          <p:cNvPr id="538" name=""/>
          <p:cNvSpPr/>
          <p:nvPr/>
        </p:nvSpPr>
        <p:spPr>
          <a:xfrm>
            <a:off x="1335240" y="5500800"/>
            <a:ext cx="333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32000" y="2606760"/>
            <a:ext cx="33368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4672080" y="2606760"/>
            <a:ext cx="3240" cy="28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424240" y="2733840"/>
            <a:ext cx="32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01840" y="3886200"/>
            <a:ext cx="449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 name=""/>
          <p:cNvSpPr/>
          <p:nvPr/>
        </p:nvSpPr>
        <p:spPr>
          <a:xfrm>
            <a:off x="2755800" y="273204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754360" y="30384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4678200" y="3224160"/>
            <a:ext cx="244800" cy="96840"/>
            <a:chOff x="4678200" y="3224160"/>
            <a:chExt cx="244800" cy="96840"/>
          </a:xfrm>
        </p:grpSpPr>
        <p:sp>
          <p:nvSpPr>
            <p:cNvPr id="546" name=""/>
            <p:cNvSpPr/>
            <p:nvPr/>
          </p:nvSpPr>
          <p:spPr>
            <a:xfrm>
              <a:off x="4678200" y="322416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678200" y="332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6045120" y="3238560"/>
            <a:ext cx="373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101000" y="344664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446880" y="2800440"/>
            <a:ext cx="1380960" cy="6602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531840" y="2747880"/>
            <a:ext cx="1215720" cy="7999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Jigsa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server</a:t>
            </a:r>
            <a:endParaRPr b="0" lang="en-US" sz="1400" spc="-1" strike="noStrike">
              <a:solidFill>
                <a:srgbClr val="ffffff"/>
              </a:solidFill>
              <a:latin typeface="Times New Roman"/>
            </a:endParaRPr>
          </a:p>
        </p:txBody>
      </p:sp>
      <p:sp>
        <p:nvSpPr>
          <p:cNvPr id="552" name=""/>
          <p:cNvSpPr/>
          <p:nvPr/>
        </p:nvSpPr>
        <p:spPr>
          <a:xfrm>
            <a:off x="6445080" y="36781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786000" y="365112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grpSp>
        <p:nvGrpSpPr>
          <p:cNvPr id="554" name=""/>
          <p:cNvGrpSpPr/>
          <p:nvPr/>
        </p:nvGrpSpPr>
        <p:grpSpPr>
          <a:xfrm>
            <a:off x="4955040" y="2381400"/>
            <a:ext cx="1236240" cy="2458800"/>
            <a:chOff x="4955040" y="2381400"/>
            <a:chExt cx="1236240" cy="2458800"/>
          </a:xfrm>
        </p:grpSpPr>
        <p:sp>
          <p:nvSpPr>
            <p:cNvPr id="555" name=""/>
            <p:cNvSpPr/>
            <p:nvPr/>
          </p:nvSpPr>
          <p:spPr>
            <a:xfrm>
              <a:off x="5380200" y="2381400"/>
              <a:ext cx="363240" cy="357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086440" y="2784600"/>
              <a:ext cx="954000" cy="2055600"/>
            </a:xfrm>
            <a:custGeom>
              <a:avLst/>
              <a:gdLst/>
              <a:ahLst/>
              <a:rect l="l" t="t" r="r" b="b"/>
              <a:pathLst>
                <a:path w="601" h="1295">
                  <a:moveTo>
                    <a:pt x="118" y="508"/>
                  </a:moveTo>
                  <a:lnTo>
                    <a:pt x="118" y="624"/>
                  </a:lnTo>
                  <a:lnTo>
                    <a:pt x="196" y="1294"/>
                  </a:lnTo>
                  <a:lnTo>
                    <a:pt x="406" y="1294"/>
                  </a:lnTo>
                  <a:lnTo>
                    <a:pt x="481" y="633"/>
                  </a:lnTo>
                  <a:lnTo>
                    <a:pt x="481" y="508"/>
                  </a:lnTo>
                  <a:lnTo>
                    <a:pt x="510" y="508"/>
                  </a:lnTo>
                  <a:lnTo>
                    <a:pt x="510" y="624"/>
                  </a:lnTo>
                  <a:lnTo>
                    <a:pt x="600" y="624"/>
                  </a:lnTo>
                  <a:lnTo>
                    <a:pt x="600" y="0"/>
                  </a:lnTo>
                  <a:lnTo>
                    <a:pt x="0" y="0"/>
                  </a:lnTo>
                  <a:lnTo>
                    <a:pt x="0" y="619"/>
                  </a:lnTo>
                  <a:lnTo>
                    <a:pt x="86" y="619"/>
                  </a:lnTo>
                  <a:lnTo>
                    <a:pt x="86" y="508"/>
                  </a:lnTo>
                  <a:lnTo>
                    <a:pt x="118"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55040" y="2906640"/>
              <a:ext cx="1236240" cy="675720"/>
            </a:xfrm>
            <a:prstGeom prst="rect">
              <a:avLst/>
            </a:prstGeom>
            <a:noFill/>
            <a:ln w="0">
              <a:noFill/>
            </a:ln>
          </p:spPr>
          <p:style>
            <a:lnRef idx="0"/>
            <a:fillRef idx="0"/>
            <a:effectRef idx="0"/>
            <a:fontRef idx="minor"/>
          </p:style>
          <p:txBody>
            <a:bodyPr wrap="none" lIns="162000" rIns="162000" tIns="79200" bIns="79200" anchor="t">
              <a:spAutoFit/>
            </a:bodyPr>
            <a:p>
              <a:pPr algn="ctr">
                <a:lnSpc>
                  <a:spcPct val="85000"/>
                </a:lnSpc>
                <a:tabLst>
                  <a:tab algn="l" pos="0"/>
                  <a:tab algn="l" pos="2743200"/>
                  <a:tab algn="l" pos="5486400"/>
                  <a:tab algn="l" pos="822960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Consortium</a:t>
              </a:r>
              <a:endParaRPr b="0" lang="en-US" sz="1400" spc="-1" strike="noStrike">
                <a:solidFill>
                  <a:srgbClr val="ffffff"/>
                </a:solidFill>
                <a:latin typeface="Times New Roman"/>
              </a:endParaRPr>
            </a:p>
          </p:txBody>
        </p:sp>
      </p:grpSp>
      <p:grpSp>
        <p:nvGrpSpPr>
          <p:cNvPr id="558" name=""/>
          <p:cNvGrpSpPr/>
          <p:nvPr/>
        </p:nvGrpSpPr>
        <p:grpSpPr>
          <a:xfrm>
            <a:off x="2522880" y="500760"/>
            <a:ext cx="5476320" cy="5458680"/>
            <a:chOff x="2522880" y="500760"/>
            <a:chExt cx="5476320" cy="5458680"/>
          </a:xfrm>
        </p:grpSpPr>
        <p:sp>
          <p:nvSpPr>
            <p:cNvPr id="559" name=""/>
            <p:cNvSpPr/>
            <p:nvPr/>
          </p:nvSpPr>
          <p:spPr>
            <a:xfrm rot="2460000">
              <a:off x="3277800" y="1337400"/>
              <a:ext cx="3966480" cy="3784680"/>
            </a:xfrm>
            <a:custGeom>
              <a:avLst/>
              <a:gdLst/>
              <a:ahLst/>
              <a:rect l="l" t="t" r="r" b="b"/>
              <a:pathLst>
                <a:path stroke="0" w="21600" h="21600">
                  <a:moveTo>
                    <a:pt x="124" y="12429"/>
                  </a:moveTo>
                  <a:arcTo wR="10800" hR="10800" stAng="10279443" swAng="8081389"/>
                  <a:lnTo>
                    <a:pt x="10800" y="10800"/>
                  </a:lnTo>
                  <a:close/>
                </a:path>
                <a:path fill="none" w="21600" h="21600">
                  <a:moveTo>
                    <a:pt x="124" y="12429"/>
                  </a:moveTo>
                  <a:arcTo wR="10800" hR="10800" stAng="10279443" swAng="8081389"/>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rot="2460000">
              <a:off x="3375720" y="1443600"/>
              <a:ext cx="3765960" cy="3600000"/>
            </a:xfrm>
            <a:custGeom>
              <a:avLst/>
              <a:gdLst/>
              <a:ahLst/>
              <a:rect l="l" t="t" r="r" b="b"/>
              <a:pathLst>
                <a:path stroke="0" w="21600" h="21600">
                  <a:moveTo>
                    <a:pt x="96" y="12237"/>
                  </a:moveTo>
                  <a:arcTo wR="10800" hR="10800" stAng="10341287" swAng="7959642"/>
                  <a:lnTo>
                    <a:pt x="10800" y="10800"/>
                  </a:lnTo>
                  <a:close/>
                </a:path>
                <a:path fill="none" w="21600" h="21600">
                  <a:moveTo>
                    <a:pt x="96" y="12237"/>
                  </a:moveTo>
                  <a:arcTo wR="10800" hR="10800" stAng="10341287" swAng="795964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rot="13260000">
            <a:off x="3520440" y="2423880"/>
            <a:ext cx="3679200" cy="3789360"/>
          </a:xfrm>
          <a:custGeom>
            <a:avLst/>
            <a:gdLst/>
            <a:ahLst/>
            <a:rect l="l" t="t" r="r" b="b"/>
            <a:pathLst>
              <a:path stroke="0" w="21600" h="21600">
                <a:moveTo>
                  <a:pt x="3203" y="18476"/>
                </a:moveTo>
                <a:arcTo wR="10800" hR="10800" stAng="8082193" swAng="8698718"/>
                <a:lnTo>
                  <a:pt x="10800" y="10800"/>
                </a:lnTo>
                <a:close/>
              </a:path>
              <a:path fill="none" w="21600" h="21600">
                <a:moveTo>
                  <a:pt x="3203" y="18476"/>
                </a:moveTo>
                <a:arcTo wR="10800" hR="10800" stAng="8082193" swAng="869871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3260000">
            <a:off x="3666960" y="2552760"/>
            <a:ext cx="3406680" cy="3571200"/>
          </a:xfrm>
          <a:custGeom>
            <a:avLst/>
            <a:gdLst/>
            <a:ahLst/>
            <a:rect l="l" t="t" r="r" b="b"/>
            <a:pathLst>
              <a:path stroke="0" w="21600" h="21600">
                <a:moveTo>
                  <a:pt x="3325" y="18595"/>
                </a:moveTo>
                <a:arcTo wR="10800" hR="10800" stAng="8027922" swAng="8647231"/>
                <a:lnTo>
                  <a:pt x="10800" y="10800"/>
                </a:lnTo>
                <a:close/>
              </a:path>
              <a:path fill="none" w="21600" h="21600">
                <a:moveTo>
                  <a:pt x="3325" y="18595"/>
                </a:moveTo>
                <a:arcTo wR="10800" hR="10800" stAng="8027922" swAng="8647231"/>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30240" y="842760"/>
            <a:ext cx="7540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1</a:t>
            </a:r>
            <a:endParaRPr b="0" lang="en-US" sz="3600" spc="-1" strike="noStrike">
              <a:solidFill>
                <a:srgbClr val="ffffff"/>
              </a:solidFill>
              <a:latin typeface="Century Schoolbook"/>
            </a:endParaRPr>
          </a:p>
        </p:txBody>
      </p:sp>
      <p:sp>
        <p:nvSpPr>
          <p:cNvPr id="564" name="PlaceHolder 2"/>
          <p:cNvSpPr>
            <a:spLocks noGrp="1"/>
          </p:cNvSpPr>
          <p:nvPr>
            <p:ph/>
          </p:nvPr>
        </p:nvSpPr>
        <p:spPr>
          <a:xfrm>
            <a:off x="923760" y="2184120"/>
            <a:ext cx="7864560" cy="400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 heterogeneous computing environment: Define a new protocol realizable on any platform and isolate platform dependencies into libWWW lay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non-centralized: Each data item can have links to other data items; system is client-server with servers communicating via universal nam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2</a:t>
            </a:r>
            <a:endParaRPr b="0" lang="en-US" sz="3600" spc="-1" strike="noStrike">
              <a:solidFill>
                <a:srgbClr val="ffffff"/>
              </a:solidFill>
              <a:latin typeface="Century Schoolbook"/>
            </a:endParaRPr>
          </a:p>
        </p:txBody>
      </p:sp>
      <p:sp>
        <p:nvSpPr>
          <p:cNvPr id="566"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ccess to existing data: User specified view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 Links are defined at runtime from existing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calability by open-ended skeletons that allowed protocol-aware modules to be plugged 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568" name="PlaceHolder 2"/>
          <p:cNvSpPr>
            <a:spLocks noGrp="1"/>
          </p:cNvSpPr>
          <p:nvPr>
            <p:ph/>
          </p:nvPr>
        </p:nvSpPr>
        <p:spPr>
          <a:xfrm>
            <a:off x="923760" y="1782720"/>
            <a:ext cx="7902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nential growth of the WWW was allow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flexible client-serve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ell-defined protoc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entralize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as a </a:t>
            </a:r>
            <a:r>
              <a:rPr b="1" i="1" lang="en-US" sz="2400" spc="-1" strike="noStrike">
                <a:solidFill>
                  <a:srgbClr val="ffffff"/>
                </a:solidFill>
                <a:latin typeface="Arial"/>
              </a:rPr>
              <a:t>skeleton</a:t>
            </a:r>
            <a:r>
              <a:rPr b="1" lang="en-US" sz="2400" spc="-1" strike="noStrike">
                <a:solidFill>
                  <a:srgbClr val="ffffff"/>
                </a:solidFill>
                <a:latin typeface="Arial"/>
              </a:rPr>
              <a:t> into which protocols were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growth changed the technical environment, causing iterations of th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570" name="PlaceHolder 2"/>
          <p:cNvSpPr>
            <a:spLocks noGrp="1"/>
          </p:cNvSpPr>
          <p:nvPr>
            <p:ph/>
          </p:nvPr>
        </p:nvSpPr>
        <p:spPr>
          <a:xfrm>
            <a:off x="923400" y="1782720"/>
            <a:ext cx="781380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We have identified a number of qualities that mad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WWW successful: interoperability, portabi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access, and scalability.  Which of these do</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think contributed most substantially t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s success?  If any of these qualities had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crificed, would the Web still have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What trade-offs did these qua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als entail in the architecture of application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ased upon libWWW?</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ABC for the WWW</a:t>
            </a:r>
            <a:endParaRPr b="0" lang="en-US" sz="3600" spc="-1" strike="noStrike">
              <a:solidFill>
                <a:srgbClr val="ffffff"/>
              </a:solidFill>
              <a:latin typeface="Century Schoolbook"/>
            </a:endParaRPr>
          </a:p>
        </p:txBody>
      </p:sp>
      <p:grpSp>
        <p:nvGrpSpPr>
          <p:cNvPr id="130" name=""/>
          <p:cNvGrpSpPr/>
          <p:nvPr/>
        </p:nvGrpSpPr>
        <p:grpSpPr>
          <a:xfrm>
            <a:off x="2135160" y="514800"/>
            <a:ext cx="5592960" cy="5592600"/>
            <a:chOff x="2135160" y="514800"/>
            <a:chExt cx="5592960" cy="5592600"/>
          </a:xfrm>
        </p:grpSpPr>
        <p:sp>
          <p:nvSpPr>
            <p:cNvPr id="131" name=""/>
            <p:cNvSpPr/>
            <p:nvPr/>
          </p:nvSpPr>
          <p:spPr>
            <a:xfrm rot="2460000">
              <a:off x="2948400" y="1329480"/>
              <a:ext cx="3966120" cy="3962520"/>
            </a:xfrm>
            <a:custGeom>
              <a:avLst/>
              <a:gdLst/>
              <a:ahLst/>
              <a:rect l="l" t="t" r="r" b="b"/>
              <a:pathLst>
                <a:path stroke="0" w="21600" h="21600">
                  <a:moveTo>
                    <a:pt x="124" y="12434"/>
                  </a:moveTo>
                  <a:arcTo wR="10800" hR="10800" stAng="10277954" swAng="8083391"/>
                  <a:lnTo>
                    <a:pt x="10800" y="10800"/>
                  </a:lnTo>
                  <a:close/>
                </a:path>
                <a:path fill="none" w="21600" h="21600">
                  <a:moveTo>
                    <a:pt x="124" y="12434"/>
                  </a:moveTo>
                  <a:arcTo wR="10800" hR="10800" stAng="10277954" swAng="8083391"/>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2460000">
              <a:off x="3046680" y="1440720"/>
              <a:ext cx="3766320" cy="3768840"/>
            </a:xfrm>
            <a:custGeom>
              <a:avLst/>
              <a:gdLst/>
              <a:ahLst/>
              <a:rect l="l" t="t" r="r" b="b"/>
              <a:pathLst>
                <a:path stroke="0" w="21600" h="21600">
                  <a:moveTo>
                    <a:pt x="96" y="12236"/>
                  </a:moveTo>
                  <a:arcTo wR="10800" hR="10800" stAng="10341642" swAng="7959002"/>
                  <a:lnTo>
                    <a:pt x="10800" y="10800"/>
                  </a:lnTo>
                  <a:close/>
                </a:path>
                <a:path fill="none" w="21600" h="21600">
                  <a:moveTo>
                    <a:pt x="96" y="12236"/>
                  </a:moveTo>
                  <a:arcTo wR="10800" hR="10800" stAng="10341642" swAng="795900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587600" y="3538440"/>
            <a:ext cx="6780240" cy="233856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20720" y="227160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5" name=""/>
          <p:cNvSpPr/>
          <p:nvPr/>
        </p:nvSpPr>
        <p:spPr>
          <a:xfrm>
            <a:off x="650520" y="2568600"/>
            <a:ext cx="214380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management and</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s</a:t>
            </a:r>
            <a:endParaRPr b="0" lang="en-US" sz="1400" spc="-1" strike="noStrike">
              <a:solidFill>
                <a:srgbClr val="ffffff"/>
              </a:solidFill>
              <a:latin typeface="Times New Roman"/>
            </a:endParaRPr>
          </a:p>
        </p:txBody>
      </p:sp>
      <p:sp>
        <p:nvSpPr>
          <p:cNvPr id="136" name=""/>
          <p:cNvSpPr/>
          <p:nvPr/>
        </p:nvSpPr>
        <p:spPr>
          <a:xfrm>
            <a:off x="651960" y="3309840"/>
            <a:ext cx="198072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ment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a:t>
            </a:r>
            <a:endParaRPr b="0" lang="en-US" sz="1400" spc="-1" strike="noStrike">
              <a:solidFill>
                <a:srgbClr val="ffffff"/>
              </a:solidFill>
              <a:latin typeface="Times New Roman"/>
            </a:endParaRPr>
          </a:p>
        </p:txBody>
      </p:sp>
      <p:sp>
        <p:nvSpPr>
          <p:cNvPr id="137" name=""/>
          <p:cNvSpPr/>
          <p:nvPr/>
        </p:nvSpPr>
        <p:spPr>
          <a:xfrm>
            <a:off x="663120" y="3851280"/>
            <a:ext cx="190152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8" name=""/>
          <p:cNvSpPr/>
          <p:nvPr/>
        </p:nvSpPr>
        <p:spPr>
          <a:xfrm>
            <a:off x="651960" y="4672080"/>
            <a:ext cx="197316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p:txBody>
      </p:sp>
      <p:sp>
        <p:nvSpPr>
          <p:cNvPr id="139" name=""/>
          <p:cNvSpPr/>
          <p:nvPr/>
        </p:nvSpPr>
        <p:spPr>
          <a:xfrm>
            <a:off x="3090960" y="2879640"/>
            <a:ext cx="1435320" cy="1319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p:txBody>
      </p:sp>
      <p:sp>
        <p:nvSpPr>
          <p:cNvPr id="140" name=""/>
          <p:cNvSpPr/>
          <p:nvPr/>
        </p:nvSpPr>
        <p:spPr>
          <a:xfrm>
            <a:off x="1322280" y="5135400"/>
            <a:ext cx="333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0200" y="2562120"/>
            <a:ext cx="33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657680" y="2571840"/>
            <a:ext cx="0" cy="25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11440" y="2687760"/>
            <a:ext cx="33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92360" y="32925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43360" y="268920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43360" y="299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 name=""/>
          <p:cNvGrpSpPr/>
          <p:nvPr/>
        </p:nvGrpSpPr>
        <p:grpSpPr>
          <a:xfrm>
            <a:off x="4691160" y="3171960"/>
            <a:ext cx="244440" cy="96840"/>
            <a:chOff x="4691160" y="3171960"/>
            <a:chExt cx="244440" cy="96840"/>
          </a:xfrm>
        </p:grpSpPr>
        <p:sp>
          <p:nvSpPr>
            <p:cNvPr id="148" name=""/>
            <p:cNvSpPr/>
            <p:nvPr/>
          </p:nvSpPr>
          <p:spPr>
            <a:xfrm>
              <a:off x="4691160" y="317196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691160" y="326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045120" y="3189240"/>
            <a:ext cx="309600" cy="1800"/>
          </a:xfrm>
          <a:prstGeom prst="line">
            <a:avLst/>
          </a:prstGeom>
          <a:ln w="12600">
            <a:solidFill>
              <a:srgbClr val="ffffff"/>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1" name=""/>
          <p:cNvSpPr/>
          <p:nvPr/>
        </p:nvSpPr>
        <p:spPr>
          <a:xfrm>
            <a:off x="6834240" y="338148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6345360" y="2813040"/>
            <a:ext cx="1380960" cy="618840"/>
            <a:chOff x="6345360" y="2813040"/>
            <a:chExt cx="1380960" cy="618840"/>
          </a:xfrm>
        </p:grpSpPr>
        <p:sp>
          <p:nvSpPr>
            <p:cNvPr id="153" name=""/>
            <p:cNvSpPr/>
            <p:nvPr/>
          </p:nvSpPr>
          <p:spPr>
            <a:xfrm>
              <a:off x="6345360" y="2827440"/>
              <a:ext cx="1380960" cy="56808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35000" y="2813040"/>
              <a:ext cx="1206720" cy="6188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 server</a:t>
              </a:r>
              <a:endParaRPr b="0" lang="en-US" sz="1400" spc="-1" strike="noStrike">
                <a:solidFill>
                  <a:srgbClr val="ffffff"/>
                </a:solidFill>
                <a:latin typeface="Times New Roman"/>
              </a:endParaRPr>
            </a:p>
          </p:txBody>
        </p:sp>
      </p:grpSp>
      <p:sp>
        <p:nvSpPr>
          <p:cNvPr id="155" name=""/>
          <p:cNvSpPr/>
          <p:nvPr/>
        </p:nvSpPr>
        <p:spPr>
          <a:xfrm>
            <a:off x="6381720" y="36259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722280" y="359568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157" name=""/>
          <p:cNvSpPr/>
          <p:nvPr/>
        </p:nvSpPr>
        <p:spPr>
          <a:xfrm>
            <a:off x="5349960" y="2405160"/>
            <a:ext cx="347400" cy="341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29200" y="2790720"/>
            <a:ext cx="1003320" cy="1970280"/>
          </a:xfrm>
          <a:custGeom>
            <a:avLst/>
            <a:gdLst/>
            <a:ahLst/>
            <a:rect l="l" t="t" r="r" b="b"/>
            <a:pathLst>
              <a:path w="632" h="1241">
                <a:moveTo>
                  <a:pt x="124" y="487"/>
                </a:moveTo>
                <a:lnTo>
                  <a:pt x="124" y="598"/>
                </a:lnTo>
                <a:lnTo>
                  <a:pt x="206" y="1240"/>
                </a:lnTo>
                <a:lnTo>
                  <a:pt x="427" y="1240"/>
                </a:lnTo>
                <a:lnTo>
                  <a:pt x="506" y="606"/>
                </a:lnTo>
                <a:lnTo>
                  <a:pt x="506" y="487"/>
                </a:lnTo>
                <a:lnTo>
                  <a:pt x="537" y="487"/>
                </a:lnTo>
                <a:lnTo>
                  <a:pt x="537" y="598"/>
                </a:lnTo>
                <a:lnTo>
                  <a:pt x="631" y="598"/>
                </a:lnTo>
                <a:lnTo>
                  <a:pt x="631" y="0"/>
                </a:lnTo>
                <a:lnTo>
                  <a:pt x="0" y="0"/>
                </a:lnTo>
                <a:lnTo>
                  <a:pt x="0" y="593"/>
                </a:lnTo>
                <a:lnTo>
                  <a:pt x="90" y="593"/>
                </a:lnTo>
                <a:lnTo>
                  <a:pt x="90" y="487"/>
                </a:lnTo>
                <a:lnTo>
                  <a:pt x="124" y="4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917960" y="2878200"/>
            <a:ext cx="1233720" cy="669960"/>
          </a:xfrm>
          <a:prstGeom prst="rect">
            <a:avLst/>
          </a:prstGeom>
          <a:noFill/>
          <a:ln w="0">
            <a:noFill/>
          </a:ln>
        </p:spPr>
        <p:style>
          <a:lnRef idx="0"/>
          <a:fillRef idx="0"/>
          <a:effectRef idx="0"/>
          <a:fontRef idx="minor"/>
        </p:style>
        <p:txBody>
          <a:bodyPr wrap="none" lIns="155520" rIns="155520" tIns="76320" bIns="76320" anchor="t">
            <a:spAutoFit/>
          </a:bodyPr>
          <a:p>
            <a:pPr algn="ctr">
              <a:lnSpc>
                <a:spcPct val="85000"/>
              </a:lnSpc>
              <a:tabLst>
                <a:tab algn="l" pos="0"/>
                <a:tab algn="l" pos="2519280"/>
                <a:tab algn="l" pos="5038560"/>
                <a:tab algn="l" pos="7558200"/>
                <a:tab algn="l" pos="100774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CERN</a:t>
            </a:r>
            <a:endParaRPr b="0" lang="en-US" sz="14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Researcher</a:t>
            </a:r>
            <a:endParaRPr b="0" lang="en-US" sz="1400" spc="-1" strike="noStrike">
              <a:solidFill>
                <a:srgbClr val="ffffff"/>
              </a:solidFill>
              <a:latin typeface="Times New Roman"/>
            </a:endParaRPr>
          </a:p>
        </p:txBody>
      </p:sp>
      <p:sp>
        <p:nvSpPr>
          <p:cNvPr id="160" name=""/>
          <p:cNvSpPr/>
          <p:nvPr/>
        </p:nvSpPr>
        <p:spPr>
          <a:xfrm rot="13260000">
            <a:off x="3458880" y="2559600"/>
            <a:ext cx="3381840" cy="3562560"/>
          </a:xfrm>
          <a:custGeom>
            <a:avLst/>
            <a:gdLst/>
            <a:ahLst/>
            <a:rect l="l" t="t" r="r" b="b"/>
            <a:pathLst>
              <a:path stroke="0" w="21600" h="21600">
                <a:moveTo>
                  <a:pt x="3323" y="18593"/>
                </a:moveTo>
                <a:arcTo wR="10800" hR="10800" stAng="8028821" swAng="9518468"/>
                <a:lnTo>
                  <a:pt x="10800" y="10800"/>
                </a:lnTo>
                <a:close/>
              </a:path>
              <a:path fill="none" w="21600" h="21600">
                <a:moveTo>
                  <a:pt x="3323" y="18593"/>
                </a:moveTo>
                <a:arcTo wR="10800" hR="10800" stAng="8028821" swAng="95184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3260000">
            <a:off x="3317400" y="2330280"/>
            <a:ext cx="3699000" cy="3894480"/>
          </a:xfrm>
          <a:custGeom>
            <a:avLst/>
            <a:gdLst/>
            <a:ahLst/>
            <a:rect l="l" t="t" r="r" b="b"/>
            <a:pathLst>
              <a:path stroke="0" w="21600" h="21600">
                <a:moveTo>
                  <a:pt x="3206" y="18479"/>
                </a:moveTo>
                <a:arcTo wR="10800" hR="10800" stAng="8080733" swAng="9532929"/>
                <a:lnTo>
                  <a:pt x="10800" y="10800"/>
                </a:lnTo>
                <a:close/>
              </a:path>
              <a:path fill="none" w="21600" h="21600">
                <a:moveTo>
                  <a:pt x="3206" y="18479"/>
                </a:moveTo>
                <a:arcTo wR="10800" hR="10800" stAng="8080733" swAng="9532929"/>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572" name="PlaceHolder 2"/>
          <p:cNvSpPr>
            <a:spLocks noGrp="1"/>
          </p:cNvSpPr>
          <p:nvPr>
            <p:ph/>
          </p:nvPr>
        </p:nvSpPr>
        <p:spPr>
          <a:xfrm>
            <a:off x="923400" y="1782720"/>
            <a:ext cx="75344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The WWW did not have performance as one of it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quality goals.  This is unusual for a</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system.  What, if anything, does thi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y about the future of compu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quirements/Qualitie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94960"/>
            <a:ext cx="7301160" cy="41482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access across network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 heterogeneous computing environ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centralized control</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ccess to existing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 data analysi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live li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Non-Requirement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 and multimedi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link typ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histor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enforce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up form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rowth of WWW</a:t>
            </a:r>
            <a:endParaRPr b="0" lang="en-US" sz="3600" spc="-1" strike="noStrike">
              <a:solidFill>
                <a:srgbClr val="ffffff"/>
              </a:solidFill>
              <a:latin typeface="Century Schoolbook"/>
            </a:endParaRPr>
          </a:p>
        </p:txBody>
      </p:sp>
      <p:sp>
        <p:nvSpPr>
          <p:cNvPr id="167" name="PlaceHolder 2"/>
          <p:cNvSpPr>
            <a:spLocks noGrp="1"/>
          </p:cNvSpPr>
          <p:nvPr>
            <p:ph/>
          </p:nvPr>
        </p:nvSpPr>
        <p:spPr>
          <a:xfrm>
            <a:off x="910800" y="1858680"/>
            <a:ext cx="7775640" cy="4414680"/>
          </a:xfrm>
          <a:prstGeom prst="rect">
            <a:avLst/>
          </a:prstGeom>
          <a:noFill/>
          <a:ln w="0">
            <a:noFill/>
          </a:ln>
        </p:spPr>
        <p:txBody>
          <a:bodyPr lIns="0" rIns="0" tIns="0" bIns="0" anchor="t">
            <a:normAutofit/>
          </a:bodyPr>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 of</a:t>
            </a:r>
            <a:r>
              <a:rPr b="1" lang="en-US" sz="2000" spc="-1" strike="noStrike">
                <a:solidFill>
                  <a:srgbClr val="ffffff"/>
                </a:solidFill>
                <a:latin typeface="Arial"/>
              </a:rPr>
              <a:t>	</a:t>
            </a:r>
            <a:r>
              <a:rPr b="1" lang="en-US" sz="2000" spc="-1" strike="noStrike">
                <a:solidFill>
                  <a:srgbClr val="ffffff"/>
                </a:solidFill>
                <a:latin typeface="Arial"/>
              </a:rPr>
              <a:t>Percent of</a:t>
            </a:r>
            <a:r>
              <a:rPr b="1" lang="en-US" sz="2000" spc="-1" strike="noStrike">
                <a:solidFill>
                  <a:srgbClr val="ffffff"/>
                </a:solidFill>
                <a:latin typeface="Arial"/>
              </a:rPr>
              <a:t>	</a:t>
            </a:r>
            <a:r>
              <a:rPr b="1" lang="en-US" sz="2000" spc="-1" strike="noStrike">
                <a:solidFill>
                  <a:srgbClr val="ffffff"/>
                </a:solidFill>
                <a:latin typeface="Arial"/>
              </a:rPr>
              <a:t>Hosts p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Month</a:t>
            </a:r>
            <a:r>
              <a:rPr b="1" lang="en-US" sz="2000" spc="-1" strike="noStrike">
                <a:solidFill>
                  <a:srgbClr val="ffffff"/>
                </a:solidFill>
                <a:latin typeface="Arial"/>
              </a:rPr>
              <a:t>	</a:t>
            </a:r>
            <a:r>
              <a:rPr b="1" lang="en-US" sz="2000" spc="-1" strike="noStrike">
                <a:solidFill>
                  <a:srgbClr val="ffffff"/>
                </a:solidFill>
                <a:latin typeface="Arial"/>
              </a:rPr>
              <a:t>Web sites</a:t>
            </a:r>
            <a:r>
              <a:rPr b="1" lang="en-US" sz="2000" spc="-1" strike="noStrike">
                <a:solidFill>
                  <a:srgbClr val="ffffff"/>
                </a:solidFill>
                <a:latin typeface="Arial"/>
              </a:rPr>
              <a:t>	</a:t>
            </a:r>
            <a:r>
              <a:rPr b="1" lang="en-US" sz="2000" spc="-1" strike="noStrike">
                <a:solidFill>
                  <a:srgbClr val="ffffff"/>
                </a:solidFill>
                <a:latin typeface="Arial"/>
              </a:rPr>
              <a:t>.com sites</a:t>
            </a:r>
            <a:r>
              <a:rPr b="1" lang="en-US" sz="2000" spc="-1" strike="noStrike">
                <a:solidFill>
                  <a:srgbClr val="ffffff"/>
                </a:solidFill>
                <a:latin typeface="Arial"/>
              </a:rPr>
              <a:t>	</a:t>
            </a:r>
            <a:r>
              <a:rPr b="1" lang="en-US" sz="2000" spc="-1" strike="noStrike">
                <a:solidFill>
                  <a:srgbClr val="ffffff"/>
                </a:solidFill>
                <a:latin typeface="Arial"/>
              </a:rPr>
              <a:t>Web serv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3</a:t>
            </a:r>
            <a:r>
              <a:rPr b="1" lang="en-US" sz="2000" spc="-1" strike="noStrike">
                <a:solidFill>
                  <a:srgbClr val="ffffff"/>
                </a:solidFill>
                <a:latin typeface="Arial"/>
              </a:rPr>
              <a:t>	</a:t>
            </a:r>
            <a:r>
              <a:rPr b="1" lang="en-US" sz="2000" spc="-1" strike="noStrike">
                <a:solidFill>
                  <a:srgbClr val="ffffff"/>
                </a:solidFill>
                <a:latin typeface="Arial"/>
              </a:rPr>
              <a:t>130</a:t>
            </a:r>
            <a:r>
              <a:rPr b="1" lang="en-US" sz="2000" spc="-1" strike="noStrike">
                <a:solidFill>
                  <a:srgbClr val="ffffff"/>
                </a:solidFill>
                <a:latin typeface="Arial"/>
              </a:rPr>
              <a:t>	</a:t>
            </a:r>
            <a:r>
              <a:rPr b="1" lang="en-US" sz="2000" spc="-1" strike="noStrike">
                <a:solidFill>
                  <a:srgbClr val="ffffff"/>
                </a:solidFill>
                <a:latin typeface="Arial"/>
              </a:rPr>
              <a:t>1.5</a:t>
            </a:r>
            <a:r>
              <a:rPr b="1" lang="en-US" sz="2000" spc="-1" strike="noStrike">
                <a:solidFill>
                  <a:srgbClr val="ffffff"/>
                </a:solidFill>
                <a:latin typeface="Arial"/>
              </a:rPr>
              <a:t>	</a:t>
            </a:r>
            <a:r>
              <a:rPr b="1" lang="en-US" sz="2000" spc="-1" strike="noStrike">
                <a:solidFill>
                  <a:srgbClr val="ffffff"/>
                </a:solidFill>
                <a:latin typeface="Arial"/>
              </a:rPr>
              <a:t>13,00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3</a:t>
            </a:r>
            <a:r>
              <a:rPr b="1" lang="en-US" sz="2000" spc="-1" strike="noStrike">
                <a:solidFill>
                  <a:srgbClr val="ffffff"/>
                </a:solidFill>
                <a:latin typeface="Arial"/>
              </a:rPr>
              <a:t>	</a:t>
            </a:r>
            <a:r>
              <a:rPr b="1" lang="en-US" sz="2000" spc="-1" strike="noStrike">
                <a:solidFill>
                  <a:srgbClr val="ffffff"/>
                </a:solidFill>
                <a:latin typeface="Arial"/>
              </a:rPr>
              <a:t>623</a:t>
            </a:r>
            <a:r>
              <a:rPr b="1" lang="en-US" sz="2000" spc="-1" strike="noStrike">
                <a:solidFill>
                  <a:srgbClr val="ffffff"/>
                </a:solidFill>
                <a:latin typeface="Arial"/>
              </a:rPr>
              <a:t>	</a:t>
            </a:r>
            <a:r>
              <a:rPr b="1" lang="en-US" sz="2000" spc="-1" strike="noStrike">
                <a:solidFill>
                  <a:srgbClr val="ffffff"/>
                </a:solidFill>
                <a:latin typeface="Arial"/>
              </a:rPr>
              <a:t>4.6</a:t>
            </a:r>
            <a:r>
              <a:rPr b="1" lang="en-US" sz="2000" spc="-1" strike="noStrike">
                <a:solidFill>
                  <a:srgbClr val="ffffff"/>
                </a:solidFill>
                <a:latin typeface="Arial"/>
              </a:rPr>
              <a:t>	</a:t>
            </a:r>
            <a:r>
              <a:rPr b="1" lang="en-US" sz="2000" spc="-1" strike="noStrike">
                <a:solidFill>
                  <a:srgbClr val="ffffff"/>
                </a:solidFill>
                <a:latin typeface="Arial"/>
              </a:rPr>
              <a:t>  3,47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4</a:t>
            </a:r>
            <a:r>
              <a:rPr b="1" lang="en-US" sz="2000" spc="-1" strike="noStrike">
                <a:solidFill>
                  <a:srgbClr val="ffffff"/>
                </a:solidFill>
                <a:latin typeface="Arial"/>
              </a:rPr>
              <a:t>	</a:t>
            </a:r>
            <a:r>
              <a:rPr b="1" lang="en-US" sz="2000" spc="-1" strike="noStrike">
                <a:solidFill>
                  <a:srgbClr val="ffffff"/>
                </a:solidFill>
                <a:latin typeface="Arial"/>
              </a:rPr>
              <a:t>2,738</a:t>
            </a:r>
            <a:r>
              <a:rPr b="1" lang="en-US" sz="2000" spc="-1" strike="noStrike">
                <a:solidFill>
                  <a:srgbClr val="ffffff"/>
                </a:solidFill>
                <a:latin typeface="Arial"/>
              </a:rPr>
              <a:t>	</a:t>
            </a:r>
            <a:r>
              <a:rPr b="1" lang="en-US" sz="2000" spc="-1" strike="noStrike">
                <a:solidFill>
                  <a:srgbClr val="ffffff"/>
                </a:solidFill>
                <a:latin typeface="Arial"/>
              </a:rPr>
              <a:t>13.5</a:t>
            </a:r>
            <a:r>
              <a:rPr b="1" lang="en-US" sz="2000" spc="-1" strike="noStrike">
                <a:solidFill>
                  <a:srgbClr val="ffffff"/>
                </a:solidFill>
                <a:latin typeface="Arial"/>
              </a:rPr>
              <a:t>	</a:t>
            </a:r>
            <a:r>
              <a:rPr b="1" lang="en-US" sz="2000" spc="-1" strike="noStrike">
                <a:solidFill>
                  <a:srgbClr val="ffffff"/>
                </a:solidFill>
                <a:latin typeface="Arial"/>
              </a:rPr>
              <a:t>  1,09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4</a:t>
            </a:r>
            <a:r>
              <a:rPr b="1" lang="en-US" sz="2000" spc="-1" strike="noStrike">
                <a:solidFill>
                  <a:srgbClr val="ffffff"/>
                </a:solidFill>
                <a:latin typeface="Arial"/>
              </a:rPr>
              <a:t>	</a:t>
            </a:r>
            <a:r>
              <a:rPr b="1" lang="en-US" sz="2000" spc="-1" strike="noStrike">
                <a:solidFill>
                  <a:srgbClr val="ffffff"/>
                </a:solidFill>
                <a:latin typeface="Arial"/>
              </a:rPr>
              <a:t>10,022</a:t>
            </a:r>
            <a:r>
              <a:rPr b="1" lang="en-US" sz="2000" spc="-1" strike="noStrike">
                <a:solidFill>
                  <a:srgbClr val="ffffff"/>
                </a:solidFill>
                <a:latin typeface="Arial"/>
              </a:rPr>
              <a:t>	</a:t>
            </a:r>
            <a:r>
              <a:rPr b="1" lang="en-US" sz="2000" spc="-1" strike="noStrike">
                <a:solidFill>
                  <a:srgbClr val="ffffff"/>
                </a:solidFill>
                <a:latin typeface="Arial"/>
              </a:rPr>
              <a:t>18.3</a:t>
            </a:r>
            <a:r>
              <a:rPr b="1" lang="en-US" sz="2000" spc="-1" strike="noStrike">
                <a:solidFill>
                  <a:srgbClr val="ffffff"/>
                </a:solidFill>
                <a:latin typeface="Arial"/>
              </a:rPr>
              <a:t>	</a:t>
            </a:r>
            <a:r>
              <a:rPr b="1" lang="en-US" sz="2000" spc="-1" strike="noStrike">
                <a:solidFill>
                  <a:srgbClr val="ffffff"/>
                </a:solidFill>
                <a:latin typeface="Arial"/>
              </a:rPr>
              <a:t>     45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5</a:t>
            </a:r>
            <a:r>
              <a:rPr b="1" lang="en-US" sz="2000" spc="-1" strike="noStrike">
                <a:solidFill>
                  <a:srgbClr val="ffffff"/>
                </a:solidFill>
                <a:latin typeface="Arial"/>
              </a:rPr>
              <a:t>	</a:t>
            </a:r>
            <a:r>
              <a:rPr b="1" lang="en-US" sz="2000" spc="-1" strike="noStrike">
                <a:solidFill>
                  <a:srgbClr val="ffffff"/>
                </a:solidFill>
                <a:latin typeface="Arial"/>
              </a:rPr>
              <a:t>23,500</a:t>
            </a:r>
            <a:r>
              <a:rPr b="1" lang="en-US" sz="2000" spc="-1" strike="noStrike">
                <a:solidFill>
                  <a:srgbClr val="ffffff"/>
                </a:solidFill>
                <a:latin typeface="Arial"/>
              </a:rPr>
              <a:t>	</a:t>
            </a:r>
            <a:r>
              <a:rPr b="1" lang="en-US" sz="2000" spc="-1" strike="noStrike">
                <a:solidFill>
                  <a:srgbClr val="ffffff"/>
                </a:solidFill>
                <a:latin typeface="Arial"/>
              </a:rPr>
              <a:t>31.3</a:t>
            </a:r>
            <a:r>
              <a:rPr b="1" lang="en-US" sz="2000" spc="-1" strike="noStrike">
                <a:solidFill>
                  <a:srgbClr val="ffffff"/>
                </a:solidFill>
                <a:latin typeface="Arial"/>
              </a:rPr>
              <a:t>	</a:t>
            </a:r>
            <a:r>
              <a:rPr b="1" lang="en-US" sz="2000" spc="-1" strike="noStrike">
                <a:solidFill>
                  <a:srgbClr val="ffffff"/>
                </a:solidFill>
                <a:latin typeface="Arial"/>
              </a:rPr>
              <a:t>     27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6</a:t>
            </a:r>
            <a:r>
              <a:rPr b="1" lang="en-US" sz="2000" spc="-1" strike="noStrike">
                <a:solidFill>
                  <a:srgbClr val="ffffff"/>
                </a:solidFill>
                <a:latin typeface="Arial"/>
              </a:rPr>
              <a:t>	</a:t>
            </a:r>
            <a:r>
              <a:rPr b="1" lang="en-US" sz="2000" spc="-1" strike="noStrike">
                <a:solidFill>
                  <a:srgbClr val="ffffff"/>
                </a:solidFill>
                <a:latin typeface="Arial"/>
              </a:rPr>
              <a:t>100,000</a:t>
            </a:r>
            <a:r>
              <a:rPr b="1" lang="en-US" sz="2000" spc="-1" strike="noStrike">
                <a:solidFill>
                  <a:srgbClr val="ffffff"/>
                </a:solidFill>
                <a:latin typeface="Arial"/>
              </a:rPr>
              <a:t>	</a:t>
            </a:r>
            <a:r>
              <a:rPr b="1" lang="en-US" sz="2000" spc="-1" strike="noStrike">
                <a:solidFill>
                  <a:srgbClr val="ffffff"/>
                </a:solidFill>
                <a:latin typeface="Arial"/>
              </a:rPr>
              <a:t>50.0</a:t>
            </a:r>
            <a:r>
              <a:rPr b="1" lang="en-US" sz="2000" spc="-1" strike="noStrike">
                <a:solidFill>
                  <a:srgbClr val="ffffff"/>
                </a:solidFill>
                <a:latin typeface="Arial"/>
              </a:rPr>
              <a:t>	</a:t>
            </a:r>
            <a:r>
              <a:rPr b="1" lang="en-US" sz="2000" spc="-1" strike="noStrike">
                <a:solidFill>
                  <a:srgbClr val="ffffff"/>
                </a:solidFill>
                <a:latin typeface="Arial"/>
              </a:rPr>
              <a:t>      94</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6</a:t>
            </a:r>
            <a:r>
              <a:rPr b="1" lang="en-US" sz="2000" spc="-1" strike="noStrike">
                <a:solidFill>
                  <a:srgbClr val="ffffff"/>
                </a:solidFill>
                <a:latin typeface="Arial"/>
              </a:rPr>
              <a:t>	</a:t>
            </a:r>
            <a:r>
              <a:rPr b="1" lang="en-US" sz="2000" spc="-1" strike="noStrike">
                <a:solidFill>
                  <a:srgbClr val="ffffff"/>
                </a:solidFill>
                <a:latin typeface="Arial"/>
              </a:rPr>
              <a:t>230,000 (est.)</a:t>
            </a:r>
            <a:r>
              <a:rPr b="1" lang="en-US" sz="2000" spc="-1" strike="noStrike">
                <a:solidFill>
                  <a:srgbClr val="ffffff"/>
                </a:solidFill>
                <a:latin typeface="Arial"/>
              </a:rPr>
              <a:t>	</a:t>
            </a:r>
            <a:r>
              <a:rPr b="1" lang="en-US" sz="2000" spc="-1" strike="noStrike">
                <a:solidFill>
                  <a:srgbClr val="ffffff"/>
                </a:solidFill>
                <a:latin typeface="Arial"/>
              </a:rPr>
              <a:t>68.0</a:t>
            </a:r>
            <a:r>
              <a:rPr b="1" lang="en-US" sz="2000" spc="-1" strike="noStrike">
                <a:solidFill>
                  <a:srgbClr val="ffffff"/>
                </a:solidFill>
                <a:latin typeface="Arial"/>
              </a:rPr>
              <a:t>	</a:t>
            </a:r>
            <a:r>
              <a:rPr b="1" lang="en-US" sz="2000" spc="-1" strike="noStrike">
                <a:solidFill>
                  <a:srgbClr val="ffffff"/>
                </a:solidFill>
                <a:latin typeface="Arial"/>
              </a:rPr>
              <a:t>      4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7</a:t>
            </a:r>
            <a:r>
              <a:rPr b="1" lang="en-US" sz="2000" spc="-1" strike="noStrike">
                <a:solidFill>
                  <a:srgbClr val="ffffff"/>
                </a:solidFill>
                <a:latin typeface="Arial"/>
              </a:rPr>
              <a:t>	</a:t>
            </a:r>
            <a:r>
              <a:rPr b="1" lang="en-US" sz="2000" spc="-1" strike="noStrike">
                <a:solidFill>
                  <a:srgbClr val="ffffff"/>
                </a:solidFill>
                <a:latin typeface="Arial"/>
              </a:rPr>
              <a:t>650,000 (est.)</a:t>
            </a:r>
            <a:r>
              <a:rPr b="1" lang="en-US" sz="2000" spc="-1" strike="noStrike">
                <a:solidFill>
                  <a:srgbClr val="ffffff"/>
                </a:solidFill>
                <a:latin typeface="Arial"/>
              </a:rPr>
              <a:t>	</a:t>
            </a:r>
            <a:r>
              <a:rPr b="1" lang="en-US" sz="2000" spc="-1" strike="noStrike">
                <a:solidFill>
                  <a:srgbClr val="ffffff"/>
                </a:solidFill>
                <a:latin typeface="Arial"/>
              </a:rPr>
              <a:t>62.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NA</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Come and Go</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success of the Web came new requirements.  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cess: cyberpor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 content labeling (P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ould have been the fate of this requirement in the original propos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046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Architectural Approach:</a:t>
            </a:r>
            <a:br>
              <a:rPr sz="3600"/>
            </a:br>
            <a:r>
              <a:rPr b="0" lang="en-US" sz="3600" spc="-1" strike="noStrike">
                <a:solidFill>
                  <a:srgbClr val="ffffff"/>
                </a:solidFill>
                <a:latin typeface="Century Schoolbook"/>
              </a:rPr>
              <a:t>Client-Server</a:t>
            </a:r>
            <a:endParaRPr b="0" lang="en-US" sz="3600" spc="-1" strike="noStrike">
              <a:solidFill>
                <a:srgbClr val="ffffff"/>
              </a:solidFill>
              <a:latin typeface="Century Schoolbook"/>
            </a:endParaRPr>
          </a:p>
        </p:txBody>
      </p:sp>
      <p:sp>
        <p:nvSpPr>
          <p:cNvPr id="171" name=""/>
          <p:cNvSpPr/>
          <p:nvPr/>
        </p:nvSpPr>
        <p:spPr>
          <a:xfrm>
            <a:off x="825480" y="4792680"/>
            <a:ext cx="66927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WWW provides protocol support and masks platform detai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access is achieved by building WWW on top of Internet.</a:t>
            </a:r>
            <a:endParaRPr b="0" lang="en-US" sz="1800" spc="-1" strike="noStrike">
              <a:solidFill>
                <a:srgbClr val="ffffff"/>
              </a:solidFill>
              <a:latin typeface="Times New Roman"/>
            </a:endParaRPr>
          </a:p>
        </p:txBody>
      </p:sp>
      <p:sp>
        <p:nvSpPr>
          <p:cNvPr id="172" name=""/>
          <p:cNvSpPr/>
          <p:nvPr/>
        </p:nvSpPr>
        <p:spPr>
          <a:xfrm>
            <a:off x="368280" y="3089160"/>
            <a:ext cx="7837560" cy="2125800"/>
          </a:xfrm>
          <a:custGeom>
            <a:avLst/>
            <a:gdLst/>
            <a:ahLst/>
            <a:rect l="l" t="t" r="r" b="b"/>
            <a:pathLst>
              <a:path w="4937" h="1339">
                <a:moveTo>
                  <a:pt x="456" y="321"/>
                </a:moveTo>
                <a:lnTo>
                  <a:pt x="0" y="1011"/>
                </a:lnTo>
                <a:lnTo>
                  <a:pt x="1089" y="1011"/>
                </a:lnTo>
                <a:lnTo>
                  <a:pt x="2179" y="1011"/>
                </a:lnTo>
                <a:lnTo>
                  <a:pt x="3269" y="1011"/>
                </a:lnTo>
                <a:lnTo>
                  <a:pt x="4361" y="1011"/>
                </a:lnTo>
                <a:lnTo>
                  <a:pt x="4208" y="1338"/>
                </a:lnTo>
                <a:lnTo>
                  <a:pt x="4936" y="715"/>
                </a:lnTo>
                <a:lnTo>
                  <a:pt x="4874" y="0"/>
                </a:lnTo>
                <a:lnTo>
                  <a:pt x="4712" y="321"/>
                </a:lnTo>
                <a:lnTo>
                  <a:pt x="3647" y="321"/>
                </a:lnTo>
                <a:lnTo>
                  <a:pt x="2584" y="321"/>
                </a:lnTo>
                <a:lnTo>
                  <a:pt x="1519" y="321"/>
                </a:lnTo>
                <a:lnTo>
                  <a:pt x="456"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04052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3100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743160" y="2557440"/>
            <a:ext cx="91620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sumer</a:t>
            </a:r>
            <a:endParaRPr b="0" lang="en-US" sz="1200" spc="-1" strike="noStrike">
              <a:solidFill>
                <a:srgbClr val="ffffff"/>
              </a:solidFill>
              <a:latin typeface="Times New Roman"/>
            </a:endParaRPr>
          </a:p>
        </p:txBody>
      </p:sp>
      <p:sp>
        <p:nvSpPr>
          <p:cNvPr id="176" name=""/>
          <p:cNvSpPr/>
          <p:nvPr/>
        </p:nvSpPr>
        <p:spPr>
          <a:xfrm>
            <a:off x="127476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04148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987840" y="2557440"/>
            <a:ext cx="84888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producer</a:t>
            </a:r>
            <a:endParaRPr b="0" lang="en-US" sz="1200" spc="-1" strike="noStrike">
              <a:solidFill>
                <a:srgbClr val="ffffff"/>
              </a:solidFill>
              <a:latin typeface="Times New Roman"/>
            </a:endParaRPr>
          </a:p>
        </p:txBody>
      </p:sp>
      <p:grpSp>
        <p:nvGrpSpPr>
          <p:cNvPr id="179" name=""/>
          <p:cNvGrpSpPr/>
          <p:nvPr/>
        </p:nvGrpSpPr>
        <p:grpSpPr>
          <a:xfrm>
            <a:off x="2666520" y="2685960"/>
            <a:ext cx="1094760" cy="609840"/>
            <a:chOff x="2666520" y="2685960"/>
            <a:chExt cx="1094760" cy="609840"/>
          </a:xfrm>
        </p:grpSpPr>
        <p:sp>
          <p:nvSpPr>
            <p:cNvPr id="180" name=""/>
            <p:cNvSpPr/>
            <p:nvPr/>
          </p:nvSpPr>
          <p:spPr>
            <a:xfrm>
              <a:off x="2676600" y="2685960"/>
              <a:ext cx="107460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666520" y="278604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grpSp>
        <p:nvGrpSpPr>
          <p:cNvPr id="182" name=""/>
          <p:cNvGrpSpPr/>
          <p:nvPr/>
        </p:nvGrpSpPr>
        <p:grpSpPr>
          <a:xfrm>
            <a:off x="1788840" y="2685960"/>
            <a:ext cx="599400" cy="609840"/>
            <a:chOff x="1788840" y="2685960"/>
            <a:chExt cx="599400" cy="609840"/>
          </a:xfrm>
        </p:grpSpPr>
        <p:sp>
          <p:nvSpPr>
            <p:cNvPr id="183" name=""/>
            <p:cNvSpPr/>
            <p:nvPr/>
          </p:nvSpPr>
          <p:spPr>
            <a:xfrm>
              <a:off x="178920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88840" y="2760840"/>
              <a:ext cx="5994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itor</a:t>
              </a:r>
              <a:endParaRPr b="0" lang="en-US" sz="1200" spc="-1" strike="noStrike">
                <a:solidFill>
                  <a:srgbClr val="ffffff"/>
                </a:solidFill>
                <a:latin typeface="Times New Roman"/>
              </a:endParaRPr>
            </a:p>
          </p:txBody>
        </p:sp>
      </p:grpSp>
      <p:grpSp>
        <p:nvGrpSpPr>
          <p:cNvPr id="185" name=""/>
          <p:cNvGrpSpPr/>
          <p:nvPr/>
        </p:nvGrpSpPr>
        <p:grpSpPr>
          <a:xfrm>
            <a:off x="6144120" y="2685960"/>
            <a:ext cx="727560" cy="609840"/>
            <a:chOff x="6144120" y="2685960"/>
            <a:chExt cx="727560" cy="609840"/>
          </a:xfrm>
        </p:grpSpPr>
        <p:sp>
          <p:nvSpPr>
            <p:cNvPr id="186" name=""/>
            <p:cNvSpPr/>
            <p:nvPr/>
          </p:nvSpPr>
          <p:spPr>
            <a:xfrm>
              <a:off x="620856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144120" y="2760840"/>
              <a:ext cx="7275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wser</a:t>
              </a:r>
              <a:endParaRPr b="0" lang="en-US" sz="1200" spc="-1" strike="noStrike">
                <a:solidFill>
                  <a:srgbClr val="ffffff"/>
                </a:solidFill>
                <a:latin typeface="Times New Roman"/>
              </a:endParaRPr>
            </a:p>
          </p:txBody>
        </p:sp>
      </p:grpSp>
      <p:grpSp>
        <p:nvGrpSpPr>
          <p:cNvPr id="188" name=""/>
          <p:cNvGrpSpPr/>
          <p:nvPr/>
        </p:nvGrpSpPr>
        <p:grpSpPr>
          <a:xfrm>
            <a:off x="4844880" y="2685960"/>
            <a:ext cx="1074960" cy="609840"/>
            <a:chOff x="4844880" y="2685960"/>
            <a:chExt cx="1074960" cy="609840"/>
          </a:xfrm>
        </p:grpSpPr>
        <p:sp>
          <p:nvSpPr>
            <p:cNvPr id="189" name=""/>
            <p:cNvSpPr/>
            <p:nvPr/>
          </p:nvSpPr>
          <p:spPr>
            <a:xfrm>
              <a:off x="4844880" y="2685960"/>
              <a:ext cx="107496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865760" y="27860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ent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sp>
        <p:nvSpPr>
          <p:cNvPr id="191" name=""/>
          <p:cNvSpPr/>
          <p:nvPr/>
        </p:nvSpPr>
        <p:spPr>
          <a:xfrm>
            <a:off x="2406600" y="2990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937120" y="2990880"/>
            <a:ext cx="254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774960" y="2994120"/>
            <a:ext cx="10479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268880" y="2013120"/>
            <a:ext cx="73080" cy="72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95" name=""/>
          <p:cNvSpPr/>
          <p:nvPr/>
        </p:nvSpPr>
        <p:spPr>
          <a:xfrm>
            <a:off x="4303800" y="2062080"/>
            <a:ext cx="1440" cy="933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350600" y="1800360"/>
            <a:ext cx="12258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 acro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3400" y="840960"/>
            <a:ext cx="7775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eting the Requirements: libWWW</a:t>
            </a:r>
            <a:endParaRPr b="0" lang="en-US" sz="3600" spc="-1" strike="noStrike">
              <a:solidFill>
                <a:srgbClr val="ffffff"/>
              </a:solidFill>
              <a:latin typeface="Century Schoolbook"/>
            </a:endParaRPr>
          </a:p>
        </p:txBody>
      </p:sp>
      <p:grpSp>
        <p:nvGrpSpPr>
          <p:cNvPr id="198" name=""/>
          <p:cNvGrpSpPr/>
          <p:nvPr/>
        </p:nvGrpSpPr>
        <p:grpSpPr>
          <a:xfrm>
            <a:off x="4552920" y="2209680"/>
            <a:ext cx="3746520" cy="3880080"/>
            <a:chOff x="4552920" y="2209680"/>
            <a:chExt cx="3746520" cy="3880080"/>
          </a:xfrm>
        </p:grpSpPr>
        <p:grpSp>
          <p:nvGrpSpPr>
            <p:cNvPr id="199" name=""/>
            <p:cNvGrpSpPr/>
            <p:nvPr/>
          </p:nvGrpSpPr>
          <p:grpSpPr>
            <a:xfrm>
              <a:off x="4552920" y="2209680"/>
              <a:ext cx="3746520" cy="354240"/>
              <a:chOff x="4552920" y="2209680"/>
              <a:chExt cx="3746520" cy="354240"/>
            </a:xfrm>
          </p:grpSpPr>
          <p:sp>
            <p:nvSpPr>
              <p:cNvPr id="200" name=""/>
              <p:cNvSpPr/>
              <p:nvPr/>
            </p:nvSpPr>
            <p:spPr>
              <a:xfrm>
                <a:off x="4552920" y="22096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97560" y="22604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2" name=""/>
            <p:cNvSpPr/>
            <p:nvPr/>
          </p:nvSpPr>
          <p:spPr>
            <a:xfrm>
              <a:off x="5423760" y="2217600"/>
              <a:ext cx="200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 modules</a:t>
              </a:r>
              <a:endParaRPr b="0" lang="en-US" sz="1600" spc="-1" strike="noStrike">
                <a:solidFill>
                  <a:srgbClr val="ffffff"/>
                </a:solidFill>
                <a:latin typeface="Times New Roman"/>
              </a:endParaRPr>
            </a:p>
          </p:txBody>
        </p:sp>
        <p:sp>
          <p:nvSpPr>
            <p:cNvPr id="203" name=""/>
            <p:cNvSpPr/>
            <p:nvPr/>
          </p:nvSpPr>
          <p:spPr>
            <a:xfrm>
              <a:off x="5592960" y="3114720"/>
              <a:ext cx="1666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ccess modules</a:t>
              </a:r>
              <a:endParaRPr b="0" lang="en-US" sz="1600" spc="-1" strike="noStrike">
                <a:solidFill>
                  <a:srgbClr val="ffffff"/>
                </a:solidFill>
                <a:latin typeface="Times New Roman"/>
              </a:endParaRPr>
            </a:p>
          </p:txBody>
        </p:sp>
        <p:sp>
          <p:nvSpPr>
            <p:cNvPr id="204" name=""/>
            <p:cNvSpPr/>
            <p:nvPr/>
          </p:nvSpPr>
          <p:spPr>
            <a:xfrm>
              <a:off x="5594400" y="3987720"/>
              <a:ext cx="1663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eam modules</a:t>
              </a:r>
              <a:endParaRPr b="0" lang="en-US" sz="1600" spc="-1" strike="noStrike">
                <a:solidFill>
                  <a:srgbClr val="ffffff"/>
                </a:solidFill>
                <a:latin typeface="Times New Roman"/>
              </a:endParaRPr>
            </a:p>
          </p:txBody>
        </p:sp>
        <p:grpSp>
          <p:nvGrpSpPr>
            <p:cNvPr id="205" name=""/>
            <p:cNvGrpSpPr/>
            <p:nvPr/>
          </p:nvGrpSpPr>
          <p:grpSpPr>
            <a:xfrm>
              <a:off x="6407280" y="4330800"/>
              <a:ext cx="37800" cy="493560"/>
              <a:chOff x="6407280" y="4330800"/>
              <a:chExt cx="37800" cy="493560"/>
            </a:xfrm>
          </p:grpSpPr>
          <p:sp>
            <p:nvSpPr>
              <p:cNvPr id="206" name=""/>
              <p:cNvSpPr/>
              <p:nvPr/>
            </p:nvSpPr>
            <p:spPr>
              <a:xfrm>
                <a:off x="6445080" y="433080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407280" y="442260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8" name=""/>
            <p:cNvSpPr/>
            <p:nvPr/>
          </p:nvSpPr>
          <p:spPr>
            <a:xfrm>
              <a:off x="6114960" y="4867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grpSp>
          <p:nvGrpSpPr>
            <p:cNvPr id="209" name=""/>
            <p:cNvGrpSpPr/>
            <p:nvPr/>
          </p:nvGrpSpPr>
          <p:grpSpPr>
            <a:xfrm>
              <a:off x="4552920" y="3106800"/>
              <a:ext cx="3746520" cy="353880"/>
              <a:chOff x="4552920" y="3106800"/>
              <a:chExt cx="3746520" cy="353880"/>
            </a:xfrm>
          </p:grpSpPr>
          <p:sp>
            <p:nvSpPr>
              <p:cNvPr id="210" name=""/>
              <p:cNvSpPr/>
              <p:nvPr/>
            </p:nvSpPr>
            <p:spPr>
              <a:xfrm>
                <a:off x="4552920" y="3106800"/>
                <a:ext cx="37465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97560" y="3157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552920" y="3979800"/>
              <a:ext cx="3746520" cy="354240"/>
              <a:chOff x="4552920" y="3979800"/>
              <a:chExt cx="3746520" cy="354240"/>
            </a:xfrm>
          </p:grpSpPr>
          <p:sp>
            <p:nvSpPr>
              <p:cNvPr id="213" name=""/>
              <p:cNvSpPr/>
              <p:nvPr/>
            </p:nvSpPr>
            <p:spPr>
              <a:xfrm>
                <a:off x="4552920" y="397980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597560" y="4030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4552920" y="4859280"/>
              <a:ext cx="3746520" cy="354240"/>
              <a:chOff x="4552920" y="4859280"/>
              <a:chExt cx="3746520" cy="354240"/>
            </a:xfrm>
          </p:grpSpPr>
          <p:sp>
            <p:nvSpPr>
              <p:cNvPr id="216" name=""/>
              <p:cNvSpPr/>
              <p:nvPr/>
            </p:nvSpPr>
            <p:spPr>
              <a:xfrm>
                <a:off x="4552920" y="48592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97560" y="49100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8" name=""/>
            <p:cNvGrpSpPr/>
            <p:nvPr/>
          </p:nvGrpSpPr>
          <p:grpSpPr>
            <a:xfrm>
              <a:off x="6407280" y="3454560"/>
              <a:ext cx="37800" cy="493560"/>
              <a:chOff x="6407280" y="3454560"/>
              <a:chExt cx="37800" cy="493560"/>
            </a:xfrm>
          </p:grpSpPr>
          <p:sp>
            <p:nvSpPr>
              <p:cNvPr id="219" name=""/>
              <p:cNvSpPr/>
              <p:nvPr/>
            </p:nvSpPr>
            <p:spPr>
              <a:xfrm>
                <a:off x="6445080" y="345456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407280" y="354636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1" name=""/>
            <p:cNvGrpSpPr/>
            <p:nvPr/>
          </p:nvGrpSpPr>
          <p:grpSpPr>
            <a:xfrm>
              <a:off x="6407280" y="2565360"/>
              <a:ext cx="37800" cy="493920"/>
              <a:chOff x="6407280" y="2565360"/>
              <a:chExt cx="37800" cy="493920"/>
            </a:xfrm>
          </p:grpSpPr>
          <p:sp>
            <p:nvSpPr>
              <p:cNvPr id="222" name=""/>
              <p:cNvSpPr/>
              <p:nvPr/>
            </p:nvSpPr>
            <p:spPr>
              <a:xfrm>
                <a:off x="6445080" y="256536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407280" y="265752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6407280" y="5207040"/>
              <a:ext cx="37800" cy="493560"/>
              <a:chOff x="6407280" y="5207040"/>
              <a:chExt cx="37800" cy="493560"/>
            </a:xfrm>
          </p:grpSpPr>
          <p:sp>
            <p:nvSpPr>
              <p:cNvPr id="225" name=""/>
              <p:cNvSpPr/>
              <p:nvPr/>
            </p:nvSpPr>
            <p:spPr>
              <a:xfrm>
                <a:off x="6445080" y="520704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407280" y="529920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5639760" y="5743440"/>
              <a:ext cx="1575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Generic utilities</a:t>
              </a:r>
              <a:endParaRPr b="0" lang="en-US" sz="1600" spc="-1" strike="noStrike">
                <a:solidFill>
                  <a:srgbClr val="ffffff"/>
                </a:solidFill>
                <a:latin typeface="Times New Roman"/>
              </a:endParaRPr>
            </a:p>
          </p:txBody>
        </p:sp>
        <p:grpSp>
          <p:nvGrpSpPr>
            <p:cNvPr id="228" name=""/>
            <p:cNvGrpSpPr/>
            <p:nvPr/>
          </p:nvGrpSpPr>
          <p:grpSpPr>
            <a:xfrm>
              <a:off x="4552920" y="5735520"/>
              <a:ext cx="3746520" cy="354240"/>
              <a:chOff x="4552920" y="5735520"/>
              <a:chExt cx="3746520" cy="354240"/>
            </a:xfrm>
          </p:grpSpPr>
          <p:sp>
            <p:nvSpPr>
              <p:cNvPr id="229" name=""/>
              <p:cNvSpPr/>
              <p:nvPr/>
            </p:nvSpPr>
            <p:spPr>
              <a:xfrm>
                <a:off x="4552920" y="573552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97560" y="578628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1" name=""/>
          <p:cNvSpPr/>
          <p:nvPr/>
        </p:nvSpPr>
        <p:spPr>
          <a:xfrm>
            <a:off x="834120" y="2181240"/>
            <a:ext cx="274392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view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client-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 view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a:t>
            </a:r>
            <a:r>
              <a:rPr b="1" i="1" lang="en-US" sz="2400" spc="-1" strike="noStrike">
                <a:solidFill>
                  <a:srgbClr val="ffffff"/>
                </a:solidFill>
                <a:latin typeface="Arial"/>
              </a:rPr>
              <a:t>layer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0" lang="en-US" sz="2400" spc="-1" strike="noStrike">
              <a:solidFill>
                <a:srgbClr val="ffffff"/>
              </a:solidFill>
              <a:latin typeface="Times New Roman"/>
            </a:endParaRPr>
          </a:p>
        </p:txBody>
      </p:sp>
      <p:graphicFrame>
        <p:nvGraphicFramePr>
          <p:cNvPr id="232" name=""/>
          <p:cNvGraphicFramePr/>
          <p:nvPr/>
        </p:nvGraphicFramePr>
        <p:xfrm>
          <a:off x="7867800" y="47520"/>
          <a:ext cx="1158840" cy="1282680"/>
        </p:xfrm>
        <a:graphic>
          <a:graphicData uri="http://schemas.openxmlformats.org/presentationml/2006/ole">
            <p:oleObj r:id="rId1" spid="">
              <p:embed/>
              <p:pic>
                <p:nvPicPr>
                  <p:cNvPr id="233" name="" descr=""/>
                  <p:cNvPicPr/>
                  <p:nvPr/>
                </p:nvPicPr>
                <p:blipFill>
                  <a:blip r:embed="rId2"/>
                  <a:stretch/>
                </p:blipFill>
                <p:spPr>
                  <a:xfrm>
                    <a:off x="7867800" y="4752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0:33:13Z</cp:lastPrinted>
  <dcterms:modified xsi:type="dcterms:W3CDTF">1998-10-20T14:07:58Z</dcterms:modified>
  <cp:revision>275</cp:revision>
  <dc:subject/>
  <dc:title>Cover Slide Example</dc:title>
</cp:coreProperties>
</file>