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BD62C334-7B36-4526-B49F-9843DEECAE17}"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8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033560" y="657360"/>
            <a:ext cx="4321080" cy="3240000"/>
          </a:xfrm>
          <a:prstGeom prst="rect">
            <a:avLst/>
          </a:prstGeom>
          <a:ln w="0">
            <a:noFill/>
          </a:ln>
        </p:spPr>
      </p:sp>
      <p:sp>
        <p:nvSpPr>
          <p:cNvPr id="487"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lang="en-US" sz="1000" spc="-1" strike="noStrike">
                <a:solidFill>
                  <a:srgbClr val="000000"/>
                </a:solidFill>
                <a:latin typeface="Arial"/>
              </a:rPr>
              <a:t>This lecture describes a system that was quickly and inexpensively implemented and fielded using World Wide Web and CORBA technology.  A major consideration in the fielding of the system was the involvement of the end users in the decisions about which functionality should be implemented next in the sequence and how that functionality should appear to the user.</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033560" y="657360"/>
            <a:ext cx="4321080" cy="3240000"/>
          </a:xfrm>
          <a:prstGeom prst="rect">
            <a:avLst/>
          </a:prstGeom>
          <a:ln w="0">
            <a:noFill/>
          </a:ln>
        </p:spPr>
      </p:sp>
      <p:sp>
        <p:nvSpPr>
          <p:cNvPr id="505"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key system qualities required in the METOC anchor desk system,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ch drove the architectural solution were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hort time to initial demonstrable capability</a:t>
            </a:r>
            <a:r>
              <a:rPr b="0" lang="en-US" sz="1000" spc="-1" strike="noStrike">
                <a:solidFill>
                  <a:srgbClr val="000000"/>
                </a:solidFill>
                <a:latin typeface="Arial"/>
              </a:rPr>
              <a:t>.  The quick delivery of a prototype system was needed to satisfy the project sponsor.  In addition, the evolutionary development concept requires that end users must stay engaged in the development process through use of these prototypes, to help define the system requirements and to establish a working relationship between the user and the develop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eveloper productivity</a:t>
            </a:r>
            <a:r>
              <a:rPr b="0" lang="en-US" sz="1000" spc="-1" strike="noStrike">
                <a:solidFill>
                  <a:srgbClr val="000000"/>
                </a:solidFill>
                <a:latin typeface="Arial"/>
              </a:rPr>
              <a:t>.  A small team was attempting to provide a great deal of capability to the users.  In any user-centered development, it is necessary to keep the user engaged by providing a stream of capability increments based on feedback from demonstrations.  There was not time for long cycles of analysis-design-implementation-test-demonstrate.  Unless the developers could show that they could produce something useful quickly, and unless they could continue to produce increments quickly, the developers would have lost the attention and commitment of the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he need for interchangeable and interoperable parts</a:t>
            </a:r>
            <a:r>
              <a:rPr b="0" lang="en-US" sz="1000" spc="-1" strike="noStrike">
                <a:solidFill>
                  <a:srgbClr val="000000"/>
                </a:solidFill>
                <a:latin typeface="Arial"/>
              </a:rPr>
              <a:t> was based on the need to account for the use of legacy systems in the user environment and also to allow for flexibility in the evolution of the base system.  Loose coupling of components allowed the system to be changeable and flexible without changing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ortability</a:t>
            </a:r>
            <a:r>
              <a:rPr b="0" lang="en-US" sz="1000" spc="-1" strike="noStrike">
                <a:solidFill>
                  <a:srgbClr val="000000"/>
                </a:solidFill>
                <a:latin typeface="Arial"/>
              </a:rPr>
              <a:t>.  The user environment included a legacy system of Macintoshes, UNIX workstations, and PCs.  The architecture had to accommodate this mix of computing equipment either by making software run on all three or by emulating one machine on another.  It would have been unrealistic to assume that the user community would adopt a single platform.</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033560" y="657360"/>
            <a:ext cx="4321080" cy="3240000"/>
          </a:xfrm>
          <a:prstGeom prst="rect">
            <a:avLst/>
          </a:prstGeom>
          <a:ln w="0">
            <a:noFill/>
          </a:ln>
        </p:spPr>
      </p:sp>
      <p:sp>
        <p:nvSpPr>
          <p:cNvPr id="50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  </a:t>
            </a:r>
            <a:r>
              <a:rPr b="0" i="1" lang="en-US" sz="1000" spc="-1" strike="noStrike">
                <a:solidFill>
                  <a:srgbClr val="000000"/>
                </a:solidFill>
                <a:latin typeface="Arial"/>
              </a:rPr>
              <a:t>Make sure that you introduce the following concept as context for the discussion of the architectural solu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volutionary development method used in creating the architectural solution is based on the tenet that architectures should be created through assembly of tailorable large-grained hardware and software components.  As we will see, the architecture of the METOC anchor desk system is not novel.  Indeed, one of its strengths is that it created almost nothing from scratc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br>
              <a:rPr sz="1000"/>
            </a:br>
            <a:r>
              <a:rPr b="0" lang="en-US" sz="1000" spc="-1" strike="noStrike">
                <a:solidFill>
                  <a:srgbClr val="000000"/>
                </a:solidFill>
                <a:latin typeface="Arial"/>
              </a:rPr>
              <a:t>Evolutionary development is applicable to development environments in which there is an authoritative and clearly defined user community where direct interaction with developers is possible.  As we will see, it would not be effective in environments where there are users shielded from developers by layers of bureaucracy, or in the development of shrink-wrapped systems where the user community is large and amorphou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33560" y="657360"/>
            <a:ext cx="4321080" cy="3240000"/>
          </a:xfrm>
          <a:prstGeom prst="rect">
            <a:avLst/>
          </a:prstGeom>
          <a:ln w="0">
            <a:noFill/>
          </a:ln>
        </p:spPr>
      </p:sp>
      <p:sp>
        <p:nvSpPr>
          <p:cNvPr id="509"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typical system development, the system requirements are defined once at the beginning, then the system is built over a long time without consulting the users again or revisiting the requirements.  Two things inevitably happen.  First, the user’s needs change over time.  Second, the user’s perceived needs as originally expressed turn out not to be the real needs in the context of the new technology when the system is delivered. Evolutionary development employs a user-centered approach that helps to avoid these probl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volutionary development method manages requirement elicitation and system evolution through scenarios.  The users and developers begin by generating scenarios in terms of the current solution and begins to appreciate the possibilities of a new technology.  By familiarizing users with the current iteration of a system, they could get a feel for the technology before deciding on the next iteration of the system (done in six-month increments).  There is no requirement to specify every detail up-front before moving on to the next stage of implementation.  Instead, users have hands-on experience with a real product or prototype and provide frequent feedback, which feeds the direction for the next iteration.  Repeating this process every six months helped to minimize the effects of mistakes that are inevitable in specifying system requirements and allowed for frequent correc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used in iterative system design and development were generated with end-user input.  The user described a scenario in terms of the current solution and began to see the possibilities of a new technology.  Later, after some hands-on experience with story boards and prototypes, the user was able to articulate the scenario in terms of the new technology.  This allows later discussions to include new ways for the technology to be employed in the context of any number of user situations, maximizing the potential for building a system that will best meet the users’ nee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033560" y="657360"/>
            <a:ext cx="4321080" cy="3240000"/>
          </a:xfrm>
          <a:prstGeom prst="rect">
            <a:avLst/>
          </a:prstGeom>
          <a:ln w="0">
            <a:noFill/>
          </a:ln>
        </p:spPr>
      </p:sp>
      <p:sp>
        <p:nvSpPr>
          <p:cNvPr id="511"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were based on assembly and integration of readily-available components and a pre-packaged communication infrastructure.  The use of World Wide Web and CORBA provided an architectural infrastructure into which separately developed (pre-existing) components could be plugg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volutionary approach also allows for sensible and manageable documentation of the system architecture.  The initial documentation requirements are reduced through the generation of scenarios; no detailed requirements documents are written because the evolving system best defines the detailed requirements.  The need for changed documentation is also obviated because there are fewer blind alleys and they are followed to less depth.  Instead, there is a document that covers the concept of operations and scenarios of usage to set the scope of the work.  Architecture, design, and training documents are still required, but test documentation is simplified because it is done incrementally with each delivery.  In METOC, the completed user scenarios became user guides; the operations manuals became procedures on the Web.</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033560" y="657360"/>
            <a:ext cx="4321080" cy="3240000"/>
          </a:xfrm>
          <a:prstGeom prst="rect">
            <a:avLst/>
          </a:prstGeom>
          <a:ln w="0">
            <a:noFill/>
          </a:ln>
        </p:spPr>
      </p:sp>
      <p:sp>
        <p:nvSpPr>
          <p:cNvPr id="513" name="PlaceHolder 2"/>
          <p:cNvSpPr>
            <a:spLocks noGrp="1"/>
          </p:cNvSpPr>
          <p:nvPr>
            <p:ph type="body"/>
          </p:nvPr>
        </p:nvSpPr>
        <p:spPr>
          <a:xfrm>
            <a:off x="907920" y="4213080"/>
            <a:ext cx="48578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mall size of the development group and the need for delivering early initial capability dictated assembling the system from already-available components.  In some cases, this meant buying commercial software and in other cases using public domain software or shareware.  Components of the system inclu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llaboration tools</a:t>
            </a:r>
            <a:r>
              <a:rPr b="0" lang="en-US" sz="1000" spc="-1" strike="noStrike">
                <a:solidFill>
                  <a:srgbClr val="000000"/>
                </a:solidFill>
                <a:latin typeface="Arial"/>
              </a:rPr>
              <a:t> which run on UNIX-compatible workstations.  Some machines require specialized hardware boards to capture video images from a camera and display them on a screen, enabling video conferencing.  These tools also include a shared whiteboard, a file transfer tool (to send text or binary files from one participant to anther), and a screen capture tool (to capture a user-designated area of the screen).  A graphic of a collaboration tool in use is shown on the next slide, along with a more detailed explanation of the video conference func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eb browser software</a:t>
            </a:r>
            <a:r>
              <a:rPr b="0" lang="en-US" sz="1000" spc="-1" strike="noStrike">
                <a:solidFill>
                  <a:srgbClr val="000000"/>
                </a:solidFill>
                <a:latin typeface="Arial"/>
              </a:rPr>
              <a:t> permits users to easily access linked information on networks of computers.  The browser presents information that contains links to other pages on different systems that can be invoked with a mouse click.  These browsers support a wide variety of graphics formats and also permit the invocation of local computing resources, such as viewers and audio playback uti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 four-tiered structure of networks</a:t>
            </a:r>
            <a:r>
              <a:rPr b="0" lang="en-US" sz="1000" spc="-1" strike="noStrike">
                <a:solidFill>
                  <a:srgbClr val="000000"/>
                </a:solidFill>
                <a:latin typeface="Arial"/>
              </a:rPr>
              <a:t> that link local area networks (LANs) at various remote locations in the METOC organization.  This network will be described later in the l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mulators for the UNIX system</a:t>
            </a:r>
            <a:r>
              <a:rPr b="0" lang="en-US" sz="1000" spc="-1" strike="noStrike">
                <a:solidFill>
                  <a:srgbClr val="000000"/>
                </a:solidFill>
                <a:latin typeface="Arial"/>
              </a:rPr>
              <a:t> to simulate Macintosh and PC operation. Among other things, emulators allow UNIX computers to read and write Mac or PC disk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33560" y="657360"/>
            <a:ext cx="4321080" cy="3240000"/>
          </a:xfrm>
          <a:prstGeom prst="rect">
            <a:avLst/>
          </a:prstGeom>
          <a:ln w="0">
            <a:noFill/>
          </a:ln>
        </p:spPr>
      </p:sp>
      <p:sp>
        <p:nvSpPr>
          <p:cNvPr id="515"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creen showing several window of a video conference session is shown abov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reground are two participants in the collaboration and in the backgrou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a weather depiction on a shared whiteboar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le video conferencing includes video and audio communication, much m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n that is required for true collaboration among participants.  Visual imager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hypermedia provide higher communication bandwidth and cognition th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near text alone.  To collaborate remotely with the same effectiveness as o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ould in the same room, users simultaneously share documents, map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agrams and write on them and modify them in real time in a manner than all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ipants can see the results.  For the METOC system, the shared whiteboar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ed the participants in the conference the ability to do the following with eac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participants seeing the same whiteboard image on a local scree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ad a graphic image (maps, satellite image, or forecasts) from a separate file such as GIF or TIFF format imag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int to items of interest (with a unique cursor for each participa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raw on the image using MacDraw or similar drawing progra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witch whiteboard p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an and digitize a paper image for displa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as we have already mentioned, a file transfer tool and a scree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pture tool are included, as is a “chat” tool for participants to type message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other in the event that audio fails.  One of the most effective independ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ols is called Shared-X.  This tool works in workstation environments suppor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X-Windowing system.  It gives a participant in a conference the ability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legate to a remote participant control of a local computer process.  This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ularly useful when the remote participant may be more knowledgeab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out a product or problem than the local participant.</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031760" y="657360"/>
            <a:ext cx="4324320" cy="3240000"/>
          </a:xfrm>
          <a:prstGeom prst="rect">
            <a:avLst/>
          </a:prstGeom>
          <a:ln w="0">
            <a:noFill/>
          </a:ln>
        </p:spPr>
      </p:sp>
      <p:sp>
        <p:nvSpPr>
          <p:cNvPr id="517" name="PlaceHolder 2"/>
          <p:cNvSpPr>
            <a:spLocks noGrp="1"/>
          </p:cNvSpPr>
          <p:nvPr>
            <p:ph type="body"/>
          </p:nvPr>
        </p:nvSpPr>
        <p:spPr>
          <a:xfrm>
            <a:off x="917280" y="4222440"/>
            <a:ext cx="4686120" cy="3801960"/>
          </a:xfrm>
          <a:prstGeom prst="rect">
            <a:avLst/>
          </a:prstGeom>
          <a:noFill/>
          <a:ln w="0">
            <a:noFill/>
          </a:ln>
        </p:spPr>
        <p:txBody>
          <a:bodyPr lIns="79200" rIns="79200" tIns="39600" bIns="39600" anchor="t">
            <a:noAutofit/>
          </a:bodyPr>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resulting implementation of the METOC anchor desk system is shown above.  In this version of the system, software runs on HP machines (Sites 1 and 3), a Sun (Site 2), a desktop PC (Site 4) and a portable PC (Site 5).   All the machines are running video-conferencing software, Web browsers, and frame grabbers.  The HPs and Suns run collaboration software.  Where required, these machines run Mac and PC emulators and decision-aid tools.</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implementation started by using a commercial video-conferencing product to demonstrate the concepts and gather performance data, but later switched to public domain software for compatibility with other projects in the program.  The shareware did not work on HP platforms and had a limited shared whiteboard capability.  The developers made source code changes to make the video-conferencing software run on the HPs and improved the whiteboard.</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Theater-Level Analysis, Replanning and Graphical Execution Toolbox (TARGET) is an integrated set of planning tools for supporting joint operations.  It is designed to support distributed collaborative planning.  One of the function provided to TARGET by METOC Collaboration System is the ability to place weather information in TARGET folders.  To accomplish this, the developers wrote scripts in Tcl/Tk to automatically grab a screen as a GIF image and then ship it off to TARGET.</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031760" y="657360"/>
            <a:ext cx="4324320" cy="3240000"/>
          </a:xfrm>
          <a:prstGeom prst="rect">
            <a:avLst/>
          </a:prstGeom>
          <a:ln w="0">
            <a:noFill/>
          </a:ln>
        </p:spPr>
      </p:sp>
      <p:sp>
        <p:nvSpPr>
          <p:cNvPr id="519" name="PlaceHolder 2"/>
          <p:cNvSpPr>
            <a:spLocks noGrp="1"/>
          </p:cNvSpPr>
          <p:nvPr>
            <p:ph type="body"/>
          </p:nvPr>
        </p:nvSpPr>
        <p:spPr>
          <a:xfrm>
            <a:off x="917280" y="4213080"/>
            <a:ext cx="4686120" cy="3811680"/>
          </a:xfrm>
          <a:prstGeom prst="rect">
            <a:avLst/>
          </a:prstGeom>
          <a:noFill/>
          <a:ln w="0">
            <a:noFill/>
          </a:ln>
        </p:spPr>
        <p:txBody>
          <a:bodyPr lIns="79200" rIns="79200" tIns="39600" bIns="39600" anchor="t">
            <a:noAutofit/>
          </a:bodyPr>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network structure is a four-tiered structure as illustrated above.  At the weather center, there is a 10-Mbit/second local area network (LAN).  This is connected by a fiber-optic bridge to another 10-Mbit/second operations support system LAN for local use in Pearl Harbor.  These LANs are connected to preexisting Department of Defense wide area networks by T1 (1.54Mbit/second) satellite links.  The network architecture must not only provide the necessary connectivity, but there must also be enough bandwidth to carry out the communication and collaboration function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33560" y="657360"/>
            <a:ext cx="4321080" cy="3240000"/>
          </a:xfrm>
          <a:prstGeom prst="rect">
            <a:avLst/>
          </a:prstGeom>
          <a:ln w="0">
            <a:noFill/>
          </a:ln>
        </p:spPr>
      </p:sp>
      <p:sp>
        <p:nvSpPr>
          <p:cNvPr id="521" name="PlaceHolder 2"/>
          <p:cNvSpPr>
            <a:spLocks noGrp="1"/>
          </p:cNvSpPr>
          <p:nvPr>
            <p:ph type="body"/>
          </p:nvPr>
        </p:nvSpPr>
        <p:spPr>
          <a:xfrm>
            <a:off x="917280" y="4213080"/>
            <a:ext cx="4686120" cy="3811680"/>
          </a:xfrm>
          <a:prstGeom prst="rect">
            <a:avLst/>
          </a:prstGeom>
          <a:noFill/>
          <a:ln w="0">
            <a:noFill/>
          </a:ln>
        </p:spPr>
        <p:txBody>
          <a:bodyPr lIns="79200" rIns="79200" tIns="39600" bIns="39600" anchor="t">
            <a:noAutofit/>
          </a:bodyPr>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software architecture of the METOC system is shown above.  This can be thought of as a client-server architecture, but with more insulation and flexibility between the client and the server.  In the figure, the clients are shown on the bottom layer and the servers on the top.  The ORB is the substrate or mechanism used for interfacing the client and server.  The services listed include storage and retrieval of the raw environmental data, data gathering, data analysis, data visualization, and mapping.</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data server provides direct access to environmental data.  It insulates data gathering objects from knowledge of underlying database management systems.  The data gatherer knows how to gather and filter specific kinds of environmental data for a particular tool or class of tools.  The data analysis service acts on gathered and filtered data to produce some analytical output for downstream processing.  The visualizer renders the result of data gathering and analysis.  Several visualizers may operate on the same data to produce alternative visualizations.  The map server is utilized by some of the visualization objects to render the weather over a map.  This map may show geopolitical boundaries, topographical features, or landmarks such as roads and airport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033560" y="657360"/>
            <a:ext cx="4321080" cy="3240000"/>
          </a:xfrm>
          <a:prstGeom prst="rect">
            <a:avLst/>
          </a:prstGeom>
          <a:ln w="0">
            <a:noFill/>
          </a:ln>
        </p:spPr>
      </p:sp>
      <p:sp>
        <p:nvSpPr>
          <p:cNvPr id="52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just examined the problem that METOC was built to solve and discussed the architecture used to build the system.  We now look at the outcomes of implementatio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033560" y="657360"/>
            <a:ext cx="4321080" cy="3240000"/>
          </a:xfrm>
          <a:prstGeom prst="rect">
            <a:avLst/>
          </a:prstGeom>
          <a:ln w="0">
            <a:noFill/>
          </a:ln>
        </p:spPr>
      </p:sp>
      <p:sp>
        <p:nvSpPr>
          <p:cNvPr id="489" name="PlaceHolder 2"/>
          <p:cNvSpPr>
            <a:spLocks noGrp="1"/>
          </p:cNvSpPr>
          <p:nvPr>
            <p:ph type="body"/>
          </p:nvPr>
        </p:nvSpPr>
        <p:spPr>
          <a:xfrm>
            <a:off x="907920" y="4213080"/>
            <a:ext cx="48103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lecture, we examine a system called the meteorological and oceanographic (METOC) anchor desk system, a network-based collaborative information-gathering and decision-aiding system used by the U.S. military.  This case study is an illustration of a system built almost entirely from preexisting large-grained components and of the evolutionary development method that promoted this kind of constru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031760" y="657360"/>
            <a:ext cx="4324320" cy="3240000"/>
          </a:xfrm>
          <a:prstGeom prst="rect">
            <a:avLst/>
          </a:prstGeom>
          <a:ln w="0">
            <a:noFill/>
          </a:ln>
        </p:spPr>
      </p:sp>
      <p:sp>
        <p:nvSpPr>
          <p:cNvPr id="52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lang="en-US" sz="1000" spc="-1" strike="noStrike">
                <a:solidFill>
                  <a:srgbClr val="000000"/>
                </a:solidFill>
                <a:latin typeface="Arial"/>
              </a:rPr>
              <a:t>As we have seen, the METOC work was built mostly from off-the-shelf components.  These required “glue” code to be written to allow the components to work together in the system.  The bulk of the code work was information design to make Web-based information easily accessible to humans; that work is not shown here.  What is shown in the table is the approximate number of lines of source code written by the developers, as opposed to represented in an off-the-shelf product, and the language used.  There are five languages represented (hypertext, scripting, and general-purpose languages), and each is chosen for a specific task.  The figures for HTML are not good indicators of effort since many of the lines in those instances are data giving textual information and are copied from other sources.  Not represented in the table is any effort involved with creating graphic images.</a:t>
            </a: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lang="en-US" sz="1000" spc="-1" strike="noStrike">
                <a:solidFill>
                  <a:srgbClr val="000000"/>
                </a:solidFill>
                <a:latin typeface="Arial"/>
              </a:rPr>
              <a:t>Another item of note is the knowledge and background required to produce the code.  C, C++, and Tcl were written by software engineers.  HTML was written by graphic designers who were either undergraduates or recent graduates.  This, the bulk of the code was written using preexisting text or with relatively inexperienced personnel.  On the other hand, the creation of graphical images is not enumerated in the table, and this requires a type of skill not normally found in software engineers.</a:t>
            </a: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33560" y="657360"/>
            <a:ext cx="4321080" cy="3240000"/>
          </a:xfrm>
          <a:prstGeom prst="rect">
            <a:avLst/>
          </a:prstGeom>
          <a:ln w="0">
            <a:noFill/>
          </a:ln>
        </p:spPr>
      </p:sp>
      <p:sp>
        <p:nvSpPr>
          <p:cNvPr id="527"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dvantages to using off-the-shelf components and an evolutionary development model we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large capability system was able to be fielded quickly.  The components did not have to be built from scratch; only a small amount of glue code and some graphical images had to be produc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rs stayed involved and motivated with ownership.  The interactive approach ensured that the owners always understood the current system configuration and were able to provide input for requirements, which helped to avoid dead ends in the system with less important functionalit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pproach also required rework as the system moved from iteration to iteration.  This ensured that the system was always up to date and minimized the amount of changes to the architecture and the amount of documentation that had to be produc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033560" y="657360"/>
            <a:ext cx="4321080" cy="3240000"/>
          </a:xfrm>
          <a:prstGeom prst="rect">
            <a:avLst/>
          </a:prstGeom>
          <a:ln w="0">
            <a:noFill/>
          </a:ln>
        </p:spPr>
      </p:sp>
      <p:sp>
        <p:nvSpPr>
          <p:cNvPr id="529" name="PlaceHolder 2"/>
          <p:cNvSpPr>
            <a:spLocks noGrp="1"/>
          </p:cNvSpPr>
          <p:nvPr>
            <p:ph type="body"/>
          </p:nvPr>
        </p:nvSpPr>
        <p:spPr>
          <a:xfrm>
            <a:off x="917280" y="424152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sired quality of portability was achieved by adding emulators to the architecture to allow use of legacy systems that included UNIX, Macs, and PC machines, and by choosing components that work on multiple platfor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 team productivity was attained by choosing sensible documentation to write, and by using off-the-shelf components rather than building the system from scratc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olvability was accomplished by the use of interchangeable off-the-shelf components with standard communication infrastructures, and the use of the evolutionary development metho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033560" y="657360"/>
            <a:ext cx="4321080" cy="3240000"/>
          </a:xfrm>
          <a:prstGeom prst="rect">
            <a:avLst/>
          </a:prstGeom>
          <a:ln w="0">
            <a:noFill/>
          </a:ln>
        </p:spPr>
      </p:sp>
      <p:sp>
        <p:nvSpPr>
          <p:cNvPr id="53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033560" y="657360"/>
            <a:ext cx="4321080" cy="3240000"/>
          </a:xfrm>
          <a:prstGeom prst="rect">
            <a:avLst/>
          </a:prstGeom>
          <a:ln w="0">
            <a:noFill/>
          </a:ln>
        </p:spPr>
      </p:sp>
      <p:sp>
        <p:nvSpPr>
          <p:cNvPr id="53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software engineers are in the position of gluing components together, what does this say about the skill level or the type of position of someone who might be interested in being a software engineer?</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033560" y="657360"/>
            <a:ext cx="4321080" cy="3240000"/>
          </a:xfrm>
          <a:prstGeom prst="rect">
            <a:avLst/>
          </a:prstGeom>
          <a:ln w="0">
            <a:noFill/>
          </a:ln>
        </p:spPr>
      </p:sp>
      <p:sp>
        <p:nvSpPr>
          <p:cNvPr id="535"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033560" y="657360"/>
            <a:ext cx="4321080" cy="3240000"/>
          </a:xfrm>
          <a:prstGeom prst="rect">
            <a:avLst/>
          </a:prstGeom>
          <a:ln w="0">
            <a:noFill/>
          </a:ln>
        </p:spPr>
      </p:sp>
      <p:sp>
        <p:nvSpPr>
          <p:cNvPr id="537"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033560" y="657360"/>
            <a:ext cx="4321080" cy="3240000"/>
          </a:xfrm>
          <a:prstGeom prst="rect">
            <a:avLst/>
          </a:prstGeom>
          <a:ln w="0">
            <a:noFill/>
          </a:ln>
        </p:spPr>
      </p:sp>
      <p:sp>
        <p:nvSpPr>
          <p:cNvPr id="491" name="PlaceHolder 2"/>
          <p:cNvSpPr>
            <a:spLocks noGrp="1"/>
          </p:cNvSpPr>
          <p:nvPr>
            <p:ph type="body"/>
          </p:nvPr>
        </p:nvSpPr>
        <p:spPr>
          <a:xfrm>
            <a:off x="907560" y="4213080"/>
            <a:ext cx="47912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ETOC anchor desk system is a decentralized help desk for meteorological and environmental (oceanographic) information.  It is designed for crisis situations, but also has utility during normal operations.  The users of the METOC anchor desk (during crisis) are the meteorological officers of the various U.S. military services in the Pacific Theater headquarters in Hawaii.  They provide support to the crisis and planning teams that are established by the Pacific Theater Commander in Chief in response to a crisis, such as weather emergencies (hurricanes) and military situations (amphibious landings).  The system is based on the World Wide Web and CORBA, using commercial products as component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033560" y="657360"/>
            <a:ext cx="4321080" cy="3240000"/>
          </a:xfrm>
          <a:prstGeom prst="rect">
            <a:avLst/>
          </a:prstGeom>
          <a:ln w="0">
            <a:noFill/>
          </a:ln>
        </p:spPr>
      </p:sp>
      <p:sp>
        <p:nvSpPr>
          <p:cNvPr id="493"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case study, we will examine the problem that METOC was built to solve, the architecture for the system, and the results of implementing the architecture.  We begin with an examination of the problem.</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033560" y="657360"/>
            <a:ext cx="4321080" cy="3240000"/>
          </a:xfrm>
          <a:prstGeom prst="rect">
            <a:avLst/>
          </a:prstGeom>
          <a:ln w="0">
            <a:noFill/>
          </a:ln>
        </p:spPr>
      </p:sp>
      <p:sp>
        <p:nvSpPr>
          <p:cNvPr id="495" name="PlaceHolder 2"/>
          <p:cNvSpPr>
            <a:spLocks noGrp="1"/>
          </p:cNvSpPr>
          <p:nvPr>
            <p:ph type="body"/>
          </p:nvPr>
        </p:nvSpPr>
        <p:spPr>
          <a:xfrm>
            <a:off x="907920" y="4213080"/>
            <a:ext cx="48578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ETOC anchor desk is realized as a distributed, virtual organization overlai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 top of existing METOC organizations.  These organizations have a long histor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operation and have joint procedures that are established and work well.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TOC anchor desk system does not attempt to change those proced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ather, it attempts to make the existing organization more efficient in executing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s.  Also, it adds capabilities that improve the timeliness, accuracy,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ffectiveness of the decision making under the existing procedures.  Becaus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ipants are geographically distributed, collaboration technology (such 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ktop audio/video, shared whiteboard, and shared applications) play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minent role in providing improved decision-making abilit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a user’s point of view, the mission of the METOC anchor desk system i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emble and integrate environmental information.  Using this inform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teorological officers from different services coordinate to prepare briefing information for command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assimilates and interprets data for command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provides decision support to commande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3560" y="657360"/>
            <a:ext cx="4321080" cy="3240000"/>
          </a:xfrm>
          <a:prstGeom prst="rect">
            <a:avLst/>
          </a:prstGeom>
          <a:ln w="0">
            <a:noFill/>
          </a:ln>
        </p:spPr>
      </p:sp>
      <p:sp>
        <p:nvSpPr>
          <p:cNvPr id="497"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ABC for the METOC system.  The customers and end users are the meteorological and oceanographic centers.  The system was developed using a methodology called evolutionary development.  The development organization was the evolutionary development lab at Carnegie Mellon University.  The technical environment was composed of World Wide Web, CORBA, and collaborative syst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erms of the ABC, the evolutionary development method represents a fine-grained feedback from the system to the development organization, which occurs while the system is undergoing development, instead of after it has been releas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the METOC anchor desk system was constructed by an organization that was primarily interested in the process of software development rather than the products of that development, we will not explore the business issues relevant to the developer.</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033560" y="657360"/>
            <a:ext cx="4321080" cy="3240000"/>
          </a:xfrm>
          <a:prstGeom prst="rect">
            <a:avLst/>
          </a:prstGeom>
          <a:ln w="0">
            <a:noFill/>
          </a:ln>
        </p:spPr>
      </p:sp>
      <p:sp>
        <p:nvSpPr>
          <p:cNvPr id="499"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ypical inputs to the METOC anchor desk could include any kind of request for environmental support or tailored meteorological products during any phase of a crisis, from situation development through execution.  For example, during situation development, the METOC anchor desk may be asked to develop an environmental profile of the situation area, including climatological analysis.  Situation analysis can be based on historical data, current satellite photographs, wind strength and direction, wave heights, cloud cover, barometric readings, and so on.  The result of the analysis (output) is provided in the form of various weather conditions.  Such information is useful during the course of action development, evaluation, and execution planning because of the provisioning of personnel and the preparation of equipment are directly influenced by the weather condi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nother example, the METOC anchor desk may be asked to respond rapidly to emergent situations, such as providing quick turnaround surf forecasts for a previously unplanned amphibious landing.  The anchor desk may also be asked to put up a classified Web server with environmental products tailored to the operation, thereby providing on-demand access to relevant environmental information.</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033560" y="657360"/>
            <a:ext cx="4321080" cy="3240000"/>
          </a:xfrm>
          <a:prstGeom prst="rect">
            <a:avLst/>
          </a:prstGeom>
          <a:ln w="0">
            <a:noFill/>
          </a:ln>
        </p:spPr>
      </p:sp>
      <p:sp>
        <p:nvSpPr>
          <p:cNvPr id="501"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rrently, requests for support can occur in either of two forms.  These are person to person, and via the World Wide Web.</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son to person requests are done in person (physically walking into the office), by telephone, by video conference, by collaborative planning tools, or through some combination of these metho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ests through the WWW are through the use of forms (which store information used in routine operation) or by routine access to environmental product Web page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33560" y="657360"/>
            <a:ext cx="4321080" cy="3240000"/>
          </a:xfrm>
          <a:prstGeom prst="rect">
            <a:avLst/>
          </a:prstGeom>
          <a:ln w="0">
            <a:noFill/>
          </a:ln>
        </p:spPr>
      </p:sp>
      <p:sp>
        <p:nvSpPr>
          <p:cNvPr id="503"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eb is used by the METOC anchor desk system to do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ore daily weather products, such as specialized weather depictions, forecasts, and satellite im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elp to train people in standard operating proced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elp to organize the weather products of the different service components associated with a crisis task for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ter data so that observations from the field can be made available immediately by hypertex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vide access to publicly-available weather images that can be downloaded from the Web and cut and pasted into computer presentation tools (such as PowerPoin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8  - page </a:t>
            </a:r>
            <a:fld id="{C9ED65C2-CFDB-4261-B436-C9EDB493E431}"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0400"/>
            <a:ext cx="731376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8  - page </a:t>
            </a:r>
            <a:fld id="{FCEC623D-0F7D-4B3C-8990-4C4D775236D7}"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879200"/>
            <a:ext cx="80647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100" spc="-1" strike="noStrike">
                <a:solidFill>
                  <a:srgbClr val="ffffff"/>
                </a:solidFill>
                <a:latin typeface="Century Schoolbook"/>
              </a:rPr>
              <a:t>Chapter 18: Meteorological Anchor Desk - A Case Study in Off-the-Shelf Components</a:t>
            </a:r>
            <a:endParaRPr b="0" lang="en-US" sz="31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225" name="PlaceHolder 2"/>
          <p:cNvSpPr>
            <a:spLocks noGrp="1"/>
          </p:cNvSpPr>
          <p:nvPr>
            <p:ph/>
          </p:nvPr>
        </p:nvSpPr>
        <p:spPr>
          <a:xfrm>
            <a:off x="923400" y="1782720"/>
            <a:ext cx="7851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 time to demonstrate initial cap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tisfy spons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 end users engag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r productivity: Only a small team of developers were available to build th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hangeable and interoperable par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gacy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ving base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 The system must run on Macs, UNIX, PC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2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bl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he solu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a:t>
            </a:r>
            <a:endParaRPr b="1" lang="en-US" sz="2400" spc="-1" strike="noStrike">
              <a:solidFill>
                <a:srgbClr val="ffffff"/>
              </a:solidFill>
              <a:latin typeface="Arial"/>
            </a:endParaRPr>
          </a:p>
        </p:txBody>
      </p:sp>
      <p:sp>
        <p:nvSpPr>
          <p:cNvPr id="228" name=""/>
          <p:cNvSpPr/>
          <p:nvPr/>
        </p:nvSpPr>
        <p:spPr>
          <a:xfrm>
            <a:off x="420840" y="2666880"/>
            <a:ext cx="341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29" name=""/>
          <p:cNvGraphicFramePr/>
          <p:nvPr/>
        </p:nvGraphicFramePr>
        <p:xfrm>
          <a:off x="7628040" y="254160"/>
          <a:ext cx="1336680" cy="1477800"/>
        </p:xfrm>
        <a:graphic>
          <a:graphicData uri="http://schemas.openxmlformats.org/presentationml/2006/ole">
            <p:oleObj r:id="rId1" spid="">
              <p:embed/>
              <p:pic>
                <p:nvPicPr>
                  <p:cNvPr id="230" name="" descr=""/>
                  <p:cNvPicPr/>
                  <p:nvPr/>
                </p:nvPicPr>
                <p:blipFill>
                  <a:blip r:embed="rId2"/>
                  <a:stretch/>
                </p:blipFill>
                <p:spPr>
                  <a:xfrm>
                    <a:off x="7628040" y="254160"/>
                    <a:ext cx="133668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volutionary Development -1</a:t>
            </a:r>
            <a:endParaRPr b="0" lang="en-US" sz="3600" spc="-1" strike="noStrike">
              <a:solidFill>
                <a:srgbClr val="ffffff"/>
              </a:solidFill>
              <a:latin typeface="Century Schoolbook"/>
            </a:endParaRPr>
          </a:p>
        </p:txBody>
      </p:sp>
      <p:sp>
        <p:nvSpPr>
          <p:cNvPr id="2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 requirements and system evolution through scenario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ed detailed up-front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d users to gain experience with system before deciding on next ite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nstrated in six-month inc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inuous end-user involv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were decided with end-user inpu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mediate story boards and prototypes were us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volutionary Development -2</a:t>
            </a:r>
            <a:endParaRPr b="0" lang="en-US" sz="3600" spc="-1" strike="noStrike">
              <a:solidFill>
                <a:srgbClr val="ffffff"/>
              </a:solidFill>
              <a:latin typeface="Century Schoolbook"/>
            </a:endParaRPr>
          </a:p>
        </p:txBody>
      </p:sp>
      <p:sp>
        <p:nvSpPr>
          <p:cNvPr id="234" name="PlaceHolder 2"/>
          <p:cNvSpPr>
            <a:spLocks noGrp="1"/>
          </p:cNvSpPr>
          <p:nvPr>
            <p:ph/>
          </p:nvPr>
        </p:nvSpPr>
        <p:spPr>
          <a:xfrm>
            <a:off x="923400" y="1782720"/>
            <a:ext cx="77122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were based on assembly and integration of readily-availabl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a pre-packaged communication infra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ble and manageable docu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became users’ guid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 manuals became procedures on the Web.</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29880" y="842760"/>
            <a:ext cx="7731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onents of System Architecture</a:t>
            </a:r>
            <a:endParaRPr b="0" lang="en-US" sz="3600" spc="-1" strike="noStrike">
              <a:solidFill>
                <a:srgbClr val="ffffff"/>
              </a:solidFill>
              <a:latin typeface="Century Schoolbook"/>
            </a:endParaRPr>
          </a:p>
        </p:txBody>
      </p:sp>
      <p:sp>
        <p:nvSpPr>
          <p:cNvPr id="236" name="PlaceHolder 2"/>
          <p:cNvSpPr>
            <a:spLocks noGrp="1"/>
          </p:cNvSpPr>
          <p:nvPr>
            <p:ph/>
          </p:nvPr>
        </p:nvSpPr>
        <p:spPr>
          <a:xfrm>
            <a:off x="923400" y="1782720"/>
            <a:ext cx="73011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laboration tool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te board</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deo conferencing</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e transfer tool</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reen capture tool</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b browser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ulators to run on UNIX system</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c</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llaboration Tool: Screen Shot</a:t>
            </a:r>
            <a:endParaRPr b="0" lang="en-US" sz="3600" spc="-1" strike="noStrike">
              <a:solidFill>
                <a:srgbClr val="ffffff"/>
              </a:solidFill>
              <a:latin typeface="Century Schoolbook"/>
            </a:endParaRPr>
          </a:p>
        </p:txBody>
      </p:sp>
      <p:grpSp>
        <p:nvGrpSpPr>
          <p:cNvPr id="238" name=""/>
          <p:cNvGrpSpPr/>
          <p:nvPr/>
        </p:nvGrpSpPr>
        <p:grpSpPr>
          <a:xfrm>
            <a:off x="1716120" y="1546200"/>
            <a:ext cx="5799240" cy="4849920"/>
            <a:chOff x="1716120" y="1546200"/>
            <a:chExt cx="5799240" cy="4849920"/>
          </a:xfrm>
        </p:grpSpPr>
        <p:sp>
          <p:nvSpPr>
            <p:cNvPr id="239" name=""/>
            <p:cNvSpPr/>
            <p:nvPr/>
          </p:nvSpPr>
          <p:spPr>
            <a:xfrm>
              <a:off x="1716120" y="1546200"/>
              <a:ext cx="5799240" cy="4849920"/>
            </a:xfrm>
            <a:custGeom>
              <a:avLst/>
              <a:gdLst/>
              <a:ahLst/>
              <a:rect l="l" t="t" r="r" b="b"/>
              <a:pathLst>
                <a:path w="3653" h="3055">
                  <a:moveTo>
                    <a:pt x="0" y="0"/>
                  </a:moveTo>
                  <a:lnTo>
                    <a:pt x="3652" y="0"/>
                  </a:lnTo>
                  <a:lnTo>
                    <a:pt x="3652" y="3054"/>
                  </a:lnTo>
                  <a:lnTo>
                    <a:pt x="0" y="30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40" name="" descr=""/>
            <p:cNvPicPr/>
            <p:nvPr/>
          </p:nvPicPr>
          <p:blipFill>
            <a:blip r:embed="rId1"/>
            <a:stretch/>
          </p:blipFill>
          <p:spPr>
            <a:xfrm>
              <a:off x="1717560" y="1546200"/>
              <a:ext cx="5794560" cy="48466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TOC Tools</a:t>
            </a:r>
            <a:endParaRPr b="0" lang="en-US" sz="3600" spc="-1" strike="noStrike">
              <a:solidFill>
                <a:srgbClr val="ffffff"/>
              </a:solidFill>
              <a:latin typeface="Century Schoolbook"/>
            </a:endParaRPr>
          </a:p>
        </p:txBody>
      </p:sp>
      <p:sp>
        <p:nvSpPr>
          <p:cNvPr id="242" name=""/>
          <p:cNvSpPr/>
          <p:nvPr/>
        </p:nvSpPr>
        <p:spPr>
          <a:xfrm>
            <a:off x="1479600" y="1395360"/>
            <a:ext cx="1492200" cy="149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3" name=""/>
          <p:cNvGrpSpPr/>
          <p:nvPr/>
        </p:nvGrpSpPr>
        <p:grpSpPr>
          <a:xfrm>
            <a:off x="1749600" y="1533600"/>
            <a:ext cx="963360" cy="890640"/>
            <a:chOff x="1749600" y="1533600"/>
            <a:chExt cx="963360" cy="890640"/>
          </a:xfrm>
        </p:grpSpPr>
        <p:grpSp>
          <p:nvGrpSpPr>
            <p:cNvPr id="244" name=""/>
            <p:cNvGrpSpPr/>
            <p:nvPr/>
          </p:nvGrpSpPr>
          <p:grpSpPr>
            <a:xfrm>
              <a:off x="1749600" y="1538280"/>
              <a:ext cx="295200" cy="885960"/>
              <a:chOff x="1749600" y="1538280"/>
              <a:chExt cx="295200" cy="885960"/>
            </a:xfrm>
          </p:grpSpPr>
          <p:sp>
            <p:nvSpPr>
              <p:cNvPr id="245" name=""/>
              <p:cNvSpPr/>
              <p:nvPr/>
            </p:nvSpPr>
            <p:spPr>
              <a:xfrm>
                <a:off x="1846440" y="1538280"/>
                <a:ext cx="101520" cy="120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46" name=""/>
              <p:cNvSpPr/>
              <p:nvPr/>
            </p:nvSpPr>
            <p:spPr>
              <a:xfrm>
                <a:off x="1749600" y="1682640"/>
                <a:ext cx="295200" cy="741600"/>
              </a:xfrm>
              <a:custGeom>
                <a:avLst/>
                <a:gdLst/>
                <a:ahLst/>
                <a:rect l="l" t="t" r="r" b="b"/>
                <a:pathLst>
                  <a:path w="186" h="467">
                    <a:moveTo>
                      <a:pt x="36" y="183"/>
                    </a:moveTo>
                    <a:lnTo>
                      <a:pt x="36" y="224"/>
                    </a:lnTo>
                    <a:lnTo>
                      <a:pt x="60" y="466"/>
                    </a:lnTo>
                    <a:lnTo>
                      <a:pt x="125" y="466"/>
                    </a:lnTo>
                    <a:lnTo>
                      <a:pt x="148" y="228"/>
                    </a:lnTo>
                    <a:lnTo>
                      <a:pt x="148" y="183"/>
                    </a:lnTo>
                    <a:lnTo>
                      <a:pt x="157" y="183"/>
                    </a:lnTo>
                    <a:lnTo>
                      <a:pt x="157" y="224"/>
                    </a:lnTo>
                    <a:lnTo>
                      <a:pt x="185" y="224"/>
                    </a:lnTo>
                    <a:lnTo>
                      <a:pt x="185"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2417760" y="1533600"/>
              <a:ext cx="295200" cy="884160"/>
              <a:chOff x="2417760" y="1533600"/>
              <a:chExt cx="295200" cy="884160"/>
            </a:xfrm>
          </p:grpSpPr>
          <p:sp>
            <p:nvSpPr>
              <p:cNvPr id="248" name=""/>
              <p:cNvSpPr/>
              <p:nvPr/>
            </p:nvSpPr>
            <p:spPr>
              <a:xfrm>
                <a:off x="2517840" y="1533600"/>
                <a:ext cx="100080" cy="1173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9" name=""/>
              <p:cNvSpPr/>
              <p:nvPr/>
            </p:nvSpPr>
            <p:spPr>
              <a:xfrm>
                <a:off x="2417760" y="1676520"/>
                <a:ext cx="295200" cy="741240"/>
              </a:xfrm>
              <a:custGeom>
                <a:avLst/>
                <a:gdLst/>
                <a:ahLst/>
                <a:rect l="l" t="t" r="r" b="b"/>
                <a:pathLst>
                  <a:path w="186" h="467">
                    <a:moveTo>
                      <a:pt x="36" y="183"/>
                    </a:moveTo>
                    <a:lnTo>
                      <a:pt x="36" y="224"/>
                    </a:lnTo>
                    <a:lnTo>
                      <a:pt x="60" y="466"/>
                    </a:lnTo>
                    <a:lnTo>
                      <a:pt x="125" y="466"/>
                    </a:lnTo>
                    <a:lnTo>
                      <a:pt x="148" y="228"/>
                    </a:lnTo>
                    <a:lnTo>
                      <a:pt x="148" y="183"/>
                    </a:lnTo>
                    <a:lnTo>
                      <a:pt x="157" y="183"/>
                    </a:lnTo>
                    <a:lnTo>
                      <a:pt x="157" y="224"/>
                    </a:lnTo>
                    <a:lnTo>
                      <a:pt x="185" y="224"/>
                    </a:lnTo>
                    <a:lnTo>
                      <a:pt x="185"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0" name=""/>
            <p:cNvGrpSpPr/>
            <p:nvPr/>
          </p:nvGrpSpPr>
          <p:grpSpPr>
            <a:xfrm>
              <a:off x="2082960" y="1538280"/>
              <a:ext cx="293400" cy="884160"/>
              <a:chOff x="2082960" y="1538280"/>
              <a:chExt cx="293400" cy="884160"/>
            </a:xfrm>
          </p:grpSpPr>
          <p:sp>
            <p:nvSpPr>
              <p:cNvPr id="251" name=""/>
              <p:cNvSpPr/>
              <p:nvPr/>
            </p:nvSpPr>
            <p:spPr>
              <a:xfrm>
                <a:off x="2181240" y="1538280"/>
                <a:ext cx="100080" cy="120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52" name=""/>
              <p:cNvSpPr/>
              <p:nvPr/>
            </p:nvSpPr>
            <p:spPr>
              <a:xfrm>
                <a:off x="2082960" y="1681200"/>
                <a:ext cx="293400" cy="741240"/>
              </a:xfrm>
              <a:custGeom>
                <a:avLst/>
                <a:gdLst/>
                <a:ahLst/>
                <a:rect l="l" t="t" r="r" b="b"/>
                <a:pathLst>
                  <a:path w="185" h="467">
                    <a:moveTo>
                      <a:pt x="36" y="183"/>
                    </a:moveTo>
                    <a:lnTo>
                      <a:pt x="36" y="224"/>
                    </a:lnTo>
                    <a:lnTo>
                      <a:pt x="60" y="466"/>
                    </a:lnTo>
                    <a:lnTo>
                      <a:pt x="124" y="466"/>
                    </a:lnTo>
                    <a:lnTo>
                      <a:pt x="147" y="228"/>
                    </a:lnTo>
                    <a:lnTo>
                      <a:pt x="147" y="183"/>
                    </a:lnTo>
                    <a:lnTo>
                      <a:pt x="156" y="183"/>
                    </a:lnTo>
                    <a:lnTo>
                      <a:pt x="156" y="224"/>
                    </a:lnTo>
                    <a:lnTo>
                      <a:pt x="184" y="224"/>
                    </a:lnTo>
                    <a:lnTo>
                      <a:pt x="184"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53" name=""/>
          <p:cNvSpPr/>
          <p:nvPr/>
        </p:nvSpPr>
        <p:spPr>
          <a:xfrm>
            <a:off x="1627920" y="2463840"/>
            <a:ext cx="1179720" cy="402120"/>
          </a:xfrm>
          <a:prstGeom prst="rect">
            <a:avLst/>
          </a:prstGeom>
          <a:noFill/>
          <a:ln w="0">
            <a:noFill/>
          </a:ln>
        </p:spPr>
        <p:style>
          <a:lnRef idx="0"/>
          <a:fillRef idx="0"/>
          <a:effectRef idx="0"/>
          <a:fontRef idx="minor"/>
        </p:style>
        <p:txBody>
          <a:bodyPr wrap="none" lIns="88920" rIns="88920" tIns="46080" bIns="46080" anchor="t">
            <a:spAutoFit/>
          </a:bodyPr>
          <a:p>
            <a:pPr algn="ctr">
              <a:lnSpc>
                <a:spcPct val="85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200" spc="-1" strike="noStrike">
                <a:solidFill>
                  <a:srgbClr val="ffffff"/>
                </a:solidFill>
                <a:latin typeface="Arial"/>
              </a:rPr>
              <a:t>Crisis planning</a:t>
            </a:r>
            <a:endParaRPr b="0" lang="en-US" sz="1200" spc="-1" strike="noStrike">
              <a:solidFill>
                <a:srgbClr val="ffffff"/>
              </a:solidFill>
              <a:latin typeface="Times New Roman"/>
            </a:endParaRPr>
          </a:p>
          <a:p>
            <a:pPr algn="ctr">
              <a:lnSpc>
                <a:spcPct val="85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200" spc="-1" strike="noStrike">
                <a:solidFill>
                  <a:srgbClr val="ffffff"/>
                </a:solidFill>
                <a:latin typeface="Arial"/>
              </a:rPr>
              <a:t>team</a:t>
            </a:r>
            <a:endParaRPr b="0" lang="en-US" sz="1200" spc="-1" strike="noStrike">
              <a:solidFill>
                <a:srgbClr val="ffffff"/>
              </a:solidFill>
              <a:latin typeface="Times New Roman"/>
            </a:endParaRPr>
          </a:p>
        </p:txBody>
      </p:sp>
      <p:sp>
        <p:nvSpPr>
          <p:cNvPr id="254" name=""/>
          <p:cNvSpPr/>
          <p:nvPr/>
        </p:nvSpPr>
        <p:spPr>
          <a:xfrm>
            <a:off x="2968560" y="1979640"/>
            <a:ext cx="31752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2960640" y="2070000"/>
            <a:ext cx="31752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014640" y="2273400"/>
            <a:ext cx="909720" cy="914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957400" y="2336760"/>
            <a:ext cx="852480" cy="8510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3851280" y="3252960"/>
            <a:ext cx="1374840" cy="92052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4083480" y="3257640"/>
            <a:ext cx="916560" cy="919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OC</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chor</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k</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Times New Roman"/>
            </a:endParaRPr>
          </a:p>
        </p:txBody>
      </p:sp>
      <p:sp>
        <p:nvSpPr>
          <p:cNvPr id="260" name=""/>
          <p:cNvSpPr/>
          <p:nvPr/>
        </p:nvSpPr>
        <p:spPr>
          <a:xfrm>
            <a:off x="174240" y="4452840"/>
            <a:ext cx="1634400" cy="226548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ite 1</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P 735</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P digital scanner</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P MPower</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qué</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scap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bber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ualization aid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ulator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NV/WB/SD</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1" name=""/>
          <p:cNvSpPr/>
          <p:nvPr/>
        </p:nvSpPr>
        <p:spPr>
          <a:xfrm>
            <a:off x="1998720" y="4452840"/>
            <a:ext cx="1462320" cy="154116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ite 2</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arc 20</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qué</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scap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bber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NV/WB/SD</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2" name=""/>
          <p:cNvSpPr/>
          <p:nvPr/>
        </p:nvSpPr>
        <p:spPr>
          <a:xfrm>
            <a:off x="3736800" y="4452840"/>
            <a:ext cx="1462320" cy="154116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ite 3</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P 715</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P MPower</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qué</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scap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bber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NV/WB/SD</a:t>
            </a:r>
            <a:endParaRPr b="0" lang="en-US" sz="1400" spc="-1" strike="noStrike">
              <a:solidFill>
                <a:srgbClr val="ffffff"/>
              </a:solidFill>
              <a:latin typeface="Times New Roman"/>
            </a:endParaRPr>
          </a:p>
        </p:txBody>
      </p:sp>
      <p:sp>
        <p:nvSpPr>
          <p:cNvPr id="263" name=""/>
          <p:cNvSpPr/>
          <p:nvPr/>
        </p:nvSpPr>
        <p:spPr>
          <a:xfrm>
            <a:off x="5266440" y="4452840"/>
            <a:ext cx="1759320" cy="11790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ite 4</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C</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S Window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qué</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scap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 (remotely)</a:t>
            </a:r>
            <a:endParaRPr b="0" lang="en-US" sz="1400" spc="-1" strike="noStrike">
              <a:solidFill>
                <a:srgbClr val="ffffff"/>
              </a:solidFill>
              <a:latin typeface="Times New Roman"/>
            </a:endParaRPr>
          </a:p>
        </p:txBody>
      </p:sp>
      <p:sp>
        <p:nvSpPr>
          <p:cNvPr id="264" name=""/>
          <p:cNvSpPr/>
          <p:nvPr/>
        </p:nvSpPr>
        <p:spPr>
          <a:xfrm>
            <a:off x="7190280" y="4452840"/>
            <a:ext cx="1759320" cy="9979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ite 5</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dpole T1000</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qué</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scap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 (remotely)</a:t>
            </a:r>
            <a:endParaRPr b="0" lang="en-US" sz="1400" spc="-1" strike="noStrike">
              <a:solidFill>
                <a:srgbClr val="ffffff"/>
              </a:solidFill>
              <a:latin typeface="Times New Roman"/>
            </a:endParaRPr>
          </a:p>
        </p:txBody>
      </p:sp>
      <p:sp>
        <p:nvSpPr>
          <p:cNvPr id="265" name=""/>
          <p:cNvSpPr/>
          <p:nvPr/>
        </p:nvSpPr>
        <p:spPr>
          <a:xfrm>
            <a:off x="573120" y="4343400"/>
            <a:ext cx="7008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0520" y="4340160"/>
            <a:ext cx="0" cy="13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370240" y="4348080"/>
            <a:ext cx="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4532400" y="4178160"/>
            <a:ext cx="1440" cy="16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5634000" y="4340160"/>
            <a:ext cx="0" cy="13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7577280" y="4348080"/>
            <a:ext cx="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6191280" y="1395360"/>
            <a:ext cx="1492200" cy="149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2" name=""/>
          <p:cNvGrpSpPr/>
          <p:nvPr/>
        </p:nvGrpSpPr>
        <p:grpSpPr>
          <a:xfrm>
            <a:off x="6461280" y="1533600"/>
            <a:ext cx="963360" cy="890640"/>
            <a:chOff x="6461280" y="1533600"/>
            <a:chExt cx="963360" cy="890640"/>
          </a:xfrm>
        </p:grpSpPr>
        <p:grpSp>
          <p:nvGrpSpPr>
            <p:cNvPr id="273" name=""/>
            <p:cNvGrpSpPr/>
            <p:nvPr/>
          </p:nvGrpSpPr>
          <p:grpSpPr>
            <a:xfrm>
              <a:off x="6461280" y="1538280"/>
              <a:ext cx="295200" cy="885960"/>
              <a:chOff x="6461280" y="1538280"/>
              <a:chExt cx="295200" cy="885960"/>
            </a:xfrm>
          </p:grpSpPr>
          <p:sp>
            <p:nvSpPr>
              <p:cNvPr id="274" name=""/>
              <p:cNvSpPr/>
              <p:nvPr/>
            </p:nvSpPr>
            <p:spPr>
              <a:xfrm>
                <a:off x="6558120" y="1538280"/>
                <a:ext cx="101520" cy="120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75" name=""/>
              <p:cNvSpPr/>
              <p:nvPr/>
            </p:nvSpPr>
            <p:spPr>
              <a:xfrm>
                <a:off x="6461280" y="1682640"/>
                <a:ext cx="295200" cy="741600"/>
              </a:xfrm>
              <a:custGeom>
                <a:avLst/>
                <a:gdLst/>
                <a:ahLst/>
                <a:rect l="l" t="t" r="r" b="b"/>
                <a:pathLst>
                  <a:path w="186" h="467">
                    <a:moveTo>
                      <a:pt x="36" y="183"/>
                    </a:moveTo>
                    <a:lnTo>
                      <a:pt x="36" y="224"/>
                    </a:lnTo>
                    <a:lnTo>
                      <a:pt x="60" y="466"/>
                    </a:lnTo>
                    <a:lnTo>
                      <a:pt x="125" y="466"/>
                    </a:lnTo>
                    <a:lnTo>
                      <a:pt x="148" y="228"/>
                    </a:lnTo>
                    <a:lnTo>
                      <a:pt x="148" y="183"/>
                    </a:lnTo>
                    <a:lnTo>
                      <a:pt x="157" y="183"/>
                    </a:lnTo>
                    <a:lnTo>
                      <a:pt x="157" y="224"/>
                    </a:lnTo>
                    <a:lnTo>
                      <a:pt x="185" y="224"/>
                    </a:lnTo>
                    <a:lnTo>
                      <a:pt x="185"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 name=""/>
            <p:cNvGrpSpPr/>
            <p:nvPr/>
          </p:nvGrpSpPr>
          <p:grpSpPr>
            <a:xfrm>
              <a:off x="7129440" y="1533600"/>
              <a:ext cx="295200" cy="884160"/>
              <a:chOff x="7129440" y="1533600"/>
              <a:chExt cx="295200" cy="884160"/>
            </a:xfrm>
          </p:grpSpPr>
          <p:sp>
            <p:nvSpPr>
              <p:cNvPr id="277" name=""/>
              <p:cNvSpPr/>
              <p:nvPr/>
            </p:nvSpPr>
            <p:spPr>
              <a:xfrm>
                <a:off x="7229520" y="1533600"/>
                <a:ext cx="100080" cy="1173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78" name=""/>
              <p:cNvSpPr/>
              <p:nvPr/>
            </p:nvSpPr>
            <p:spPr>
              <a:xfrm>
                <a:off x="7129440" y="1676520"/>
                <a:ext cx="295200" cy="741240"/>
              </a:xfrm>
              <a:custGeom>
                <a:avLst/>
                <a:gdLst/>
                <a:ahLst/>
                <a:rect l="l" t="t" r="r" b="b"/>
                <a:pathLst>
                  <a:path w="186" h="467">
                    <a:moveTo>
                      <a:pt x="36" y="183"/>
                    </a:moveTo>
                    <a:lnTo>
                      <a:pt x="36" y="224"/>
                    </a:lnTo>
                    <a:lnTo>
                      <a:pt x="60" y="466"/>
                    </a:lnTo>
                    <a:lnTo>
                      <a:pt x="125" y="466"/>
                    </a:lnTo>
                    <a:lnTo>
                      <a:pt x="148" y="228"/>
                    </a:lnTo>
                    <a:lnTo>
                      <a:pt x="148" y="183"/>
                    </a:lnTo>
                    <a:lnTo>
                      <a:pt x="157" y="183"/>
                    </a:lnTo>
                    <a:lnTo>
                      <a:pt x="157" y="224"/>
                    </a:lnTo>
                    <a:lnTo>
                      <a:pt x="185" y="224"/>
                    </a:lnTo>
                    <a:lnTo>
                      <a:pt x="185"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 name=""/>
            <p:cNvGrpSpPr/>
            <p:nvPr/>
          </p:nvGrpSpPr>
          <p:grpSpPr>
            <a:xfrm>
              <a:off x="6794640" y="1538280"/>
              <a:ext cx="293400" cy="884160"/>
              <a:chOff x="6794640" y="1538280"/>
              <a:chExt cx="293400" cy="884160"/>
            </a:xfrm>
          </p:grpSpPr>
          <p:sp>
            <p:nvSpPr>
              <p:cNvPr id="280" name=""/>
              <p:cNvSpPr/>
              <p:nvPr/>
            </p:nvSpPr>
            <p:spPr>
              <a:xfrm>
                <a:off x="6892920" y="1538280"/>
                <a:ext cx="100080" cy="120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81" name=""/>
              <p:cNvSpPr/>
              <p:nvPr/>
            </p:nvSpPr>
            <p:spPr>
              <a:xfrm>
                <a:off x="6794640" y="1681200"/>
                <a:ext cx="293400" cy="741240"/>
              </a:xfrm>
              <a:custGeom>
                <a:avLst/>
                <a:gdLst/>
                <a:ahLst/>
                <a:rect l="l" t="t" r="r" b="b"/>
                <a:pathLst>
                  <a:path w="185" h="467">
                    <a:moveTo>
                      <a:pt x="36" y="183"/>
                    </a:moveTo>
                    <a:lnTo>
                      <a:pt x="36" y="224"/>
                    </a:lnTo>
                    <a:lnTo>
                      <a:pt x="60" y="466"/>
                    </a:lnTo>
                    <a:lnTo>
                      <a:pt x="124" y="466"/>
                    </a:lnTo>
                    <a:lnTo>
                      <a:pt x="147" y="228"/>
                    </a:lnTo>
                    <a:lnTo>
                      <a:pt x="147" y="183"/>
                    </a:lnTo>
                    <a:lnTo>
                      <a:pt x="156" y="183"/>
                    </a:lnTo>
                    <a:lnTo>
                      <a:pt x="156" y="224"/>
                    </a:lnTo>
                    <a:lnTo>
                      <a:pt x="184" y="224"/>
                    </a:lnTo>
                    <a:lnTo>
                      <a:pt x="184"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82" name=""/>
          <p:cNvSpPr/>
          <p:nvPr/>
        </p:nvSpPr>
        <p:spPr>
          <a:xfrm>
            <a:off x="6426000" y="2463840"/>
            <a:ext cx="1009080" cy="402120"/>
          </a:xfrm>
          <a:prstGeom prst="rect">
            <a:avLst/>
          </a:prstGeom>
          <a:noFill/>
          <a:ln w="0">
            <a:noFill/>
          </a:ln>
        </p:spPr>
        <p:style>
          <a:lnRef idx="0"/>
          <a:fillRef idx="0"/>
          <a:effectRef idx="0"/>
          <a:fontRef idx="minor"/>
        </p:style>
        <p:txBody>
          <a:bodyPr wrap="none" lIns="88920" rIns="88920" tIns="46080" bIns="46080" anchor="t">
            <a:spAutoFit/>
          </a:bodyPr>
          <a:p>
            <a:pPr algn="ctr">
              <a:lnSpc>
                <a:spcPct val="85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200" spc="-1" strike="noStrike">
                <a:solidFill>
                  <a:srgbClr val="ffffff"/>
                </a:solidFill>
                <a:latin typeface="Arial"/>
              </a:rPr>
              <a:t>Crisis action</a:t>
            </a:r>
            <a:endParaRPr b="0" lang="en-US" sz="1200" spc="-1" strike="noStrike">
              <a:solidFill>
                <a:srgbClr val="ffffff"/>
              </a:solidFill>
              <a:latin typeface="Times New Roman"/>
            </a:endParaRPr>
          </a:p>
          <a:p>
            <a:pPr algn="ctr">
              <a:lnSpc>
                <a:spcPct val="85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200" spc="-1" strike="noStrike">
                <a:solidFill>
                  <a:srgbClr val="ffffff"/>
                </a:solidFill>
                <a:latin typeface="Arial"/>
              </a:rPr>
              <a:t>team</a:t>
            </a:r>
            <a:endParaRPr b="0" lang="en-US" sz="1200" spc="-1" strike="noStrike">
              <a:solidFill>
                <a:srgbClr val="ffffff"/>
              </a:solidFill>
              <a:latin typeface="Times New Roman"/>
            </a:endParaRPr>
          </a:p>
        </p:txBody>
      </p:sp>
      <p:grpSp>
        <p:nvGrpSpPr>
          <p:cNvPr id="283" name=""/>
          <p:cNvGrpSpPr/>
          <p:nvPr/>
        </p:nvGrpSpPr>
        <p:grpSpPr>
          <a:xfrm>
            <a:off x="5179680" y="2286000"/>
            <a:ext cx="966960" cy="914400"/>
            <a:chOff x="5179680" y="2286000"/>
            <a:chExt cx="966960" cy="914400"/>
          </a:xfrm>
        </p:grpSpPr>
        <p:sp>
          <p:nvSpPr>
            <p:cNvPr id="284" name=""/>
            <p:cNvSpPr/>
            <p:nvPr/>
          </p:nvSpPr>
          <p:spPr>
            <a:xfrm flipH="1">
              <a:off x="5179680" y="2286000"/>
              <a:ext cx="909720" cy="914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5294160" y="2349360"/>
              <a:ext cx="852480" cy="8510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6" name=""/>
          <p:cNvSpPr/>
          <p:nvPr/>
        </p:nvSpPr>
        <p:spPr>
          <a:xfrm>
            <a:off x="4122720" y="4348080"/>
            <a:ext cx="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etwork Structure</a:t>
            </a:r>
            <a:endParaRPr b="0" lang="en-US" sz="3600" spc="-1" strike="noStrike">
              <a:solidFill>
                <a:srgbClr val="ffffff"/>
              </a:solidFill>
              <a:latin typeface="Century Schoolbook"/>
            </a:endParaRPr>
          </a:p>
        </p:txBody>
      </p:sp>
      <p:grpSp>
        <p:nvGrpSpPr>
          <p:cNvPr id="288" name=""/>
          <p:cNvGrpSpPr/>
          <p:nvPr/>
        </p:nvGrpSpPr>
        <p:grpSpPr>
          <a:xfrm>
            <a:off x="731880" y="2098800"/>
            <a:ext cx="7669080" cy="3672360"/>
            <a:chOff x="731880" y="2098800"/>
            <a:chExt cx="7669080" cy="3672360"/>
          </a:xfrm>
        </p:grpSpPr>
        <p:sp>
          <p:nvSpPr>
            <p:cNvPr id="289" name=""/>
            <p:cNvSpPr/>
            <p:nvPr/>
          </p:nvSpPr>
          <p:spPr>
            <a:xfrm>
              <a:off x="731880" y="2638440"/>
              <a:ext cx="7664400" cy="865080"/>
            </a:xfrm>
            <a:prstGeom prst="rect">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736560" y="3605040"/>
              <a:ext cx="7664400" cy="1614600"/>
            </a:xfrm>
            <a:prstGeom prst="rect">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1452600" y="2793960"/>
              <a:ext cx="58467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1468440" y="2774880"/>
              <a:ext cx="0" cy="1114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222720" y="2806560"/>
              <a:ext cx="0" cy="1090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5392800" y="2800440"/>
              <a:ext cx="0" cy="1093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7297560" y="2776680"/>
              <a:ext cx="0" cy="1103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7175520" y="3900600"/>
              <a:ext cx="239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873000" y="4334040"/>
              <a:ext cx="113328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Weather</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center</a:t>
              </a:r>
              <a:endParaRPr b="0" lang="en-US" sz="1800" spc="-1" strike="noStrike">
                <a:solidFill>
                  <a:srgbClr val="ffffff"/>
                </a:solidFill>
                <a:latin typeface="Times New Roman"/>
              </a:endParaRPr>
            </a:p>
          </p:txBody>
        </p:sp>
        <p:sp>
          <p:nvSpPr>
            <p:cNvPr id="298" name=""/>
            <p:cNvSpPr/>
            <p:nvPr/>
          </p:nvSpPr>
          <p:spPr>
            <a:xfrm>
              <a:off x="2504520" y="4343400"/>
              <a:ext cx="143964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Operations</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center</a:t>
              </a:r>
              <a:endParaRPr b="0" lang="en-US" sz="1800" spc="-1" strike="noStrike">
                <a:solidFill>
                  <a:srgbClr val="ffffff"/>
                </a:solidFill>
                <a:latin typeface="Times New Roman"/>
              </a:endParaRPr>
            </a:p>
          </p:txBody>
        </p:sp>
        <p:sp>
          <p:nvSpPr>
            <p:cNvPr id="299" name=""/>
            <p:cNvSpPr/>
            <p:nvPr/>
          </p:nvSpPr>
          <p:spPr>
            <a:xfrm>
              <a:off x="4754160" y="4330800"/>
              <a:ext cx="1299240" cy="93780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DoD</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wide area</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network 1</a:t>
              </a:r>
              <a:endParaRPr b="0" lang="en-US" sz="1800" spc="-1" strike="noStrike">
                <a:solidFill>
                  <a:srgbClr val="ffffff"/>
                </a:solidFill>
                <a:latin typeface="Times New Roman"/>
              </a:endParaRPr>
            </a:p>
          </p:txBody>
        </p:sp>
        <p:sp>
          <p:nvSpPr>
            <p:cNvPr id="300" name=""/>
            <p:cNvSpPr/>
            <p:nvPr/>
          </p:nvSpPr>
          <p:spPr>
            <a:xfrm>
              <a:off x="6648120" y="4343400"/>
              <a:ext cx="1299240" cy="93780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DoD</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wide area</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network 2</a:t>
              </a:r>
              <a:endParaRPr b="0" lang="en-US" sz="1800" spc="-1" strike="noStrike">
                <a:solidFill>
                  <a:srgbClr val="ffffff"/>
                </a:solidFill>
                <a:latin typeface="Times New Roman"/>
              </a:endParaRPr>
            </a:p>
          </p:txBody>
        </p:sp>
        <p:sp>
          <p:nvSpPr>
            <p:cNvPr id="301" name=""/>
            <p:cNvSpPr/>
            <p:nvPr/>
          </p:nvSpPr>
          <p:spPr>
            <a:xfrm>
              <a:off x="2634480" y="5351400"/>
              <a:ext cx="2448360" cy="4197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Local</a:t>
              </a:r>
              <a:r>
                <a:rPr b="0" lang="en-US" sz="2000" spc="-1" strike="noStrike">
                  <a:solidFill>
                    <a:srgbClr val="ffffff"/>
                  </a:solidFill>
                  <a:latin typeface="Arial"/>
                </a:rPr>
                <a:t> area networks</a:t>
              </a:r>
              <a:endParaRPr b="0" lang="en-US" sz="2000" spc="-1" strike="noStrike">
                <a:solidFill>
                  <a:srgbClr val="ffffff"/>
                </a:solidFill>
                <a:latin typeface="Times New Roman"/>
              </a:endParaRPr>
            </a:p>
          </p:txBody>
        </p:sp>
        <p:sp>
          <p:nvSpPr>
            <p:cNvPr id="302" name=""/>
            <p:cNvSpPr/>
            <p:nvPr/>
          </p:nvSpPr>
          <p:spPr>
            <a:xfrm>
              <a:off x="2629800" y="2098800"/>
              <a:ext cx="2573280" cy="4197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High-speed</a:t>
              </a:r>
              <a:r>
                <a:rPr b="0" lang="en-US" sz="2000" spc="-1" strike="noStrike">
                  <a:solidFill>
                    <a:srgbClr val="ffffff"/>
                  </a:solidFill>
                  <a:latin typeface="Arial"/>
                </a:rPr>
                <a:t> backbone</a:t>
              </a:r>
              <a:endParaRPr b="0" lang="en-US" sz="2000" spc="-1" strike="noStrike">
                <a:solidFill>
                  <a:srgbClr val="ffffff"/>
                </a:solidFill>
                <a:latin typeface="Times New Roman"/>
              </a:endParaRPr>
            </a:p>
          </p:txBody>
        </p:sp>
        <p:grpSp>
          <p:nvGrpSpPr>
            <p:cNvPr id="303" name=""/>
            <p:cNvGrpSpPr/>
            <p:nvPr/>
          </p:nvGrpSpPr>
          <p:grpSpPr>
            <a:xfrm>
              <a:off x="2517840" y="2301840"/>
              <a:ext cx="63360" cy="349200"/>
              <a:chOff x="2517840" y="2301840"/>
              <a:chExt cx="63360" cy="349200"/>
            </a:xfrm>
          </p:grpSpPr>
          <p:sp>
            <p:nvSpPr>
              <p:cNvPr id="304" name=""/>
              <p:cNvSpPr/>
              <p:nvPr/>
            </p:nvSpPr>
            <p:spPr>
              <a:xfrm>
                <a:off x="2548080" y="2351160"/>
                <a:ext cx="0" cy="29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517840" y="2301840"/>
                <a:ext cx="63360" cy="619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grpSp>
        <p:grpSp>
          <p:nvGrpSpPr>
            <p:cNvPr id="306" name=""/>
            <p:cNvGrpSpPr/>
            <p:nvPr/>
          </p:nvGrpSpPr>
          <p:grpSpPr>
            <a:xfrm>
              <a:off x="2523960" y="5221440"/>
              <a:ext cx="61920" cy="347400"/>
              <a:chOff x="2523960" y="5221440"/>
              <a:chExt cx="61920" cy="347400"/>
            </a:xfrm>
          </p:grpSpPr>
          <p:sp>
            <p:nvSpPr>
              <p:cNvPr id="307" name=""/>
              <p:cNvSpPr/>
              <p:nvPr/>
            </p:nvSpPr>
            <p:spPr>
              <a:xfrm>
                <a:off x="2557440" y="5221440"/>
                <a:ext cx="0" cy="3045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2523960" y="5506920"/>
                <a:ext cx="61920" cy="619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grpSp>
        <p:grpSp>
          <p:nvGrpSpPr>
            <p:cNvPr id="309" name=""/>
            <p:cNvGrpSpPr/>
            <p:nvPr/>
          </p:nvGrpSpPr>
          <p:grpSpPr>
            <a:xfrm>
              <a:off x="7188120" y="3900600"/>
              <a:ext cx="0" cy="450720"/>
              <a:chOff x="7188120" y="3900600"/>
              <a:chExt cx="0" cy="450720"/>
            </a:xfrm>
          </p:grpSpPr>
          <p:sp>
            <p:nvSpPr>
              <p:cNvPr id="310" name=""/>
              <p:cNvSpPr/>
              <p:nvPr/>
            </p:nvSpPr>
            <p:spPr>
              <a:xfrm>
                <a:off x="7188120" y="390060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188120" y="417816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2" name=""/>
            <p:cNvGrpSpPr/>
            <p:nvPr/>
          </p:nvGrpSpPr>
          <p:grpSpPr>
            <a:xfrm>
              <a:off x="7421400" y="3903840"/>
              <a:ext cx="0" cy="450720"/>
              <a:chOff x="7421400" y="3903840"/>
              <a:chExt cx="0" cy="450720"/>
            </a:xfrm>
          </p:grpSpPr>
          <p:sp>
            <p:nvSpPr>
              <p:cNvPr id="313" name=""/>
              <p:cNvSpPr/>
              <p:nvPr/>
            </p:nvSpPr>
            <p:spPr>
              <a:xfrm>
                <a:off x="7421400" y="390384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421400" y="418140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5" name=""/>
            <p:cNvGrpSpPr/>
            <p:nvPr/>
          </p:nvGrpSpPr>
          <p:grpSpPr>
            <a:xfrm>
              <a:off x="5162400" y="3908520"/>
              <a:ext cx="0" cy="449280"/>
              <a:chOff x="5162400" y="3908520"/>
              <a:chExt cx="0" cy="449280"/>
            </a:xfrm>
          </p:grpSpPr>
          <p:sp>
            <p:nvSpPr>
              <p:cNvPr id="316" name=""/>
              <p:cNvSpPr/>
              <p:nvPr/>
            </p:nvSpPr>
            <p:spPr>
              <a:xfrm>
                <a:off x="5162400" y="3908520"/>
                <a:ext cx="0" cy="296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162400" y="418464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8" name=""/>
            <p:cNvGrpSpPr/>
            <p:nvPr/>
          </p:nvGrpSpPr>
          <p:grpSpPr>
            <a:xfrm>
              <a:off x="5400720" y="3908520"/>
              <a:ext cx="0" cy="449280"/>
              <a:chOff x="5400720" y="3908520"/>
              <a:chExt cx="0" cy="449280"/>
            </a:xfrm>
          </p:grpSpPr>
          <p:sp>
            <p:nvSpPr>
              <p:cNvPr id="319" name=""/>
              <p:cNvSpPr/>
              <p:nvPr/>
            </p:nvSpPr>
            <p:spPr>
              <a:xfrm>
                <a:off x="5400720" y="3908520"/>
                <a:ext cx="0" cy="296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5400720" y="418464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1" name=""/>
            <p:cNvGrpSpPr/>
            <p:nvPr/>
          </p:nvGrpSpPr>
          <p:grpSpPr>
            <a:xfrm>
              <a:off x="5624640" y="3903840"/>
              <a:ext cx="0" cy="450720"/>
              <a:chOff x="5624640" y="3903840"/>
              <a:chExt cx="0" cy="450720"/>
            </a:xfrm>
          </p:grpSpPr>
          <p:sp>
            <p:nvSpPr>
              <p:cNvPr id="322" name=""/>
              <p:cNvSpPr/>
              <p:nvPr/>
            </p:nvSpPr>
            <p:spPr>
              <a:xfrm>
                <a:off x="5624640" y="390384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5624640" y="418140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a:off x="5153040" y="3916440"/>
              <a:ext cx="45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5" name=""/>
            <p:cNvGrpSpPr/>
            <p:nvPr/>
          </p:nvGrpSpPr>
          <p:grpSpPr>
            <a:xfrm>
              <a:off x="2876400" y="3909960"/>
              <a:ext cx="0" cy="451080"/>
              <a:chOff x="2876400" y="3909960"/>
              <a:chExt cx="0" cy="451080"/>
            </a:xfrm>
          </p:grpSpPr>
          <p:sp>
            <p:nvSpPr>
              <p:cNvPr id="326" name=""/>
              <p:cNvSpPr/>
              <p:nvPr/>
            </p:nvSpPr>
            <p:spPr>
              <a:xfrm>
                <a:off x="287640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287640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8" name=""/>
            <p:cNvGrpSpPr/>
            <p:nvPr/>
          </p:nvGrpSpPr>
          <p:grpSpPr>
            <a:xfrm>
              <a:off x="3103560" y="3909960"/>
              <a:ext cx="0" cy="451080"/>
              <a:chOff x="3103560" y="3909960"/>
              <a:chExt cx="0" cy="451080"/>
            </a:xfrm>
          </p:grpSpPr>
          <p:sp>
            <p:nvSpPr>
              <p:cNvPr id="329" name=""/>
              <p:cNvSpPr/>
              <p:nvPr/>
            </p:nvSpPr>
            <p:spPr>
              <a:xfrm>
                <a:off x="310356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310356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3327480" y="3908520"/>
              <a:ext cx="0" cy="450720"/>
              <a:chOff x="3327480" y="3908520"/>
              <a:chExt cx="0" cy="450720"/>
            </a:xfrm>
          </p:grpSpPr>
          <p:sp>
            <p:nvSpPr>
              <p:cNvPr id="332" name=""/>
              <p:cNvSpPr/>
              <p:nvPr/>
            </p:nvSpPr>
            <p:spPr>
              <a:xfrm>
                <a:off x="3327480" y="390852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327480" y="41860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4" name=""/>
            <p:cNvSpPr/>
            <p:nvPr/>
          </p:nvSpPr>
          <p:spPr>
            <a:xfrm>
              <a:off x="2879640" y="3921120"/>
              <a:ext cx="6778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5" name=""/>
            <p:cNvGrpSpPr/>
            <p:nvPr/>
          </p:nvGrpSpPr>
          <p:grpSpPr>
            <a:xfrm>
              <a:off x="3552840" y="3909960"/>
              <a:ext cx="0" cy="451080"/>
              <a:chOff x="3552840" y="3909960"/>
              <a:chExt cx="0" cy="451080"/>
            </a:xfrm>
          </p:grpSpPr>
          <p:sp>
            <p:nvSpPr>
              <p:cNvPr id="336" name=""/>
              <p:cNvSpPr/>
              <p:nvPr/>
            </p:nvSpPr>
            <p:spPr>
              <a:xfrm>
                <a:off x="355284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355284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8" name=""/>
            <p:cNvGrpSpPr/>
            <p:nvPr/>
          </p:nvGrpSpPr>
          <p:grpSpPr>
            <a:xfrm>
              <a:off x="1787400" y="3903840"/>
              <a:ext cx="0" cy="450720"/>
              <a:chOff x="1787400" y="3903840"/>
              <a:chExt cx="0" cy="450720"/>
            </a:xfrm>
          </p:grpSpPr>
          <p:sp>
            <p:nvSpPr>
              <p:cNvPr id="339" name=""/>
              <p:cNvSpPr/>
              <p:nvPr/>
            </p:nvSpPr>
            <p:spPr>
              <a:xfrm>
                <a:off x="1787400" y="390384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787400" y="418140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1" name=""/>
            <p:cNvGrpSpPr/>
            <p:nvPr/>
          </p:nvGrpSpPr>
          <p:grpSpPr>
            <a:xfrm>
              <a:off x="2003400" y="3902040"/>
              <a:ext cx="0" cy="450720"/>
              <a:chOff x="2003400" y="3902040"/>
              <a:chExt cx="0" cy="450720"/>
            </a:xfrm>
          </p:grpSpPr>
          <p:sp>
            <p:nvSpPr>
              <p:cNvPr id="342" name=""/>
              <p:cNvSpPr/>
              <p:nvPr/>
            </p:nvSpPr>
            <p:spPr>
              <a:xfrm>
                <a:off x="2003400" y="390204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2003400" y="4179960"/>
                <a:ext cx="0" cy="17280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4" name=""/>
            <p:cNvGrpSpPr/>
            <p:nvPr/>
          </p:nvGrpSpPr>
          <p:grpSpPr>
            <a:xfrm>
              <a:off x="896760" y="3909960"/>
              <a:ext cx="0" cy="451080"/>
              <a:chOff x="896760" y="3909960"/>
              <a:chExt cx="0" cy="451080"/>
            </a:xfrm>
          </p:grpSpPr>
          <p:sp>
            <p:nvSpPr>
              <p:cNvPr id="345" name=""/>
              <p:cNvSpPr/>
              <p:nvPr/>
            </p:nvSpPr>
            <p:spPr>
              <a:xfrm>
                <a:off x="89676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89676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7" name=""/>
            <p:cNvGrpSpPr/>
            <p:nvPr/>
          </p:nvGrpSpPr>
          <p:grpSpPr>
            <a:xfrm>
              <a:off x="1122480" y="3909960"/>
              <a:ext cx="0" cy="451080"/>
              <a:chOff x="1122480" y="3909960"/>
              <a:chExt cx="0" cy="451080"/>
            </a:xfrm>
          </p:grpSpPr>
          <p:sp>
            <p:nvSpPr>
              <p:cNvPr id="348" name=""/>
              <p:cNvSpPr/>
              <p:nvPr/>
            </p:nvSpPr>
            <p:spPr>
              <a:xfrm>
                <a:off x="112248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112248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0" name=""/>
            <p:cNvGrpSpPr/>
            <p:nvPr/>
          </p:nvGrpSpPr>
          <p:grpSpPr>
            <a:xfrm>
              <a:off x="1346040" y="3908520"/>
              <a:ext cx="0" cy="450720"/>
              <a:chOff x="1346040" y="3908520"/>
              <a:chExt cx="0" cy="450720"/>
            </a:xfrm>
          </p:grpSpPr>
          <p:sp>
            <p:nvSpPr>
              <p:cNvPr id="351" name=""/>
              <p:cNvSpPr/>
              <p:nvPr/>
            </p:nvSpPr>
            <p:spPr>
              <a:xfrm>
                <a:off x="1346040" y="390852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346040" y="41860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898560" y="3914640"/>
              <a:ext cx="1101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4" name=""/>
            <p:cNvGrpSpPr/>
            <p:nvPr/>
          </p:nvGrpSpPr>
          <p:grpSpPr>
            <a:xfrm>
              <a:off x="1573200" y="3909960"/>
              <a:ext cx="0" cy="451080"/>
              <a:chOff x="1573200" y="3909960"/>
              <a:chExt cx="0" cy="451080"/>
            </a:xfrm>
          </p:grpSpPr>
          <p:sp>
            <p:nvSpPr>
              <p:cNvPr id="355" name=""/>
              <p:cNvSpPr/>
              <p:nvPr/>
            </p:nvSpPr>
            <p:spPr>
              <a:xfrm>
                <a:off x="157320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157320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oftware  Architecture</a:t>
            </a:r>
            <a:endParaRPr b="0" lang="en-US" sz="3600" spc="-1" strike="noStrike">
              <a:solidFill>
                <a:srgbClr val="ffffff"/>
              </a:solidFill>
              <a:latin typeface="Century Schoolbook"/>
            </a:endParaRPr>
          </a:p>
        </p:txBody>
      </p:sp>
      <p:grpSp>
        <p:nvGrpSpPr>
          <p:cNvPr id="358" name=""/>
          <p:cNvGrpSpPr/>
          <p:nvPr/>
        </p:nvGrpSpPr>
        <p:grpSpPr>
          <a:xfrm>
            <a:off x="3505320" y="4267080"/>
            <a:ext cx="1143000" cy="482760"/>
            <a:chOff x="3505320" y="4267080"/>
            <a:chExt cx="1143000" cy="482760"/>
          </a:xfrm>
        </p:grpSpPr>
        <p:sp>
          <p:nvSpPr>
            <p:cNvPr id="359" name=""/>
            <p:cNvSpPr/>
            <p:nvPr/>
          </p:nvSpPr>
          <p:spPr>
            <a:xfrm>
              <a:off x="3505320" y="4267080"/>
              <a:ext cx="1143000" cy="482760"/>
            </a:xfrm>
            <a:prstGeom prst="octagon">
              <a:avLst>
                <a:gd name="adj" fmla="val 29278"/>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3780720" y="4338720"/>
              <a:ext cx="591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I</a:t>
              </a:r>
              <a:endParaRPr b="0" lang="en-US" sz="1800" spc="-1" strike="noStrike">
                <a:solidFill>
                  <a:srgbClr val="ffffff"/>
                </a:solidFill>
                <a:latin typeface="Times New Roman"/>
              </a:endParaRPr>
            </a:p>
          </p:txBody>
        </p:sp>
      </p:grpSp>
      <p:grpSp>
        <p:nvGrpSpPr>
          <p:cNvPr id="361" name=""/>
          <p:cNvGrpSpPr/>
          <p:nvPr/>
        </p:nvGrpSpPr>
        <p:grpSpPr>
          <a:xfrm>
            <a:off x="4038480" y="3792600"/>
            <a:ext cx="304920" cy="474480"/>
            <a:chOff x="4038480" y="3792600"/>
            <a:chExt cx="304920" cy="474480"/>
          </a:xfrm>
        </p:grpSpPr>
        <p:sp>
          <p:nvSpPr>
            <p:cNvPr id="362" name=""/>
            <p:cNvSpPr/>
            <p:nvPr/>
          </p:nvSpPr>
          <p:spPr>
            <a:xfrm flipV="1">
              <a:off x="4038480" y="3792600"/>
              <a:ext cx="0" cy="4744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V="1">
              <a:off x="4343400" y="3833640"/>
              <a:ext cx="0" cy="4320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4" name=""/>
          <p:cNvSpPr/>
          <p:nvPr/>
        </p:nvSpPr>
        <p:spPr>
          <a:xfrm>
            <a:off x="1093680" y="5918040"/>
            <a:ext cx="185256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1285920" y="560088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sp>
        <p:nvSpPr>
          <p:cNvPr id="366" name=""/>
          <p:cNvSpPr/>
          <p:nvPr/>
        </p:nvSpPr>
        <p:spPr>
          <a:xfrm>
            <a:off x="2971800" y="5562720"/>
            <a:ext cx="1981080" cy="482400"/>
          </a:xfrm>
          <a:prstGeom prst="octagon">
            <a:avLst>
              <a:gd name="adj" fmla="val 29278"/>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275640" y="5638680"/>
            <a:ext cx="1570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 Server</a:t>
            </a:r>
            <a:endParaRPr b="0" lang="en-US" sz="1800" spc="-1" strike="noStrike">
              <a:solidFill>
                <a:srgbClr val="ffffff"/>
              </a:solidFill>
              <a:latin typeface="Times New Roman"/>
            </a:endParaRPr>
          </a:p>
        </p:txBody>
      </p:sp>
      <p:sp>
        <p:nvSpPr>
          <p:cNvPr id="368" name=""/>
          <p:cNvSpPr/>
          <p:nvPr/>
        </p:nvSpPr>
        <p:spPr>
          <a:xfrm>
            <a:off x="1052640" y="3352680"/>
            <a:ext cx="7018200" cy="482760"/>
          </a:xfrm>
          <a:prstGeom prst="octagon">
            <a:avLst>
              <a:gd name="adj" fmla="val 29278"/>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3779640" y="3424320"/>
            <a:ext cx="68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B</a:t>
            </a:r>
            <a:endParaRPr b="0" lang="en-US" sz="1800" spc="-1" strike="noStrike">
              <a:solidFill>
                <a:srgbClr val="ffffff"/>
              </a:solidFill>
              <a:latin typeface="Times New Roman"/>
            </a:endParaRPr>
          </a:p>
        </p:txBody>
      </p:sp>
      <p:sp>
        <p:nvSpPr>
          <p:cNvPr id="370" name=""/>
          <p:cNvSpPr/>
          <p:nvPr/>
        </p:nvSpPr>
        <p:spPr>
          <a:xfrm flipV="1">
            <a:off x="3886200" y="4751280"/>
            <a:ext cx="0" cy="8366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V="1">
            <a:off x="4191120" y="4764240"/>
            <a:ext cx="0" cy="76032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873360" y="2184480"/>
            <a:ext cx="1209600" cy="57924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Environmental</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data server</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objects</a:t>
            </a:r>
            <a:endParaRPr b="0" lang="en-US" sz="1200" spc="-1" strike="noStrike">
              <a:solidFill>
                <a:srgbClr val="ffffff"/>
              </a:solidFill>
              <a:latin typeface="Times New Roman"/>
            </a:endParaRPr>
          </a:p>
        </p:txBody>
      </p:sp>
      <p:sp>
        <p:nvSpPr>
          <p:cNvPr id="373" name=""/>
          <p:cNvSpPr/>
          <p:nvPr/>
        </p:nvSpPr>
        <p:spPr>
          <a:xfrm>
            <a:off x="2350080" y="2262240"/>
            <a:ext cx="1236960" cy="42444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Data gathering</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objects</a:t>
            </a:r>
            <a:endParaRPr b="0" lang="en-US" sz="1200" spc="-1" strike="noStrike">
              <a:solidFill>
                <a:srgbClr val="ffffff"/>
              </a:solidFill>
              <a:latin typeface="Times New Roman"/>
            </a:endParaRPr>
          </a:p>
        </p:txBody>
      </p:sp>
      <p:sp>
        <p:nvSpPr>
          <p:cNvPr id="374" name=""/>
          <p:cNvSpPr/>
          <p:nvPr/>
        </p:nvSpPr>
        <p:spPr>
          <a:xfrm>
            <a:off x="4024080" y="2270160"/>
            <a:ext cx="1149840" cy="42444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Data analysis</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objects</a:t>
            </a:r>
            <a:endParaRPr b="0" lang="en-US" sz="1200" spc="-1" strike="noStrike">
              <a:solidFill>
                <a:srgbClr val="ffffff"/>
              </a:solidFill>
              <a:latin typeface="Times New Roman"/>
            </a:endParaRPr>
          </a:p>
        </p:txBody>
      </p:sp>
      <p:sp>
        <p:nvSpPr>
          <p:cNvPr id="375" name=""/>
          <p:cNvSpPr/>
          <p:nvPr/>
        </p:nvSpPr>
        <p:spPr>
          <a:xfrm>
            <a:off x="5647320" y="2187720"/>
            <a:ext cx="1064520" cy="57924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Data</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visualization</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objects</a:t>
            </a:r>
            <a:endParaRPr b="0" lang="en-US" sz="1200" spc="-1" strike="noStrike">
              <a:solidFill>
                <a:srgbClr val="ffffff"/>
              </a:solidFill>
              <a:latin typeface="Times New Roman"/>
            </a:endParaRPr>
          </a:p>
        </p:txBody>
      </p:sp>
      <p:sp>
        <p:nvSpPr>
          <p:cNvPr id="376" name=""/>
          <p:cNvSpPr/>
          <p:nvPr/>
        </p:nvSpPr>
        <p:spPr>
          <a:xfrm>
            <a:off x="7296120" y="2271600"/>
            <a:ext cx="895680" cy="42444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Joint map</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server</a:t>
            </a:r>
            <a:endParaRPr b="0" lang="en-US" sz="1200" spc="-1" strike="noStrike">
              <a:solidFill>
                <a:srgbClr val="ffffff"/>
              </a:solidFill>
              <a:latin typeface="Times New Roman"/>
            </a:endParaRPr>
          </a:p>
        </p:txBody>
      </p:sp>
      <p:grpSp>
        <p:nvGrpSpPr>
          <p:cNvPr id="377" name=""/>
          <p:cNvGrpSpPr/>
          <p:nvPr/>
        </p:nvGrpSpPr>
        <p:grpSpPr>
          <a:xfrm>
            <a:off x="682200" y="1819080"/>
            <a:ext cx="1438560" cy="917640"/>
            <a:chOff x="682200" y="1819080"/>
            <a:chExt cx="1438560" cy="917640"/>
          </a:xfrm>
        </p:grpSpPr>
        <p:sp>
          <p:nvSpPr>
            <p:cNvPr id="378" name=""/>
            <p:cNvSpPr/>
            <p:nvPr/>
          </p:nvSpPr>
          <p:spPr>
            <a:xfrm>
              <a:off x="803160" y="2178000"/>
              <a:ext cx="1317600" cy="55872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9" name=""/>
            <p:cNvGrpSpPr/>
            <p:nvPr/>
          </p:nvGrpSpPr>
          <p:grpSpPr>
            <a:xfrm>
              <a:off x="739440" y="1981080"/>
              <a:ext cx="1294200" cy="452160"/>
              <a:chOff x="739440" y="1981080"/>
              <a:chExt cx="1294200" cy="452160"/>
            </a:xfrm>
          </p:grpSpPr>
          <p:sp>
            <p:nvSpPr>
              <p:cNvPr id="380" name=""/>
              <p:cNvSpPr/>
              <p:nvPr/>
            </p:nvSpPr>
            <p:spPr>
              <a:xfrm flipH="1" flipV="1">
                <a:off x="739440" y="2381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381" name=""/>
              <p:cNvSpPr/>
              <p:nvPr/>
            </p:nvSpPr>
            <p:spPr>
              <a:xfrm flipV="1">
                <a:off x="746280" y="2141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flipV="1">
                <a:off x="747720" y="1981080"/>
                <a:ext cx="160200" cy="16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903240" y="1984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901880" y="1996920"/>
                <a:ext cx="13176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2022480" y="212868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6" name=""/>
            <p:cNvGrpSpPr/>
            <p:nvPr/>
          </p:nvGrpSpPr>
          <p:grpSpPr>
            <a:xfrm>
              <a:off x="682200" y="1819080"/>
              <a:ext cx="1294200" cy="452160"/>
              <a:chOff x="682200" y="1819080"/>
              <a:chExt cx="1294200" cy="452160"/>
            </a:xfrm>
          </p:grpSpPr>
          <p:sp>
            <p:nvSpPr>
              <p:cNvPr id="387" name=""/>
              <p:cNvSpPr/>
              <p:nvPr/>
            </p:nvSpPr>
            <p:spPr>
              <a:xfrm flipH="1" flipV="1">
                <a:off x="682200" y="2219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388" name=""/>
              <p:cNvSpPr/>
              <p:nvPr/>
            </p:nvSpPr>
            <p:spPr>
              <a:xfrm flipV="1">
                <a:off x="689040" y="1979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690480" y="1819080"/>
                <a:ext cx="160560" cy="16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846000" y="1822320"/>
                <a:ext cx="989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1844640" y="1835280"/>
                <a:ext cx="13176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1965240" y="19670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5388120" y="1819080"/>
            <a:ext cx="1438200" cy="917640"/>
            <a:chOff x="5388120" y="1819080"/>
            <a:chExt cx="1438200" cy="917640"/>
          </a:xfrm>
        </p:grpSpPr>
        <p:sp>
          <p:nvSpPr>
            <p:cNvPr id="394" name=""/>
            <p:cNvSpPr/>
            <p:nvPr/>
          </p:nvSpPr>
          <p:spPr>
            <a:xfrm>
              <a:off x="5508720" y="2178000"/>
              <a:ext cx="1317600" cy="55872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95" name=""/>
            <p:cNvGrpSpPr/>
            <p:nvPr/>
          </p:nvGrpSpPr>
          <p:grpSpPr>
            <a:xfrm>
              <a:off x="5444640" y="1981080"/>
              <a:ext cx="1294200" cy="452160"/>
              <a:chOff x="5444640" y="1981080"/>
              <a:chExt cx="1294200" cy="452160"/>
            </a:xfrm>
          </p:grpSpPr>
          <p:sp>
            <p:nvSpPr>
              <p:cNvPr id="396" name=""/>
              <p:cNvSpPr/>
              <p:nvPr/>
            </p:nvSpPr>
            <p:spPr>
              <a:xfrm flipH="1" flipV="1">
                <a:off x="5444640" y="2381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397" name=""/>
              <p:cNvSpPr/>
              <p:nvPr/>
            </p:nvSpPr>
            <p:spPr>
              <a:xfrm flipV="1">
                <a:off x="5451480" y="2141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5452920" y="1981080"/>
                <a:ext cx="160560" cy="16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5608800" y="1984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6607080" y="1996920"/>
                <a:ext cx="13176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727680" y="212868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2" name=""/>
            <p:cNvGrpSpPr/>
            <p:nvPr/>
          </p:nvGrpSpPr>
          <p:grpSpPr>
            <a:xfrm>
              <a:off x="5388120" y="1819080"/>
              <a:ext cx="1293840" cy="452160"/>
              <a:chOff x="5388120" y="1819080"/>
              <a:chExt cx="1293840" cy="452160"/>
            </a:xfrm>
          </p:grpSpPr>
          <p:sp>
            <p:nvSpPr>
              <p:cNvPr id="403" name=""/>
              <p:cNvSpPr/>
              <p:nvPr/>
            </p:nvSpPr>
            <p:spPr>
              <a:xfrm flipH="1" flipV="1">
                <a:off x="5388120" y="2219040"/>
                <a:ext cx="4896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04" name=""/>
              <p:cNvSpPr/>
              <p:nvPr/>
            </p:nvSpPr>
            <p:spPr>
              <a:xfrm flipV="1">
                <a:off x="5394240" y="1979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flipV="1">
                <a:off x="5396040" y="1819080"/>
                <a:ext cx="160200" cy="16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5551560" y="1822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6550200" y="1835280"/>
                <a:ext cx="13176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6670800" y="19670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09" name=""/>
          <p:cNvGrpSpPr/>
          <p:nvPr/>
        </p:nvGrpSpPr>
        <p:grpSpPr>
          <a:xfrm>
            <a:off x="2244240" y="1819080"/>
            <a:ext cx="1438920" cy="917640"/>
            <a:chOff x="2244240" y="1819080"/>
            <a:chExt cx="1438920" cy="917640"/>
          </a:xfrm>
        </p:grpSpPr>
        <p:sp>
          <p:nvSpPr>
            <p:cNvPr id="410" name=""/>
            <p:cNvSpPr/>
            <p:nvPr/>
          </p:nvSpPr>
          <p:spPr>
            <a:xfrm>
              <a:off x="2365200" y="2178000"/>
              <a:ext cx="1317960" cy="55872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1" name=""/>
            <p:cNvGrpSpPr/>
            <p:nvPr/>
          </p:nvGrpSpPr>
          <p:grpSpPr>
            <a:xfrm>
              <a:off x="2301480" y="1981080"/>
              <a:ext cx="1294200" cy="452160"/>
              <a:chOff x="2301480" y="1981080"/>
              <a:chExt cx="1294200" cy="452160"/>
            </a:xfrm>
          </p:grpSpPr>
          <p:sp>
            <p:nvSpPr>
              <p:cNvPr id="412" name=""/>
              <p:cNvSpPr/>
              <p:nvPr/>
            </p:nvSpPr>
            <p:spPr>
              <a:xfrm flipH="1" flipV="1">
                <a:off x="2301480" y="2381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13" name=""/>
              <p:cNvSpPr/>
              <p:nvPr/>
            </p:nvSpPr>
            <p:spPr>
              <a:xfrm flipV="1">
                <a:off x="2308320" y="2141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V="1">
                <a:off x="2309760" y="1981080"/>
                <a:ext cx="160560" cy="16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2465280" y="1984320"/>
                <a:ext cx="989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3463920" y="1996920"/>
                <a:ext cx="13176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3584520" y="212868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8" name=""/>
            <p:cNvGrpSpPr/>
            <p:nvPr/>
          </p:nvGrpSpPr>
          <p:grpSpPr>
            <a:xfrm>
              <a:off x="2244240" y="1819080"/>
              <a:ext cx="1294200" cy="452160"/>
              <a:chOff x="2244240" y="1819080"/>
              <a:chExt cx="1294200" cy="452160"/>
            </a:xfrm>
          </p:grpSpPr>
          <p:sp>
            <p:nvSpPr>
              <p:cNvPr id="419" name=""/>
              <p:cNvSpPr/>
              <p:nvPr/>
            </p:nvSpPr>
            <p:spPr>
              <a:xfrm flipH="1" flipV="1">
                <a:off x="2244240" y="2219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20" name=""/>
              <p:cNvSpPr/>
              <p:nvPr/>
            </p:nvSpPr>
            <p:spPr>
              <a:xfrm flipV="1">
                <a:off x="2251080" y="1979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V="1">
                <a:off x="2252520" y="1819080"/>
                <a:ext cx="160560" cy="16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2408400" y="1822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3406680" y="1835280"/>
                <a:ext cx="13176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3527280" y="19670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25" name=""/>
          <p:cNvGrpSpPr/>
          <p:nvPr/>
        </p:nvGrpSpPr>
        <p:grpSpPr>
          <a:xfrm>
            <a:off x="3781080" y="1819080"/>
            <a:ext cx="1438560" cy="917640"/>
            <a:chOff x="3781080" y="1819080"/>
            <a:chExt cx="1438560" cy="917640"/>
          </a:xfrm>
        </p:grpSpPr>
        <p:sp>
          <p:nvSpPr>
            <p:cNvPr id="426" name=""/>
            <p:cNvSpPr/>
            <p:nvPr/>
          </p:nvSpPr>
          <p:spPr>
            <a:xfrm>
              <a:off x="3902040" y="2178000"/>
              <a:ext cx="1317600" cy="55872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27" name=""/>
            <p:cNvGrpSpPr/>
            <p:nvPr/>
          </p:nvGrpSpPr>
          <p:grpSpPr>
            <a:xfrm>
              <a:off x="3838680" y="1981080"/>
              <a:ext cx="1293840" cy="452160"/>
              <a:chOff x="3838680" y="1981080"/>
              <a:chExt cx="1293840" cy="452160"/>
            </a:xfrm>
          </p:grpSpPr>
          <p:sp>
            <p:nvSpPr>
              <p:cNvPr id="428" name=""/>
              <p:cNvSpPr/>
              <p:nvPr/>
            </p:nvSpPr>
            <p:spPr>
              <a:xfrm flipH="1" flipV="1">
                <a:off x="3838680" y="2381040"/>
                <a:ext cx="4896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29" name=""/>
              <p:cNvSpPr/>
              <p:nvPr/>
            </p:nvSpPr>
            <p:spPr>
              <a:xfrm flipV="1">
                <a:off x="3844800" y="2141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3846600" y="1981080"/>
                <a:ext cx="160200" cy="16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4002120" y="1984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5000760" y="1996920"/>
                <a:ext cx="13176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5121360" y="212868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4" name=""/>
            <p:cNvGrpSpPr/>
            <p:nvPr/>
          </p:nvGrpSpPr>
          <p:grpSpPr>
            <a:xfrm>
              <a:off x="3781080" y="1819080"/>
              <a:ext cx="1294200" cy="452160"/>
              <a:chOff x="3781080" y="1819080"/>
              <a:chExt cx="1294200" cy="452160"/>
            </a:xfrm>
          </p:grpSpPr>
          <p:sp>
            <p:nvSpPr>
              <p:cNvPr id="435" name=""/>
              <p:cNvSpPr/>
              <p:nvPr/>
            </p:nvSpPr>
            <p:spPr>
              <a:xfrm flipH="1" flipV="1">
                <a:off x="3781080" y="2219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36" name=""/>
              <p:cNvSpPr/>
              <p:nvPr/>
            </p:nvSpPr>
            <p:spPr>
              <a:xfrm flipV="1">
                <a:off x="3787920" y="1979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V="1">
                <a:off x="3789360" y="1819080"/>
                <a:ext cx="160200" cy="16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3944880" y="1822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4943520" y="1835280"/>
                <a:ext cx="13176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5064120" y="19670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41" name=""/>
          <p:cNvGrpSpPr/>
          <p:nvPr/>
        </p:nvGrpSpPr>
        <p:grpSpPr>
          <a:xfrm>
            <a:off x="6918480" y="1819080"/>
            <a:ext cx="1438200" cy="917640"/>
            <a:chOff x="6918480" y="1819080"/>
            <a:chExt cx="1438200" cy="917640"/>
          </a:xfrm>
        </p:grpSpPr>
        <p:sp>
          <p:nvSpPr>
            <p:cNvPr id="442" name=""/>
            <p:cNvSpPr/>
            <p:nvPr/>
          </p:nvSpPr>
          <p:spPr>
            <a:xfrm>
              <a:off x="7039080" y="2178000"/>
              <a:ext cx="1317600" cy="55872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3" name=""/>
            <p:cNvGrpSpPr/>
            <p:nvPr/>
          </p:nvGrpSpPr>
          <p:grpSpPr>
            <a:xfrm>
              <a:off x="6975000" y="1981080"/>
              <a:ext cx="1294200" cy="452160"/>
              <a:chOff x="6975000" y="1981080"/>
              <a:chExt cx="1294200" cy="452160"/>
            </a:xfrm>
          </p:grpSpPr>
          <p:sp>
            <p:nvSpPr>
              <p:cNvPr id="444" name=""/>
              <p:cNvSpPr/>
              <p:nvPr/>
            </p:nvSpPr>
            <p:spPr>
              <a:xfrm flipH="1" flipV="1">
                <a:off x="6975000" y="2381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45" name=""/>
              <p:cNvSpPr/>
              <p:nvPr/>
            </p:nvSpPr>
            <p:spPr>
              <a:xfrm flipV="1">
                <a:off x="6981840" y="2141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V="1">
                <a:off x="6983280" y="1981080"/>
                <a:ext cx="160560" cy="16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7139160" y="1984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8137440" y="1996920"/>
                <a:ext cx="13176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8258040" y="212868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6918480" y="1819080"/>
              <a:ext cx="1293480" cy="452160"/>
              <a:chOff x="6918480" y="1819080"/>
              <a:chExt cx="1293480" cy="452160"/>
            </a:xfrm>
          </p:grpSpPr>
          <p:sp>
            <p:nvSpPr>
              <p:cNvPr id="451" name=""/>
              <p:cNvSpPr/>
              <p:nvPr/>
            </p:nvSpPr>
            <p:spPr>
              <a:xfrm flipH="1" flipV="1">
                <a:off x="6918480" y="2219040"/>
                <a:ext cx="4896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52" name=""/>
              <p:cNvSpPr/>
              <p:nvPr/>
            </p:nvSpPr>
            <p:spPr>
              <a:xfrm flipV="1">
                <a:off x="6924600" y="1979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V="1">
                <a:off x="6926400" y="1819080"/>
                <a:ext cx="160200" cy="16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081920" y="1822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8080200" y="1835280"/>
                <a:ext cx="13176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8201160" y="19670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57" name=""/>
          <p:cNvSpPr/>
          <p:nvPr/>
        </p:nvSpPr>
        <p:spPr>
          <a:xfrm>
            <a:off x="1461960" y="2782800"/>
            <a:ext cx="0" cy="5367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1467000" y="2906640"/>
            <a:ext cx="0" cy="320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3005280" y="2782800"/>
            <a:ext cx="0" cy="569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021120" y="2868480"/>
            <a:ext cx="0" cy="365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4549680" y="2770200"/>
            <a:ext cx="0" cy="5493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4565520" y="2862360"/>
            <a:ext cx="0" cy="365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6165720" y="2766960"/>
            <a:ext cx="0" cy="5526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6188040" y="2878200"/>
            <a:ext cx="0" cy="328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7694640" y="2766960"/>
            <a:ext cx="0" cy="5684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flipH="1">
            <a:off x="7696080" y="2878200"/>
            <a:ext cx="14400" cy="3492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46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bl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olu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esults</a:t>
            </a:r>
            <a:endParaRPr b="1" lang="en-US" sz="2400" spc="-1" strike="noStrike">
              <a:solidFill>
                <a:srgbClr val="ffffff"/>
              </a:solidFill>
              <a:latin typeface="Arial"/>
            </a:endParaRPr>
          </a:p>
        </p:txBody>
      </p:sp>
      <p:sp>
        <p:nvSpPr>
          <p:cNvPr id="469" name=""/>
          <p:cNvSpPr/>
          <p:nvPr/>
        </p:nvSpPr>
        <p:spPr>
          <a:xfrm>
            <a:off x="420840" y="3416400"/>
            <a:ext cx="341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470" name=""/>
          <p:cNvGraphicFramePr/>
          <p:nvPr/>
        </p:nvGraphicFramePr>
        <p:xfrm>
          <a:off x="7628040" y="254160"/>
          <a:ext cx="1336680" cy="1477800"/>
        </p:xfrm>
        <a:graphic>
          <a:graphicData uri="http://schemas.openxmlformats.org/presentationml/2006/ole">
            <p:oleObj r:id="rId1" spid="">
              <p:embed/>
              <p:pic>
                <p:nvPicPr>
                  <p:cNvPr id="471" name="" descr=""/>
                  <p:cNvPicPr/>
                  <p:nvPr/>
                </p:nvPicPr>
                <p:blipFill>
                  <a:blip r:embed="rId2"/>
                  <a:stretch/>
                </p:blipFill>
                <p:spPr>
                  <a:xfrm>
                    <a:off x="7628040" y="254160"/>
                    <a:ext cx="133668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 the architecture for a Web-based collaborative decision aid system built almost entirely from off-the-shelf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lustrate the effects of off-the-shelf component use on systems and development process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ilding With Off-The-Shelf Components</a:t>
            </a:r>
            <a:endParaRPr b="0" lang="en-US" sz="3600" spc="-1" strike="noStrike">
              <a:solidFill>
                <a:srgbClr val="ffffff"/>
              </a:solidFill>
              <a:latin typeface="Century Schoolbook"/>
            </a:endParaRPr>
          </a:p>
        </p:txBody>
      </p:sp>
      <p:sp>
        <p:nvSpPr>
          <p:cNvPr id="473" name="PlaceHolder 2"/>
          <p:cNvSpPr>
            <a:spLocks noGrp="1"/>
          </p:cNvSpPr>
          <p:nvPr>
            <p:ph/>
          </p:nvPr>
        </p:nvSpPr>
        <p:spPr>
          <a:xfrm>
            <a:off x="936720" y="1731960"/>
            <a:ext cx="7300800" cy="4456080"/>
          </a:xfrm>
          <a:prstGeom prst="rect">
            <a:avLst/>
          </a:prstGeom>
          <a:noFill/>
          <a:ln w="0">
            <a:noFill/>
          </a:ln>
        </p:spPr>
        <p:txBody>
          <a:bodyPr lIns="0" rIns="0" tIns="0" bIns="0" anchor="t">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s glue cod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unction</a:t>
            </a:r>
            <a:r>
              <a:rPr b="1" lang="en-US" sz="2400" spc="-1" strike="noStrike" u="sng">
                <a:solidFill>
                  <a:srgbClr val="ffffff"/>
                </a:solidFill>
                <a:uFillTx/>
                <a:latin typeface="Arial"/>
              </a:rPr>
              <a:t>	</a:t>
            </a:r>
            <a:r>
              <a:rPr b="1" lang="en-US" sz="2400" spc="-1" strike="noStrike" u="sng">
                <a:solidFill>
                  <a:srgbClr val="ffffff"/>
                </a:solidFill>
                <a:uFillTx/>
                <a:latin typeface="Arial"/>
              </a:rPr>
              <a:t>	</a:t>
            </a:r>
            <a:r>
              <a:rPr b="1" lang="en-US" sz="2400" spc="-1" strike="noStrike" u="sng">
                <a:solidFill>
                  <a:srgbClr val="ffffff"/>
                </a:solidFill>
                <a:uFillTx/>
                <a:latin typeface="Arial"/>
              </a:rPr>
              <a:t>	</a:t>
            </a:r>
            <a:r>
              <a:rPr b="1" lang="en-US" sz="2400" spc="-1" strike="noStrike" u="sng">
                <a:solidFill>
                  <a:srgbClr val="ffffff"/>
                </a:solidFill>
                <a:uFillTx/>
                <a:latin typeface="Arial"/>
              </a:rPr>
              <a:t>Language</a:t>
            </a:r>
            <a:r>
              <a:rPr b="1" lang="en-US" sz="2400" spc="-1" strike="noStrike" u="sng">
                <a:solidFill>
                  <a:srgbClr val="ffffff"/>
                </a:solidFill>
                <a:uFillTx/>
                <a:latin typeface="Arial"/>
              </a:rPr>
              <a:t>	</a:t>
            </a:r>
            <a:r>
              <a:rPr b="1" lang="en-US" sz="2400" spc="-1" strike="noStrike" u="sng">
                <a:solidFill>
                  <a:srgbClr val="ffffff"/>
                </a:solidFill>
                <a:uFillTx/>
                <a:latin typeface="Arial"/>
              </a:rPr>
              <a:t>LOC</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ther Specialist</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000</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bWindow script</a:t>
            </a:r>
            <a:r>
              <a:rPr b="1" lang="en-US" sz="2400" spc="-1" strike="noStrike">
                <a:solidFill>
                  <a:srgbClr val="ffffff"/>
                </a:solidFill>
                <a:latin typeface="Arial"/>
              </a:rPr>
              <a:t>	</a:t>
            </a:r>
            <a:r>
              <a:rPr b="1" lang="en-US" sz="2400" spc="-1" strike="noStrike">
                <a:solidFill>
                  <a:srgbClr val="ffffff"/>
                </a:solidFill>
                <a:latin typeface="Arial"/>
              </a:rPr>
              <a:t>Tc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5</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bWindow script</a:t>
            </a:r>
            <a:r>
              <a:rPr b="1" lang="en-US" sz="2400" spc="-1" strike="noStrike">
                <a:solidFill>
                  <a:srgbClr val="ffffff"/>
                </a:solidFill>
                <a:latin typeface="Arial"/>
              </a:rPr>
              <a:t>	</a:t>
            </a: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50</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dImagetoTarget</a:t>
            </a:r>
            <a:r>
              <a:rPr b="1" lang="en-US" sz="2400" spc="-1" strike="noStrike">
                <a:solidFill>
                  <a:srgbClr val="ffffff"/>
                </a:solidFill>
                <a:latin typeface="Arial"/>
              </a:rPr>
              <a:t>	</a:t>
            </a:r>
            <a:r>
              <a:rPr b="1" lang="en-US" sz="2400" spc="-1" strike="noStrike">
                <a:solidFill>
                  <a:srgbClr val="ffffff"/>
                </a:solidFill>
                <a:latin typeface="Arial"/>
              </a:rPr>
              <a:t>Expect</a:t>
            </a:r>
            <a:r>
              <a:rPr b="1" lang="en-US" sz="2400" spc="-1" strike="noStrike">
                <a:solidFill>
                  <a:srgbClr val="ffffff"/>
                </a:solidFill>
                <a:latin typeface="Arial"/>
              </a:rPr>
              <a:t>	</a:t>
            </a:r>
            <a:r>
              <a:rPr b="1" lang="en-US" sz="2400" spc="-1" strike="noStrike">
                <a:solidFill>
                  <a:srgbClr val="ffffff"/>
                </a:solidFill>
                <a:latin typeface="Arial"/>
              </a:rPr>
              <a:t>92</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dImagetoTarget</a:t>
            </a:r>
            <a:r>
              <a:rPr b="1" lang="en-US" sz="2400" spc="-1" strike="noStrike">
                <a:solidFill>
                  <a:srgbClr val="ffffff"/>
                </a:solidFill>
                <a:latin typeface="Arial"/>
              </a:rPr>
              <a:t>	</a:t>
            </a: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0</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OC Product Web</a:t>
            </a:r>
            <a:r>
              <a:rPr b="1" lang="en-US" sz="2400" spc="-1" strike="noStrike">
                <a:solidFill>
                  <a:srgbClr val="ffffff"/>
                </a:solidFill>
                <a:latin typeface="Arial"/>
              </a:rPr>
              <a:t>	</a:t>
            </a:r>
            <a:r>
              <a:rPr b="1" lang="en-US" sz="2400" spc="-1" strike="noStrike">
                <a:solidFill>
                  <a:srgbClr val="ffffff"/>
                </a:solidFill>
                <a:latin typeface="Arial"/>
              </a:rPr>
              <a:t>HTM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215</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OC Product Web</a:t>
            </a:r>
            <a:r>
              <a:rPr b="1" lang="en-US" sz="2400" spc="-1" strike="noStrike">
                <a:solidFill>
                  <a:srgbClr val="ffffff"/>
                </a:solidFill>
                <a:latin typeface="Arial"/>
              </a:rPr>
              <a:t>	</a:t>
            </a:r>
            <a:r>
              <a:rPr b="1" lang="en-US" sz="2400" spc="-1" strike="noStrike">
                <a:solidFill>
                  <a:srgbClr val="ffffff"/>
                </a:solidFill>
                <a:latin typeface="Arial"/>
              </a:rPr>
              <a:t>Tc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03</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OC Proced Web </a:t>
            </a:r>
            <a:r>
              <a:rPr b="1" lang="en-US" sz="2400" spc="-1" strike="noStrike">
                <a:solidFill>
                  <a:srgbClr val="ffffff"/>
                </a:solidFill>
                <a:latin typeface="Arial"/>
              </a:rPr>
              <a:t>	</a:t>
            </a:r>
            <a:r>
              <a:rPr b="1" lang="en-US" sz="2400" spc="-1" strike="noStrike">
                <a:solidFill>
                  <a:srgbClr val="ffffff"/>
                </a:solidFill>
                <a:latin typeface="Arial"/>
              </a:rPr>
              <a:t>HTM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0014</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OC Devel Web</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HTM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154</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911160" y="855360"/>
            <a:ext cx="7864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dvantages of Development Approach</a:t>
            </a:r>
            <a:endParaRPr b="0" lang="en-US" sz="3600" spc="-1" strike="noStrike">
              <a:solidFill>
                <a:srgbClr val="ffffff"/>
              </a:solidFill>
              <a:latin typeface="Century Schoolbook"/>
            </a:endParaRPr>
          </a:p>
        </p:txBody>
      </p:sp>
      <p:sp>
        <p:nvSpPr>
          <p:cNvPr id="475" name="PlaceHolder 2"/>
          <p:cNvSpPr>
            <a:spLocks noGrp="1"/>
          </p:cNvSpPr>
          <p:nvPr>
            <p:ph/>
          </p:nvPr>
        </p:nvSpPr>
        <p:spPr>
          <a:xfrm>
            <a:off x="911160" y="2201760"/>
            <a:ext cx="76104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d large capability system to be fielded quickly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pt users involved and motivated with ownership</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ed dead ends with less important functiona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d rework as system moved from iteration to iter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hieving System Qualities</a:t>
            </a:r>
            <a:endParaRPr b="0" lang="en-US" sz="3600" spc="-1" strike="noStrike">
              <a:solidFill>
                <a:srgbClr val="ffffff"/>
              </a:solidFill>
              <a:latin typeface="Century Schoolbook"/>
            </a:endParaRPr>
          </a:p>
        </p:txBody>
      </p:sp>
      <p:sp>
        <p:nvSpPr>
          <p:cNvPr id="477"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 emulators to the architectur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components that work on multiple platform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team productiv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sensible documentation to writ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y, don’t buil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v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nterchangeable off-the-shelf components with standard communication infrastructur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evolutionary development metho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1</a:t>
            </a:r>
            <a:endParaRPr b="0" lang="en-US" sz="3600" spc="-1" strike="noStrike">
              <a:solidFill>
                <a:srgbClr val="ffffff"/>
              </a:solidFill>
              <a:latin typeface="Century Schoolbook"/>
            </a:endParaRPr>
          </a:p>
        </p:txBody>
      </p:sp>
      <p:sp>
        <p:nvSpPr>
          <p:cNvPr id="47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utionary development is a useful method for systems with flexible requirements and a small, identifiable user commun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ing a system out of off-the-shelf components is possible and enables highly evolvable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day’s standard communication infrastructures (CORBA, WWW) are making such systems increasingly comm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2</a:t>
            </a:r>
            <a:endParaRPr b="0" lang="en-US" sz="3600" spc="-1" strike="noStrike">
              <a:solidFill>
                <a:srgbClr val="ffffff"/>
              </a:solidFill>
              <a:latin typeface="Century Schoolbook"/>
            </a:endParaRPr>
          </a:p>
        </p:txBody>
      </p:sp>
      <p:sp>
        <p:nvSpPr>
          <p:cNvPr id="48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tructing systems from off-the-shelf components means that software engineers are frequently in the position of merely gluing components together and writing scripts for th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makes architecture more important because architecture provides the master plan for component selection and integr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483" name="PlaceHolder 2"/>
          <p:cNvSpPr>
            <a:spLocks noGrp="1"/>
          </p:cNvSpPr>
          <p:nvPr>
            <p:ph/>
          </p:nvPr>
        </p:nvSpPr>
        <p:spPr>
          <a:xfrm>
            <a:off x="923400" y="1782720"/>
            <a:ext cx="764892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ow dependent is the Evolutionary Developmen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thod on the existence of technologies such a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RBA and the WWW?  Could it exist in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bsence of such technologies?  Or, mo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enerally, what are the ramifications of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echnical environment on the ways in which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BC is realiz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485" name="PlaceHolder 2"/>
          <p:cNvSpPr>
            <a:spLocks noGrp="1"/>
          </p:cNvSpPr>
          <p:nvPr>
            <p:ph/>
          </p:nvPr>
        </p:nvSpPr>
        <p:spPr>
          <a:xfrm>
            <a:off x="923760" y="1782720"/>
            <a:ext cx="78264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Earlier in the course, we discussed building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main-specific languages as an approach to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based development.  How does this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roach and the Evolutionary Development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thod relate to each oth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What architectural styles do you recognize in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TOC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TOC</a:t>
            </a:r>
            <a:endParaRPr b="0" lang="en-US" sz="3600" spc="-1" strike="noStrike">
              <a:solidFill>
                <a:srgbClr val="ffffff"/>
              </a:solidFill>
              <a:latin typeface="Century Schoolbook"/>
            </a:endParaRPr>
          </a:p>
        </p:txBody>
      </p:sp>
      <p:sp>
        <p:nvSpPr>
          <p:cNvPr id="130" name="PlaceHolder 2"/>
          <p:cNvSpPr>
            <a:spLocks noGrp="1"/>
          </p:cNvSpPr>
          <p:nvPr>
            <p:ph/>
          </p:nvPr>
        </p:nvSpPr>
        <p:spPr>
          <a:xfrm>
            <a:off x="94932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entralized military help desk in Hawaii for distributing environmental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eorologic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ceanographic</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sis 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ther emergencies (hurrican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litary situations (amphibious landing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 and CORBA-based system using commercial products as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he probl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olu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a:t>
            </a:r>
            <a:endParaRPr b="1" lang="en-US" sz="2400" spc="-1" strike="noStrike">
              <a:solidFill>
                <a:srgbClr val="ffffff"/>
              </a:solidFill>
              <a:latin typeface="Arial"/>
            </a:endParaRPr>
          </a:p>
        </p:txBody>
      </p:sp>
      <p:sp>
        <p:nvSpPr>
          <p:cNvPr id="133" name=""/>
          <p:cNvSpPr/>
          <p:nvPr/>
        </p:nvSpPr>
        <p:spPr>
          <a:xfrm>
            <a:off x="420840" y="1917720"/>
            <a:ext cx="341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34" name=""/>
          <p:cNvGraphicFramePr/>
          <p:nvPr/>
        </p:nvGraphicFramePr>
        <p:xfrm>
          <a:off x="7628040" y="254160"/>
          <a:ext cx="1336680" cy="1477800"/>
        </p:xfrm>
        <a:graphic>
          <a:graphicData uri="http://schemas.openxmlformats.org/presentationml/2006/ole">
            <p:oleObj r:id="rId1" spid="">
              <p:embed/>
              <p:pic>
                <p:nvPicPr>
                  <p:cNvPr id="135" name="" descr=""/>
                  <p:cNvPicPr/>
                  <p:nvPr/>
                </p:nvPicPr>
                <p:blipFill>
                  <a:blip r:embed="rId2"/>
                  <a:stretch/>
                </p:blipFill>
                <p:spPr>
                  <a:xfrm>
                    <a:off x="7628040" y="254160"/>
                    <a:ext cx="133668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ments</a:t>
            </a:r>
            <a:endParaRPr b="0" lang="en-US" sz="3600" spc="-1" strike="noStrike">
              <a:solidFill>
                <a:srgbClr val="ffffff"/>
              </a:solidFill>
              <a:latin typeface="Century Schoolbook"/>
            </a:endParaRPr>
          </a:p>
        </p:txBody>
      </p:sp>
      <p:sp>
        <p:nvSpPr>
          <p:cNvPr id="13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emble and integrate environmental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eorological officers from different services coordinate to prepare briefing information for command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ystem assimilates and interprets data for command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ystem provides decision support to command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grpSp>
        <p:nvGrpSpPr>
          <p:cNvPr id="138" name=""/>
          <p:cNvGrpSpPr/>
          <p:nvPr/>
        </p:nvGrpSpPr>
        <p:grpSpPr>
          <a:xfrm>
            <a:off x="827280" y="442440"/>
            <a:ext cx="7291080" cy="6404760"/>
            <a:chOff x="827280" y="442440"/>
            <a:chExt cx="7291080" cy="6404760"/>
          </a:xfrm>
        </p:grpSpPr>
        <p:sp>
          <p:nvSpPr>
            <p:cNvPr id="139" name=""/>
            <p:cNvSpPr/>
            <p:nvPr/>
          </p:nvSpPr>
          <p:spPr>
            <a:xfrm>
              <a:off x="1027080" y="3668760"/>
              <a:ext cx="7091280" cy="2446200"/>
            </a:xfrm>
            <a:custGeom>
              <a:avLst/>
              <a:gdLst/>
              <a:ahLst/>
              <a:rect l="l" t="t" r="r" b="b"/>
              <a:pathLst>
                <a:path w="4467" h="1541">
                  <a:moveTo>
                    <a:pt x="413" y="369"/>
                  </a:moveTo>
                  <a:lnTo>
                    <a:pt x="0" y="1163"/>
                  </a:lnTo>
                  <a:lnTo>
                    <a:pt x="985" y="1163"/>
                  </a:lnTo>
                  <a:lnTo>
                    <a:pt x="1971" y="1163"/>
                  </a:lnTo>
                  <a:lnTo>
                    <a:pt x="2957" y="1163"/>
                  </a:lnTo>
                  <a:lnTo>
                    <a:pt x="3946" y="1163"/>
                  </a:lnTo>
                  <a:lnTo>
                    <a:pt x="3807" y="1540"/>
                  </a:lnTo>
                  <a:lnTo>
                    <a:pt x="4466" y="822"/>
                  </a:lnTo>
                  <a:lnTo>
                    <a:pt x="4410" y="0"/>
                  </a:lnTo>
                  <a:lnTo>
                    <a:pt x="4263" y="369"/>
                  </a:lnTo>
                  <a:lnTo>
                    <a:pt x="3300" y="369"/>
                  </a:lnTo>
                  <a:lnTo>
                    <a:pt x="2338" y="369"/>
                  </a:lnTo>
                  <a:lnTo>
                    <a:pt x="1374" y="369"/>
                  </a:lnTo>
                  <a:lnTo>
                    <a:pt x="413" y="369"/>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420920" y="2228760"/>
              <a:ext cx="23176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41" name=""/>
            <p:cNvSpPr/>
            <p:nvPr/>
          </p:nvSpPr>
          <p:spPr>
            <a:xfrm>
              <a:off x="827280" y="2532240"/>
              <a:ext cx="202068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Meteorological and</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oceanographic centers</a:t>
              </a:r>
              <a:endParaRPr b="0" lang="en-US" sz="1400" spc="-1" strike="noStrike">
                <a:solidFill>
                  <a:srgbClr val="ffffff"/>
                </a:solidFill>
                <a:latin typeface="Times New Roman"/>
              </a:endParaRPr>
            </a:p>
          </p:txBody>
        </p:sp>
        <p:sp>
          <p:nvSpPr>
            <p:cNvPr id="142" name=""/>
            <p:cNvSpPr/>
            <p:nvPr/>
          </p:nvSpPr>
          <p:spPr>
            <a:xfrm>
              <a:off x="829800" y="3260880"/>
              <a:ext cx="190332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volutionary systems</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lab, CMU</a:t>
              </a:r>
              <a:endParaRPr b="0" lang="en-US" sz="1400" spc="-1" strike="noStrike">
                <a:solidFill>
                  <a:srgbClr val="ffffff"/>
                </a:solidFill>
                <a:latin typeface="Times New Roman"/>
              </a:endParaRPr>
            </a:p>
          </p:txBody>
        </p:sp>
        <p:sp>
          <p:nvSpPr>
            <p:cNvPr id="143" name=""/>
            <p:cNvSpPr/>
            <p:nvPr/>
          </p:nvSpPr>
          <p:spPr>
            <a:xfrm>
              <a:off x="842040" y="4022640"/>
              <a:ext cx="1970280" cy="92736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WWW</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CORBA</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Collaboration systems</a:t>
              </a:r>
              <a:endParaRPr b="0" lang="en-US" sz="1400" spc="-1" strike="noStrike">
                <a:solidFill>
                  <a:srgbClr val="ffffff"/>
                </a:solidFill>
                <a:latin typeface="Times New Roman"/>
              </a:endParaRPr>
            </a:p>
          </p:txBody>
        </p:sp>
        <p:sp>
          <p:nvSpPr>
            <p:cNvPr id="144" name=""/>
            <p:cNvSpPr/>
            <p:nvPr/>
          </p:nvSpPr>
          <p:spPr>
            <a:xfrm>
              <a:off x="832320" y="4957920"/>
              <a:ext cx="226764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volutionary development</a:t>
              </a:r>
              <a:endParaRPr b="0" lang="en-US" sz="1400" spc="-1" strike="noStrike">
                <a:solidFill>
                  <a:srgbClr val="ffffff"/>
                </a:solidFill>
                <a:latin typeface="Times New Roman"/>
              </a:endParaRPr>
            </a:p>
          </p:txBody>
        </p:sp>
        <p:sp>
          <p:nvSpPr>
            <p:cNvPr id="145" name=""/>
            <p:cNvSpPr/>
            <p:nvPr/>
          </p:nvSpPr>
          <p:spPr>
            <a:xfrm>
              <a:off x="3090240" y="2854440"/>
              <a:ext cx="1403280" cy="132300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Time to market</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Performanc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Distribution</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volvability</a:t>
              </a:r>
              <a:endParaRPr b="0" lang="en-US" sz="1400" spc="-1" strike="noStrike">
                <a:solidFill>
                  <a:srgbClr val="ffffff"/>
                </a:solidFill>
                <a:latin typeface="Times New Roman"/>
              </a:endParaRPr>
            </a:p>
          </p:txBody>
        </p:sp>
        <p:sp>
          <p:nvSpPr>
            <p:cNvPr id="146" name=""/>
            <p:cNvSpPr/>
            <p:nvPr/>
          </p:nvSpPr>
          <p:spPr>
            <a:xfrm>
              <a:off x="949320" y="5392800"/>
              <a:ext cx="3481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928800" y="2527200"/>
              <a:ext cx="350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4438800" y="2525760"/>
              <a:ext cx="0" cy="286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546280" y="2673360"/>
              <a:ext cx="34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2897280" y="2668680"/>
              <a:ext cx="0" cy="1154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2906640" y="3006720"/>
              <a:ext cx="254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2" name=""/>
            <p:cNvGrpSpPr/>
            <p:nvPr/>
          </p:nvGrpSpPr>
          <p:grpSpPr>
            <a:xfrm>
              <a:off x="4443480" y="3106800"/>
              <a:ext cx="255600" cy="101520"/>
              <a:chOff x="4443480" y="3106800"/>
              <a:chExt cx="255600" cy="101520"/>
            </a:xfrm>
          </p:grpSpPr>
          <p:sp>
            <p:nvSpPr>
              <p:cNvPr id="153" name=""/>
              <p:cNvSpPr/>
              <p:nvPr/>
            </p:nvSpPr>
            <p:spPr>
              <a:xfrm>
                <a:off x="4443480" y="310680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443480" y="32083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5749920" y="3125880"/>
              <a:ext cx="254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591240" y="3238560"/>
              <a:ext cx="1800" cy="212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7" name=""/>
            <p:cNvGrpSpPr/>
            <p:nvPr/>
          </p:nvGrpSpPr>
          <p:grpSpPr>
            <a:xfrm>
              <a:off x="5990400" y="2992320"/>
              <a:ext cx="1167120" cy="286560"/>
              <a:chOff x="5990400" y="2992320"/>
              <a:chExt cx="1167120" cy="286560"/>
            </a:xfrm>
          </p:grpSpPr>
          <p:sp>
            <p:nvSpPr>
              <p:cNvPr id="158" name=""/>
              <p:cNvSpPr/>
              <p:nvPr/>
            </p:nvSpPr>
            <p:spPr>
              <a:xfrm>
                <a:off x="6031080" y="3011400"/>
                <a:ext cx="1054080" cy="209520"/>
              </a:xfrm>
              <a:prstGeom prst="roundRect">
                <a:avLst>
                  <a:gd name="adj" fmla="val 12486"/>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990400" y="2992320"/>
                <a:ext cx="1167120" cy="286560"/>
              </a:xfrm>
              <a:prstGeom prst="rect">
                <a:avLst/>
              </a:prstGeom>
              <a:noFill/>
              <a:ln w="0">
                <a:noFill/>
              </a:ln>
            </p:spPr>
            <p:style>
              <a:lnRef idx="0"/>
              <a:fillRef idx="0"/>
              <a:effectRef idx="0"/>
              <a:fontRef idx="minor"/>
            </p:style>
            <p:txBody>
              <a:bodyPr wrap="none" lIns="106200" rIns="106200" tIns="52560" bIns="52560" anchor="t">
                <a:spAutoFit/>
              </a:bodyPr>
              <a:p>
                <a:pP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000000"/>
                    </a:solidFill>
                    <a:latin typeface="Arial"/>
                  </a:rPr>
                  <a:t>Architecture</a:t>
                </a:r>
                <a:endParaRPr b="0" lang="en-US" sz="1400" spc="-1" strike="noStrike">
                  <a:solidFill>
                    <a:srgbClr val="ffffff"/>
                  </a:solidFill>
                  <a:latin typeface="Times New Roman"/>
                </a:endParaRPr>
              </a:p>
            </p:txBody>
          </p:sp>
        </p:grpSp>
        <p:sp>
          <p:nvSpPr>
            <p:cNvPr id="160" name=""/>
            <p:cNvSpPr/>
            <p:nvPr/>
          </p:nvSpPr>
          <p:spPr>
            <a:xfrm>
              <a:off x="5100480" y="2644920"/>
              <a:ext cx="314640" cy="311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4775040" y="2995560"/>
              <a:ext cx="966960" cy="1792440"/>
            </a:xfrm>
            <a:custGeom>
              <a:avLst/>
              <a:gdLst/>
              <a:ahLst/>
              <a:rect l="l" t="t" r="r" b="b"/>
              <a:pathLst>
                <a:path w="609" h="1129">
                  <a:moveTo>
                    <a:pt x="120" y="443"/>
                  </a:moveTo>
                  <a:lnTo>
                    <a:pt x="120" y="544"/>
                  </a:lnTo>
                  <a:lnTo>
                    <a:pt x="198" y="1128"/>
                  </a:lnTo>
                  <a:lnTo>
                    <a:pt x="412" y="1128"/>
                  </a:lnTo>
                  <a:lnTo>
                    <a:pt x="487" y="551"/>
                  </a:lnTo>
                  <a:lnTo>
                    <a:pt x="487" y="443"/>
                  </a:lnTo>
                  <a:lnTo>
                    <a:pt x="517" y="443"/>
                  </a:lnTo>
                  <a:lnTo>
                    <a:pt x="517" y="544"/>
                  </a:lnTo>
                  <a:lnTo>
                    <a:pt x="608" y="544"/>
                  </a:lnTo>
                  <a:lnTo>
                    <a:pt x="608" y="0"/>
                  </a:lnTo>
                  <a:lnTo>
                    <a:pt x="0" y="0"/>
                  </a:lnTo>
                  <a:lnTo>
                    <a:pt x="0" y="539"/>
                  </a:lnTo>
                  <a:lnTo>
                    <a:pt x="87" y="539"/>
                  </a:lnTo>
                  <a:lnTo>
                    <a:pt x="87" y="443"/>
                  </a:lnTo>
                  <a:lnTo>
                    <a:pt x="120" y="4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673160" y="3173400"/>
              <a:ext cx="1188360" cy="321120"/>
            </a:xfrm>
            <a:prstGeom prst="rect">
              <a:avLst/>
            </a:prstGeom>
            <a:noFill/>
            <a:ln w="0">
              <a:noFill/>
            </a:ln>
          </p:spPr>
          <p:style>
            <a:lnRef idx="0"/>
            <a:fillRef idx="0"/>
            <a:effectRef idx="0"/>
            <a:fontRef idx="minor"/>
          </p:style>
          <p:txBody>
            <a:bodyPr wrap="none" lIns="141120" rIns="141120" tIns="69840" bIns="69840" anchor="t">
              <a:spAutoFit/>
            </a:bodyPr>
            <a:p>
              <a:pPr algn="ctr">
                <a:lnSpc>
                  <a:spcPct val="85000"/>
                </a:lnSpc>
                <a:tabLst>
                  <a:tab algn="l" pos="0"/>
                  <a:tab algn="l" pos="2082960"/>
                  <a:tab algn="l" pos="4165560"/>
                  <a:tab algn="l" pos="6248520"/>
                  <a:tab algn="l" pos="8331120"/>
                  <a:tab algn="l" pos="10414080"/>
                </a:tabLst>
              </a:pPr>
              <a:r>
                <a:rPr b="0" lang="en-US" sz="1400" spc="-1" strike="noStrike">
                  <a:solidFill>
                    <a:srgbClr val="ffffff"/>
                  </a:solidFill>
                  <a:latin typeface="Arial"/>
                </a:rPr>
                <a:t>Architect(s)</a:t>
              </a:r>
              <a:endParaRPr b="0" lang="en-US" sz="1400" spc="-1" strike="noStrike">
                <a:solidFill>
                  <a:srgbClr val="ffffff"/>
                </a:solidFill>
                <a:latin typeface="Times New Roman"/>
              </a:endParaRPr>
            </a:p>
          </p:txBody>
        </p:sp>
        <p:grpSp>
          <p:nvGrpSpPr>
            <p:cNvPr id="163" name=""/>
            <p:cNvGrpSpPr/>
            <p:nvPr/>
          </p:nvGrpSpPr>
          <p:grpSpPr>
            <a:xfrm>
              <a:off x="1688400" y="442440"/>
              <a:ext cx="5847120" cy="5846760"/>
              <a:chOff x="1688400" y="442440"/>
              <a:chExt cx="5847120" cy="5846760"/>
            </a:xfrm>
          </p:grpSpPr>
          <p:sp>
            <p:nvSpPr>
              <p:cNvPr id="164" name=""/>
              <p:cNvSpPr/>
              <p:nvPr/>
            </p:nvSpPr>
            <p:spPr>
              <a:xfrm rot="2460000">
                <a:off x="2538720" y="1294200"/>
                <a:ext cx="4146120" cy="4142880"/>
              </a:xfrm>
              <a:custGeom>
                <a:avLst/>
                <a:gdLst/>
                <a:ahLst/>
                <a:rect l="l" t="t" r="r" b="b"/>
                <a:pathLst>
                  <a:path stroke="0" w="21600" h="21600">
                    <a:moveTo>
                      <a:pt x="121" y="12413"/>
                    </a:moveTo>
                    <a:arcTo wR="10800" hR="10800" stAng="10284643" swAng="8248462"/>
                    <a:lnTo>
                      <a:pt x="10800" y="10800"/>
                    </a:lnTo>
                    <a:close/>
                  </a:path>
                  <a:path fill="none" w="21600" h="21600">
                    <a:moveTo>
                      <a:pt x="121" y="12413"/>
                    </a:moveTo>
                    <a:arcTo wR="10800" hR="10800" stAng="10284643" swAng="8248462"/>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2460000">
                <a:off x="2608920" y="1408320"/>
                <a:ext cx="3937320" cy="3936960"/>
              </a:xfrm>
              <a:custGeom>
                <a:avLst/>
                <a:gdLst/>
                <a:ahLst/>
                <a:rect l="l" t="t" r="r" b="b"/>
                <a:pathLst>
                  <a:path stroke="0" w="21600" h="21600">
                    <a:moveTo>
                      <a:pt x="94" y="12219"/>
                    </a:moveTo>
                    <a:arcTo wR="10800" hR="10800" stAng="10347068" swAng="8112793"/>
                    <a:lnTo>
                      <a:pt x="10800" y="10800"/>
                    </a:lnTo>
                    <a:close/>
                  </a:path>
                  <a:path fill="none" w="21600" h="21600">
                    <a:moveTo>
                      <a:pt x="94" y="12219"/>
                    </a:moveTo>
                    <a:arcTo wR="10800" hR="10800" stAng="10347068" swAng="8112793"/>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6" name=""/>
            <p:cNvSpPr/>
            <p:nvPr/>
          </p:nvSpPr>
          <p:spPr>
            <a:xfrm>
              <a:off x="1744560" y="3821040"/>
              <a:ext cx="115092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7" name=""/>
            <p:cNvSpPr/>
            <p:nvPr/>
          </p:nvSpPr>
          <p:spPr>
            <a:xfrm>
              <a:off x="6039000" y="3468600"/>
              <a:ext cx="1041120" cy="72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977080" y="3494160"/>
              <a:ext cx="1186920" cy="652680"/>
            </a:xfrm>
            <a:prstGeom prst="rect">
              <a:avLst/>
            </a:prstGeom>
            <a:noFill/>
            <a:ln w="0">
              <a:noFill/>
            </a:ln>
          </p:spPr>
          <p:style>
            <a:lnRef idx="0"/>
            <a:fillRef idx="0"/>
            <a:effectRef idx="0"/>
            <a:fontRef idx="minor"/>
          </p:style>
          <p:txBody>
            <a:bodyPr wrap="none" lIns="106200" rIns="106200" tIns="52560" bIns="52560" anchor="t">
              <a:spAutoFit/>
            </a:bodyPr>
            <a:p>
              <a:pPr algn="ct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METOC</a:t>
              </a:r>
              <a:endParaRPr b="0" lang="en-US" sz="1400" spc="-1" strike="noStrike">
                <a:solidFill>
                  <a:srgbClr val="ffffff"/>
                </a:solidFill>
                <a:latin typeface="Times New Roman"/>
              </a:endParaRPr>
            </a:p>
            <a:p>
              <a:pPr algn="ct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anchor desk</a:t>
              </a:r>
              <a:endParaRPr b="0" lang="en-US" sz="1400" spc="-1" strike="noStrike">
                <a:solidFill>
                  <a:srgbClr val="ffffff"/>
                </a:solidFill>
                <a:latin typeface="Times New Roman"/>
              </a:endParaRPr>
            </a:p>
          </p:txBody>
        </p:sp>
        <p:sp>
          <p:nvSpPr>
            <p:cNvPr id="169" name=""/>
            <p:cNvSpPr/>
            <p:nvPr/>
          </p:nvSpPr>
          <p:spPr>
            <a:xfrm rot="960000">
              <a:off x="2409840" y="2045160"/>
              <a:ext cx="4136760" cy="4132440"/>
            </a:xfrm>
            <a:custGeom>
              <a:avLst/>
              <a:gdLst/>
              <a:ahLst/>
              <a:rect l="l" t="t" r="r" b="b"/>
              <a:pathLst>
                <a:path stroke="0" w="21600" h="21600">
                  <a:moveTo>
                    <a:pt x="21309" y="8310"/>
                  </a:moveTo>
                  <a:arcTo wR="10800" hR="10800" stAng="-799861" swAng="6199861"/>
                  <a:lnTo>
                    <a:pt x="10800" y="10800"/>
                  </a:lnTo>
                  <a:close/>
                </a:path>
                <a:path fill="none" w="21600" h="21600">
                  <a:moveTo>
                    <a:pt x="21309" y="8310"/>
                  </a:moveTo>
                  <a:arcTo wR="10800" hR="10800" stAng="-799861" swAng="619986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rot="21000000">
              <a:off x="2521440" y="2089800"/>
              <a:ext cx="4136040" cy="4134240"/>
            </a:xfrm>
            <a:custGeom>
              <a:avLst/>
              <a:gdLst/>
              <a:ahLst/>
              <a:rect l="l" t="t" r="r" b="b"/>
              <a:pathLst>
                <a:path stroke="0" w="21600" h="21600">
                  <a:moveTo>
                    <a:pt x="5579" y="20254"/>
                  </a:moveTo>
                  <a:arcTo wR="10800" hR="10800" stAng="7134468" swAng="1994996"/>
                  <a:lnTo>
                    <a:pt x="10800" y="10800"/>
                  </a:lnTo>
                  <a:close/>
                </a:path>
                <a:path fill="none" w="21600" h="21600">
                  <a:moveTo>
                    <a:pt x="5579" y="20254"/>
                  </a:moveTo>
                  <a:arcTo wR="10800" hR="10800" stAng="7134468" swAng="1994996"/>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rot="960000">
              <a:off x="2244600" y="1890360"/>
              <a:ext cx="4431960" cy="4431600"/>
            </a:xfrm>
            <a:custGeom>
              <a:avLst/>
              <a:gdLst/>
              <a:ahLst/>
              <a:rect l="l" t="t" r="r" b="b"/>
              <a:pathLst>
                <a:path stroke="0" w="21600" h="21600">
                  <a:moveTo>
                    <a:pt x="21309" y="8308"/>
                  </a:moveTo>
                  <a:arcTo wR="10800" hR="10800" stAng="-800355" swAng="6205283"/>
                  <a:lnTo>
                    <a:pt x="10800" y="10800"/>
                  </a:lnTo>
                  <a:close/>
                </a:path>
                <a:path fill="none" w="21600" h="21600">
                  <a:moveTo>
                    <a:pt x="21309" y="8308"/>
                  </a:moveTo>
                  <a:arcTo wR="10800" hR="10800" stAng="-800355" swAng="620528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rot="21000000">
              <a:off x="2361960" y="1910880"/>
              <a:ext cx="4426920" cy="4424040"/>
            </a:xfrm>
            <a:custGeom>
              <a:avLst/>
              <a:gdLst/>
              <a:ahLst/>
              <a:rect l="l" t="t" r="r" b="b"/>
              <a:pathLst>
                <a:path stroke="0" w="21600" h="21600">
                  <a:moveTo>
                    <a:pt x="5580" y="20255"/>
                  </a:moveTo>
                  <a:arcTo wR="10800" hR="10800" stAng="7134088" swAng="2166932"/>
                  <a:lnTo>
                    <a:pt x="10800" y="10800"/>
                  </a:lnTo>
                  <a:close/>
                </a:path>
                <a:path fill="none" w="21600" h="21600">
                  <a:moveTo>
                    <a:pt x="5580" y="20255"/>
                  </a:moveTo>
                  <a:arcTo wR="10800" hR="10800" stAng="7134088" swAng="2166932"/>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TOC ABC</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puts and Outputs from System</a:t>
            </a:r>
            <a:endParaRPr b="0" lang="en-US" sz="3600" spc="-1" strike="noStrike">
              <a:solidFill>
                <a:srgbClr val="ffffff"/>
              </a:solidFill>
              <a:latin typeface="Century Schoolbook"/>
            </a:endParaRPr>
          </a:p>
        </p:txBody>
      </p:sp>
      <p:grpSp>
        <p:nvGrpSpPr>
          <p:cNvPr id="175" name=""/>
          <p:cNvGrpSpPr/>
          <p:nvPr/>
        </p:nvGrpSpPr>
        <p:grpSpPr>
          <a:xfrm>
            <a:off x="998640" y="1825560"/>
            <a:ext cx="7143480" cy="4378320"/>
            <a:chOff x="998640" y="1825560"/>
            <a:chExt cx="7143480" cy="4378320"/>
          </a:xfrm>
        </p:grpSpPr>
        <p:sp>
          <p:nvSpPr>
            <p:cNvPr id="176" name=""/>
            <p:cNvSpPr/>
            <p:nvPr/>
          </p:nvSpPr>
          <p:spPr>
            <a:xfrm>
              <a:off x="6230880" y="1825560"/>
              <a:ext cx="1911240" cy="19112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6551640" y="3252960"/>
              <a:ext cx="1206360" cy="47700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400" spc="-1" strike="noStrike">
                  <a:solidFill>
                    <a:srgbClr val="ffffff"/>
                  </a:solidFill>
                  <a:latin typeface="Arial"/>
                </a:rPr>
                <a:t>Crisis action</a:t>
              </a:r>
              <a:endParaRPr b="0" lang="en-US" sz="14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400" spc="-1" strike="noStrike">
                  <a:solidFill>
                    <a:srgbClr val="ffffff"/>
                  </a:solidFill>
                  <a:latin typeface="Arial"/>
                </a:rPr>
                <a:t>team</a:t>
              </a:r>
              <a:endParaRPr b="0" lang="en-US" sz="1400" spc="-1" strike="noStrike">
                <a:solidFill>
                  <a:srgbClr val="ffffff"/>
                </a:solidFill>
                <a:latin typeface="Times New Roman"/>
              </a:endParaRPr>
            </a:p>
          </p:txBody>
        </p:sp>
        <p:grpSp>
          <p:nvGrpSpPr>
            <p:cNvPr id="178" name=""/>
            <p:cNvGrpSpPr/>
            <p:nvPr/>
          </p:nvGrpSpPr>
          <p:grpSpPr>
            <a:xfrm>
              <a:off x="6550200" y="2103480"/>
              <a:ext cx="1230120" cy="1141200"/>
              <a:chOff x="6550200" y="2103480"/>
              <a:chExt cx="1230120" cy="1141200"/>
            </a:xfrm>
          </p:grpSpPr>
          <p:grpSp>
            <p:nvGrpSpPr>
              <p:cNvPr id="179" name=""/>
              <p:cNvGrpSpPr/>
              <p:nvPr/>
            </p:nvGrpSpPr>
            <p:grpSpPr>
              <a:xfrm>
                <a:off x="6550200" y="2111400"/>
                <a:ext cx="376200" cy="1133280"/>
                <a:chOff x="6550200" y="2111400"/>
                <a:chExt cx="376200" cy="1133280"/>
              </a:xfrm>
            </p:grpSpPr>
            <p:sp>
              <p:nvSpPr>
                <p:cNvPr id="180" name=""/>
                <p:cNvSpPr/>
                <p:nvPr/>
              </p:nvSpPr>
              <p:spPr>
                <a:xfrm>
                  <a:off x="6670800" y="2111400"/>
                  <a:ext cx="133200" cy="156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6550200" y="2297160"/>
                  <a:ext cx="376200" cy="94752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2" name=""/>
              <p:cNvGrpSpPr/>
              <p:nvPr/>
            </p:nvGrpSpPr>
            <p:grpSpPr>
              <a:xfrm>
                <a:off x="7404120" y="2103480"/>
                <a:ext cx="376200" cy="1131840"/>
                <a:chOff x="7404120" y="2103480"/>
                <a:chExt cx="376200" cy="1131840"/>
              </a:xfrm>
            </p:grpSpPr>
            <p:sp>
              <p:nvSpPr>
                <p:cNvPr id="183" name=""/>
                <p:cNvSpPr/>
                <p:nvPr/>
              </p:nvSpPr>
              <p:spPr>
                <a:xfrm>
                  <a:off x="7526160" y="2103480"/>
                  <a:ext cx="132120" cy="155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7404120" y="2287440"/>
                  <a:ext cx="376200" cy="94788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5" name=""/>
              <p:cNvGrpSpPr/>
              <p:nvPr/>
            </p:nvGrpSpPr>
            <p:grpSpPr>
              <a:xfrm>
                <a:off x="6975360" y="2111400"/>
                <a:ext cx="376200" cy="1131840"/>
                <a:chOff x="6975360" y="2111400"/>
                <a:chExt cx="376200" cy="1131840"/>
              </a:xfrm>
            </p:grpSpPr>
            <p:sp>
              <p:nvSpPr>
                <p:cNvPr id="186" name=""/>
                <p:cNvSpPr/>
                <p:nvPr/>
              </p:nvSpPr>
              <p:spPr>
                <a:xfrm>
                  <a:off x="7097760" y="2111400"/>
                  <a:ext cx="131760" cy="155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975360" y="2295360"/>
                  <a:ext cx="376200" cy="94788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88" name=""/>
            <p:cNvSpPr/>
            <p:nvPr/>
          </p:nvSpPr>
          <p:spPr>
            <a:xfrm>
              <a:off x="2981160" y="2751120"/>
              <a:ext cx="31752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2973240" y="2841480"/>
              <a:ext cx="31752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2943360" y="3156120"/>
              <a:ext cx="1344600" cy="13395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2874960" y="3241800"/>
              <a:ext cx="1260360" cy="1249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H="1">
              <a:off x="4856040" y="3133800"/>
              <a:ext cx="1376640" cy="13698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flipH="1">
              <a:off x="4998960" y="3209760"/>
              <a:ext cx="1292400" cy="12938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3876840" y="4548240"/>
              <a:ext cx="1374480" cy="16556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4058640" y="4871880"/>
              <a:ext cx="1010880" cy="10242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OC</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chor</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k</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Times New Roman"/>
              </a:endParaRPr>
            </a:p>
          </p:txBody>
        </p:sp>
        <p:sp>
          <p:nvSpPr>
            <p:cNvPr id="196" name=""/>
            <p:cNvSpPr/>
            <p:nvPr/>
          </p:nvSpPr>
          <p:spPr>
            <a:xfrm>
              <a:off x="5254560" y="502128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265720" y="535608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5265720" y="569124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5257800" y="604188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797440" y="4921200"/>
              <a:ext cx="59688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5797440" y="5264280"/>
              <a:ext cx="59688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797440" y="5607000"/>
              <a:ext cx="59688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797440" y="5950080"/>
              <a:ext cx="59688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333600" y="502776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3325680" y="534816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2728800" y="4924440"/>
              <a:ext cx="59688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2717640" y="5267160"/>
              <a:ext cx="59724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998640" y="1825560"/>
              <a:ext cx="1911240" cy="19112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319400" y="3252960"/>
              <a:ext cx="1206360" cy="47700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400" spc="-1" strike="noStrike">
                  <a:solidFill>
                    <a:srgbClr val="ffffff"/>
                  </a:solidFill>
                  <a:latin typeface="Arial"/>
                </a:rPr>
                <a:t>Crisis action</a:t>
              </a:r>
              <a:endParaRPr b="0" lang="en-US" sz="14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400" spc="-1" strike="noStrike">
                  <a:solidFill>
                    <a:srgbClr val="ffffff"/>
                  </a:solidFill>
                  <a:latin typeface="Arial"/>
                </a:rPr>
                <a:t>team</a:t>
              </a:r>
              <a:endParaRPr b="0" lang="en-US" sz="1400" spc="-1" strike="noStrike">
                <a:solidFill>
                  <a:srgbClr val="ffffff"/>
                </a:solidFill>
                <a:latin typeface="Times New Roman"/>
              </a:endParaRPr>
            </a:p>
          </p:txBody>
        </p:sp>
        <p:grpSp>
          <p:nvGrpSpPr>
            <p:cNvPr id="210" name=""/>
            <p:cNvGrpSpPr/>
            <p:nvPr/>
          </p:nvGrpSpPr>
          <p:grpSpPr>
            <a:xfrm>
              <a:off x="1317600" y="2103480"/>
              <a:ext cx="1230480" cy="1141200"/>
              <a:chOff x="1317600" y="2103480"/>
              <a:chExt cx="1230480" cy="1141200"/>
            </a:xfrm>
          </p:grpSpPr>
          <p:grpSp>
            <p:nvGrpSpPr>
              <p:cNvPr id="211" name=""/>
              <p:cNvGrpSpPr/>
              <p:nvPr/>
            </p:nvGrpSpPr>
            <p:grpSpPr>
              <a:xfrm>
                <a:off x="1317600" y="2111400"/>
                <a:ext cx="376200" cy="1133280"/>
                <a:chOff x="1317600" y="2111400"/>
                <a:chExt cx="376200" cy="1133280"/>
              </a:xfrm>
            </p:grpSpPr>
            <p:sp>
              <p:nvSpPr>
                <p:cNvPr id="212" name=""/>
                <p:cNvSpPr/>
                <p:nvPr/>
              </p:nvSpPr>
              <p:spPr>
                <a:xfrm>
                  <a:off x="1438200" y="2111400"/>
                  <a:ext cx="133560" cy="156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1317600" y="2297160"/>
                  <a:ext cx="376200" cy="94752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4" name=""/>
              <p:cNvGrpSpPr/>
              <p:nvPr/>
            </p:nvGrpSpPr>
            <p:grpSpPr>
              <a:xfrm>
                <a:off x="2171880" y="2103480"/>
                <a:ext cx="376200" cy="1131840"/>
                <a:chOff x="2171880" y="2103480"/>
                <a:chExt cx="376200" cy="1131840"/>
              </a:xfrm>
            </p:grpSpPr>
            <p:sp>
              <p:nvSpPr>
                <p:cNvPr id="215" name=""/>
                <p:cNvSpPr/>
                <p:nvPr/>
              </p:nvSpPr>
              <p:spPr>
                <a:xfrm>
                  <a:off x="2293920" y="2103480"/>
                  <a:ext cx="131760" cy="155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171880" y="2287440"/>
                  <a:ext cx="376200" cy="94788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7" name=""/>
              <p:cNvGrpSpPr/>
              <p:nvPr/>
            </p:nvGrpSpPr>
            <p:grpSpPr>
              <a:xfrm>
                <a:off x="1743120" y="2111400"/>
                <a:ext cx="376200" cy="1131840"/>
                <a:chOff x="1743120" y="2111400"/>
                <a:chExt cx="376200" cy="1131840"/>
              </a:xfrm>
            </p:grpSpPr>
            <p:sp>
              <p:nvSpPr>
                <p:cNvPr id="218" name=""/>
                <p:cNvSpPr/>
                <p:nvPr/>
              </p:nvSpPr>
              <p:spPr>
                <a:xfrm>
                  <a:off x="1865160" y="2111400"/>
                  <a:ext cx="131760" cy="155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743120" y="2295360"/>
                  <a:ext cx="376200" cy="94788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30240" y="842760"/>
            <a:ext cx="76550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ustomer Requests for METOC Support</a:t>
            </a:r>
            <a:endParaRPr b="0" lang="en-US" sz="3600" spc="-1" strike="noStrike">
              <a:solidFill>
                <a:srgbClr val="ffffff"/>
              </a:solidFill>
              <a:latin typeface="Century Schoolbook"/>
            </a:endParaRPr>
          </a:p>
        </p:txBody>
      </p:sp>
      <p:sp>
        <p:nvSpPr>
          <p:cNvPr id="221" name="PlaceHolder 2"/>
          <p:cNvSpPr>
            <a:spLocks noGrp="1"/>
          </p:cNvSpPr>
          <p:nvPr>
            <p:ph/>
          </p:nvPr>
        </p:nvSpPr>
        <p:spPr>
          <a:xfrm>
            <a:off x="923400" y="231624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on to pers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pho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deo confere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laborative planning too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to routinely generated produc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e of WWW within METOC</a:t>
            </a:r>
            <a:endParaRPr b="0" lang="en-US" sz="3600" spc="-1" strike="noStrike">
              <a:solidFill>
                <a:srgbClr val="ffffff"/>
              </a:solidFill>
              <a:latin typeface="Century Schoolbook"/>
            </a:endParaRPr>
          </a:p>
        </p:txBody>
      </p:sp>
      <p:sp>
        <p:nvSpPr>
          <p:cNvPr id="223"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rage of daily weather produc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ized weather depictio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ecas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tellite imag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ining in standard operating procedur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of weather products of different servic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eld data entry</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to publicly-available weather imag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8:53:22Z</cp:lastPrinted>
  <dcterms:modified xsi:type="dcterms:W3CDTF">1998-10-20T13:48:37Z</dcterms:modified>
  <cp:revision>191</cp:revision>
  <dc:subject/>
  <dc:title>Cover Slide Example</dc:title>
</cp:coreProperties>
</file>