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B31F157E-A7CF-4DD4-AA18-FE3D3F93DE8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30 minutes.</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a description of system structures, of which there are several (data flow, modular, process, and so on).  Architecture is the first artifact that can be analyzed to determine how well its quality attributes are being achieved, and it also serves as the project blueprint.  An architecture is also a description of the relationship among components and connectors.  These are the things that we mean when we use the word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rd, the behavior of each component is part of the architecture insofar as that behavior can be observed or discerned from the point of view of another component.  This behavior is what allows components to interact with each other, which is clearly part of the architecture.  Some of the component properties specified by architecture are listed abov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component behavior and component interactions are part of architecture, box-and-line drawings that are passed off as architectures are not architectures at all.  They are simply box-and-line drawings.  When looking at the names of the boxes (e.g., data base, graphical user interface, executive, etc.), a reader may well </a:t>
            </a:r>
            <a:r>
              <a:rPr b="0" lang="en-US" sz="1000" spc="-1" strike="noStrike" u="sng">
                <a:solidFill>
                  <a:srgbClr val="000000"/>
                </a:solidFill>
                <a:uFillTx/>
                <a:latin typeface="Arial"/>
              </a:rPr>
              <a:t>imagine</a:t>
            </a:r>
            <a:r>
              <a:rPr b="0" lang="en-US" sz="1000" spc="-1" strike="noStrike">
                <a:solidFill>
                  <a:srgbClr val="000000"/>
                </a:solidFill>
                <a:latin typeface="Arial"/>
              </a:rPr>
              <a:t> the functionality and behavior of the corresponding components.  This mental image approaches an architecture, but it springs from the imagination of the observer’s mind and relies on information that is not present in the diagram.  This does not mean that the exact behavior and performance of every component must be documented in all circumstances,  but to the extent that a component’s behavior influences how another  component must be written to interact with it or influences the acceptability of the system as a whole, this behavior should be part of an interface specification for that componen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7560" y="4232160"/>
            <a:ext cx="45910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e (inadequate) definition of architecture as “components and connectors.”  Just as the term “components” is insufficient to describe the structures and behaviors that make up a system, the term “connectors” does not give much information about the ways in which the components communicate, interact with, or control other components.  Many times, the term “connectors” is used to mean “runtime connectors” (e.g., sends data to, invokes, signals, etc.).  However, there are other kinds of connectors than just those that come into play at system run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r definition describes architectures as “the structure(s) of a system . . . and the </a:t>
            </a:r>
            <a:r>
              <a:rPr b="0" lang="en-US" sz="1000" spc="-1" strike="noStrike" u="sng">
                <a:solidFill>
                  <a:srgbClr val="000000"/>
                </a:solidFill>
                <a:uFillTx/>
                <a:latin typeface="Arial"/>
              </a:rPr>
              <a:t>relationships</a:t>
            </a:r>
            <a:r>
              <a:rPr b="0" lang="en-US" sz="1000" spc="-1" strike="noStrike">
                <a:solidFill>
                  <a:srgbClr val="000000"/>
                </a:solidFill>
                <a:latin typeface="Arial"/>
              </a:rPr>
              <a:t> among them.”  The term “relationships” is more general than “connectors” because it includes both runtime and non-runtime relationships.  Non-runtime relationships are also a part of architecture:  one module may be a submodule of another.  Other non-runtime relationships include information encapsulation or inheritanc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our definition also implies that every software system </a:t>
            </a:r>
            <a:r>
              <a:rPr b="0" lang="en-US" sz="1000" spc="-1" strike="noStrike" u="sng">
                <a:solidFill>
                  <a:srgbClr val="000000"/>
                </a:solidFill>
                <a:uFillTx/>
                <a:latin typeface="Arial"/>
              </a:rPr>
              <a:t>has</a:t>
            </a:r>
            <a:r>
              <a:rPr b="0" lang="en-US" sz="1000" spc="-1" strike="noStrike">
                <a:solidFill>
                  <a:srgbClr val="000000"/>
                </a:solidFill>
                <a:latin typeface="Arial"/>
              </a:rPr>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because every system can be shown to be composed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relations among them.  In the most trivial case,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a component.  While an architecture composed of a single componen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interesting and probably not useful, it is nevertheless by our definition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every system has an architecture, it does not necessarily fo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the architecture is known to anyone.  Perhaps all of the people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ed the system are long gone, the source code has been lost (or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ver delivered), and all we have is the executing binary code.  This reveal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ce between the architecture of a system and the descriptio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 of th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difference between having an architecture and having the documentation that describes what the architecture is and how it 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documentation has been lost (or was never delivered), the architecture must be “recovered” by discovering what the system does, and how.  If the documentation is out of date, it must be conformed by finding out what the system does in reality (versus what it says on paper that it does).  Both of these situations are different than having a </a:t>
            </a:r>
            <a:r>
              <a:rPr b="0" lang="en-US" sz="1000" spc="-1" strike="noStrike" u="sng">
                <a:solidFill>
                  <a:srgbClr val="000000"/>
                </a:solidFill>
                <a:uFillTx/>
                <a:latin typeface="Arial"/>
              </a:rPr>
              <a:t>specified</a:t>
            </a:r>
            <a:r>
              <a:rPr b="0" lang="en-US" sz="1000" spc="-1" strike="noStrike">
                <a:solidFill>
                  <a:srgbClr val="000000"/>
                </a:solidFill>
                <a:latin typeface="Arial"/>
              </a:rPr>
              <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pecification for the architecture should also include the rationale for why the architecture was chosen; this helps in decision making when the system must be modifi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at shows the relationship among three other common concepts that we must define:  reference model, architectural style, and reference architecture.  Each of these three concepts will be discussed in more detail in the following slid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division of functionality together with data flow between the pieces.  Arising from experience, reference models are a characteristic of mature domains and are often obtained by domain analysis or other group activ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standard decomposition of a known problem into parts that cooperatively solve the problem (though it does not prescribe a software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Can you name the standard parts of a compiler, an operating system, or a database management system?  Can you explain in broad terms how the parts work together to accomplish their collective purpose?  If so, it is because you have been taught a reference model of these applic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7560" y="4232160"/>
            <a:ext cx="48769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w and Garlan describe an architectural style as a description of component types and a pattern of their runtime control and/or data transf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a set of canonical solutions to problems.  This means that they are well documented and well accepted by the software engineering community.  Because styles are “discovered” from observing how systems work in reality, they are perceived to be more viable solutions to software problems than those that have been “inven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s not an architecture, since it does not specify exact components or define functionality - it is an underspecified architecture.  However, styles still convey a useful image of the system by suggesting patterns of runtime interaction, implying the topologies of components, and imposing useful constraints on the architecture (and in turn, on the system).  Styles allow reasoning about a system at an abstract level.</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yle can be thought of as a set of constraints on an architecture - constraints on the component types and their patterns of interaction - and these constraints define a set or family of architectures that satisfy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client-server is a common architectural style.  Client and server are two component types and their coordination is described in terms of the protocol that the server uses to communicate with each of its clients.  Use of the term </a:t>
            </a:r>
            <a:r>
              <a:rPr b="0" lang="en-US" sz="1000" spc="-1" strike="noStrike" u="sng">
                <a:solidFill>
                  <a:srgbClr val="000000"/>
                </a:solidFill>
                <a:uFillTx/>
                <a:latin typeface="Arial"/>
              </a:rPr>
              <a:t>client-server</a:t>
            </a:r>
            <a:r>
              <a:rPr b="0" lang="en-US" sz="1000" spc="-1" strike="noStrike">
                <a:solidFill>
                  <a:srgbClr val="000000"/>
                </a:solidFill>
                <a:latin typeface="Arial"/>
              </a:rPr>
              <a:t> implies only that multiple clients exist; the clients themselves are not identified, and there is no discussion of what functionality (other than implementation of the protocols) has been assigned to any of the clients or to the server.  Other architectural styles include cooperating process, data-centered, and layered.  Each style imparts a different set of qualities to the system that is built using that style.  This implies that choosing a style is a first step towards achieving certain qualities with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will b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architecture is a reference model mapped onto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will cooperatively implement the functionality defined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 and the data flows between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a reference model divides the functionality without mapping it on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 reference architecture is the mapping of that functionality on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decomposition.  The mapping may be, but by no means necessarily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o one.  A software component may implement part of a function or seve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not yet architectures because they have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ed the interfaces of the components.  But, reference architecture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ful because by mapping functionality onto a system decomposition,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tion of software development te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arch for preexisting component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 and other resources to a particular piece of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es of cost and schedule to build the system</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explain these two poin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end of the lecture, the students should ha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orking definition of the term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ing of the value and qualities that an architecture can add to a development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wareness of how software structures fit together in various ways to form different architectures, and the uses of some of the structur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32160"/>
            <a:ext cx="53053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chitectural styles, and reference architectures are not archite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t are useful steps toward an architecture.  Each is the outcome of making a set of ea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ecisions, and each lays the groundwork for future steps.  Each prepares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ter development stages by means such as identification and formation of work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sponding to the components identified.  The diagram shows how at each success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ase in this progression, more requirements are addressed, and more desig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ave taken pl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divides up the problem int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yle helps to choose a way of putting the problem pieces i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established by the reference model and style combine in the reference architecture, where the identified problem pieces are mapped o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fines functionality, behavior, and relationship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is the realization of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analogy of building a house to clarify these concep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model divides the problem into pieces</a:t>
            </a:r>
            <a:r>
              <a:rPr b="0" lang="en-US" sz="1000" spc="-1" strike="noStrike">
                <a:solidFill>
                  <a:srgbClr val="000000"/>
                </a:solidFill>
                <a:latin typeface="Arial"/>
              </a:rPr>
              <a:t>.  In planning a house, we must decide on such details as:  How many bedrooms?  Both a living room and a family room?  Eat-in kitchen or separate dining room?  Basement or no bas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al style defines way the pieces will fit together</a:t>
            </a:r>
            <a:r>
              <a:rPr b="0" lang="en-US" sz="1000" spc="-1" strike="noStrike">
                <a:solidFill>
                  <a:srgbClr val="000000"/>
                </a:solidFill>
                <a:latin typeface="Arial"/>
              </a:rPr>
              <a:t>.  Deciding on a ranch-style house dictates that all the rooms be on one floor, but it does not dictate the number or placement of bedroo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architecture maps problem pieces onto the system</a:t>
            </a:r>
            <a:r>
              <a:rPr b="0" lang="en-US" sz="1000" spc="-1" strike="noStrike">
                <a:solidFill>
                  <a:srgbClr val="000000"/>
                </a:solidFill>
                <a:latin typeface="Arial"/>
              </a:rPr>
              <a:t>.  The ranch-style house we will build will have four bedrooms in the wing to the left of the entry, the dining room and kitchen at the back of the house, and living room and family room in the right w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e defines functionality, behavior, and relationships of components</a:t>
            </a:r>
            <a:r>
              <a:rPr b="0" lang="en-US" sz="1000" spc="-1" strike="noStrike">
                <a:solidFill>
                  <a:srgbClr val="000000"/>
                </a:solidFill>
                <a:latin typeface="Arial"/>
              </a:rPr>
              <a:t>.  We generate a blueprint with exact room placements and dimensions, placements of window and doors, numbers and locations of electrical outlets, paint colors, and so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 is the realization of the architecture</a:t>
            </a:r>
            <a:r>
              <a:rPr b="0" lang="en-US" sz="1000" spc="-1" strike="noStrike">
                <a:solidFill>
                  <a:srgbClr val="000000"/>
                </a:solidFill>
                <a:latin typeface="Arial"/>
              </a:rPr>
              <a:t>.  The house is finished and we move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w that we have defined what architecture is and discussed some of the implications of the definition, we will look at the three major reasons why architecture is important from the developer’s point of 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takeholder of a software system (customer, user, project manager, coder, tester, and so on) is concerned with different characteristics of the system that are affected by its architecture.  Architecture provides a common language in which different concerns can be expressed, negotiated, and resolved at a level that is intellectually manageable, even for large, complex systems.  Without such language, it is difficult to understand large systems sufficiently to make the early decisions that influence both quality and useful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n interesting side effect of negotiating requirements with the system’s users is that the users will begin to talk to each other as well.  This may result in the identification of requirements that were expected but not voiced, as well as the elicitation of requirements that had not been thought of.  See the textbook sidebar (page 29 of the book) entitled “What Happens When I Push This Butt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the manifestation of the earliest design decisions about a system, and these early bindings carry weight far out of proportion to their individual gravity with respect to the system’s remaining development, its deployment, and its maintenance life.  It is also the earliest point at which the system to be built can be analyz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lementation exhibits an architecture if it conforms to the structural design decisions described by the architecture.  This means that the implementation must be divided into the prescribed components, the components must interact with each other in the prescribed fashion, and each component must fulfill its responsibility to the other components dictat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allocation decisions also constrain implementation.  These decisions may be invisible to implementers working on individual components.  The constraints permit a separation of concerns that allows management decisions that make best use of personnel and computational capacity.  Component builders must be fluent in the specification of their individual components but not in architectural trade-offs.  Conversely, the architects need not be experts in all aspects of algorithm design or the intricacies of the programming language, but they are the ones responsible for architectural trade-off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7560" y="4232160"/>
            <a:ext cx="492444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does architecture prescribe the structure of the system being developed, but it also engraves that structure on the structure of the development project.  The normal method of dividing up the labor in a large system is to assign different portions of the system to different groups to construct.  This is called the work breakdown structure of a system.  Because the system architecture includes the highest level decomposition of the system, it is typically used as the basis for the work breakdown structure.  Specifically, the module structure is most often the basis for work assignments.  The work breakdown structure, in turn, dictates units of planning, scheduling, and budget, as well as interteam communications channels, configuration control and file system organization, integration and test plans and procedures, and even project minutiae such as how the electronic bulletin boards are organized and how many team picnics there are.  Teams communicate with each other in terms of the interface specifications to the major components.  The maintenance activity, when launched, will also reflect the software structure, with teams formed to maintain specific structural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ide effect of establishing the work breakdown structure is to effectively freeze the software architecture, at least at the level reflected in the work breakdown.  A group that is responsible for one of the subsystems will resist having its responsibilities distributed across other groups.  If these responsibilities have been formalized in a contractual relationship, changing responsibilities could become expensive.  Tracking progress on a collection of tasks that is being distributed would also become much mor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once the architecture’s module structure has been agreed on, it becomes almost impossible for managerial and business reasons to modify it.  This is one argument (among many) for carrying out extensive analysis before freezing the software architecture for a larg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7920" y="4232160"/>
            <a:ext cx="476280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t possible to tell that the appropriate architectural decisions have been made (i.e., if the system will exhibit its required quality attributes) without waiting until the system is developed and deployed?  If the answer were “no,” choosing an architecture would be a hopeless task:  random architecture selection would perform as well as any other method.  Fortunately, it is possible to make quality predictions about a system based solely on an evaluation of its archit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rt above gives a few examples of architectural features to look at, based on six sample qualities desired in a system.  What emerges from examining this chart is that in nearly every case, component interaction is a critical el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nfluences qualities but does not guarantee them.  The components’ functionality, behavior, and interactions determine what qualities can or cannot be achieved by a system, but unless the architectures is implemented as specified, it cannot be guarantee that the desired qualities will be delivered in the system.  To return to the analogy of building a house:  just because an architect includes certain details in the blueprint of the house does not guarantee that the contractor will build the house exactly that w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techniques such as the software architecture analysis method (SAAM) (which is discussed later in the course) supports top-down insight into the attributes of software product quality that is made possible (and constrained by) software architectur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development community is coming to grips with the fact that roughly 80 percent of a typical software system’s cost occurs after initial deployment, in the maintenance phase.  A corollary of this statistic is that most systems that people work on are in this phase.  Many (if not most) programmers and designers never work on new development; they work under the constraints of the existing body of code.  They do so often and with difficul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architecture partitions possible changes into three categories:  local, nonlocal, and architectural.  A local change can be accomplished by modifying a single component.  A nonlocal change requires multiple component modifications but leaves the underlying architecture intact.  An architectural change affects the fundamental ways in which the components interact with each other - the style of the architecture - and will probably require changes all over the system.  Obviously, local changes are the most desirable, and so an effective architecture is one in which the most likely changes are also the easiest to mak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iding when changes are essential, determining which change paths have the least risk, assessing the consequences of proposed changes, and arbitrating sequences and priorities for requested changes all require broad insight into relationships, dependencies, performance, and behaviors of system software components.  These are in the job description for an architect.  Reasoning at an architectural level can provide the insight necessary to make decisions and plans about proposed change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32160"/>
            <a:ext cx="4753080" cy="378936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has been defined, it can be analyzed and prototyped as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able prototype.  This aids the development process in two ways, 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Potential performance problems can be identified early in the product’s life cyc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system is executable early in the product’s life cycle.  The fidelity of the system increases as prototype parts are replaced by complete versions of these parts of the software.  These prototype parts can be a lower-fidelity version of the final functionality, or they can be surrogates that consume and produce data at the appropriate rat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f these benefits reduces the potential risk in the project.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part of a family of related systems, the cost of creat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prototyping can be distributed over the development of man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evolutionary prototyping, it may be useful to experiment to see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nned components are able to deliver the features that are wanted.  Having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facilitates this experimentation by providing a skeletal framework int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components can be plugged and by allowing the partitioning of functionalit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o various compone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is section on why architecture is important as the manifestation of the earliest design decisions about a system, using the points listed on the slide.  The main point that students should remember is contained in the last paragraph on the slide</a:t>
            </a:r>
            <a:r>
              <a:rPr b="0" lang="en-US" sz="1000" spc="-1" strike="noStrike">
                <a:solidFill>
                  <a:srgbClr val="000000"/>
                </a:solidFill>
                <a:latin typeface="Arial"/>
              </a:rPr>
              <a:t>:  The right architecture makes things go smoothly; the wrong one can lead to disas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fer back to the flip charts from Lecture 0, containing each student’s definition of software architecture.  Engage the class in a short discussion (5 minutes or less).  What concepts are similar?  Does anyone have anything to ad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possible, consolidate the definitions that are conceptually similar, so that you end up with between one and three short definitions of “software architecture.”  Compare these to the common definitions on the next slide:  there should be a great deal of overlap among students’ definitions and the commonly held concepts in the definitions given on the next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07920" y="4232160"/>
            <a:ext cx="4848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constitutes a relatively small, intellectually graspable model for how a system is structured and how its components work together; this model is transferable across systems.  In particular, it can be applied to other systems exhibiting similar requirements and can promote large-sca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architecture-based development of a product line, the architecture is in fact the sum of the early design decisions.  System architects choose an architecture (or a family of closely related architectures) that will serve all envisioned members of the product line by making design decisions that apply across the family early and by making other decisions that apply only to individual members late.  The architecture defines what is fixed for all members of the family and what is var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amilywide design solution may not be optimal for all systems derived from it, but the quality gained and labor savings realized through architectural-level reuse may compensate for the loss of optimality in particular areas.  On the other hand, reusing a familywide design reduces the risk that a derived system might have an inappropriate architecture.  Using a standard design reduces both risk and development costs, at the risk of nonoptim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 to other capital investments, the architecture for a product line becomes a development organization’s core asse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former software paradigms have focused on programming as the prime activity (with progress measured in terms of lines of code), architecture-based development often focuses on composing or assembling components that are likely to have been developed separately, even independently, from each other.  This composition is possible because the architecture defines the components that can be incorporated into the system.  The architecture constrains possible replacements (or additions) according to how they interact with their environment, how they receive and relinquish control, what data they consume and produce, how they access data, and what protocols they use for commun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key aspect of architecture is its organization of component structure, interfaces, and operating concepts.  The most significant principle of this organization is interchangeability.  In 1793, Eli Whitney’s mass production of muskets, based on the principle of interchangeable parts, signaled the dawn of the industrial age.  In the days before physical measurements were reliable, this was a daunting notion.  Today in software, until abstractions can be reliably delimited, the notion of structural interchangeability is just as daunting and just as significant.  Some of the problems with interchangeability are listed in the bullets on thi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resolve potential incompatibilities of components, the architectural contexts for potentially reusable subsystems must be made explicit.  Some design practices, such as information hiding, are particularly important for architectural consistency.  The most elemental need, however, is for improved documentation practices, the inclusion of detailed preconditions for the use of interfaces, and conventions for describing typical architectural assumptions and mechanism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useful architectural styles and design patterns are collected, it becomes clear that although computer programs can be combined in more or less infinite ways, there is something to be gained by voluntarily restricting ourselves to a relatively small number of choices when it comes to program cooperation and interaction.  That is, we wish to minimize the design complexity of the system we are building.  Advantages to this approach include enhanced reuse, more regular and simpler designs that are more easily understood and communicated, more capable analysis, shorter selection time, and greater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erties of software design follow from the choice of architectural style.  Those styles that are more desirable for a particular problem should improve the implementation of the resulting design solution, perhaps by making it easier to arbitrate conflicting design constraints, by increasing insight into poorly understood design contexts, and/or by helping to surface inconsistencies in requirements specificati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embodies design decisions about how components interact that, while reflected in each component at the code level, can be localized and written just once.  Templates can be used to capture in one place the interaction mechanisms at the component level.  For example, a template can encode the declaration for a component’s public area where results will be left or can encode the protocols that the component uses to engage with the system executi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template is used to code the component interaction frameworks, the common part is reused as is.  The developer needs only to fill in the part that is unique to the particular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emplates both increases the speed in which system development takes place and improves the reliability of the system.  With a template, the source of common errors is eliminated throughout the system if it is eliminated in one place; conversely, fixing an error in one place means that the fix is repeated in other places throughout the system.</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e slide to summarize the points on why an architecture is important in providing a reusable model for system developme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house, the architect, the general contractor, the electrician, the plumber, the interior designer, and the landscaper all have different views of the structure.  Although these views are pictured differently, all are inherently related:  together, they describe the building’s architecture.  The same is true with software architecture.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ly, we said that software architecture is about software structure, but we also explained that since software systems exhibit many structures, defining the overall structure of a system was an inherently ambiguous concept.  So, just as the structure of a building has many meanings dependent on viewpoint and motive, software exhibits many structures, and we cannot communicate meaningfully about software unless it is clear which structure we are describing.  In the next section of this lecture, we will examine some of the most common and useful software architectures, a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Do not explain each of the common structures listed here, since the following slides explain each structure individually</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dule structure, the units are modules, on which work assignm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Each module and work assignment has products (such as interfa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code, test plan, etc.) associated with them.  Modules are link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is-a-submodule-of or the shares-a-secret-with relation.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used to allocate a project’s labor and other resources during developmen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enanc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structure affects the quality attributes of maintain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ability:  Modules have certain responsibilities, and these responsibilities change if the architecture changes.  The module structure affects whether it will be easy or difficult to implement various changes 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  Generally, when examining an architecture, the module structure is what gets looked at first.  The more complex the module structure of a system, the more difficult the architecture is to understand. </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r coordination, structure is orthogonal to the module view and deals with the dynamic aspects of a running system.  The units of this structure are processes, tasks, or threads.  Relations represented by the links include synchronizes-with, can’t-run-without, can’t-run-with, preempts, or any of several other relations dealing with process synchronization and concurrency.  The process structure is used to tune the system’s runtime performance and/or to exploit multiprocessing hardwa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 structure affects the system’s performance because this is where the real-time relationships among the components reside.  Complex interactions among components may cause slower runtime performance, resulting in missed deadline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structure has units of procedures or modules.  The units are link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ssumes-the-correct-presence-of relation.  The uses structure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 systems that can be easily subset or extended, such as using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build approach to integr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s structure determines the amount of coupling; thus, it affects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of reusability, testability, and incremental development.  A hi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unt of coupling can have an adverse affect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one module or procedure can’t be reused without bringing a lot of other modules or procedures with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a module or procedure can’t be tested unless all its linked units have also been tes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  having a number of linked modules or procedures makes incremental development difficult or impossible to achie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definitions of software architecture assume that architectures are</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mponents and the connections among th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overall structure of a syst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 diagram which illustrates the parts of a system and their connections and/or  </a:t>
            </a:r>
            <a:r>
              <a:rPr b="0" lang="en-US" sz="1000" spc="-1" strike="noStrike">
                <a:solidFill>
                  <a:srgbClr val="000000"/>
                </a:solidFill>
                <a:latin typeface="Arial"/>
              </a:rPr>
              <a:t>	</a:t>
            </a:r>
            <a:r>
              <a:rPr b="0" lang="en-US" sz="1000" spc="-1" strike="noStrike">
                <a:solidFill>
                  <a:srgbClr val="000000"/>
                </a:solidFill>
                <a:latin typeface="Arial"/>
              </a:rPr>
              <a:t>relationships</a:t>
            </a:r>
            <a:endParaRPr b="0" lang="en-US" sz="1000" spc="-1" strike="noStrike">
              <a:solidFill>
                <a:srgbClr val="000000"/>
              </a:solidFill>
              <a:latin typeface="Arial"/>
            </a:endParaRPr>
          </a:p>
          <a:p>
            <a:pPr lvl="1"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on this slide is taken from a system description for an underwater acoustic simulation and purports to describe the top-level architecture.  What can we tell from this diagra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system consists of four component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ree of the components might have more in common with each other </a:t>
            </a:r>
            <a:r>
              <a:rPr b="0" lang="en-US" sz="1000" spc="-1" strike="noStrike">
                <a:solidFill>
                  <a:srgbClr val="000000"/>
                </a:solidFill>
                <a:latin typeface="Arial"/>
              </a:rPr>
              <a:t>	</a:t>
            </a:r>
            <a:r>
              <a:rPr b="0" lang="en-US" sz="1000" spc="-1" strike="noStrike">
                <a:solidFill>
                  <a:srgbClr val="000000"/>
                </a:solidFill>
                <a:latin typeface="Arial"/>
              </a:rPr>
              <a:t>(MODP, MODR, MODN) than with the fourth (CP) because they are  </a:t>
            </a:r>
            <a:r>
              <a:rPr b="0" lang="en-US" sz="1000" spc="-1" strike="noStrike">
                <a:solidFill>
                  <a:srgbClr val="000000"/>
                </a:solidFill>
                <a:latin typeface="Arial"/>
              </a:rPr>
              <a:t>	</a:t>
            </a:r>
            <a:r>
              <a:rPr b="0" lang="en-US" sz="1000" spc="-1" strike="noStrike">
                <a:solidFill>
                  <a:srgbClr val="000000"/>
                </a:solidFill>
                <a:latin typeface="Arial"/>
              </a:rPr>
              <a:t>positioned next to each othe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l of the components apparently have some sort of relationship with each  </a:t>
            </a:r>
            <a:r>
              <a:rPr b="0" lang="en-US" sz="1000" spc="-1" strike="noStrike">
                <a:solidFill>
                  <a:srgbClr val="000000"/>
                </a:solidFill>
                <a:latin typeface="Arial"/>
              </a:rPr>
              <a:t>	</a:t>
            </a:r>
            <a:r>
              <a:rPr b="0" lang="en-US" sz="1000" spc="-1" strike="noStrike">
                <a:solidFill>
                  <a:srgbClr val="000000"/>
                </a:solidFill>
                <a:latin typeface="Arial"/>
              </a:rPr>
              <a:t>other, because the diagram is fully connected.</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re are many things that the diagram (and the other definitions) do </a:t>
            </a:r>
            <a:r>
              <a:rPr b="0" i="1" lang="en-US" sz="1000" spc="-1" strike="noStrike" u="sng">
                <a:solidFill>
                  <a:srgbClr val="000000"/>
                </a:solidFill>
                <a:uFillTx/>
                <a:latin typeface="Arial"/>
              </a:rPr>
              <a:t>not</a:t>
            </a:r>
            <a:r>
              <a:rPr b="0" i="1" lang="en-US" sz="1000" spc="-1" strike="noStrike">
                <a:solidFill>
                  <a:srgbClr val="000000"/>
                </a:solidFill>
                <a:latin typeface="Arial"/>
              </a:rPr>
              <a:t> make clear.  These are explained on the next three slides.  </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alls structure are usually (sub)procedures.  The units are related by the calls or invokes relation.  The calls structure is used to trace the flow of execution in a program, and in debugging.  Calls structure may affect the quality attributes of buildability, testability, maintainability, and understandability.  As with the uses structure, a high amount of coupling makes the system harder to build, test, maintain or change, and understan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data flow structure are programs or modules.  The re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king the units is may-send-data-to.  The links are labeled with the nam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transmitted.  The data-flow view is most useful for requir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ce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data flow structure describes the journey of a piece of data throu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ous calculation steps in the system to be come an output, the aff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include performance, correctness, and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he more numerous the required steps to calculate the outcome, the slower the system will ru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ctness:  if there is an error in any of the calculation steps, the output will be wro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uracy:  because calculations are numeric, data is lost in each step (e.g., dropping a repeating decimal); the more steps, the more data is lost, and the less accurate the value of the output.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07920" y="4232160"/>
            <a:ext cx="47721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lass structure are objects.  The units are linked by the inherits-from or is-an-instance-of relation.  The class structure supports reasoning about collections of similar behavior (i.e., the classes that other classes inherit from) and parameterized differences from the core, which are captured by subclass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 structure affects development time and maintainability.  By writing the common elements of a class only once, development time can be lessened.  The effect on maintainability depends on where a system change occurs.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structure view shows the mapping of software onto hardware.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of interest in distributed or parallel systems.  The compon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entities (processors) and the links are communication pathway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 are communicates-with or resides-on-the-same-process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view allows an engineer to reason about performance and avail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ables management of process-to-processor allo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ommunication between two processes on different processors may involve more overhead and take longer than if the processes were located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f a system uses two processors and one fails, the allocation of software determines whether or not the system will be able to continue oper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s can be used to document</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the current system was developed</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future development should occu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manager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customers, such as system attributes and functions</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one often thinks about a system’s structure in terms of functionality, there are other system properties in addition to functionality (such as physical distribution, process communication, and synchronization) that must be reasoned about at an architectural level.  Each structure provides a method for reasoning about some of the relevant quality attributes.  The uses structure, for instance, must be </a:t>
            </a:r>
            <a:r>
              <a:rPr b="0" lang="en-US" sz="1000" spc="-1" strike="noStrike" u="sng">
                <a:solidFill>
                  <a:srgbClr val="000000"/>
                </a:solidFill>
                <a:uFillTx/>
                <a:latin typeface="Arial"/>
              </a:rPr>
              <a:t>engineered</a:t>
            </a:r>
            <a:r>
              <a:rPr b="0" lang="en-US" sz="1000" spc="-1" strike="noStrike">
                <a:solidFill>
                  <a:srgbClr val="000000"/>
                </a:solidFill>
                <a:latin typeface="Arial"/>
              </a:rPr>
              <a:t> (not merely recorded) to build a system that can easily be extended or contracted.  The calls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reduce bottlenecks.  The module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produce modifiable systems, and so on.  Each structure provides a different view into the system and a different leverage point for design to achieve desired qualities in the system.</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31760" y="657360"/>
            <a:ext cx="4324320" cy="3240000"/>
          </a:xfrm>
          <a:prstGeom prst="rect">
            <a:avLst/>
          </a:prstGeom>
          <a:ln w="0">
            <a:noFill/>
          </a:ln>
        </p:spPr>
      </p:sp>
      <p:sp>
        <p:nvSpPr>
          <p:cNvPr id="40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is slide to summarize the section on architectural structur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31760" y="657360"/>
            <a:ext cx="4324320" cy="3240000"/>
          </a:xfrm>
          <a:prstGeom prst="rect">
            <a:avLst/>
          </a:prstGeom>
          <a:ln w="0">
            <a:noFill/>
          </a:ln>
        </p:spPr>
      </p:sp>
      <p:sp>
        <p:nvSpPr>
          <p:cNvPr id="40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31760" y="657360"/>
            <a:ext cx="4324320" cy="3240000"/>
          </a:xfrm>
          <a:prstGeom prst="rect">
            <a:avLst/>
          </a:prstGeom>
          <a:ln w="0">
            <a:noFill/>
          </a:ln>
        </p:spPr>
      </p:sp>
      <p:sp>
        <p:nvSpPr>
          <p:cNvPr id="40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031760" y="657360"/>
            <a:ext cx="4324320" cy="3240000"/>
          </a:xfrm>
          <a:prstGeom prst="rect">
            <a:avLst/>
          </a:prstGeom>
          <a:ln w="0">
            <a:noFill/>
          </a:ln>
        </p:spPr>
      </p:sp>
      <p:sp>
        <p:nvSpPr>
          <p:cNvPr id="40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cription of “components and connectors” as making up an architecture is vague and inadequate because it tells us nothing about the types and functions of the components or the way in which connectors work (or don’t work).  As the questions on the slide indicate, there is a great variety of information that is lost by simply defining an architecture as a set of components and conne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7560" y="4232160"/>
            <a:ext cx="47437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y to define architecture as “the overall structure of a system”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adequate.  There are many kinds of structures, any one of which could be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oftware system.  In fact, systems usually use several kinds of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ly, so no part can claim to be </a:t>
            </a:r>
            <a:r>
              <a:rPr b="0" lang="en-US" sz="1000" spc="-1" strike="noStrike" u="sng">
                <a:solidFill>
                  <a:srgbClr val="000000"/>
                </a:solidFill>
                <a:uFillTx/>
                <a:latin typeface="Arial"/>
              </a:rPr>
              <a:t>the</a:t>
            </a:r>
            <a:r>
              <a:rPr b="0" lang="en-US" sz="1000" spc="-1" strike="noStrike">
                <a:solidFill>
                  <a:srgbClr val="000000"/>
                </a:solidFill>
                <a:latin typeface="Arial"/>
              </a:rPr>
              <a:t> definitive structure of the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re is not usually one single structure in a system, the problem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efinition is in using the words “th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the problem with the box and line diagrams.  Because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lly does not have only one structure, such diagrams can be hard interpre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not always obvious what the various symbols represent.  When seeing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we must ask questions such as the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boxes represent?  Are they structures?  functions?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arrows mean?  Are they data flows?  calls path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7560" y="4232160"/>
            <a:ext cx="479124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diagram is that while it may show the number o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in a system and the potential relationships among them, there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eat deal of information </a:t>
            </a:r>
            <a:r>
              <a:rPr b="0" lang="en-US" sz="1000" spc="-1" strike="noStrike" u="sng">
                <a:solidFill>
                  <a:srgbClr val="000000"/>
                </a:solidFill>
                <a:uFillTx/>
                <a:latin typeface="Arial"/>
              </a:rPr>
              <a:t>not</a:t>
            </a:r>
            <a:r>
              <a:rPr b="0" lang="en-US" sz="1000" spc="-1" strike="noStrike">
                <a:solidFill>
                  <a:srgbClr val="000000"/>
                </a:solidFill>
                <a:latin typeface="Arial"/>
              </a:rPr>
              <a:t> conveyed.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nature of the components</a:t>
            </a:r>
            <a:r>
              <a:rPr b="0" lang="en-US" sz="1000" spc="-1" strike="noStrike">
                <a:solidFill>
                  <a:srgbClr val="000000"/>
                </a:solidFill>
                <a:latin typeface="Arial"/>
              </a:rPr>
              <a:t>?  What is the significance of their separation? Do they run at separate times?  Do the components consist of processes, programs, or both?  Do the components represent ways in which the project labor will be divided, or do they convey a sense of runtime separation?  Are they modules, objects, tasks, functions, processes, or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connectors</a:t>
            </a:r>
            <a:r>
              <a:rPr b="0" lang="en-US" sz="1000" spc="-1" strike="noStrike">
                <a:solidFill>
                  <a:srgbClr val="000000"/>
                </a:solidFill>
                <a:latin typeface="Arial"/>
              </a:rPr>
              <a:t>?  Do the links mean that the components communicate with each other, control each other, send data to each other, use each other, invoke each other, synchronize with each other, or some combination of these or other relations?  What are the mechanisms for the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lso new ques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layout</a:t>
            </a:r>
            <a:r>
              <a:rPr b="0" lang="en-US" sz="1000" spc="-1" strike="noStrike">
                <a:solidFill>
                  <a:srgbClr val="000000"/>
                </a:solidFill>
                <a:latin typeface="Arial"/>
              </a:rPr>
              <a:t>?  Why is CP on a separate level?  Does it call the other three components, and are the others not allowed to call it?  Or was there simply not enough room to put all four components on the same row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ow does the architecture operate at runtime</a:t>
            </a:r>
            <a:r>
              <a:rPr b="0" lang="en-US" sz="1000" spc="-1" strike="noStrike">
                <a:solidFill>
                  <a:srgbClr val="000000"/>
                </a:solidFill>
                <a:latin typeface="Arial"/>
              </a:rPr>
              <a:t>? </a:t>
            </a:r>
            <a:r>
              <a:rPr b="0" i="1" lang="en-US" sz="1000" spc="-1" strike="noStrike">
                <a:solidFill>
                  <a:srgbClr val="000000"/>
                </a:solidFill>
                <a:latin typeface="Arial"/>
              </a:rPr>
              <a:t> </a:t>
            </a:r>
            <a:r>
              <a:rPr b="0" lang="en-US" sz="1000" spc="-1" strike="noStrike">
                <a:solidFill>
                  <a:srgbClr val="000000"/>
                </a:solidFill>
                <a:latin typeface="Arial"/>
              </a:rPr>
              <a:t>How do data and control flow through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xes and arrows or verbal descriptions of components and connectors are no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mselves, architectures.  They are just a way of starting to think about wha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how they cooperate with each other to accomplish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urpose of the system, and other important issu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7560" y="4232160"/>
            <a:ext cx="48387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decided what software architectures are </a:t>
            </a:r>
            <a:r>
              <a:rPr b="0" lang="en-US" sz="1000" spc="-1" strike="noStrike" u="sng">
                <a:solidFill>
                  <a:srgbClr val="000000"/>
                </a:solidFill>
                <a:uFillTx/>
                <a:latin typeface="Arial"/>
              </a:rPr>
              <a:t>not</a:t>
            </a:r>
            <a:r>
              <a:rPr b="0" lang="en-US" sz="1000" spc="-1" strike="noStrike">
                <a:solidFill>
                  <a:srgbClr val="000000"/>
                </a:solidFill>
                <a:latin typeface="Arial"/>
              </a:rPr>
              <a:t>, we now offer this definition of what </a:t>
            </a:r>
            <a:r>
              <a:rPr b="0" lang="en-US" sz="1000" spc="-1" strike="noStrike" u="sng">
                <a:solidFill>
                  <a:srgbClr val="000000"/>
                </a:solidFill>
                <a:uFillTx/>
                <a:latin typeface="Arial"/>
              </a:rPr>
              <a:t>does</a:t>
            </a:r>
            <a:r>
              <a:rPr b="0" lang="en-US" sz="1000" spc="-1" strike="noStrike">
                <a:solidFill>
                  <a:srgbClr val="000000"/>
                </a:solidFill>
                <a:latin typeface="Arial"/>
              </a:rPr>
              <a:t> constitute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ad the definition from the slide.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Externally visible properties” refers to those assumptions that other components can make of a component, such as its provided services, performance characteristics, fault handling, shared resources, and so on.  The intent of this definition is that a software architecture must abstract away some information from the system (otherwise there is no point in looking at the architecture; we are simply viewing the entire system) and yet provide enough information to be a basis for analysis, decision making, and hence, risk red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On the next few slides, we will look at a few of the implications of this definition in more detai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7920" y="4232160"/>
            <a:ext cx="48103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t>
            </a:r>
            <a:r>
              <a:rPr b="0" lang="en-US" sz="1000" spc="-1" strike="noStrike" u="sng">
                <a:solidFill>
                  <a:srgbClr val="000000"/>
                </a:solidFill>
                <a:uFillTx/>
                <a:latin typeface="Arial"/>
              </a:rPr>
              <a:t>architecture defines components</a:t>
            </a:r>
            <a:r>
              <a:rPr b="0" lang="en-US" sz="1000" spc="-1" strike="noStrike">
                <a:solidFill>
                  <a:srgbClr val="000000"/>
                </a:solidFill>
                <a:latin typeface="Arial"/>
              </a:rPr>
              <a:t>.  The architecture embodies information about how the components interact with one another.  This means that architecture specifically omits certain information about components that does not pertain to their interaction.  Thus, architecture is an </a:t>
            </a:r>
            <a:r>
              <a:rPr b="0" lang="en-US" sz="1000" spc="-1" strike="noStrike" u="sng">
                <a:solidFill>
                  <a:srgbClr val="000000"/>
                </a:solidFill>
                <a:uFillTx/>
                <a:latin typeface="Arial"/>
              </a:rPr>
              <a:t>abstraction</a:t>
            </a:r>
            <a:r>
              <a:rPr b="0" lang="en-US" sz="1000" spc="-1" strike="noStrike">
                <a:solidFill>
                  <a:srgbClr val="000000"/>
                </a:solidFill>
                <a:latin typeface="Arial"/>
              </a:rPr>
              <a:t> of a system that suppresses details of components that do not affect how they use, are used by, relate to, or interact with other components.  In systems that use information hiding as the design criteria, components react with each other by means of interfaces that partition details about a component into public and private parts.  Architecture is on the public side of this division; private details of components (details having to do solely with internal implementation) are not architectur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the definition makes clear that </a:t>
            </a:r>
            <a:r>
              <a:rPr b="0" lang="en-US" sz="1000" spc="-1" strike="noStrike" u="sng">
                <a:solidFill>
                  <a:srgbClr val="000000"/>
                </a:solidFill>
                <a:uFillTx/>
                <a:latin typeface="Arial"/>
              </a:rPr>
              <a:t>systems can comprise more than one structure</a:t>
            </a:r>
            <a:r>
              <a:rPr b="0" lang="en-US" sz="1000" spc="-1" strike="noStrike">
                <a:solidFill>
                  <a:srgbClr val="000000"/>
                </a:solidFill>
                <a:latin typeface="Arial"/>
              </a:rPr>
              <a:t> and that no one structure holds the irrefutable claim to being </a:t>
            </a:r>
            <a:r>
              <a:rPr b="0" lang="en-US" sz="1000" spc="-1" strike="noStrike" u="sng">
                <a:solidFill>
                  <a:srgbClr val="000000"/>
                </a:solidFill>
                <a:uFillTx/>
                <a:latin typeface="Arial"/>
              </a:rPr>
              <a:t>the</a:t>
            </a:r>
            <a:r>
              <a:rPr b="0" lang="en-US" sz="1000" spc="-1" strike="noStrike">
                <a:solidFill>
                  <a:srgbClr val="000000"/>
                </a:solidFill>
                <a:latin typeface="Arial"/>
              </a:rPr>
              <a:t> architecture.  For example, large projects are usually partitioned into components that are used as work assignments for programming teams.  Let us call those components “modules.”  A module will comprise programs and data that software in other modules call or access and programs or data that are private.  The modules may be subdivided for assignment to subteams.  This is one kind of structure often used to describe a system.  Or, suppose that the system is to be built as a set of parallel processes.  The set of processes that will exist at runtime, the programs in the various modules that are strung together sequentially to form each process, and the synchronization relations among the processes form another kind of structure often used to describe a system.  Both of these structures convey architectural information, but neither can claim to be </a:t>
            </a:r>
            <a:r>
              <a:rPr b="0" lang="en-US" sz="1000" spc="-1" strike="noStrike" u="sng">
                <a:solidFill>
                  <a:srgbClr val="000000"/>
                </a:solidFill>
                <a:uFillTx/>
                <a:latin typeface="Arial"/>
              </a:rPr>
              <a:t>the </a:t>
            </a:r>
            <a:r>
              <a:rPr b="0" lang="en-US" sz="1000" spc="-1" strike="noStrike">
                <a:solidFill>
                  <a:srgbClr val="000000"/>
                </a:solidFill>
                <a:latin typeface="Arial"/>
              </a:rPr>
              <a:t>architecture.  Because architecture can comprise more than one kind of structure, there is more than one kind of component, more than one kind of interaction among components, and even more than one context.  Thus, our definition does not specify what architectural components and relationships are:  they are whatever is useful for analyzing, describing, or understanding in a given contex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2  - page </a:t>
            </a:r>
            <a:fld id="{F68EC5CB-254D-443B-A10D-23D0445AC36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5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2  - page </a:t>
            </a:r>
            <a:fld id="{54F46B18-946E-4DE7-B9DA-3D9745EA3A4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9640" y="1907640"/>
            <a:ext cx="7927920" cy="117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2: What Is Software</a:t>
            </a:r>
            <a:br>
              <a:rPr sz="3200"/>
            </a:br>
            <a:r>
              <a:rPr b="0" lang="en-US" sz="3200" spc="-1" strike="noStrike">
                <a:solidFill>
                  <a:srgbClr val="ffffff"/>
                </a:solidFill>
                <a:latin typeface="Century Schoolbook"/>
              </a:rPr>
              <a:t>Architecture? </a:t>
            </a:r>
            <a:r>
              <a:rPr b="0" lang="en-US" sz="3200" spc="-1" strike="noStrike">
                <a:solidFill>
                  <a:srgbClr val="ffffff"/>
                </a:solidFill>
                <a:latin typeface="Century Schoolbook"/>
              </a:rPr>
              <a:t>Why Is It Importan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760" y="1782720"/>
            <a:ext cx="7420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ies of components are assumptions that one component can make of another. Properti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d services (functiona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characterist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 hand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resource usag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3</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that box-and-line drawings alone are </a:t>
            </a:r>
            <a:r>
              <a:rPr b="1" i="1" lang="en-US" sz="2400" spc="-1" strike="noStrike">
                <a:solidFill>
                  <a:srgbClr val="ffffff"/>
                </a:solidFill>
                <a:latin typeface="Arial"/>
              </a:rPr>
              <a:t>not </a:t>
            </a:r>
            <a:r>
              <a:rPr b="1" lang="en-US" sz="2400" spc="-1" strike="noStrike">
                <a:solidFill>
                  <a:srgbClr val="ffffff"/>
                </a:solidFill>
                <a:latin typeface="Arial"/>
              </a:rPr>
              <a:t>architectures, but a starting poi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might </a:t>
            </a:r>
            <a:r>
              <a:rPr b="1" i="1" lang="en-US" sz="2400" spc="-1" strike="noStrike">
                <a:solidFill>
                  <a:srgbClr val="ffffff"/>
                </a:solidFill>
                <a:latin typeface="Arial"/>
              </a:rPr>
              <a:t>imagine</a:t>
            </a:r>
            <a:r>
              <a:rPr b="1" lang="en-US" sz="2400" spc="-1" strike="noStrike">
                <a:solidFill>
                  <a:srgbClr val="ffffff"/>
                </a:solidFill>
                <a:latin typeface="Arial"/>
              </a:rPr>
              <a:t> the behavior of a box labeled “database” or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need to add specifications and proper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4</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lationships</a:t>
            </a:r>
            <a:r>
              <a:rPr b="1" lang="en-US" sz="2400" spc="-1" strike="noStrike">
                <a:solidFill>
                  <a:srgbClr val="ffffff"/>
                </a:solidFill>
                <a:latin typeface="Arial"/>
              </a:rPr>
              <a:t> are more general than </a:t>
            </a:r>
            <a:r>
              <a:rPr b="1" i="1" lang="en-US" sz="2400" spc="-1" strike="noStrike">
                <a:solidFill>
                  <a:srgbClr val="ffffff"/>
                </a:solidFill>
                <a:latin typeface="Arial"/>
              </a:rPr>
              <a:t>connecto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be runtime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s data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k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also be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submodule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s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herits fro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5</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788600" cy="44560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a:t>
            </a:r>
            <a:r>
              <a:rPr b="1" i="1" lang="en-US" sz="2400" spc="-1" strike="noStrike">
                <a:solidFill>
                  <a:srgbClr val="ffffff"/>
                </a:solidFill>
                <a:latin typeface="Arial"/>
              </a:rPr>
              <a:t>has</a:t>
            </a:r>
            <a:r>
              <a:rPr b="1" lang="en-US" sz="2400" spc="-1" strike="noStrike">
                <a:solidFill>
                  <a:srgbClr val="ffffff"/>
                </a:solidFill>
                <a:latin typeface="Arial"/>
              </a:rPr>
              <a:t> an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is composed of components and relationships among them. </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implest case, a system is composed of a single component, related only to itself.</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 having an architecture is different from having an architecture that is known to everyone.  New issues:</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versus specification of the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covery and conformanc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th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lated Concept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2129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64" name=""/>
          <p:cNvGraphicFramePr/>
          <p:nvPr/>
        </p:nvGraphicFramePr>
        <p:xfrm>
          <a:off x="7920000" y="63360"/>
          <a:ext cx="1158840" cy="1282680"/>
        </p:xfrm>
        <a:graphic>
          <a:graphicData uri="http://schemas.openxmlformats.org/presentationml/2006/ole">
            <p:oleObj r:id="rId1" spid="">
              <p:embed/>
              <p:pic>
                <p:nvPicPr>
                  <p:cNvPr id="165" name="" descr=""/>
                  <p:cNvPicPr/>
                  <p:nvPr/>
                </p:nvPicPr>
                <p:blipFill>
                  <a:blip r:embed="rId2"/>
                  <a:stretch/>
                </p:blipFill>
                <p:spPr>
                  <a:xfrm>
                    <a:off x="7920000" y="63360"/>
                    <a:ext cx="1158840" cy="1282680"/>
                  </a:xfrm>
                  <a:prstGeom prst="rect">
                    <a:avLst/>
                  </a:prstGeom>
                  <a:ln w="0">
                    <a:noFill/>
                  </a:ln>
                </p:spPr>
              </p:pic>
            </p:oleObj>
          </a:graphicData>
        </a:graphic>
      </p:graphicFrame>
      <p:grpSp>
        <p:nvGrpSpPr>
          <p:cNvPr id="166" name=""/>
          <p:cNvGrpSpPr/>
          <p:nvPr/>
        </p:nvGrpSpPr>
        <p:grpSpPr>
          <a:xfrm>
            <a:off x="2567520" y="4213080"/>
            <a:ext cx="3945960" cy="1711440"/>
            <a:chOff x="2567520" y="4213080"/>
            <a:chExt cx="3945960" cy="1711440"/>
          </a:xfrm>
        </p:grpSpPr>
        <p:sp>
          <p:nvSpPr>
            <p:cNvPr id="167" name=""/>
            <p:cNvSpPr/>
            <p:nvPr/>
          </p:nvSpPr>
          <p:spPr>
            <a:xfrm>
              <a:off x="2686320" y="4224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168" name=""/>
            <p:cNvSpPr/>
            <p:nvPr/>
          </p:nvSpPr>
          <p:spPr>
            <a:xfrm>
              <a:off x="2583000" y="520056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567520" y="5211720"/>
              <a:ext cx="1600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170" name=""/>
            <p:cNvSpPr/>
            <p:nvPr/>
          </p:nvSpPr>
          <p:spPr>
            <a:xfrm flipV="1">
              <a:off x="4165560" y="512244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944960" y="4691160"/>
              <a:ext cx="1568520" cy="725400"/>
              <a:chOff x="4944960" y="4691160"/>
              <a:chExt cx="1568520" cy="725400"/>
            </a:xfrm>
          </p:grpSpPr>
          <p:sp>
            <p:nvSpPr>
              <p:cNvPr id="172" name=""/>
              <p:cNvSpPr/>
              <p:nvPr/>
            </p:nvSpPr>
            <p:spPr>
              <a:xfrm>
                <a:off x="4969080" y="469116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173" name=""/>
              <p:cNvSpPr/>
              <p:nvPr/>
            </p:nvSpPr>
            <p:spPr>
              <a:xfrm>
                <a:off x="4944960" y="4692600"/>
                <a:ext cx="156852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 name=""/>
            <p:cNvSpPr/>
            <p:nvPr/>
          </p:nvSpPr>
          <p:spPr>
            <a:xfrm>
              <a:off x="4165560" y="457200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583000" y="421308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a:t>
            </a:r>
            <a:endParaRPr b="0" lang="en-US" sz="3600" spc="-1" strike="noStrike">
              <a:solidFill>
                <a:srgbClr val="ffffff"/>
              </a:solidFill>
              <a:latin typeface="Century Schoolbook"/>
            </a:endParaRPr>
          </a:p>
        </p:txBody>
      </p:sp>
      <p:sp>
        <p:nvSpPr>
          <p:cNvPr id="1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 a division of functionality together with data flow between the pie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model divides a problem into pieces, but does not prescribe a software solutio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f you can name the standard parts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iler, an operating system, or a database management system, it is because you have been taught a reference model.</a:t>
            </a:r>
            <a:endParaRPr b="1" lang="en-US" sz="2400" spc="-1" strike="noStrike">
              <a:solidFill>
                <a:srgbClr val="ffffff"/>
              </a:solidFill>
              <a:latin typeface="Arial"/>
            </a:endParaRPr>
          </a:p>
        </p:txBody>
      </p:sp>
      <p:grpSp>
        <p:nvGrpSpPr>
          <p:cNvPr id="178" name=""/>
          <p:cNvGrpSpPr/>
          <p:nvPr/>
        </p:nvGrpSpPr>
        <p:grpSpPr>
          <a:xfrm>
            <a:off x="7409160" y="812880"/>
            <a:ext cx="1374480" cy="586440"/>
            <a:chOff x="7409160" y="812880"/>
            <a:chExt cx="1374480" cy="586440"/>
          </a:xfrm>
        </p:grpSpPr>
        <p:sp>
          <p:nvSpPr>
            <p:cNvPr id="179" name=""/>
            <p:cNvSpPr/>
            <p:nvPr/>
          </p:nvSpPr>
          <p:spPr>
            <a:xfrm>
              <a:off x="7416720" y="81288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81"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83"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8242200" y="971640"/>
              <a:ext cx="541440" cy="249120"/>
              <a:chOff x="8242200" y="971640"/>
              <a:chExt cx="541440" cy="249120"/>
            </a:xfrm>
          </p:grpSpPr>
          <p:sp>
            <p:nvSpPr>
              <p:cNvPr id="185"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86"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1</a:t>
            </a:r>
            <a:endParaRPr b="0" lang="en-US" sz="3600" spc="-1" strike="noStrike">
              <a:solidFill>
                <a:srgbClr val="ffffff"/>
              </a:solidFill>
              <a:latin typeface="Century Schoolbook"/>
            </a:endParaRPr>
          </a:p>
        </p:txBody>
      </p:sp>
      <p:sp>
        <p:nvSpPr>
          <p:cNvPr id="1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a:t>
            </a:r>
            <a:r>
              <a:rPr b="1" i="1" lang="en-US" sz="2400" spc="-1" strike="noStrike">
                <a:solidFill>
                  <a:srgbClr val="ffffff"/>
                </a:solidFill>
                <a:latin typeface="Arial"/>
              </a:rPr>
              <a:t>a description of component and connector types and a pattern of their runtime control and/or data transfer. </a:t>
            </a:r>
            <a:r>
              <a:rPr b="1" lang="en-US" sz="2400" spc="-1" strike="noStrike">
                <a:solidFill>
                  <a:srgbClr val="ffffff"/>
                </a:solidFill>
                <a:latin typeface="Arial"/>
              </a:rPr>
              <a:t>[Shaw 96]</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a set of canonical architectural solutions to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underspecified architectures.  They suggest patterns of runtime interaction and topolog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90" name=""/>
          <p:cNvGrpSpPr/>
          <p:nvPr/>
        </p:nvGrpSpPr>
        <p:grpSpPr>
          <a:xfrm>
            <a:off x="7409160" y="812880"/>
            <a:ext cx="1374480" cy="586440"/>
            <a:chOff x="7409160" y="812880"/>
            <a:chExt cx="1374480" cy="586440"/>
          </a:xfrm>
        </p:grpSpPr>
        <p:sp>
          <p:nvSpPr>
            <p:cNvPr id="191"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93"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95"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8242200" y="971640"/>
              <a:ext cx="541440" cy="249120"/>
              <a:chOff x="8242200" y="971640"/>
              <a:chExt cx="541440" cy="249120"/>
            </a:xfrm>
          </p:grpSpPr>
          <p:sp>
            <p:nvSpPr>
              <p:cNvPr id="197"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98"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2</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may be thought of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nstraints on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bstraction for a set of related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ppearing in the litera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styles later.</a:t>
            </a:r>
            <a:endParaRPr b="1" lang="en-US" sz="2400" spc="-1" strike="noStrike">
              <a:solidFill>
                <a:srgbClr val="ffffff"/>
              </a:solidFill>
              <a:latin typeface="Arial"/>
            </a:endParaRPr>
          </a:p>
        </p:txBody>
      </p:sp>
      <p:grpSp>
        <p:nvGrpSpPr>
          <p:cNvPr id="202" name=""/>
          <p:cNvGrpSpPr/>
          <p:nvPr/>
        </p:nvGrpSpPr>
        <p:grpSpPr>
          <a:xfrm>
            <a:off x="7409160" y="812880"/>
            <a:ext cx="1374480" cy="586440"/>
            <a:chOff x="7409160" y="812880"/>
            <a:chExt cx="1374480" cy="586440"/>
          </a:xfrm>
        </p:grpSpPr>
        <p:sp>
          <p:nvSpPr>
            <p:cNvPr id="203"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05"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07"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8242200" y="971640"/>
              <a:ext cx="541440" cy="249120"/>
              <a:chOff x="8242200" y="971640"/>
              <a:chExt cx="541440" cy="249120"/>
            </a:xfrm>
          </p:grpSpPr>
          <p:sp>
            <p:nvSpPr>
              <p:cNvPr id="209"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10"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1</a:t>
            </a:r>
            <a:endParaRPr b="0" lang="en-US" sz="3600" spc="-1" strike="noStrike">
              <a:solidFill>
                <a:srgbClr val="ffffff"/>
              </a:solidFill>
              <a:latin typeface="Century Schoolbook"/>
            </a:endParaRPr>
          </a:p>
        </p:txBody>
      </p:sp>
      <p:sp>
        <p:nvSpPr>
          <p:cNvPr id="21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t>
            </a:r>
            <a:r>
              <a:rPr b="1" i="1" lang="en-US" sz="2400" spc="-1" strike="noStrike">
                <a:solidFill>
                  <a:srgbClr val="ffffff"/>
                </a:solidFill>
                <a:latin typeface="Arial"/>
              </a:rPr>
              <a:t>a reference model mapped onto software components (that will cooperatively implement the functionality defined in the reference model) and the data flows between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architecture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of software development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ing for preexisting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 and other re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s of cost and schedule</a:t>
            </a:r>
            <a:endParaRPr b="1" lang="en-US" sz="2400" spc="-1" strike="noStrike">
              <a:solidFill>
                <a:srgbClr val="ffffff"/>
              </a:solidFill>
              <a:latin typeface="Arial"/>
            </a:endParaRPr>
          </a:p>
        </p:txBody>
      </p:sp>
      <p:grpSp>
        <p:nvGrpSpPr>
          <p:cNvPr id="214" name=""/>
          <p:cNvGrpSpPr/>
          <p:nvPr/>
        </p:nvGrpSpPr>
        <p:grpSpPr>
          <a:xfrm>
            <a:off x="7409160" y="812880"/>
            <a:ext cx="1374480" cy="586440"/>
            <a:chOff x="7409160" y="812880"/>
            <a:chExt cx="1374480" cy="586440"/>
          </a:xfrm>
        </p:grpSpPr>
        <p:sp>
          <p:nvSpPr>
            <p:cNvPr id="215"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18"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20"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22"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301160" cy="2471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eaning:  the (common) architecture for a related group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every architecture applies across a group of systems, so this definition is not very helpful.</a:t>
            </a:r>
            <a:endParaRPr b="1" lang="en-US" sz="2400" spc="-1" strike="noStrike">
              <a:solidFill>
                <a:srgbClr val="ffffff"/>
              </a:solidFill>
              <a:latin typeface="Arial"/>
            </a:endParaRPr>
          </a:p>
        </p:txBody>
      </p:sp>
      <p:grpSp>
        <p:nvGrpSpPr>
          <p:cNvPr id="225" name=""/>
          <p:cNvGrpSpPr/>
          <p:nvPr/>
        </p:nvGrpSpPr>
        <p:grpSpPr>
          <a:xfrm>
            <a:off x="7409160" y="812880"/>
            <a:ext cx="1374480" cy="586440"/>
            <a:chOff x="7409160" y="812880"/>
            <a:chExt cx="1374480" cy="586440"/>
          </a:xfrm>
        </p:grpSpPr>
        <p:sp>
          <p:nvSpPr>
            <p:cNvPr id="226"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29"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31"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33"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e and define the term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the value that a software architecture brings to a development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how software architecture is composed of several different software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several commonly used architectural structures and show their u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3</a:t>
            </a:r>
            <a:endParaRPr b="0" lang="en-US" sz="3600" spc="-1" strike="noStrike">
              <a:solidFill>
                <a:srgbClr val="ffffff"/>
              </a:solidFill>
              <a:latin typeface="Century Schoolbook"/>
            </a:endParaRPr>
          </a:p>
        </p:txBody>
      </p:sp>
      <p:sp>
        <p:nvSpPr>
          <p:cNvPr id="235" name="PlaceHolder 2"/>
          <p:cNvSpPr>
            <a:spLocks noGrp="1"/>
          </p:cNvSpPr>
          <p:nvPr>
            <p:ph/>
          </p:nvPr>
        </p:nvSpPr>
        <p:spPr>
          <a:xfrm>
            <a:off x="923760" y="1782720"/>
            <a:ext cx="7877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is a process.  At each successive phase in the process, more requirements are addressed, and more design and development have taken pl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36" name=""/>
          <p:cNvGrpSpPr/>
          <p:nvPr/>
        </p:nvGrpSpPr>
        <p:grpSpPr>
          <a:xfrm>
            <a:off x="933480" y="3651120"/>
            <a:ext cx="7543800" cy="1511280"/>
            <a:chOff x="933480" y="3651120"/>
            <a:chExt cx="7543800" cy="1511280"/>
          </a:xfrm>
        </p:grpSpPr>
        <p:grpSp>
          <p:nvGrpSpPr>
            <p:cNvPr id="237" name=""/>
            <p:cNvGrpSpPr/>
            <p:nvPr/>
          </p:nvGrpSpPr>
          <p:grpSpPr>
            <a:xfrm>
              <a:off x="1035360" y="3675240"/>
              <a:ext cx="7332480" cy="1481400"/>
              <a:chOff x="1035360" y="3675240"/>
              <a:chExt cx="7332480" cy="1481400"/>
            </a:xfrm>
          </p:grpSpPr>
          <p:sp>
            <p:nvSpPr>
              <p:cNvPr id="238" name=""/>
              <p:cNvSpPr/>
              <p:nvPr/>
            </p:nvSpPr>
            <p:spPr>
              <a:xfrm>
                <a:off x="1035360" y="3675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239" name=""/>
              <p:cNvSpPr/>
              <p:nvPr/>
            </p:nvSpPr>
            <p:spPr>
              <a:xfrm>
                <a:off x="2927520" y="414504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0" name=""/>
              <p:cNvSpPr/>
              <p:nvPr/>
            </p:nvSpPr>
            <p:spPr>
              <a:xfrm>
                <a:off x="5087520" y="4276800"/>
                <a:ext cx="15444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1" name=""/>
              <p:cNvSpPr/>
              <p:nvPr/>
            </p:nvSpPr>
            <p:spPr>
              <a:xfrm>
                <a:off x="7333920" y="4276800"/>
                <a:ext cx="1033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
                </a:r>
                <a:endParaRPr b="0" lang="en-US" sz="2000" spc="-1" strike="noStrike">
                  <a:solidFill>
                    <a:srgbClr val="ffffff"/>
                  </a:solidFill>
                  <a:latin typeface="Times New Roman"/>
                </a:endParaRPr>
              </a:p>
            </p:txBody>
          </p:sp>
          <p:sp>
            <p:nvSpPr>
              <p:cNvPr id="242" name=""/>
              <p:cNvSpPr/>
              <p:nvPr/>
            </p:nvSpPr>
            <p:spPr>
              <a:xfrm>
                <a:off x="2095560" y="4038480"/>
                <a:ext cx="863640" cy="436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36896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61680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342440" y="4759200"/>
                <a:ext cx="7506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246" name=""/>
              <p:cNvSpPr/>
              <p:nvPr/>
            </p:nvSpPr>
            <p:spPr>
              <a:xfrm flipV="1">
                <a:off x="2057400" y="4570560"/>
                <a:ext cx="914400" cy="357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7" name=""/>
            <p:cNvSpPr/>
            <p:nvPr/>
          </p:nvSpPr>
          <p:spPr>
            <a:xfrm>
              <a:off x="933480" y="3651120"/>
              <a:ext cx="754380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br>
              <a:rPr sz="3600"/>
            </a:br>
            <a:r>
              <a:rPr b="0" lang="en-US" sz="3600" spc="-1" strike="noStrike">
                <a:solidFill>
                  <a:srgbClr val="ffffff"/>
                </a:solidFill>
                <a:latin typeface="Century Schoolbook"/>
              </a:rPr>
              <a:t>(Technical Aspects)</a:t>
            </a:r>
            <a:endParaRPr b="0" lang="en-US" sz="3600" spc="-1" strike="noStrike">
              <a:solidFill>
                <a:srgbClr val="ffffff"/>
              </a:solidFill>
              <a:latin typeface="Century Schoolbook"/>
            </a:endParaRPr>
          </a:p>
        </p:txBody>
      </p:sp>
      <p:sp>
        <p:nvSpPr>
          <p:cNvPr id="249"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Architecture is important for three primary reason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1. It provides a vehicle for communication among </a:t>
            </a:r>
            <a:r>
              <a:rPr b="1" lang="en-US" sz="2400" spc="-1" strike="noStrike">
                <a:solidFill>
                  <a:srgbClr val="ffffff"/>
                </a:solidFill>
                <a:latin typeface="Arial"/>
              </a:rPr>
              <a:t>	</a:t>
            </a:r>
            <a:r>
              <a:rPr b="1" lang="en-US" sz="2400" spc="-1" strike="noStrike">
                <a:solidFill>
                  <a:srgbClr val="ffffff"/>
                </a:solidFill>
                <a:latin typeface="Arial"/>
              </a:rPr>
              <a:t>stakeholder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2. It is the manifestation of the earliest design</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cisions about a system.</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3. It is a transferable, reusable abstraction of a</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a:t>
            </a:r>
            <a:endParaRPr b="1" lang="en-US" sz="2400" spc="-1" strike="noStrike">
              <a:solidFill>
                <a:srgbClr val="ffffff"/>
              </a:solidFill>
              <a:latin typeface="Arial"/>
            </a:endParaRPr>
          </a:p>
        </p:txBody>
      </p:sp>
      <p:graphicFrame>
        <p:nvGraphicFramePr>
          <p:cNvPr id="250" name=""/>
          <p:cNvGraphicFramePr/>
          <p:nvPr/>
        </p:nvGraphicFramePr>
        <p:xfrm>
          <a:off x="7920000" y="50760"/>
          <a:ext cx="1158840" cy="1282680"/>
        </p:xfrm>
        <a:graphic>
          <a:graphicData uri="http://schemas.openxmlformats.org/presentationml/2006/ole">
            <p:oleObj r:id="rId1" spid="">
              <p:embed/>
              <p:pic>
                <p:nvPicPr>
                  <p:cNvPr id="251"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unication Vehicle</a:t>
            </a:r>
            <a:endParaRPr b="0" lang="en-US" sz="3600" spc="-1" strike="noStrike">
              <a:solidFill>
                <a:srgbClr val="ffffff"/>
              </a:solidFill>
              <a:latin typeface="Century Schoolbook"/>
            </a:endParaRPr>
          </a:p>
        </p:txBody>
      </p:sp>
      <p:sp>
        <p:nvSpPr>
          <p:cNvPr id="253" name="PlaceHolder 2"/>
          <p:cNvSpPr>
            <a:spLocks noGrp="1"/>
          </p:cNvSpPr>
          <p:nvPr>
            <p:ph/>
          </p:nvPr>
        </p:nvSpPr>
        <p:spPr>
          <a:xfrm>
            <a:off x="961560" y="1780920"/>
            <a:ext cx="7301160" cy="373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rovides a common frame of reference in which competing interests may be exposed and negotia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ng requirements with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the customer informed of progress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 management decisions and allo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1</a:t>
            </a:r>
            <a:endParaRPr b="0" lang="en-US" sz="3400" spc="-1" strike="noStrike">
              <a:solidFill>
                <a:srgbClr val="ffffff"/>
              </a:solidFill>
              <a:latin typeface="Century Schoolbook"/>
            </a:endParaRPr>
          </a:p>
        </p:txBody>
      </p:sp>
      <p:sp>
        <p:nvSpPr>
          <p:cNvPr id="255" name="PlaceHolder 2"/>
          <p:cNvSpPr>
            <a:spLocks noGrp="1"/>
          </p:cNvSpPr>
          <p:nvPr>
            <p:ph/>
          </p:nvPr>
        </p:nvSpPr>
        <p:spPr>
          <a:xfrm>
            <a:off x="974880" y="1765440"/>
            <a:ext cx="7300800" cy="3736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defines constraints on an imple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s must conform to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 resource allocation decisions constrain implementations of individu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trade-offs are in the architectural real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2</a:t>
            </a:r>
            <a:endParaRPr b="0" lang="en-US" sz="3400" spc="-1" strike="noStrike">
              <a:solidFill>
                <a:srgbClr val="ffffff"/>
              </a:solidFill>
              <a:latin typeface="Century Schoolbook"/>
            </a:endParaRPr>
          </a:p>
        </p:txBody>
      </p:sp>
      <p:sp>
        <p:nvSpPr>
          <p:cNvPr id="257" name="PlaceHolder 2"/>
          <p:cNvSpPr>
            <a:spLocks noGrp="1"/>
          </p:cNvSpPr>
          <p:nvPr>
            <p:ph/>
          </p:nvPr>
        </p:nvSpPr>
        <p:spPr>
          <a:xfrm>
            <a:off x="885600" y="1757520"/>
            <a:ext cx="8218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dictates organizational structure for development/maintenance efforts.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sion into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for budgeting, pla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work breakdow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CM librar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test plan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mainten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decided, architecture is extremely hard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3</a:t>
            </a:r>
            <a:endParaRPr b="0" lang="en-US" sz="3400" spc="-1" strike="noStrike">
              <a:solidFill>
                <a:srgbClr val="ffffff"/>
              </a:solidFill>
              <a:latin typeface="Century Schoolbook"/>
            </a:endParaRPr>
          </a:p>
        </p:txBody>
      </p:sp>
      <p:sp>
        <p:nvSpPr>
          <p:cNvPr id="259" name="PlaceHolder 2"/>
          <p:cNvSpPr>
            <a:spLocks noGrp="1"/>
          </p:cNvSpPr>
          <p:nvPr>
            <p:ph/>
          </p:nvPr>
        </p:nvSpPr>
        <p:spPr>
          <a:xfrm>
            <a:off x="948960" y="1769760"/>
            <a:ext cx="7458120" cy="4452840"/>
          </a:xfrm>
          <a:prstGeom prst="rect">
            <a:avLst/>
          </a:prstGeom>
          <a:noFill/>
          <a:ln w="0">
            <a:noFill/>
          </a:ln>
        </p:spPr>
        <p:txBody>
          <a:bodyPr lIns="0" rIns="0" tIns="0" bIns="0" anchor="t">
            <a:normAutofit/>
          </a:bodyPr>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ermits/precludes achievement of a system’s desired quality attributes.  For example:</a:t>
            </a:r>
            <a:endParaRPr b="1" lang="en-US" sz="2400" spc="-1" strike="noStrike">
              <a:solidFill>
                <a:srgbClr val="ffffff"/>
              </a:solidFill>
              <a:latin typeface="Arial"/>
            </a:endParaRPr>
          </a:p>
          <a:p>
            <a:pPr indent="0">
              <a:spcBef>
                <a:spcPts val="1749"/>
              </a:spcBef>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you desire</a:t>
            </a:r>
            <a:r>
              <a:rPr b="1" lang="en-US" sz="2000" spc="-1" strike="noStrike">
                <a:solidFill>
                  <a:srgbClr val="ffffff"/>
                </a:solidFill>
                <a:latin typeface="Arial"/>
              </a:rPr>
              <a:t>	</a:t>
            </a:r>
            <a:r>
              <a:rPr b="1" lang="en-US" sz="2000" spc="-1" strike="noStrike">
                <a:solidFill>
                  <a:srgbClr val="ffffff"/>
                </a:solidFill>
                <a:latin typeface="Arial"/>
              </a:rPr>
              <a:t>Examin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ance</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ifiability </a:t>
            </a:r>
            <a:r>
              <a:rPr b="1" lang="en-US" sz="2000" spc="-1" strike="noStrike">
                <a:solidFill>
                  <a:srgbClr val="ffffff"/>
                </a:solidFill>
                <a:latin typeface="Arial"/>
              </a:rPr>
              <a:t>	</a:t>
            </a:r>
            <a:r>
              <a:rPr b="1" lang="en-US" sz="2000" spc="-1" strike="noStrike">
                <a:solidFill>
                  <a:srgbClr val="ffffff"/>
                </a:solidFill>
                <a:latin typeface="Arial"/>
              </a:rPr>
              <a:t>component responsibiliti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ecialized components (e. g., kernel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lability   </a:t>
            </a:r>
            <a:r>
              <a:rPr b="1" lang="en-US" sz="2000" spc="-1" strike="noStrike">
                <a:solidFill>
                  <a:srgbClr val="ffffff"/>
                </a:solidFill>
                <a:latin typeface="Arial"/>
              </a:rPr>
              <a:t>	</a:t>
            </a:r>
            <a:r>
              <a:rPr b="1" lang="en-US" sz="2000" spc="-1" strike="noStrike">
                <a:solidFill>
                  <a:srgbClr val="ffffff"/>
                </a:solidFill>
                <a:latin typeface="Arial"/>
              </a:rPr>
              <a:t>localization of resourc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subset  </a:t>
            </a:r>
            <a:r>
              <a:rPr b="1" lang="en-US" sz="2000" spc="-1" strike="noStrike">
                <a:solidFill>
                  <a:srgbClr val="ffffff"/>
                </a:solidFill>
                <a:latin typeface="Arial"/>
              </a:rPr>
              <a:t>	</a:t>
            </a:r>
            <a:r>
              <a:rPr b="1" lang="en-US" sz="2000" spc="-1" strike="noStrike">
                <a:solidFill>
                  <a:srgbClr val="ffffff"/>
                </a:solidFill>
                <a:latin typeface="Arial"/>
              </a:rPr>
              <a:t>inter-component usag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usability</a:t>
            </a:r>
            <a:r>
              <a:rPr b="1" lang="en-US" sz="2000" spc="-1" strike="noStrike">
                <a:solidFill>
                  <a:srgbClr val="ffffff"/>
                </a:solidFill>
                <a:latin typeface="Arial"/>
              </a:rPr>
              <a:t>	</a:t>
            </a:r>
            <a:r>
              <a:rPr b="1" lang="en-US" sz="2000" spc="-1" strike="noStrike">
                <a:solidFill>
                  <a:srgbClr val="ffffff"/>
                </a:solidFill>
                <a:latin typeface="Arial"/>
              </a:rPr>
              <a:t>inter-component coupling</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nfluences qualities, but does not guarantee them.</a:t>
            </a:r>
            <a:endParaRPr b="1" lang="en-US" sz="2400" spc="-1" strike="noStrike">
              <a:solidFill>
                <a:srgbClr val="ffffff"/>
              </a:solidFill>
              <a:latin typeface="Arial"/>
            </a:endParaRPr>
          </a:p>
        </p:txBody>
      </p:sp>
      <p:grpSp>
        <p:nvGrpSpPr>
          <p:cNvPr id="260" name=""/>
          <p:cNvGrpSpPr/>
          <p:nvPr/>
        </p:nvGrpSpPr>
        <p:grpSpPr>
          <a:xfrm>
            <a:off x="898560" y="2724120"/>
            <a:ext cx="7184880" cy="2425680"/>
            <a:chOff x="898560" y="2724120"/>
            <a:chExt cx="7184880" cy="2425680"/>
          </a:xfrm>
        </p:grpSpPr>
        <p:sp>
          <p:nvSpPr>
            <p:cNvPr id="261" name=""/>
            <p:cNvSpPr/>
            <p:nvPr/>
          </p:nvSpPr>
          <p:spPr>
            <a:xfrm>
              <a:off x="905040" y="2724120"/>
              <a:ext cx="7178400" cy="2425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898560" y="3011400"/>
              <a:ext cx="71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6280" y="2730600"/>
              <a:ext cx="0" cy="24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4</a:t>
            </a:r>
            <a:endParaRPr b="0" lang="en-US" sz="3400" spc="-1" strike="noStrike">
              <a:solidFill>
                <a:srgbClr val="ffffff"/>
              </a:solidFill>
              <a:latin typeface="Century Schoolbook"/>
            </a:endParaRPr>
          </a:p>
        </p:txBody>
      </p:sp>
      <p:sp>
        <p:nvSpPr>
          <p:cNvPr id="26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influences qualities in known ways, it follows that we can use architecture to predict how well quality attributes will be achiev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analyze an architecture for achievement of quality attribu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is in more detail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5</a:t>
            </a:r>
            <a:endParaRPr b="0" lang="en-US" sz="3400" spc="-1" strike="noStrike">
              <a:solidFill>
                <a:srgbClr val="ffffff"/>
              </a:solidFill>
              <a:latin typeface="Century Schoolbook"/>
            </a:endParaRPr>
          </a:p>
        </p:txBody>
      </p:sp>
      <p:sp>
        <p:nvSpPr>
          <p:cNvPr id="267" name="PlaceHolder 2"/>
          <p:cNvSpPr>
            <a:spLocks noGrp="1"/>
          </p:cNvSpPr>
          <p:nvPr>
            <p:ph/>
          </p:nvPr>
        </p:nvSpPr>
        <p:spPr>
          <a:xfrm>
            <a:off x="923400" y="1770120"/>
            <a:ext cx="8029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users reason about an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hange (about 80% of effort in system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urs </a:t>
            </a:r>
            <a:r>
              <a:rPr b="1" i="1" lang="en-US" sz="2400" spc="-1" strike="noStrike">
                <a:solidFill>
                  <a:srgbClr val="ffffff"/>
                </a:solidFill>
                <a:latin typeface="Arial"/>
              </a:rPr>
              <a:t>after</a:t>
            </a:r>
            <a:r>
              <a:rPr b="1" lang="en-US" sz="2400" spc="-1" strike="noStrike">
                <a:solidFill>
                  <a:srgbClr val="ffffff"/>
                </a:solidFill>
                <a:latin typeface="Arial"/>
              </a:rPr>
              <a:t>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ivides all changes into three cla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modifying a single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local: modifying sever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odifying the gross system topology, communication, and coordina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ood architecture is one in which the most likely changes are also the easiest to m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6</a:t>
            </a:r>
            <a:endParaRPr b="0" lang="en-US" sz="3400" spc="-1" strike="noStrike">
              <a:solidFill>
                <a:srgbClr val="ffffff"/>
              </a:solidFill>
              <a:latin typeface="Century Schoolbook"/>
            </a:endParaRPr>
          </a:p>
        </p:txBody>
      </p:sp>
      <p:sp>
        <p:nvSpPr>
          <p:cNvPr id="2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with evolutionary prototyp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erves as a skeletal framework into which components can be plugg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segregating functionality into appropriate components, experimentation is eas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7</a:t>
            </a:r>
            <a:endParaRPr b="0" lang="en-US" sz="3400" spc="-1" strike="noStrike">
              <a:solidFill>
                <a:srgbClr val="ffffff"/>
              </a:solidFill>
              <a:latin typeface="Century Schoolbook"/>
            </a:endParaRPr>
          </a:p>
        </p:txBody>
      </p:sp>
      <p:sp>
        <p:nvSpPr>
          <p:cNvPr id="271" name="PlaceHolder 2"/>
          <p:cNvSpPr>
            <a:spLocks noGrp="1"/>
          </p:cNvSpPr>
          <p:nvPr>
            <p:ph/>
          </p:nvPr>
        </p:nvSpPr>
        <p:spPr>
          <a:xfrm>
            <a:off x="961560" y="1739520"/>
            <a:ext cx="7242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summarize, architecture establishes the path for developmen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ains the implementation (developers are constrained by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es the development eff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irst approach at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manage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prototyp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ght architecture makes things go smoothly.  The wrong architecture leads to disas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Is Software Architectur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1</a:t>
            </a:r>
            <a:endParaRPr b="0" lang="en-US" sz="3600" spc="-1" strike="noStrike">
              <a:solidFill>
                <a:srgbClr val="ffffff"/>
              </a:solidFill>
              <a:latin typeface="Century Schoolbook"/>
            </a:endParaRPr>
          </a:p>
        </p:txBody>
      </p:sp>
      <p:sp>
        <p:nvSpPr>
          <p:cNvPr id="273" name="PlaceHolder 2"/>
          <p:cNvSpPr>
            <a:spLocks noGrp="1"/>
          </p:cNvSpPr>
          <p:nvPr>
            <p:ph/>
          </p:nvPr>
        </p:nvSpPr>
        <p:spPr>
          <a:xfrm>
            <a:off x="974880" y="1770120"/>
            <a:ext cx="7300800" cy="424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an abstraction: a one-to-many mapping (one architecture, man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basis for product (system) commonality.  Entire product lines can share a singl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can be built from large, externally developed components that are tied together via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2</a:t>
            </a:r>
            <a:endParaRPr b="0" lang="en-US" sz="3600" spc="-1" strike="noStrike">
              <a:solidFill>
                <a:srgbClr val="ffffff"/>
              </a:solidFill>
              <a:latin typeface="Century Schoolbook"/>
            </a:endParaRPr>
          </a:p>
        </p:txBody>
      </p:sp>
      <p:sp>
        <p:nvSpPr>
          <p:cNvPr id="27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s functionality can be separated from its interconnec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Often, a component’s packaging makes it difficult to reuse a component.  For example, if you ne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bject, you can’t use a 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ask, you can’t use an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invoke with a pipe, you can’t use a called progr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gram, you can’t use a fi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3</a:t>
            </a:r>
            <a:endParaRPr b="0" lang="en-US" sz="3600" spc="-1" strike="noStrike">
              <a:solidFill>
                <a:srgbClr val="ffffff"/>
              </a:solidFill>
              <a:latin typeface="Century Schoolbook"/>
            </a:endParaRPr>
          </a:p>
        </p:txBody>
      </p:sp>
      <p:sp>
        <p:nvSpPr>
          <p:cNvPr id="2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is more: It pays to restrict the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serve as that restricted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with known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s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s advantage of known style properties (e.g., performance, security,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4</a:t>
            </a:r>
            <a:endParaRPr b="0" lang="en-US" sz="3600" spc="-1" strike="noStrike">
              <a:solidFill>
                <a:srgbClr val="ffffff"/>
              </a:solidFill>
              <a:latin typeface="Century Schoolbook"/>
            </a:endParaRPr>
          </a:p>
        </p:txBody>
      </p:sp>
      <p:sp>
        <p:nvSpPr>
          <p:cNvPr id="2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can enable template-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may be used to code component interaction frameworks.  The developer fills in the unique part, and reuses the common pa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enh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of many errors elimina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ing one error improves many pl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5</a:t>
            </a:r>
            <a:endParaRPr b="0" lang="en-US" sz="3600" spc="-1" strike="noStrike">
              <a:solidFill>
                <a:srgbClr val="ffffff"/>
              </a:solidFill>
              <a:latin typeface="Century Schoolbook"/>
            </a:endParaRPr>
          </a:p>
        </p:txBody>
      </p:sp>
      <p:sp>
        <p:nvSpPr>
          <p:cNvPr id="281"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ummary, an architecture forms a reusabl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systems to be built from externally developed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s functionality from 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ocabulary of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template-based component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1</a:t>
            </a:r>
            <a:endParaRPr b="0" lang="en-US" sz="3600" spc="-1" strike="noStrike">
              <a:solidFill>
                <a:srgbClr val="ffffff"/>
              </a:solidFill>
              <a:latin typeface="Century Schoolbook"/>
            </a:endParaRPr>
          </a:p>
        </p:txBody>
      </p:sp>
      <p:sp>
        <p:nvSpPr>
          <p:cNvPr id="28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 house, there are plan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ical wi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mb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ti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f these constitutes a “view” of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by different peo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achieve different qualities in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 description and pr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t is with softwar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2</a:t>
            </a:r>
            <a:endParaRPr b="0" lang="en-US" sz="3600" spc="-1" strike="noStrike">
              <a:solidFill>
                <a:srgbClr val="ffffff"/>
              </a:solidFill>
              <a:latin typeface="Century Schoolbook"/>
            </a:endParaRPr>
          </a:p>
        </p:txBody>
      </p:sp>
      <p:sp>
        <p:nvSpPr>
          <p:cNvPr id="285"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structures are used, and wh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tructur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e provides a </a:t>
            </a:r>
            <a:r>
              <a:rPr b="1" i="1" lang="en-US" sz="2400" spc="-1" strike="noStrike">
                <a:solidFill>
                  <a:srgbClr val="ffffff"/>
                </a:solidFill>
                <a:latin typeface="Arial"/>
              </a:rPr>
              <a:t>view</a:t>
            </a:r>
            <a:r>
              <a:rPr b="1" lang="en-US" sz="2400" spc="-1" strike="noStrike">
                <a:solidFill>
                  <a:srgbClr val="ffffff"/>
                </a:solidFill>
                <a:latin typeface="Arial"/>
              </a:rPr>
              <a:t> of the architecture.</a:t>
            </a:r>
            <a:endParaRPr b="1" lang="en-US" sz="2400" spc="-1" strike="noStrike">
              <a:solidFill>
                <a:srgbClr val="ffffff"/>
              </a:solidFill>
              <a:latin typeface="Arial"/>
            </a:endParaRPr>
          </a:p>
        </p:txBody>
      </p:sp>
      <p:graphicFrame>
        <p:nvGraphicFramePr>
          <p:cNvPr id="286" name=""/>
          <p:cNvGraphicFramePr/>
          <p:nvPr/>
        </p:nvGraphicFramePr>
        <p:xfrm>
          <a:off x="7920000" y="50760"/>
          <a:ext cx="1158840" cy="1282680"/>
        </p:xfrm>
        <a:graphic>
          <a:graphicData uri="http://schemas.openxmlformats.org/presentationml/2006/ole">
            <p:oleObj r:id="rId1" spid="">
              <p:embed/>
              <p:pic>
                <p:nvPicPr>
                  <p:cNvPr id="287"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ule Structure</a:t>
            </a:r>
            <a:endParaRPr b="0" lang="en-US" sz="3600" spc="-1" strike="noStrike">
              <a:solidFill>
                <a:srgbClr val="ffffff"/>
              </a:solidFill>
              <a:latin typeface="Century Schoolbook"/>
            </a:endParaRPr>
          </a:p>
        </p:txBody>
      </p:sp>
      <p:sp>
        <p:nvSpPr>
          <p:cNvPr id="289" name="PlaceHolder 2"/>
          <p:cNvSpPr>
            <a:spLocks noGrp="1"/>
          </p:cNvSpPr>
          <p:nvPr>
            <p:ph/>
          </p:nvPr>
        </p:nvSpPr>
        <p:spPr>
          <a:xfrm>
            <a:off x="93348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odules,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is a submodule of,”  “shares a secret wi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as a basis of team structure and resource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maintainability, understandability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a:t>
            </a:r>
            <a:endParaRPr b="0" lang="en-US" sz="3600" spc="-1" strike="noStrike">
              <a:solidFill>
                <a:srgbClr val="ffffff"/>
              </a:solidFill>
              <a:latin typeface="Century Schoolbook"/>
            </a:endParaRPr>
          </a:p>
        </p:txBody>
      </p:sp>
      <p:sp>
        <p:nvSpPr>
          <p:cNvPr id="291"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synchronizes with,” “excludes,” “preemp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une system runtime performance, exploit multiprocessing hard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s Structure</a:t>
            </a:r>
            <a:endParaRPr b="0" lang="en-US" sz="3600" spc="-1" strike="noStrike">
              <a:solidFill>
                <a:srgbClr val="ffffff"/>
              </a:solidFill>
              <a:latin typeface="Century Schoolbook"/>
            </a:endParaRPr>
          </a:p>
        </p:txBody>
      </p:sp>
      <p:sp>
        <p:nvSpPr>
          <p:cNvPr id="293" name="PlaceHolder 2"/>
          <p:cNvSpPr>
            <a:spLocks noGrp="1"/>
          </p:cNvSpPr>
          <p:nvPr>
            <p:ph/>
          </p:nvPr>
        </p:nvSpPr>
        <p:spPr>
          <a:xfrm>
            <a:off x="933480" y="17701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ssumes the correct prese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ngineer subsets, super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reusability, testability, incremental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me Usual Descriptions of Architecture</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31" name="PlaceHolder 2"/>
          <p:cNvSpPr>
            <a:spLocks noGrp="1"/>
          </p:cNvSpPr>
          <p:nvPr>
            <p:ph/>
          </p:nvPr>
        </p:nvSpPr>
        <p:spPr>
          <a:xfrm>
            <a:off x="898200" y="2061720"/>
            <a:ext cx="7026120" cy="200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omponents and connec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verall structure of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agram:</a:t>
            </a:r>
            <a:endParaRPr b="1" lang="en-US" sz="2400" spc="-1" strike="noStrike">
              <a:solidFill>
                <a:srgbClr val="ffffff"/>
              </a:solidFill>
              <a:latin typeface="Arial"/>
            </a:endParaRPr>
          </a:p>
        </p:txBody>
      </p:sp>
      <p:sp>
        <p:nvSpPr>
          <p:cNvPr id="132" name=""/>
          <p:cNvSpPr/>
          <p:nvPr/>
        </p:nvSpPr>
        <p:spPr>
          <a:xfrm>
            <a:off x="2016000" y="5118120"/>
            <a:ext cx="107496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2557440" y="4803840"/>
            <a:ext cx="399096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4" name=""/>
          <p:cNvSpPr/>
          <p:nvPr/>
        </p:nvSpPr>
        <p:spPr>
          <a:xfrm>
            <a:off x="4524480" y="4622760"/>
            <a:ext cx="0" cy="46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556320" y="4800600"/>
            <a:ext cx="0" cy="314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67160" y="4813200"/>
            <a:ext cx="0" cy="292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058640" y="3759120"/>
            <a:ext cx="8967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a:t>
            </a:r>
            <a:endParaRPr b="0" lang="en-US" sz="1600" spc="-1" strike="noStrike">
              <a:solidFill>
                <a:srgbClr val="ffffff"/>
              </a:solidFill>
              <a:latin typeface="Times New Roman"/>
            </a:endParaRPr>
          </a:p>
        </p:txBody>
      </p:sp>
      <p:sp>
        <p:nvSpPr>
          <p:cNvPr id="138" name=""/>
          <p:cNvSpPr/>
          <p:nvPr/>
        </p:nvSpPr>
        <p:spPr>
          <a:xfrm>
            <a:off x="608580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N)</a:t>
            </a:r>
            <a:endParaRPr b="0" lang="en-US" sz="1600" spc="-1" strike="noStrike">
              <a:solidFill>
                <a:srgbClr val="ffffff"/>
              </a:solidFill>
              <a:latin typeface="Times New Roman"/>
            </a:endParaRPr>
          </a:p>
        </p:txBody>
      </p:sp>
      <p:sp>
        <p:nvSpPr>
          <p:cNvPr id="139" name=""/>
          <p:cNvSpPr/>
          <p:nvPr/>
        </p:nvSpPr>
        <p:spPr>
          <a:xfrm>
            <a:off x="405864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b</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R)</a:t>
            </a:r>
            <a:endParaRPr b="0" lang="en-US" sz="1600" spc="-1" strike="noStrike">
              <a:solidFill>
                <a:srgbClr val="ffffff"/>
              </a:solidFill>
              <a:latin typeface="Times New Roman"/>
            </a:endParaRPr>
          </a:p>
        </p:txBody>
      </p:sp>
      <p:sp>
        <p:nvSpPr>
          <p:cNvPr id="140" name=""/>
          <p:cNvSpPr/>
          <p:nvPr/>
        </p:nvSpPr>
        <p:spPr>
          <a:xfrm>
            <a:off x="2074680" y="5329080"/>
            <a:ext cx="103248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 lo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P)</a:t>
            </a:r>
            <a:endParaRPr b="0" lang="en-US" sz="1600" spc="-1" strike="noStrike">
              <a:solidFill>
                <a:srgbClr val="ffffff"/>
              </a:solidFill>
              <a:latin typeface="Times New Roman"/>
            </a:endParaRPr>
          </a:p>
        </p:txBody>
      </p:sp>
      <p:sp>
        <p:nvSpPr>
          <p:cNvPr id="141" name=""/>
          <p:cNvSpPr/>
          <p:nvPr/>
        </p:nvSpPr>
        <p:spPr>
          <a:xfrm>
            <a:off x="4019400" y="3592440"/>
            <a:ext cx="1011240" cy="10159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983040" y="51037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000840" y="51181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s Structure</a:t>
            </a:r>
            <a:endParaRPr b="0" lang="en-US" sz="3600" spc="-1" strike="noStrike">
              <a:solidFill>
                <a:srgbClr val="ffffff"/>
              </a:solidFill>
              <a:latin typeface="Century Schoolbook"/>
            </a:endParaRPr>
          </a:p>
        </p:txBody>
      </p:sp>
      <p:sp>
        <p:nvSpPr>
          <p:cNvPr id="295" name="PlaceHolder 2"/>
          <p:cNvSpPr>
            <a:spLocks noGrp="1"/>
          </p:cNvSpPr>
          <p:nvPr>
            <p:ph/>
          </p:nvPr>
        </p:nvSpPr>
        <p:spPr>
          <a:xfrm>
            <a:off x="933120" y="177336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vok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race control flow; for debugg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buildability, testability, maintainability, understand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Structure</a:t>
            </a:r>
            <a:endParaRPr b="0" lang="en-US" sz="3600" spc="-1" strike="noStrike">
              <a:solidFill>
                <a:srgbClr val="ffffff"/>
              </a:solidFill>
              <a:latin typeface="Century Schoolbook"/>
            </a:endParaRPr>
          </a:p>
        </p:txBody>
      </p:sp>
      <p:sp>
        <p:nvSpPr>
          <p:cNvPr id="297" name="PlaceHolder 2"/>
          <p:cNvSpPr>
            <a:spLocks noGrp="1"/>
          </p:cNvSpPr>
          <p:nvPr>
            <p:ph/>
          </p:nvPr>
        </p:nvSpPr>
        <p:spPr>
          <a:xfrm>
            <a:off x="93024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grams, 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may send data t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traceability of functionalit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correctness, accura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 Stru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herits from,” “is insta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xploit similarity among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development time, maintain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hysical Structure</a:t>
            </a:r>
            <a:endParaRPr b="0" lang="en-US" sz="3600" spc="-1" strike="noStrike">
              <a:solidFill>
                <a:srgbClr val="ffffff"/>
              </a:solidFill>
              <a:latin typeface="Century Schoolbook"/>
            </a:endParaRPr>
          </a:p>
        </p:txBody>
      </p:sp>
      <p:sp>
        <p:nvSpPr>
          <p:cNvPr id="301"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resides on same 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manage process-to-processor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avail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Are Structures Used For?</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 vehicle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ture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ineering tool to help achiev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6424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Summary</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7000" y="17650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are related to each other in complicated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ome systems, different structures collapse into a single one.  (For example, process structure may be the same as module structure for extremely small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Choose the structures that are useful to the system being built and to the achievement of qualities that are important to yo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70120"/>
            <a:ext cx="8131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important beca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provides a communication vehicle among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the result of the earliest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composed of many stru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e software components and their relationship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provides engineering leverage on different qualities.  Engineer and document the structures that help to achieve your desired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82720"/>
            <a:ext cx="776304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ftware architecture is often compared to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of buildings as a conceptual analog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strong points of that analogy?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the correspondence in buildings to softwa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structures and views?  To styl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weaknesses of the analogy? Whe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break d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s the difference between a referenc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nd an architectural style?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n you do with one that you can’t do with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in terms of (a) organizational planning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architectural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Do the architectures in your organiz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cognize the different views (structur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ons) inherent in architectures?  If so, whi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es?  If not,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Is there a different definition of software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that you are familiar with?  If s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about the ways in which this defini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s our acid test of an architecture:  Do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t abstract away information from the system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et provide enough information to be a basis f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alysis, decision making, and risk redu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Components and Connector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program?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rary? compilation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invokes? signals? uses? 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s with? exclu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cated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Overall Structure?”</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2189160"/>
            <a:ext cx="7318440" cy="4237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ich</a:t>
            </a:r>
            <a:r>
              <a:rPr b="1" lang="en-US" sz="2400" spc="-1" strike="noStrike">
                <a:solidFill>
                  <a:srgbClr val="ffffff"/>
                </a:solidFill>
                <a:latin typeface="Arial"/>
              </a:rPr>
              <a:t> structure? Software is composed of </a:t>
            </a:r>
            <a:r>
              <a:rPr b="1" i="1" lang="en-US" sz="2400" spc="-1" strike="noStrike">
                <a:solidFill>
                  <a:srgbClr val="ffffff"/>
                </a:solidFill>
                <a:latin typeface="Arial"/>
              </a:rPr>
              <a:t>many</a:t>
            </a:r>
            <a:r>
              <a:rPr b="1" lang="en-US" sz="2400" spc="-1" strike="noStrike">
                <a:solidFill>
                  <a:srgbClr val="ffffff"/>
                </a:solidFill>
                <a:latin typeface="Arial"/>
              </a:rPr>
              <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seeing boxes and lines, we must 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repres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arrows me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the Diagram?</a:t>
            </a:r>
            <a:endParaRPr b="0" lang="en-US" sz="3600" spc="-1" strike="noStrike">
              <a:solidFill>
                <a:srgbClr val="ffffff"/>
              </a:solidFill>
              <a:latin typeface="Century Schoolbook"/>
            </a:endParaRPr>
          </a:p>
        </p:txBody>
      </p:sp>
      <p:sp>
        <p:nvSpPr>
          <p:cNvPr id="149" name="PlaceHolder 2"/>
          <p:cNvSpPr>
            <a:spLocks noGrp="1"/>
          </p:cNvSpPr>
          <p:nvPr>
            <p:ph/>
          </p:nvPr>
        </p:nvSpPr>
        <p:spPr>
          <a:xfrm>
            <a:off x="910800" y="1782720"/>
            <a:ext cx="8231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e questions as the previous sli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and arrows me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new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significance of the layo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control process on a higher lev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x and arrow drawings alone are no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her, they are a starting poi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e Definition of Software Architecture</a:t>
            </a:r>
            <a:endParaRPr b="0" lang="en-US" sz="3600" spc="-1" strike="noStrike">
              <a:solidFill>
                <a:srgbClr val="ffffff"/>
              </a:solidFill>
              <a:latin typeface="Century Schoolbook"/>
            </a:endParaRPr>
          </a:p>
        </p:txBody>
      </p:sp>
      <p:sp>
        <p:nvSpPr>
          <p:cNvPr id="151" name="PlaceHolder 2"/>
          <p:cNvSpPr>
            <a:spLocks noGrp="1"/>
          </p:cNvSpPr>
          <p:nvPr>
            <p:ph/>
          </p:nvPr>
        </p:nvSpPr>
        <p:spPr>
          <a:xfrm>
            <a:off x="911160" y="2189160"/>
            <a:ext cx="7300800" cy="4046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architecture of a program or computing system is the structure or structures of the system, which comprise software components, the externally visible properties of those components, and the relationships among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1</a:t>
            </a:r>
            <a:endParaRPr b="0" lang="en-US" sz="3600" spc="-1" strike="noStrike">
              <a:solidFill>
                <a:srgbClr val="ffffff"/>
              </a:solidFill>
              <a:latin typeface="Century Schoolbook"/>
            </a:endParaRPr>
          </a:p>
        </p:txBody>
      </p:sp>
      <p:sp>
        <p:nvSpPr>
          <p:cNvPr id="15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abstraction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fines components and how they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uppresses purely local information about components; private details are not architectur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have many structures (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structure can be </a:t>
            </a:r>
            <a:r>
              <a:rPr b="1" i="1" lang="en-US" sz="2400" spc="-1" strike="noStrike">
                <a:solidFill>
                  <a:srgbClr val="ffffff"/>
                </a:solidFill>
                <a:latin typeface="Arial"/>
              </a:rPr>
              <a:t>the</a:t>
            </a:r>
            <a:r>
              <a:rPr b="1" lang="en-US" sz="2400" spc="-1" strike="noStrike">
                <a:solidFill>
                  <a:srgbClr val="ffffff"/>
                </a:solidFill>
                <a:latin typeface="Arial"/>
              </a:rPr>
              <a: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t of candidate structures is not fixed or prescribed: whatever is useful for analysis, communication, or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0T20:25:42Z</cp:lastPrinted>
  <dcterms:modified xsi:type="dcterms:W3CDTF">1998-10-20T13:08:02Z</dcterms:modified>
  <cp:revision>421</cp:revision>
  <dc:subject/>
  <dc:title>Cover Slide Example</dc:title>
</cp:coreProperties>
</file>