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PlaceHolder 1"/>
          <p:cNvSpPr>
            <a:spLocks noGrp="1"/>
          </p:cNvSpPr>
          <p:nvPr>
            <p:ph type="hdr"/>
          </p:nvPr>
        </p:nvSpPr>
        <p:spPr>
          <a:xfrm>
            <a:off x="-1800" y="-5040"/>
            <a:ext cx="2771640" cy="438120"/>
          </a:xfrm>
          <a:prstGeom prst="rect">
            <a:avLst/>
          </a:prstGeom>
          <a:noFill/>
          <a:ln w="0">
            <a:noFill/>
          </a:ln>
        </p:spPr>
        <p:txBody>
          <a:bodyPr lIns="17640" rIns="17640" tIns="0" bIns="0" anchor="t">
            <a:noAutofit/>
          </a:bodyPr>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22" name="PlaceHolder 2"/>
          <p:cNvSpPr>
            <a:spLocks noGrp="1"/>
          </p:cNvSpPr>
          <p:nvPr>
            <p:ph type="dt" idx="1"/>
          </p:nvPr>
        </p:nvSpPr>
        <p:spPr>
          <a:xfrm>
            <a:off x="3617640" y="-5040"/>
            <a:ext cx="2771640" cy="438120"/>
          </a:xfrm>
          <a:prstGeom prst="rect">
            <a:avLst/>
          </a:prstGeom>
          <a:noFill/>
          <a:ln w="0">
            <a:noFill/>
          </a:ln>
        </p:spPr>
        <p:txBody>
          <a:bodyPr lIns="17640" rIns="17640" tIns="0" bIns="0" anchor="t">
            <a:noAutofit/>
          </a:bodyPr>
          <a:lstStyle>
            <a:lvl1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23" name="PlaceHolder 3"/>
          <p:cNvSpPr>
            <a:spLocks noGrp="1"/>
          </p:cNvSpPr>
          <p:nvPr>
            <p:ph type="ftr" idx="2"/>
          </p:nvPr>
        </p:nvSpPr>
        <p:spPr>
          <a:xfrm>
            <a:off x="-1800" y="8240400"/>
            <a:ext cx="2771640" cy="438120"/>
          </a:xfrm>
          <a:prstGeom prst="rect">
            <a:avLst/>
          </a:prstGeom>
          <a:noFill/>
          <a:ln w="0">
            <a:noFill/>
          </a:ln>
        </p:spPr>
        <p:txBody>
          <a:bodyPr lIns="17640" rIns="17640" tIns="0" bIns="0" anchor="b">
            <a:noAutofit/>
          </a:bodyPr>
          <a:lstStyle>
            <a:lvl1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24"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7FE9FFCA-9784-4293-979D-6931A0395679}"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5" name="PlaceHolder 4"/>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6" name="PlaceHolder 5"/>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7"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8"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33560" y="657360"/>
            <a:ext cx="4321080" cy="3240000"/>
          </a:xfrm>
          <a:prstGeom prst="rect">
            <a:avLst/>
          </a:prstGeom>
          <a:ln w="0">
            <a:noFill/>
          </a:ln>
        </p:spPr>
      </p:sp>
      <p:sp>
        <p:nvSpPr>
          <p:cNvPr id="9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1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desired qualities of a system are known, the problem of designing an architecture to achieve these qualities still remains.  This lecture discusses the relationships among organization goals, system quality attributes, and architectural structures.  The lecture describes a number of techniques used to achieve run-time and development-time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1760" y="657360"/>
            <a:ext cx="4324320" cy="3240000"/>
          </a:xfrm>
          <a:prstGeom prst="rect">
            <a:avLst/>
          </a:prstGeom>
          <a:ln w="0">
            <a:noFill/>
          </a:ln>
        </p:spPr>
      </p:sp>
      <p:sp>
        <p:nvSpPr>
          <p:cNvPr id="918"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rtual machine architectures have the goal of achieving the quality of portability.  Virtual machines are software styles that simulate some functionality that is not native to the hardware and/or software on which it is implemented.  This can be useful in a number of ways.  It can allow one to simulate (and test) platforms that have not yet been built (such as new hardware), and it can simulate “disaster” modes (as is common in flight simulators and safety-critical systems) that would be too complex, costly, or dangerous to test with the real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virtual machines are interpreters, rule-based systems, syntactic shells, and command language processors.  For example, the Java language is built to run on top of the Java Virtual Machine, which allows the language to be platform independent.  The figure on the following slide shows the structure of the virtual machin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031760" y="657360"/>
            <a:ext cx="4324320" cy="3240000"/>
          </a:xfrm>
          <a:prstGeom prst="rect">
            <a:avLst/>
          </a:prstGeom>
          <a:ln w="0">
            <a:noFill/>
          </a:ln>
        </p:spPr>
      </p:sp>
      <p:sp>
        <p:nvSpPr>
          <p:cNvPr id="92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shows three kinds of data:  the program being interpreted, the program’s data (such as the values of variables assigned in the execution of the program), and the internal state of the interpreter (such as the values of registers or the current statement being execu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terpretation engine selects an instruction from the program being interpreted, updates its internal state, and based on the instruction, potentially updates the program’s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ing a program via an interpreter adds flexibility through the ability to interrupt and query the program and introduce modifications at runtime, but there is a performance cost because of the additional computation involved in execu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031760" y="657360"/>
            <a:ext cx="4324320" cy="3240000"/>
          </a:xfrm>
          <a:prstGeom prst="rect">
            <a:avLst/>
          </a:prstGeom>
          <a:ln w="0">
            <a:noFill/>
          </a:ln>
        </p:spPr>
      </p:sp>
      <p:sp>
        <p:nvSpPr>
          <p:cNvPr id="92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architectures have the goal of achieving the qualities of modifiability and scalability.  Call and return architectures have been the dominant architectural style in large software systems for the past 30 years.  However, within this style are a number of substyles, each of which has interesting fea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ubstyle section of this slide is a roadmap.  The next three slides examine the main-program-and-subroutine substyle, the object-oriented substyle, and layered hierarchies of call-and-return styl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1760" y="657360"/>
            <a:ext cx="4324320" cy="3240000"/>
          </a:xfrm>
          <a:prstGeom prst="rect">
            <a:avLst/>
          </a:prstGeom>
          <a:ln w="0">
            <a:noFill/>
          </a:ln>
        </p:spPr>
      </p:sp>
      <p:sp>
        <p:nvSpPr>
          <p:cNvPr id="9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program-and-subroutine architecture, as shown in the figure above, is the classical programming paradigm.  The goal is to decompose a program into smaller pieces to help achieve modifiability and enab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gram is decomposed hierarchically.  There is typically a single thread of control and each component in the hierarchy gets this control (optionally along with some data) from its parent and passes it along to its children.  In addition to facilitating modifiability, this hierarchy of subroutines also enables independent development of various parts of the program to be developed separately by different work team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031760" y="657360"/>
            <a:ext cx="4324320" cy="3240000"/>
          </a:xfrm>
          <a:prstGeom prst="rect">
            <a:avLst/>
          </a:prstGeom>
          <a:ln w="0">
            <a:noFill/>
          </a:ln>
        </p:spPr>
      </p:sp>
      <p:sp>
        <p:nvSpPr>
          <p:cNvPr id="9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oriented or abstract data types systems, as shown in the figure above, are the modern version of call-and-return architectures.  The object-oriented paradigm, like the abstract data type paradigm from which it evolved, emphasizes the bundling of data and the knowledge of how to manipulate and access that data.  The goal is to achieve the quality of modifiability.  This bundle is an encapsulation that hides its internal secrets from its environment.  Access to the object is allowed only through provided operations, typically known as methods, which are constrained forms of procedure calls.  This encapsulation promotes reuse and modifiability, principally because it promotes separation of concerns:  the user of a service need not know, and should not know, anything about how that service is implemented.  The main features that distinguish the object-oriented paradigm from abstract data types are inheritance (the hierarchical sharing of definitions and code) and polymorphism (the ability to determine the semantics of an operation at runtim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031760" y="657360"/>
            <a:ext cx="4324320" cy="3240000"/>
          </a:xfrm>
          <a:prstGeom prst="rect">
            <a:avLst/>
          </a:prstGeom>
          <a:ln w="0">
            <a:noFill/>
          </a:ln>
        </p:spPr>
      </p:sp>
      <p:sp>
        <p:nvSpPr>
          <p:cNvPr id="92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systems, as shown in the figure above, are ones in which components are assigned to layers to control intercomponent interaction.  In the pure version of this substyle, each level communicates only with its immediate neighbors.  The goal is to achieve the qualities of modifiability, reuse, and (usually) portability.  The lowest layer provides some core functionality, such as hardware, or an operating system kernel.  Each successive layer is built on its predecessor, hiding the lower layer and providing some services that the upper layers make use of.  The upper layers often provide virtual machines themselves:  complete sets of coherent functionality upon which an application, or a more complex virtual machine, can be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actice, layered systems are frequently not “pure;” functions in one layer may talk to functions in layers other than its immediate neighbors.  This is called layer bridging, and this practice is used where runtime efficiency is of concern (and the overhead of sending a request through many layers of software cannot be absorbed).  But layer bridging compromises the model.  If a supposedly portable system is built on a virtual machine - an abstraction of the underlying hardware and software - layer bridging (the direct use of some kernel-level concept, bypassing the portability layer) will make the effort of porting the software greater.  On the other hand, if the layering is pure, porting the system involves reimplementing only the portability layer, and this can be done once for all systems that are built on the virtual machine.  For example, a program written in Java requires no porting effort to run it on a large variety of hardware and software platforms, because Java presents a uniform virtual machine abstraction on many platforms.  The Java language developers do the porting once so that users of the abstraction need not do s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1760" y="657360"/>
            <a:ext cx="4324320" cy="3240000"/>
          </a:xfrm>
          <a:prstGeom prst="rect">
            <a:avLst/>
          </a:prstGeom>
          <a:ln w="0">
            <a:noFill/>
          </a:ln>
        </p:spPr>
      </p:sp>
      <p:sp>
        <p:nvSpPr>
          <p:cNvPr id="93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re seldom built from a single style; rather, most systems use a mixture of styles, and we say that such systems are heterogeneou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hree types of heterogeneous systems:  locational, simultaneous, and hierarchical.  The following three slides examine each of these types in tur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31760" y="657360"/>
            <a:ext cx="4324320" cy="3240000"/>
          </a:xfrm>
          <a:prstGeom prst="rect">
            <a:avLst/>
          </a:prstGeom>
          <a:ln w="0">
            <a:noFill/>
          </a:ln>
        </p:spPr>
      </p:sp>
      <p:sp>
        <p:nvSpPr>
          <p:cNvPr id="9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tional heterogeneity means that a drawing of the runtime structure will reveal patterns of different styles in different areas.  For example, some branches of a main-program-and-subroutines system might have a shared data reposito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in the diagram demonstrates locational heterogeneity used in the A-7E aircraft.  The function driver used a cooperating process style, whereas the data banker/shared services interface used a call-and-return sty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031760" y="657360"/>
            <a:ext cx="4324320" cy="3240000"/>
          </a:xfrm>
          <a:prstGeom prst="rect">
            <a:avLst/>
          </a:prstGeom>
          <a:ln w="0">
            <a:noFill/>
          </a:ln>
        </p:spPr>
      </p:sp>
      <p:sp>
        <p:nvSpPr>
          <p:cNvPr id="9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 heterogeneity means that any of several styles may well be a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ptions of the system.  It recognizes that styles do not partition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into nonoverlapping, clean categor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of the A-7E architecture illustrates simultaneous heterogene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imary architecture is call-and-return; its uses structure forms layers with the extended computer as its portability layer.  Hence, it is a member of the layered style of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ocess structure reveals the classic multiprocess architecture of the communicating process style in the independent components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modular structure forms abstract data types and (except for the lack of inheritance) objects, suggesting an object-oriented style in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data banker is a blackboard, conforming to the blackboard style of the data-centered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input data make a linear trip through the system, in through the device interface module, through the data banker, combined with other values in the function drivers, and back out through the device interface module again.  It is a stretch, but it is possible to describe the A-7E architecture as a data-flow style as well.</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1760" y="657360"/>
            <a:ext cx="4324320" cy="3240000"/>
          </a:xfrm>
          <a:prstGeom prst="rect">
            <a:avLst/>
          </a:prstGeom>
          <a:ln w="0">
            <a:noFill/>
          </a:ln>
        </p:spPr>
      </p:sp>
      <p:sp>
        <p:nvSpPr>
          <p:cNvPr id="9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erarchical heterogeneity means that a component of one style, when decomposed, is structured according to the rules of a different style, as the figure above illustrates.  The event system is a blackboard, but, when decomposed, the component shows a layered sty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031760" y="657360"/>
            <a:ext cx="4324320" cy="3240000"/>
          </a:xfrm>
          <a:prstGeom prst="rect">
            <a:avLst/>
          </a:prstGeom>
          <a:ln w="0">
            <a:noFill/>
          </a:ln>
        </p:spPr>
      </p:sp>
      <p:sp>
        <p:nvSpPr>
          <p:cNvPr id="902"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iscusses the use of recurring architectural patterns in achieving architectural aspects of software quality.  Patterns occur in all phases of design.  In this lecture, we will identify and discuss system patterns, which are manifested as </a:t>
            </a:r>
            <a:r>
              <a:rPr b="0" lang="en-US" sz="1000" spc="-1" strike="noStrike" u="sng">
                <a:solidFill>
                  <a:srgbClr val="000000"/>
                </a:solidFill>
                <a:uFillTx/>
                <a:latin typeface="Arial"/>
              </a:rPr>
              <a:t>architectural styles</a:t>
            </a:r>
            <a:r>
              <a:rPr b="0" lang="en-US" sz="1000" spc="-1" strike="noStrike">
                <a:solidFill>
                  <a:srgbClr val="000000"/>
                </a:solidFill>
                <a:latin typeface="Arial"/>
              </a:rPr>
              <a:t>.  What these patterns have in common is that they are predesigned “chunks” that can be tailored to fit a given situation and about which certain characteristics are known.  Each pattern represents a package of design decisions that has already been made and can be reused as a 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ntroduces several architectural styles and describes the key characteristics of each.  It also discusses how desired quality attributes can be achieved by using a particular architectural style.  The styles covered in this lecture are data-centered, virtual machine, and call/return, with attention given to some of the substyles of each type.</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031760" y="657360"/>
            <a:ext cx="4324320" cy="3240000"/>
          </a:xfrm>
          <a:prstGeom prst="rect">
            <a:avLst/>
          </a:prstGeom>
          <a:ln w="0">
            <a:noFill/>
          </a:ln>
        </p:spPr>
      </p:sp>
      <p:sp>
        <p:nvSpPr>
          <p:cNvPr id="9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illustrates how different architectural styles lead to different quality attributes by showing how a single system, designed four different ways, differs in its outco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originally provided by Parnas and modified by Shaw and Garlan, is a case study that shows different architectural alternatives for a Keyword-in-context (KWIC) system.  One of the main points of this analysis is to show how one system could be designed in a variety of ways.  The functionality was the same in each case; what changed was the system’s fitness with respect to a portfolio of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WIC system takes a set of text lines (each consisting of several words) as input, produces all circular shifts of these lines, and then alphabetizes the results.  A KWIC system is primarily used to create an index that is quickly searchable because every key word can be looked up alphabetically, even if it does not appear at the beginning of the original index phras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31760" y="657360"/>
            <a:ext cx="4324320" cy="3240000"/>
          </a:xfrm>
          <a:prstGeom prst="rect">
            <a:avLst/>
          </a:prstGeom>
          <a:ln w="0">
            <a:noFill/>
          </a:ln>
        </p:spPr>
      </p:sp>
      <p:sp>
        <p:nvSpPr>
          <p:cNvPr id="94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an example of the input and output of a KWIC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  a sequence of lines of 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  circularly shifted, alphabetized list of text lines (ignoring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white clou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pittsburgh 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beautiful pittsburg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te clouds ar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1760" y="657360"/>
            <a:ext cx="4324320" cy="3240000"/>
          </a:xfrm>
          <a:prstGeom prst="rect">
            <a:avLst/>
          </a:prstGeom>
          <a:ln w="0">
            <a:noFill/>
          </a:ln>
        </p:spPr>
      </p:sp>
      <p:sp>
        <p:nvSpPr>
          <p:cNvPr id="94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was originally used by Parnas to make an argument for the use of information-hiding as a design discipline.  In Shaw and Garland’s analysis, they discuss four possible architectures for this system:  the original “strawman” architecture (shared memory style) described by Parnas, the improved information-hiding (abstract data type) architecture, an implicit invocation architecture, and a UNIX-style pipe-and-filter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of these possible design solutions will be discussed in turn in the next section of the lectur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031760" y="657360"/>
            <a:ext cx="4324320" cy="3240000"/>
          </a:xfrm>
          <a:prstGeom prst="rect">
            <a:avLst/>
          </a:prstGeom>
          <a:ln w="0">
            <a:noFill/>
          </a:ln>
        </p:spPr>
      </p:sp>
      <p:sp>
        <p:nvSpPr>
          <p:cNvPr id="944"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nas’s two solutions, while identical with respect to functionality, differ in their support for the quality attributes of performance, modifiability, reusability, and extend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olution was a shared memory style, the historic method used for building performance into a system up till the early 1970s.  In this style, one central data base is shared among and accessed by all the system components.  However, this style is not used today because it is not easily used in large systems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031760" y="657360"/>
            <a:ext cx="4324320" cy="3240000"/>
          </a:xfrm>
          <a:prstGeom prst="rect">
            <a:avLst/>
          </a:prstGeom>
          <a:ln w="0">
            <a:noFill/>
          </a:ln>
        </p:spPr>
      </p:sp>
      <p:sp>
        <p:nvSpPr>
          <p:cNvPr id="94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hared-memory solution has shared information stored in global variables, accessible by all components.  In the diagram on the next slide, we will see that the master control can access the components of input, circular shift, alphabetize, and output, and each of the components can call both the master controller and other sub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hared memory style has good performance but poor modifiability characteristic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poor because any change to the data format, for example, could potentially affect every component in the system.  This aspect also makes reuse of components difficult, if not impossi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1760" y="657360"/>
            <a:ext cx="4324320" cy="3240000"/>
          </a:xfrm>
          <a:prstGeom prst="rect">
            <a:avLst/>
          </a:prstGeom>
          <a:ln w="0">
            <a:noFill/>
          </a:ln>
        </p:spPr>
      </p:sp>
      <p:sp>
        <p:nvSpPr>
          <p:cNvPr id="94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figure illustrates how the shared memory style requires the master contro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all each of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peration is done as a batch operation, in which text lines are inpu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rotations are done and stored, and then the sorted permutation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 all in a shared data bank.  The steps of the operation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input, which reads the text lines as words and stores them as characters; then it tells the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the circular shift, which reads the characters stored in input, calculates the shifts, and writes the index.  The data is actually stored in the input buffer, and the shifts that are calculated are stored as indexes in the index buffer.  Once this function is complete, circular shift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alphabetize, which alphabetizes the index by calling up the stored indexes, which points to the data stored in the character buffer.  This data is then sorted by the alphabetizer and stored as an alphabetized index.  The alphabetizer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output, which accesses the stored indexes in the alphabetized index buffer, prints the index, and tells master control that it is do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is solution is that because all components access and st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in the character data bank, a change to the way character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led and/or stored requires changes to be made to all the other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ccess the shared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031760" y="657360"/>
            <a:ext cx="4324320" cy="3240000"/>
          </a:xfrm>
          <a:prstGeom prst="rect">
            <a:avLst/>
          </a:prstGeom>
          <a:ln w="0">
            <a:noFill/>
          </a:ln>
        </p:spPr>
      </p:sp>
      <p:sp>
        <p:nvSpPr>
          <p:cNvPr id="95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bstract data type solution has better support for modifiability because it hides implementation details (such as data formats) inside abstract data types. The data formats are proprietary to each module; the abstract data types hide whether the alphabetization is done all at once or on dema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formation-hiding approach typically compromises performance somewhat because more interfaces may be traversed, and it typically uses more space because information is not shared.  It may be difficult to extend the functionality of this solution because there are relatively complex interactions among the abstract data types.  On the other hand, abstract data type solutions allow for better modifiability of the system because changes to existing functions or formats can be confined to individual modules, rather than requiring changes to most or all of the system’s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031760" y="657360"/>
            <a:ext cx="4324320" cy="3240000"/>
          </a:xfrm>
          <a:prstGeom prst="rect">
            <a:avLst/>
          </a:prstGeom>
          <a:ln w="0">
            <a:noFill/>
          </a:ln>
        </p:spPr>
      </p:sp>
      <p:sp>
        <p:nvSpPr>
          <p:cNvPr id="95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same data is stored in several components, rather than being kept in a shared data bank.  Rather than accessing and manipulating various indexes (which all refer back to the same shared memory), this style has data stored and permutated separately in each component.  Functions are localized, so changes to formats can be done in one component without affecting the operation of the other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to this style is that more space is required to store the same information in several places.  In addition, the complex interactions among the data types may limit functionalit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1760" y="657360"/>
            <a:ext cx="4324320" cy="3240000"/>
          </a:xfrm>
          <a:prstGeom prst="rect">
            <a:avLst/>
          </a:prstGeom>
          <a:ln w="0">
            <a:noFill/>
          </a:ln>
        </p:spPr>
      </p:sp>
      <p:sp>
        <p:nvSpPr>
          <p:cNvPr id="95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implicit invocation architectures, calls to the circular shift function are made implicitly by inserting data into the lines buffer, as are calls to the alphabetizer funct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icit invocation architecture supports extendability.  If one wants to add a new function to this architecture, that function would only need to be registered against an event (such as the insertion of a new line into one of the buffers) and the function is automatically executed whenever the event occurs.  Thus, the quality of modifiability (adding new functions) is also supported by this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he other hand, this architecture offers poor flow control (what is the order of the new function with respect to any functions previously registered with the line insertion?) and poor space utilization (because data is replicated in the two lines buffers), which can adversely affect performanc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031760" y="657360"/>
            <a:ext cx="4324320" cy="3240000"/>
          </a:xfrm>
          <a:prstGeom prst="rect">
            <a:avLst/>
          </a:prstGeom>
          <a:ln w="0">
            <a:noFill/>
          </a:ln>
        </p:spPr>
      </p:sp>
      <p:sp>
        <p:nvSpPr>
          <p:cNvPr id="95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master control only calls the input and output; the other functions are called implicitly by other components lower in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model, the input adds data to the lines buffer, which implicitly calls the circular shift function.  The shifted lines generated by the circular shift go to the shifted lines buffer, which acts to call the alphabetizer function.  These operations are invisible to the master control (since it gets no feedback from lower components), so it thinks the operation is done and calls the output to print the alphabetized lis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031760" y="657360"/>
            <a:ext cx="4324320" cy="3240000"/>
          </a:xfrm>
          <a:prstGeom prst="rect">
            <a:avLst/>
          </a:prstGeom>
          <a:ln w="0">
            <a:noFill/>
          </a:ln>
        </p:spPr>
      </p:sp>
      <p:sp>
        <p:nvSpPr>
          <p:cNvPr id="904"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n software is in some ways analogous to an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 in buildings such as Gothic or Greek Revival or Queen Anne.  It consis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key features and rules for combining those features so tha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ity is preserved.  We define an architectural style as “a descrip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types and a pattern of their runtime control and/or data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a style is not an architecture any more than the term “Gothic” determin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ctly what a building looks like.  Rather, a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cataloged as such because it is found repeatedly i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 package of design decisions that each fit a given situation and about which certain characteristics are know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s known properties that permit a style to be reused in other, similar software situ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s a class of architectures; equivalently, it is an abstraction for a set of architectures that meet i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031760" y="657360"/>
            <a:ext cx="4324320" cy="3240000"/>
          </a:xfrm>
          <a:prstGeom prst="rect">
            <a:avLst/>
          </a:prstGeom>
          <a:ln w="0">
            <a:noFill/>
          </a:ln>
        </p:spPr>
      </p:sp>
      <p:sp>
        <p:nvSpPr>
          <p:cNvPr id="95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ipe-and-filter architecture, two filters provide the entire functionality:  one to shift the input stream and one to sort the shifted streams alphabetically.  The architecture is intuitive and clean and offers the best support for reuse of the four alternatives, since the functions are loosely coupled.  The circular shift and alphabetizer could be picked up and used unchanged in another system without affecting anything in their environ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of this solution is that it is less efficient than the others and may have slower performance speed because each filter typically runs as a separate process and may incur some overhead parsing its input and formatting its output.  The pipe-and-filter solution also may not be space efficient, as data is stored twice, once in each function buffer.</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031760" y="657360"/>
            <a:ext cx="4324320" cy="3240000"/>
          </a:xfrm>
          <a:prstGeom prst="rect">
            <a:avLst/>
          </a:prstGeom>
          <a:ln w="0">
            <a:noFill/>
          </a:ln>
        </p:spPr>
      </p:sp>
      <p:sp>
        <p:nvSpPr>
          <p:cNvPr id="96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put lines go as a batch to circular shift, where all the shift operations are performed.  The shifted lines then go as a batch to the alphabetizer, which sorts the lines and then prints them.</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31760" y="657360"/>
            <a:ext cx="4324320" cy="3240000"/>
          </a:xfrm>
          <a:prstGeom prst="rect">
            <a:avLst/>
          </a:prstGeom>
          <a:ln w="0">
            <a:noFill/>
          </a:ln>
        </p:spPr>
      </p:sp>
      <p:sp>
        <p:nvSpPr>
          <p:cNvPr id="96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the overviews of each of the four KWIC solutions has provided a laundry list of advantages and disadvantages.  Shaw and Garlan, in their analysis, presented a number of findings with respect to how each of the solutions accommodates a change in the underlying algorithms, a change in the way that data are represented, and an change in the function.  They also evaluate each solution with respect to performance and support for reuse.  These results are shown in the table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031760" y="657360"/>
            <a:ext cx="4324320" cy="3240000"/>
          </a:xfrm>
          <a:prstGeom prst="rect">
            <a:avLst/>
          </a:prstGeom>
          <a:ln w="0">
            <a:noFill/>
          </a:ln>
        </p:spPr>
      </p:sp>
      <p:sp>
        <p:nvSpPr>
          <p:cNvPr id="96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table on the preceding slide is that it is not repeatable, at least not without deep knowledge of the various architectural styles, their costs and benefits, and an understanding of how each style accommodates the problem at hand.  This appears to be in conflict with one of the goals of using a style catalog to enable designing with patterns and styles:  that a novice should be able to easily apply expert knowledge, as encapsulated and represented by these designs.  In practice, however, it is not as simple as using a handbook that will tell you to use style “y” if your problem looks like “x”.  The practice is not yet that advanced; the best we can do is offer rules of thumb for choosing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next section of the lecture offers a quick look at the rules of thumb for choosing styles and substyles discussed previously in this l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031760" y="657360"/>
            <a:ext cx="4324320" cy="3240000"/>
          </a:xfrm>
          <a:prstGeom prst="rect">
            <a:avLst/>
          </a:prstGeom>
          <a:ln w="0">
            <a:noFill/>
          </a:ln>
        </p:spPr>
      </p:sp>
      <p:sp>
        <p:nvSpPr>
          <p:cNvPr id="96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style i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akes sense to view your system as one that produces a well-defined, easily-identified output that is the direct result of sequentially transforming a well-defined, easily-identified input in a time-independent fash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n this case, resulting from relatively simple interfaces between components) is importa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031760" y="657360"/>
            <a:ext cx="4324320" cy="3240000"/>
          </a:xfrm>
          <a:prstGeom prst="rect">
            <a:avLst/>
          </a:prstGeom>
          <a:ln w="0">
            <a:noFill/>
          </a:ln>
        </p:spPr>
      </p:sp>
      <p:sp>
        <p:nvSpPr>
          <p:cNvPr id="96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network substyle if the input and output both occur as a recurring series (in which the output of one is the input of the next), and there is a direct correlation between corresponding members of each ser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pipeline, UNIX pipe-and-filter substyle if the computation involves transformations on continuous streams of data, or if the transformations are incremental (one transformation can begin before the previous step is comple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losed loop control substyle if your system involves controlling continuing action, is embedded in a physical system, and is subject to unpredictable external perturbation so that preset algorithms go awry.</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31760" y="657360"/>
            <a:ext cx="4324320" cy="3240000"/>
          </a:xfrm>
          <a:prstGeom prst="rect">
            <a:avLst/>
          </a:prstGeom>
          <a:ln w="0">
            <a:noFill/>
          </a:ln>
        </p:spPr>
      </p:sp>
      <p:sp>
        <p:nvSpPr>
          <p:cNvPr id="97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 style if the order of computation is fixed, and components can make no useful progress while awaiting the results of requests to other components (that is, if there is no parallelism).</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031760" y="657360"/>
            <a:ext cx="4324320" cy="3240000"/>
          </a:xfrm>
          <a:prstGeom prst="rect">
            <a:avLst/>
          </a:prstGeom>
          <a:ln w="0">
            <a:noFill/>
          </a:ln>
        </p:spPr>
      </p:sp>
      <p:sp>
        <p:nvSpPr>
          <p:cNvPr id="97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oriented substyle if overall modifiability and integrability (via careful attention to interfaces) are driving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abstract data types substyle if there are many system data types whose representation is likely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s substyle if information-hiding results in many like modules whose development time and testing time could benefit from exploiting the commonalties through inherit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based client-server substyle when modifiability with respect to the production of data and how it is consumed is important.</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031760" y="657360"/>
            <a:ext cx="4324320" cy="3240000"/>
          </a:xfrm>
          <a:prstGeom prst="rect">
            <a:avLst/>
          </a:prstGeom>
          <a:ln w="0">
            <a:noFill/>
          </a:ln>
        </p:spPr>
      </p:sp>
      <p:sp>
        <p:nvSpPr>
          <p:cNvPr id="97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ayered substyle if the tasks in your system can be divided between those specific to the application and those generic to many applications but specific to the underlying computing platform; if portability across computing platforms is important; or if you can use an already-developed computing infrastructure layer (operating system, network management package, et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031760" y="657360"/>
            <a:ext cx="4324320" cy="3240000"/>
          </a:xfrm>
          <a:prstGeom prst="rect">
            <a:avLst/>
          </a:prstGeom>
          <a:ln w="0">
            <a:noFill/>
          </a:ln>
        </p:spPr>
      </p:sp>
      <p:sp>
        <p:nvSpPr>
          <p:cNvPr id="97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independent component style if your system runs on a multi-processor platform (or may do so in the future); if your system can be structured as a set of loosely coupled components (meaning that one component can continue to make progress somewhat independently of the state of other components);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work among processes) is important; or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processes to processors) is importa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31760" y="657360"/>
            <a:ext cx="4324320" cy="3240000"/>
          </a:xfrm>
          <a:prstGeom prst="rect">
            <a:avLst/>
          </a:prstGeom>
          <a:ln w="0">
            <a:noFill/>
          </a:ln>
        </p:spPr>
      </p:sp>
      <p:sp>
        <p:nvSpPr>
          <p:cNvPr id="90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oftware style is determined or described by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mponent types (e.g., data repository, an object, a process a procedure) that perform some function at run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opological layout of these components indicating their runtime inter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semantic constraints (e.g., a data repository is not allowed to change the values stored in it; a filter has one, and only one, input, and one, and only one, outp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nnectors (e.g., subroutine call, remote procedure call, data streams, sockets, events, pipes) that mediate communication, coordination, or cooperation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031760" y="657360"/>
            <a:ext cx="4324320" cy="3240000"/>
          </a:xfrm>
          <a:prstGeom prst="rect">
            <a:avLst/>
          </a:prstGeom>
          <a:ln w="0">
            <a:noFill/>
          </a:ln>
        </p:spPr>
      </p:sp>
      <p:sp>
        <p:nvSpPr>
          <p:cNvPr id="97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ommunicating processes substyle if message-passing is sufficient as an interaction mechanis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ightweight processes substyle if access to shared data is critical to meet performance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istributed objects substyle if the reasons for the object-oriented style and the interacting process style all app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31760" y="657360"/>
            <a:ext cx="4324320" cy="3240000"/>
          </a:xfrm>
          <a:prstGeom prst="rect">
            <a:avLst/>
          </a:prstGeom>
          <a:ln w="0">
            <a:noFill/>
          </a:ln>
        </p:spPr>
      </p:sp>
      <p:sp>
        <p:nvSpPr>
          <p:cNvPr id="9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roadcast substyle if all of the components need to be synchronized from time to time, and/or availability is an important requir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event systems substyle if you want to decouple the consumers of events from their signalers, or you want scalability in the form of adding processes that are triggered by events already detected/signaled in the system.</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031760" y="657360"/>
            <a:ext cx="4324320" cy="3240000"/>
          </a:xfrm>
          <a:prstGeom prst="rect">
            <a:avLst/>
          </a:prstGeom>
          <a:ln w="0">
            <a:noFill/>
          </a:ln>
        </p:spPr>
      </p:sp>
      <p:sp>
        <p:nvSpPr>
          <p:cNvPr id="9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centered style if central issue is the storage, representation, management, and retrieval of a large amount of related long-lived data.  Also used for integrability where communication among components is via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transactional database/repository substyle if the order of component execution is determined by a stream of incoming requests to access/update the data, and the data is highly structu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lackboard substyle if you want scalability in the form of adding consumers of data without changing the producers; or you want modifiability in the form of changing who produces and consumes which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031760" y="657360"/>
            <a:ext cx="4324320" cy="3240000"/>
          </a:xfrm>
          <a:prstGeom prst="rect">
            <a:avLst/>
          </a:prstGeom>
          <a:ln w="0">
            <a:noFill/>
          </a:ln>
        </p:spPr>
      </p:sp>
      <p:sp>
        <p:nvSpPr>
          <p:cNvPr id="9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virtual machine style if you have designed a computation, but have no fixed machine on which to run it.  An example of this use of virtual machine is Java mach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tyle is also used to allow portability, such as hiding details of an operating system to allow for change in the operating system or hiding details of the user interface toolkit to allow for change in toolkit.  </a:t>
            </a:r>
            <a:r>
              <a:rPr b="0" i="1" lang="en-US" sz="1000" spc="-1" strike="noStrike">
                <a:solidFill>
                  <a:srgbClr val="000000"/>
                </a:solidFill>
                <a:latin typeface="Arial"/>
              </a:rPr>
              <a:t>(See layered style.)</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31760" y="657360"/>
            <a:ext cx="4324320" cy="3240000"/>
          </a:xfrm>
          <a:prstGeom prst="rect">
            <a:avLst/>
          </a:prstGeom>
          <a:ln w="0">
            <a:noFill/>
          </a:ln>
        </p:spPr>
      </p:sp>
      <p:sp>
        <p:nvSpPr>
          <p:cNvPr id="98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031760" y="657360"/>
            <a:ext cx="4324320" cy="3240000"/>
          </a:xfrm>
          <a:prstGeom prst="rect">
            <a:avLst/>
          </a:prstGeom>
          <a:ln w="0">
            <a:noFill/>
          </a:ln>
        </p:spPr>
      </p:sp>
      <p:sp>
        <p:nvSpPr>
          <p:cNvPr id="98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031760" y="657360"/>
            <a:ext cx="4324320" cy="3240000"/>
          </a:xfrm>
          <a:prstGeom prst="rect">
            <a:avLst/>
          </a:prstGeom>
          <a:ln w="0">
            <a:noFill/>
          </a:ln>
        </p:spPr>
      </p:sp>
      <p:sp>
        <p:nvSpPr>
          <p:cNvPr id="9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031760" y="657360"/>
            <a:ext cx="4324320" cy="3240000"/>
          </a:xfrm>
          <a:prstGeom prst="rect">
            <a:avLst/>
          </a:prstGeom>
          <a:ln w="0">
            <a:noFill/>
          </a:ln>
        </p:spPr>
      </p:sp>
      <p:sp>
        <p:nvSpPr>
          <p:cNvPr id="9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vid Garlan and Mary Shaw have cataloged a set of architectural styles that they have observed by examining a collection of existing systems.  Their motivation was the observation that architectural abstractions for complex systems exist, but we do not study or catalog them, as is common in other engineering discipl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not only occur regularly in system designs, but they recur in slightly different forms.  They can be categorized into related groups that share similar characteristics and also tell us the circumstances in which is is appropriate to apply a style.  However, there is neither a complete list of styles nor a unique, non-overlapping list:  styles overlap.  Systems exhibit multiple styles at once.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031760" y="657360"/>
            <a:ext cx="4324320" cy="3240000"/>
          </a:xfrm>
          <a:prstGeom prst="rect">
            <a:avLst/>
          </a:prstGeom>
          <a:ln w="0">
            <a:noFill/>
          </a:ln>
        </p:spPr>
      </p:sp>
      <p:sp>
        <p:nvSpPr>
          <p:cNvPr id="9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a small catalog of architectural styles, organized by is-a relations.  Each related group shows a different style type and its substyles.  For example, in the box at the top of the diagram, “event systems” is a substyle of “independent components.”  Event systems themselves have two substyles:  implicit and explicit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e lecture, we will take a closer look some of these style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31760" y="657360"/>
            <a:ext cx="4324320" cy="3240000"/>
          </a:xfrm>
          <a:prstGeom prst="rect">
            <a:avLst/>
          </a:prstGeom>
          <a:ln w="0">
            <a:noFill/>
          </a:ln>
        </p:spPr>
      </p:sp>
      <p:sp>
        <p:nvSpPr>
          <p:cNvPr id="91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troduce a detailed discussion of the data-centered, virtual machine, and call/return styles.  Other styles will be introduced later in the lecture, using exampl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031760" y="657360"/>
            <a:ext cx="4324320" cy="3240000"/>
          </a:xfrm>
          <a:prstGeom prst="rect">
            <a:avLst/>
          </a:prstGeom>
          <a:ln w="0">
            <a:noFill/>
          </a:ln>
        </p:spPr>
      </p:sp>
      <p:sp>
        <p:nvSpPr>
          <p:cNvPr id="9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architectures have the goal of achieving the quality of integrability of data.  The term </a:t>
            </a:r>
            <a:r>
              <a:rPr b="0" lang="en-US" sz="1000" spc="-1" strike="noStrike" u="sng">
                <a:solidFill>
                  <a:srgbClr val="000000"/>
                </a:solidFill>
                <a:uFillTx/>
                <a:latin typeface="Arial"/>
              </a:rPr>
              <a:t>data-centered architectures</a:t>
            </a:r>
            <a:r>
              <a:rPr b="0" lang="en-US" sz="1000" spc="-1" strike="noStrike">
                <a:solidFill>
                  <a:srgbClr val="000000"/>
                </a:solidFill>
                <a:latin typeface="Arial"/>
              </a:rPr>
              <a:t> refers to systems in which the access and update of a widely accessed data store is an apt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are becoming increasingly important because the offer a structural solution to </a:t>
            </a:r>
            <a:r>
              <a:rPr b="0" lang="en-US" sz="1000" spc="-1" strike="noStrike" u="sng">
                <a:solidFill>
                  <a:srgbClr val="000000"/>
                </a:solidFill>
                <a:uFillTx/>
                <a:latin typeface="Arial"/>
              </a:rPr>
              <a:t>integrability</a:t>
            </a:r>
            <a:r>
              <a:rPr b="0" lang="en-US" sz="1000" spc="-1" strike="noStrike">
                <a:solidFill>
                  <a:srgbClr val="000000"/>
                </a:solidFill>
                <a:latin typeface="Arial"/>
              </a:rPr>
              <a:t>.  Many systems, especially those built from preexisting components, are achieving data integration through the use of blackboard mechanisms.  They have the advantage that the clients are relatively independent of each other, and the data store is relatively independent of the clients.  Thus, this style is </a:t>
            </a:r>
            <a:r>
              <a:rPr b="0" lang="en-US" sz="1000" spc="-1" strike="noStrike" u="sng">
                <a:solidFill>
                  <a:srgbClr val="000000"/>
                </a:solidFill>
                <a:uFillTx/>
                <a:latin typeface="Arial"/>
              </a:rPr>
              <a:t>scalable</a:t>
            </a:r>
            <a:r>
              <a:rPr b="0" lang="en-US" sz="1000" spc="-1" strike="noStrike">
                <a:solidFill>
                  <a:srgbClr val="000000"/>
                </a:solidFill>
                <a:latin typeface="Arial"/>
              </a:rPr>
              <a:t>:  new clients can be easily added.  It is also modifiable with respect to changing the functionality of any particular client because other clients will not be affected.  Coupling among clients will lessen this benefit, but may occur to enhance perform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feature shared data that can be accessed (and updated) by clients running on an independent thread of control.  The shared data may be a passive repository (such as a file) or an active repository (such as a blackboard).  The diagram on the following slide illustrates a sketch of the data-centered styl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031760" y="657360"/>
            <a:ext cx="4324320" cy="3240000"/>
          </a:xfrm>
          <a:prstGeom prst="rect">
            <a:avLst/>
          </a:prstGeom>
          <a:ln w="0">
            <a:noFill/>
          </a:ln>
        </p:spPr>
      </p:sp>
      <p:sp>
        <p:nvSpPr>
          <p:cNvPr id="9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centered style shown here has a passive repository (you can tell this because no control enters it).  At the heart of this style is a centralized data store that communicates with a number of clients.  The means of communication (sometimes called the coordination model) distinguishes the two subtypes:  repository (the one shown above) and blackboard.  A blackboard sends notification to subscribers when data of interest changes, and thus, is active.  A blackboard differs from the figure shown above in that it would be drawn with control arrows emanating from the shared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e that when the clients are built as independently executing processes, what we have is a client-server style that belongs in the independent-component section of the style catalog.  Thus, we see that styles are not rigidly separated from one an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ED68999A-6CBA-47C9-A707-51D59E93F166}"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39040" y="65278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62F27B28-8280-4BF5-BE86-751D4ADDDBD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3790800" y="6489720"/>
            <a:ext cx="21528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96680" y="1895040"/>
            <a:ext cx="77756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5: Architectural Styles - From Qualities to Architecture </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1</a:t>
            </a:r>
            <a:endParaRPr b="0" lang="en-US" sz="3600" spc="-1" strike="noStrike">
              <a:solidFill>
                <a:srgbClr val="ffffff"/>
              </a:solidFill>
              <a:latin typeface="Century Schoolbook"/>
            </a:endParaRPr>
          </a:p>
        </p:txBody>
      </p:sp>
      <p:sp>
        <p:nvSpPr>
          <p:cNvPr id="2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a:t>
            </a:r>
            <a:r>
              <a:rPr b="1" lang="en-US" sz="2400" spc="-1" strike="noStrike">
                <a:solidFill>
                  <a:srgbClr val="ffffff"/>
                </a:solidFill>
                <a:latin typeface="Arial"/>
              </a:rPr>
              <a:t>	</a:t>
            </a:r>
            <a:r>
              <a:rPr b="1" lang="en-US" sz="2400" spc="-1" strike="noStrike">
                <a:solidFill>
                  <a:srgbClr val="ffffff"/>
                </a:solidFill>
                <a:latin typeface="Arial"/>
              </a:rPr>
              <a:t>simulate non-native functionality for </a:t>
            </a:r>
            <a:r>
              <a:rPr b="1" lang="en-US" sz="2400" spc="-1" strike="noStrike">
                <a:solidFill>
                  <a:srgbClr val="ffffff"/>
                </a:solidFill>
                <a:latin typeface="Arial"/>
              </a:rPr>
              <a:t>	</a:t>
            </a:r>
            <a:r>
              <a:rPr b="1" lang="en-US" sz="2400" spc="-1" strike="noStrike">
                <a:solidFill>
                  <a:srgbClr val="ffffff"/>
                </a:solidFill>
                <a:latin typeface="Arial"/>
              </a:rPr>
              <a:t>portability or prototyping</a:t>
            </a: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er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based system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and languag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2</a:t>
            </a:r>
            <a:endParaRPr b="0" lang="en-US" sz="3600" spc="-1" strike="noStrike">
              <a:solidFill>
                <a:srgbClr val="ffffff"/>
              </a:solidFill>
              <a:latin typeface="Century Schoolbook"/>
            </a:endParaRPr>
          </a:p>
        </p:txBody>
      </p:sp>
      <p:grpSp>
        <p:nvGrpSpPr>
          <p:cNvPr id="235" name=""/>
          <p:cNvGrpSpPr/>
          <p:nvPr/>
        </p:nvGrpSpPr>
        <p:grpSpPr>
          <a:xfrm>
            <a:off x="853920" y="2211480"/>
            <a:ext cx="7442280" cy="2760480"/>
            <a:chOff x="853920" y="2211480"/>
            <a:chExt cx="7442280" cy="2760480"/>
          </a:xfrm>
        </p:grpSpPr>
        <p:sp>
          <p:nvSpPr>
            <p:cNvPr id="236" name=""/>
            <p:cNvSpPr/>
            <p:nvPr/>
          </p:nvSpPr>
          <p:spPr>
            <a:xfrm>
              <a:off x="2003040" y="324648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a:t>
              </a:r>
              <a:endParaRPr b="0" lang="en-US" sz="1600" spc="-1" strike="noStrike">
                <a:solidFill>
                  <a:srgbClr val="ffffff"/>
                </a:solidFill>
                <a:latin typeface="Times New Roman"/>
              </a:endParaRPr>
            </a:p>
          </p:txBody>
        </p:sp>
        <p:sp>
          <p:nvSpPr>
            <p:cNvPr id="237" name=""/>
            <p:cNvSpPr/>
            <p:nvPr/>
          </p:nvSpPr>
          <p:spPr>
            <a:xfrm>
              <a:off x="2987640" y="3246480"/>
              <a:ext cx="94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pdates</a:t>
              </a:r>
              <a:endParaRPr b="0" lang="en-US" sz="1600" spc="-1" strike="noStrike">
                <a:solidFill>
                  <a:srgbClr val="ffffff"/>
                </a:solidFill>
                <a:latin typeface="Times New Roman"/>
              </a:endParaRPr>
            </a:p>
          </p:txBody>
        </p:sp>
        <p:sp>
          <p:nvSpPr>
            <p:cNvPr id="238" name=""/>
            <p:cNvSpPr/>
            <p:nvPr/>
          </p:nvSpPr>
          <p:spPr>
            <a:xfrm>
              <a:off x="4391280" y="3073320"/>
              <a:ext cx="1110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te data</a:t>
              </a:r>
              <a:endParaRPr b="0" lang="en-US" sz="1600" spc="-1" strike="noStrike">
                <a:solidFill>
                  <a:srgbClr val="ffffff"/>
                </a:solidFill>
                <a:latin typeface="Times New Roman"/>
              </a:endParaRPr>
            </a:p>
          </p:txBody>
        </p:sp>
        <p:sp>
          <p:nvSpPr>
            <p:cNvPr id="239" name=""/>
            <p:cNvSpPr/>
            <p:nvPr/>
          </p:nvSpPr>
          <p:spPr>
            <a:xfrm>
              <a:off x="7082280" y="3327480"/>
              <a:ext cx="1213920" cy="5058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gra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ctions</a:t>
              </a:r>
              <a:endParaRPr b="0" lang="en-US" sz="1600" spc="-1" strike="noStrike">
                <a:solidFill>
                  <a:srgbClr val="ffffff"/>
                </a:solidFill>
                <a:latin typeface="Times New Roman"/>
              </a:endParaRPr>
            </a:p>
          </p:txBody>
        </p:sp>
        <p:sp>
          <p:nvSpPr>
            <p:cNvPr id="240" name=""/>
            <p:cNvSpPr/>
            <p:nvPr/>
          </p:nvSpPr>
          <p:spPr>
            <a:xfrm>
              <a:off x="7086600" y="2959200"/>
              <a:ext cx="0" cy="12445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781440" y="2940120"/>
              <a:ext cx="2327400" cy="1263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907920" y="4292640"/>
              <a:ext cx="85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s</a:t>
              </a:r>
              <a:endParaRPr b="0" lang="en-US" sz="1600" spc="-1" strike="noStrike">
                <a:solidFill>
                  <a:srgbClr val="ffffff"/>
                </a:solidFill>
                <a:latin typeface="Times New Roman"/>
              </a:endParaRPr>
            </a:p>
          </p:txBody>
        </p:sp>
        <p:sp>
          <p:nvSpPr>
            <p:cNvPr id="243" name=""/>
            <p:cNvSpPr/>
            <p:nvPr/>
          </p:nvSpPr>
          <p:spPr>
            <a:xfrm>
              <a:off x="4020480" y="4264200"/>
              <a:ext cx="1959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instruction</a:t>
              </a:r>
              <a:endParaRPr b="0" lang="en-US" sz="1600" spc="-1" strike="noStrike">
                <a:solidFill>
                  <a:srgbClr val="ffffff"/>
                </a:solidFill>
                <a:latin typeface="Times New Roman"/>
              </a:endParaRPr>
            </a:p>
          </p:txBody>
        </p:sp>
        <p:sp>
          <p:nvSpPr>
            <p:cNvPr id="244" name=""/>
            <p:cNvSpPr/>
            <p:nvPr/>
          </p:nvSpPr>
          <p:spPr>
            <a:xfrm>
              <a:off x="4022640" y="4538520"/>
              <a:ext cx="1427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data</a:t>
              </a:r>
              <a:endParaRPr b="0" lang="en-US" sz="1600" spc="-1" strike="noStrike">
                <a:solidFill>
                  <a:srgbClr val="ffffff"/>
                </a:solidFill>
                <a:latin typeface="Times New Roman"/>
              </a:endParaRPr>
            </a:p>
          </p:txBody>
        </p:sp>
        <p:sp>
          <p:nvSpPr>
            <p:cNvPr id="245" name=""/>
            <p:cNvSpPr/>
            <p:nvPr/>
          </p:nvSpPr>
          <p:spPr>
            <a:xfrm>
              <a:off x="853920" y="4600440"/>
              <a:ext cx="88452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857760" y="4572000"/>
              <a:ext cx="221616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722240" y="4187880"/>
              <a:ext cx="2142000" cy="784080"/>
              <a:chOff x="1722240" y="4187880"/>
              <a:chExt cx="2142000" cy="784080"/>
            </a:xfrm>
          </p:grpSpPr>
          <p:sp>
            <p:nvSpPr>
              <p:cNvPr id="248" name=""/>
              <p:cNvSpPr/>
              <p:nvPr/>
            </p:nvSpPr>
            <p:spPr>
              <a:xfrm>
                <a:off x="1722240" y="4275000"/>
                <a:ext cx="214200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ation</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gine</a:t>
                </a:r>
                <a:endParaRPr b="0" lang="en-US" sz="2000" spc="-1" strike="noStrike">
                  <a:solidFill>
                    <a:srgbClr val="ffffff"/>
                  </a:solidFill>
                  <a:latin typeface="Times New Roman"/>
                </a:endParaRPr>
              </a:p>
            </p:txBody>
          </p:sp>
          <p:grpSp>
            <p:nvGrpSpPr>
              <p:cNvPr id="249" name=""/>
              <p:cNvGrpSpPr/>
              <p:nvPr/>
            </p:nvGrpSpPr>
            <p:grpSpPr>
              <a:xfrm>
                <a:off x="1747800" y="4187880"/>
                <a:ext cx="2089080" cy="784080"/>
                <a:chOff x="1747800" y="4187880"/>
                <a:chExt cx="2089080" cy="784080"/>
              </a:xfrm>
            </p:grpSpPr>
            <p:sp>
              <p:nvSpPr>
                <p:cNvPr id="250" name=""/>
                <p:cNvSpPr/>
                <p:nvPr/>
              </p:nvSpPr>
              <p:spPr>
                <a:xfrm>
                  <a:off x="1747800" y="4187880"/>
                  <a:ext cx="2089080" cy="784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0648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2" name=""/>
            <p:cNvSpPr/>
            <p:nvPr/>
          </p:nvSpPr>
          <p:spPr>
            <a:xfrm>
              <a:off x="6337800" y="4275000"/>
              <a:ext cx="149112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nal</a:t>
              </a:r>
              <a:endParaRPr b="0" lang="en-US" sz="2000" spc="-1" strike="noStrike">
                <a:solidFill>
                  <a:srgbClr val="ffffff"/>
                </a:solidFill>
                <a:latin typeface="Times New Roman"/>
              </a:endParaRPr>
            </a:p>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tate</a:t>
              </a:r>
              <a:endParaRPr b="0" lang="en-US" sz="2000" spc="-1" strike="noStrike">
                <a:solidFill>
                  <a:srgbClr val="ffffff"/>
                </a:solidFill>
                <a:latin typeface="Times New Roman"/>
              </a:endParaRPr>
            </a:p>
          </p:txBody>
        </p:sp>
        <p:sp>
          <p:nvSpPr>
            <p:cNvPr id="253" name=""/>
            <p:cNvSpPr/>
            <p:nvPr/>
          </p:nvSpPr>
          <p:spPr>
            <a:xfrm>
              <a:off x="609912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827360" y="2243160"/>
              <a:ext cx="192708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ata</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state)</a:t>
              </a:r>
              <a:endParaRPr b="0" lang="en-US" sz="2000" spc="-1" strike="noStrike">
                <a:solidFill>
                  <a:srgbClr val="ffffff"/>
                </a:solidFill>
                <a:latin typeface="Times New Roman"/>
              </a:endParaRPr>
            </a:p>
          </p:txBody>
        </p:sp>
        <p:sp>
          <p:nvSpPr>
            <p:cNvPr id="255" name=""/>
            <p:cNvSpPr/>
            <p:nvPr/>
          </p:nvSpPr>
          <p:spPr>
            <a:xfrm>
              <a:off x="1806480" y="2211480"/>
              <a:ext cx="1968480" cy="672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156720" y="2255760"/>
              <a:ext cx="185544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being</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ed</a:t>
              </a:r>
              <a:endParaRPr b="0" lang="en-US" sz="2000" spc="-1" strike="noStrike">
                <a:solidFill>
                  <a:srgbClr val="ffffff"/>
                </a:solidFill>
                <a:latin typeface="Times New Roman"/>
              </a:endParaRPr>
            </a:p>
          </p:txBody>
        </p:sp>
        <p:sp>
          <p:nvSpPr>
            <p:cNvPr id="257" name=""/>
            <p:cNvSpPr/>
            <p:nvPr/>
          </p:nvSpPr>
          <p:spPr>
            <a:xfrm>
              <a:off x="6099120" y="222408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022400" y="2247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s</a:t>
              </a:r>
              <a:endParaRPr b="0" lang="en-US" sz="1600" spc="-1" strike="noStrike">
                <a:solidFill>
                  <a:srgbClr val="ffffff"/>
                </a:solidFill>
                <a:latin typeface="Times New Roman"/>
              </a:endParaRPr>
            </a:p>
          </p:txBody>
        </p:sp>
        <p:sp>
          <p:nvSpPr>
            <p:cNvPr id="259" name=""/>
            <p:cNvSpPr/>
            <p:nvPr/>
          </p:nvSpPr>
          <p:spPr>
            <a:xfrm>
              <a:off x="917640" y="2556000"/>
              <a:ext cx="8841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590920" y="2895480"/>
              <a:ext cx="0" cy="1244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997360" y="2921040"/>
              <a:ext cx="0" cy="12445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Return Architectures</a:t>
            </a:r>
            <a:endParaRPr b="0" lang="en-US" sz="3600" spc="-1" strike="noStrike">
              <a:solidFill>
                <a:srgbClr val="ffffff"/>
              </a:solidFill>
              <a:latin typeface="Century Schoolbook"/>
            </a:endParaRPr>
          </a:p>
        </p:txBody>
      </p:sp>
      <p:sp>
        <p:nvSpPr>
          <p:cNvPr id="2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inant design style for 30 ye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vary according to sub-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 program/subrout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orien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hierarchies</a:t>
            </a:r>
            <a:endParaRPr b="1" lang="en-US" sz="2400" spc="-1" strike="noStrike">
              <a:solidFill>
                <a:srgbClr val="ffffff"/>
              </a:solidFill>
              <a:latin typeface="Arial"/>
            </a:endParaRPr>
          </a:p>
        </p:txBody>
      </p:sp>
      <p:graphicFrame>
        <p:nvGraphicFramePr>
          <p:cNvPr id="264" name=""/>
          <p:cNvGraphicFramePr/>
          <p:nvPr/>
        </p:nvGraphicFramePr>
        <p:xfrm>
          <a:off x="5086440" y="3416400"/>
          <a:ext cx="1158840" cy="1282680"/>
        </p:xfrm>
        <a:graphic>
          <a:graphicData uri="http://schemas.openxmlformats.org/presentationml/2006/ole">
            <p:oleObj r:id="rId1" spid="">
              <p:embed/>
              <p:pic>
                <p:nvPicPr>
                  <p:cNvPr id="265" name="" descr=""/>
                  <p:cNvPicPr/>
                  <p:nvPr/>
                </p:nvPicPr>
                <p:blipFill>
                  <a:blip r:embed="rId2"/>
                  <a:stretch/>
                </p:blipFill>
                <p:spPr>
                  <a:xfrm>
                    <a:off x="5086440" y="341640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in Program/Subroutine Styl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65080"/>
            <a:ext cx="7301160" cy="1104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goals: reuse, independent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hierarchical call/return style</a:t>
            </a:r>
            <a:endParaRPr b="1" lang="en-US" sz="2400" spc="-1" strike="noStrike">
              <a:solidFill>
                <a:srgbClr val="ffffff"/>
              </a:solidFill>
              <a:latin typeface="Arial"/>
            </a:endParaRPr>
          </a:p>
        </p:txBody>
      </p:sp>
      <p:grpSp>
        <p:nvGrpSpPr>
          <p:cNvPr id="268" name=""/>
          <p:cNvGrpSpPr/>
          <p:nvPr/>
        </p:nvGrpSpPr>
        <p:grpSpPr>
          <a:xfrm>
            <a:off x="1908000" y="3303720"/>
            <a:ext cx="5319720" cy="2989080"/>
            <a:chOff x="1908000" y="3303720"/>
            <a:chExt cx="5319720" cy="2989080"/>
          </a:xfrm>
        </p:grpSpPr>
        <p:sp>
          <p:nvSpPr>
            <p:cNvPr id="269" name=""/>
            <p:cNvSpPr/>
            <p:nvPr/>
          </p:nvSpPr>
          <p:spPr>
            <a:xfrm>
              <a:off x="4254120" y="3314880"/>
              <a:ext cx="57060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a:t>
              </a:r>
              <a:endParaRPr b="0" lang="en-US" sz="1400" spc="-1" strike="noStrike">
                <a:solidFill>
                  <a:srgbClr val="ffffff"/>
                </a:solidFill>
                <a:latin typeface="Times New Roman"/>
              </a:endParaRPr>
            </a:p>
          </p:txBody>
        </p:sp>
        <p:sp>
          <p:nvSpPr>
            <p:cNvPr id="270" name=""/>
            <p:cNvSpPr/>
            <p:nvPr/>
          </p:nvSpPr>
          <p:spPr>
            <a:xfrm>
              <a:off x="1914480" y="3303720"/>
              <a:ext cx="528948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59120" y="3341520"/>
              <a:ext cx="5200560" cy="179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427480" y="4124160"/>
              <a:ext cx="63036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a:t>
              </a:r>
              <a:r>
                <a:rPr b="0" lang="en-US" sz="1200" spc="-1" strike="noStrike">
                  <a:solidFill>
                    <a:srgbClr val="eaeaea"/>
                  </a:solidFill>
                  <a:latin typeface="Arial"/>
                </a:rPr>
                <a:t> 1</a:t>
              </a:r>
              <a:endParaRPr b="0" lang="en-US" sz="1200" spc="-1" strike="noStrike">
                <a:solidFill>
                  <a:srgbClr val="ffffff"/>
                </a:solidFill>
                <a:latin typeface="Times New Roman"/>
              </a:endParaRPr>
            </a:p>
          </p:txBody>
        </p:sp>
        <p:sp>
          <p:nvSpPr>
            <p:cNvPr id="273" name=""/>
            <p:cNvSpPr/>
            <p:nvPr/>
          </p:nvSpPr>
          <p:spPr>
            <a:xfrm>
              <a:off x="1908000" y="4105440"/>
              <a:ext cx="162432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944720" y="4143240"/>
              <a:ext cx="1541520" cy="176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253760" y="41274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2</a:t>
              </a:r>
              <a:endParaRPr b="0" lang="en-US" sz="1400" spc="-1" strike="noStrike">
                <a:solidFill>
                  <a:srgbClr val="ffffff"/>
                </a:solidFill>
                <a:latin typeface="Times New Roman"/>
              </a:endParaRPr>
            </a:p>
          </p:txBody>
        </p:sp>
        <p:sp>
          <p:nvSpPr>
            <p:cNvPr id="276" name=""/>
            <p:cNvSpPr/>
            <p:nvPr/>
          </p:nvSpPr>
          <p:spPr>
            <a:xfrm>
              <a:off x="374508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781440" y="41464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12440" y="41148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3</a:t>
              </a:r>
              <a:endParaRPr b="0" lang="en-US" sz="1400" spc="-1" strike="noStrike">
                <a:solidFill>
                  <a:srgbClr val="ffffff"/>
                </a:solidFill>
                <a:latin typeface="Times New Roman"/>
              </a:endParaRPr>
            </a:p>
          </p:txBody>
        </p:sp>
        <p:sp>
          <p:nvSpPr>
            <p:cNvPr id="279" name=""/>
            <p:cNvSpPr/>
            <p:nvPr/>
          </p:nvSpPr>
          <p:spPr>
            <a:xfrm>
              <a:off x="560376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640480" y="41590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909800" y="4862520"/>
              <a:ext cx="436680" cy="216000"/>
              <a:chOff x="1909800" y="4862520"/>
              <a:chExt cx="436680" cy="216000"/>
            </a:xfrm>
          </p:grpSpPr>
          <p:sp>
            <p:nvSpPr>
              <p:cNvPr id="282" name=""/>
              <p:cNvSpPr/>
              <p:nvPr/>
            </p:nvSpPr>
            <p:spPr>
              <a:xfrm>
                <a:off x="1909800" y="486252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943280" y="489276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2509920" y="4867200"/>
              <a:ext cx="436320" cy="216000"/>
              <a:chOff x="2509920" y="4867200"/>
              <a:chExt cx="436320" cy="216000"/>
            </a:xfrm>
          </p:grpSpPr>
          <p:sp>
            <p:nvSpPr>
              <p:cNvPr id="285" name=""/>
              <p:cNvSpPr/>
              <p:nvPr/>
            </p:nvSpPr>
            <p:spPr>
              <a:xfrm>
                <a:off x="2509920" y="486720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543040" y="489744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3078000" y="4863960"/>
              <a:ext cx="436680" cy="216000"/>
              <a:chOff x="3078000" y="4863960"/>
              <a:chExt cx="436680" cy="216000"/>
            </a:xfrm>
          </p:grpSpPr>
          <p:sp>
            <p:nvSpPr>
              <p:cNvPr id="288" name=""/>
              <p:cNvSpPr/>
              <p:nvPr/>
            </p:nvSpPr>
            <p:spPr>
              <a:xfrm>
                <a:off x="3078000" y="48639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11480" y="48942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4048200" y="4865760"/>
              <a:ext cx="436320" cy="216000"/>
              <a:chOff x="4048200" y="4865760"/>
              <a:chExt cx="436320" cy="216000"/>
            </a:xfrm>
          </p:grpSpPr>
          <p:sp>
            <p:nvSpPr>
              <p:cNvPr id="291" name=""/>
              <p:cNvSpPr/>
              <p:nvPr/>
            </p:nvSpPr>
            <p:spPr>
              <a:xfrm>
                <a:off x="4048200" y="486576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081320" y="489600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4670280" y="4865760"/>
              <a:ext cx="436680" cy="216000"/>
              <a:chOff x="4670280" y="4865760"/>
              <a:chExt cx="436680" cy="216000"/>
            </a:xfrm>
          </p:grpSpPr>
          <p:sp>
            <p:nvSpPr>
              <p:cNvPr id="294" name=""/>
              <p:cNvSpPr/>
              <p:nvPr/>
            </p:nvSpPr>
            <p:spPr>
              <a:xfrm>
                <a:off x="467028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0376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5883120" y="4865760"/>
              <a:ext cx="436680" cy="216000"/>
              <a:chOff x="5883120" y="4865760"/>
              <a:chExt cx="436680" cy="216000"/>
            </a:xfrm>
          </p:grpSpPr>
          <p:sp>
            <p:nvSpPr>
              <p:cNvPr id="297" name=""/>
              <p:cNvSpPr/>
              <p:nvPr/>
            </p:nvSpPr>
            <p:spPr>
              <a:xfrm>
                <a:off x="588312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1660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9" name=""/>
            <p:cNvGrpSpPr/>
            <p:nvPr/>
          </p:nvGrpSpPr>
          <p:grpSpPr>
            <a:xfrm>
              <a:off x="6494400" y="4865760"/>
              <a:ext cx="436680" cy="216000"/>
              <a:chOff x="6494400" y="4865760"/>
              <a:chExt cx="436680" cy="216000"/>
            </a:xfrm>
          </p:grpSpPr>
          <p:sp>
            <p:nvSpPr>
              <p:cNvPr id="300" name=""/>
              <p:cNvSpPr/>
              <p:nvPr/>
            </p:nvSpPr>
            <p:spPr>
              <a:xfrm>
                <a:off x="649440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52788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2" name=""/>
            <p:cNvGrpSpPr/>
            <p:nvPr/>
          </p:nvGrpSpPr>
          <p:grpSpPr>
            <a:xfrm>
              <a:off x="5886360" y="5541840"/>
              <a:ext cx="349200" cy="216000"/>
              <a:chOff x="5886360" y="5541840"/>
              <a:chExt cx="349200" cy="216000"/>
            </a:xfrm>
          </p:grpSpPr>
          <p:sp>
            <p:nvSpPr>
              <p:cNvPr id="303" name=""/>
              <p:cNvSpPr/>
              <p:nvPr/>
            </p:nvSpPr>
            <p:spPr>
              <a:xfrm>
                <a:off x="588636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91660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6270480" y="5540400"/>
              <a:ext cx="349560" cy="216000"/>
              <a:chOff x="6270480" y="5540400"/>
              <a:chExt cx="349560" cy="216000"/>
            </a:xfrm>
          </p:grpSpPr>
          <p:sp>
            <p:nvSpPr>
              <p:cNvPr id="306" name=""/>
              <p:cNvSpPr/>
              <p:nvPr/>
            </p:nvSpPr>
            <p:spPr>
              <a:xfrm>
                <a:off x="6270480" y="5540400"/>
                <a:ext cx="34956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30072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2774880" y="5541840"/>
              <a:ext cx="349200" cy="216000"/>
              <a:chOff x="2774880" y="5541840"/>
              <a:chExt cx="349200" cy="216000"/>
            </a:xfrm>
          </p:grpSpPr>
          <p:sp>
            <p:nvSpPr>
              <p:cNvPr id="309" name=""/>
              <p:cNvSpPr/>
              <p:nvPr/>
            </p:nvSpPr>
            <p:spPr>
              <a:xfrm>
                <a:off x="277488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80512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159000" y="5540400"/>
              <a:ext cx="349200" cy="216000"/>
              <a:chOff x="3159000" y="5540400"/>
              <a:chExt cx="349200" cy="216000"/>
            </a:xfrm>
          </p:grpSpPr>
          <p:sp>
            <p:nvSpPr>
              <p:cNvPr id="312" name=""/>
              <p:cNvSpPr/>
              <p:nvPr/>
            </p:nvSpPr>
            <p:spPr>
              <a:xfrm>
                <a:off x="3159000" y="554040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18924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227400" y="6114960"/>
              <a:ext cx="141120" cy="149400"/>
            </a:xfrm>
            <a:custGeom>
              <a:avLst/>
              <a:gdLst>
                <a:gd name="textAreaLeft" fmla="*/ 5040 w 141120"/>
                <a:gd name="textAreaRight" fmla="*/ 136080 w 141120"/>
                <a:gd name="textAreaTop" fmla="*/ 5040 h 149400"/>
                <a:gd name="textAreaBottom" fmla="*/ 144360 h 149400"/>
              </a:gdLst>
              <a:ahLst/>
              <a:rect l="textAreaLeft" t="textAreaTop" r="textAreaRight" b="textAreaBottom"/>
              <a:pathLst>
                <a:path w="21600" h="22864">
                  <a:moveTo>
                    <a:pt x="2699" y="0"/>
                  </a:moveTo>
                  <a:arcTo wR="2699" hR="2699" stAng="16200000" swAng="-5400000"/>
                  <a:lnTo>
                    <a:pt x="0" y="20165"/>
                  </a:lnTo>
                  <a:arcTo wR="2699" hR="2699" stAng="10800000" swAng="-5400000"/>
                  <a:lnTo>
                    <a:pt x="18901" y="2286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93920" y="6083280"/>
              <a:ext cx="209520" cy="209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3552840" y="3587760"/>
              <a:ext cx="89856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681440" y="3584520"/>
              <a:ext cx="912960" cy="519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H="1">
              <a:off x="4562280" y="3602160"/>
              <a:ext cx="4680" cy="455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92720" y="5113440"/>
              <a:ext cx="271440" cy="411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113520" y="510840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319560" y="5111640"/>
              <a:ext cx="0" cy="4050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H="1">
              <a:off x="2995200" y="5113440"/>
              <a:ext cx="268200" cy="379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317760" y="5781600"/>
              <a:ext cx="0" cy="292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3614400" y="3608280"/>
              <a:ext cx="7462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772160" y="3678120"/>
              <a:ext cx="7318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548240" y="3716280"/>
              <a:ext cx="0" cy="274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7" name=""/>
            <p:cNvGrpSpPr/>
            <p:nvPr/>
          </p:nvGrpSpPr>
          <p:grpSpPr>
            <a:xfrm>
              <a:off x="2136600" y="4379760"/>
              <a:ext cx="1165320" cy="484200"/>
              <a:chOff x="2136600" y="4379760"/>
              <a:chExt cx="1165320" cy="484200"/>
            </a:xfrm>
          </p:grpSpPr>
          <p:grpSp>
            <p:nvGrpSpPr>
              <p:cNvPr id="328" name=""/>
              <p:cNvGrpSpPr/>
              <p:nvPr/>
            </p:nvGrpSpPr>
            <p:grpSpPr>
              <a:xfrm>
                <a:off x="2692440" y="4389480"/>
                <a:ext cx="15840" cy="474480"/>
                <a:chOff x="2692440" y="4389480"/>
                <a:chExt cx="15840" cy="474480"/>
              </a:xfrm>
            </p:grpSpPr>
            <p:sp>
              <p:nvSpPr>
                <p:cNvPr id="329" name=""/>
                <p:cNvSpPr/>
                <p:nvPr/>
              </p:nvSpPr>
              <p:spPr>
                <a:xfrm>
                  <a:off x="2708280" y="4389480"/>
                  <a:ext cx="0" cy="474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92440" y="4489560"/>
                  <a:ext cx="0" cy="291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2776680" y="4379760"/>
                <a:ext cx="525240" cy="470160"/>
                <a:chOff x="2776680" y="4379760"/>
                <a:chExt cx="525240" cy="470160"/>
              </a:xfrm>
            </p:grpSpPr>
            <p:sp>
              <p:nvSpPr>
                <p:cNvPr id="332" name=""/>
                <p:cNvSpPr/>
                <p:nvPr/>
              </p:nvSpPr>
              <p:spPr>
                <a:xfrm>
                  <a:off x="2776680" y="4379760"/>
                  <a:ext cx="525240" cy="470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840040" y="4459320"/>
                  <a:ext cx="380880" cy="339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4" name=""/>
              <p:cNvGrpSpPr/>
              <p:nvPr/>
            </p:nvGrpSpPr>
            <p:grpSpPr>
              <a:xfrm>
                <a:off x="2136600" y="4379760"/>
                <a:ext cx="478080" cy="449280"/>
                <a:chOff x="2136600" y="4379760"/>
                <a:chExt cx="478080" cy="449280"/>
              </a:xfrm>
            </p:grpSpPr>
            <p:sp>
              <p:nvSpPr>
                <p:cNvPr id="335" name=""/>
                <p:cNvSpPr/>
                <p:nvPr/>
              </p:nvSpPr>
              <p:spPr>
                <a:xfrm flipH="1">
                  <a:off x="2136600" y="4379760"/>
                  <a:ext cx="478080" cy="4492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2222640" y="4460760"/>
                  <a:ext cx="328320" cy="312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7" name=""/>
            <p:cNvSpPr/>
            <p:nvPr/>
          </p:nvSpPr>
          <p:spPr>
            <a:xfrm flipH="1">
              <a:off x="3063960" y="5202360"/>
              <a:ext cx="154080" cy="22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303720" y="5210280"/>
              <a:ext cx="0" cy="2221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9" name=""/>
            <p:cNvGrpSpPr/>
            <p:nvPr/>
          </p:nvGrpSpPr>
          <p:grpSpPr>
            <a:xfrm>
              <a:off x="4243320" y="4390920"/>
              <a:ext cx="642960" cy="474840"/>
              <a:chOff x="4243320" y="4390920"/>
              <a:chExt cx="642960" cy="474840"/>
            </a:xfrm>
          </p:grpSpPr>
          <p:sp>
            <p:nvSpPr>
              <p:cNvPr id="340" name=""/>
              <p:cNvSpPr/>
              <p:nvPr/>
            </p:nvSpPr>
            <p:spPr>
              <a:xfrm>
                <a:off x="4613400" y="43974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243320" y="439092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302000" y="446868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40400" y="448776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124680" y="5194440"/>
              <a:ext cx="0" cy="2286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27640" y="5197320"/>
              <a:ext cx="160560" cy="243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303720" y="5861160"/>
              <a:ext cx="0" cy="1378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6072120" y="4376880"/>
              <a:ext cx="642960" cy="474480"/>
              <a:chOff x="6072120" y="4376880"/>
              <a:chExt cx="642960" cy="474480"/>
            </a:xfrm>
          </p:grpSpPr>
          <p:sp>
            <p:nvSpPr>
              <p:cNvPr id="348" name=""/>
              <p:cNvSpPr/>
              <p:nvPr/>
            </p:nvSpPr>
            <p:spPr>
              <a:xfrm>
                <a:off x="6442200" y="43830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a:off x="6072120" y="437688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6130800" y="445464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469200" y="447372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29880" y="855360"/>
            <a:ext cx="7845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Oriented/Abstract Data Style</a:t>
            </a:r>
            <a:endParaRPr b="0" lang="en-US" sz="3600" spc="-1" strike="noStrike">
              <a:solidFill>
                <a:srgbClr val="ffffff"/>
              </a:solidFill>
              <a:latin typeface="Century Schoolbook"/>
            </a:endParaRPr>
          </a:p>
        </p:txBody>
      </p:sp>
      <p:grpSp>
        <p:nvGrpSpPr>
          <p:cNvPr id="353" name=""/>
          <p:cNvGrpSpPr/>
          <p:nvPr/>
        </p:nvGrpSpPr>
        <p:grpSpPr>
          <a:xfrm>
            <a:off x="1679400" y="3746520"/>
            <a:ext cx="6484680" cy="2792160"/>
            <a:chOff x="1679400" y="3746520"/>
            <a:chExt cx="6484680" cy="2792160"/>
          </a:xfrm>
        </p:grpSpPr>
        <p:sp>
          <p:nvSpPr>
            <p:cNvPr id="354" name=""/>
            <p:cNvSpPr/>
            <p:nvPr/>
          </p:nvSpPr>
          <p:spPr>
            <a:xfrm>
              <a:off x="3936960" y="3757680"/>
              <a:ext cx="10558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227640" y="4525920"/>
              <a:ext cx="105408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04504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83356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79400" y="4525920"/>
              <a:ext cx="105444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484080" y="3941280"/>
              <a:ext cx="3245400" cy="1060920"/>
            </a:xfrm>
            <a:custGeom>
              <a:avLst/>
              <a:gdLst/>
              <a:ahLst/>
              <a:rect l="l" t="t" r="r" b="b"/>
              <a:pathLst>
                <a:path stroke="0" w="21600" h="21600">
                  <a:moveTo>
                    <a:pt x="11243" y="9"/>
                  </a:moveTo>
                  <a:arcTo wR="10800" hR="10800" stAng="-5258802" swAng="4845845"/>
                  <a:lnTo>
                    <a:pt x="10800" y="10800"/>
                  </a:lnTo>
                  <a:close/>
                </a:path>
                <a:path fill="none" w="21600" h="21600">
                  <a:moveTo>
                    <a:pt x="11243" y="9"/>
                  </a:moveTo>
                  <a:arcTo wR="10800" hR="10800" stAng="-5258802" swAng="4845845"/>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rot="21540000">
              <a:off x="5262480" y="3988080"/>
              <a:ext cx="2148840" cy="1874880"/>
            </a:xfrm>
            <a:custGeom>
              <a:avLst/>
              <a:gdLst/>
              <a:ahLst/>
              <a:rect l="l" t="t" r="r" b="b"/>
              <a:pathLst>
                <a:path stroke="0" w="21600" h="21600">
                  <a:moveTo>
                    <a:pt x="21567" y="11643"/>
                  </a:moveTo>
                  <a:arcTo wR="10800" hR="10800" stAng="268643" swAng="4968691"/>
                  <a:lnTo>
                    <a:pt x="10800" y="10800"/>
                  </a:lnTo>
                  <a:close/>
                </a:path>
                <a:path fill="none" w="21600" h="21600">
                  <a:moveTo>
                    <a:pt x="21567" y="11643"/>
                  </a:moveTo>
                  <a:arcTo wR="10800" hR="10800" stAng="268643" swAng="4968691"/>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217960" y="3937320"/>
              <a:ext cx="2770920" cy="1062360"/>
            </a:xfrm>
            <a:custGeom>
              <a:avLst/>
              <a:gdLst/>
              <a:ahLst/>
              <a:rect l="l" t="t" r="r" b="b"/>
              <a:pathLst>
                <a:path stroke="0" w="21600" h="21600">
                  <a:moveTo>
                    <a:pt x="136" y="9094"/>
                  </a:moveTo>
                  <a:arcTo wR="10800" hR="10800" stAng="-10254749" swAng="4595197"/>
                  <a:lnTo>
                    <a:pt x="10800" y="10800"/>
                  </a:lnTo>
                  <a:close/>
                </a:path>
                <a:path fill="none" w="21600" h="21600">
                  <a:moveTo>
                    <a:pt x="136" y="9094"/>
                  </a:moveTo>
                  <a:arcTo wR="10800" hR="10800" stAng="-10254749" swAng="459519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361240" y="4683600"/>
              <a:ext cx="836640" cy="1731960"/>
            </a:xfrm>
            <a:custGeom>
              <a:avLst/>
              <a:gdLst/>
              <a:ahLst/>
              <a:rect l="l" t="t" r="r" b="b"/>
              <a:pathLst>
                <a:path stroke="0" w="21600" h="21600">
                  <a:moveTo>
                    <a:pt x="12228" y="95"/>
                  </a:moveTo>
                  <a:arcTo wR="10800" hR="10800" stAng="-4943989" swAng="4011254"/>
                  <a:lnTo>
                    <a:pt x="10800" y="10800"/>
                  </a:lnTo>
                  <a:close/>
                </a:path>
                <a:path fill="none" w="21600" h="21600">
                  <a:moveTo>
                    <a:pt x="12228" y="95"/>
                  </a:moveTo>
                  <a:arcTo wR="10800" hR="10800" stAng="-4943989" swAng="4011254"/>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rot="10800000">
              <a:off x="2224080" y="4449960"/>
              <a:ext cx="1621440" cy="11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rot="10800000">
              <a:off x="1824480" y="3905640"/>
              <a:ext cx="1396080" cy="192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297480" y="4538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6" name=""/>
            <p:cNvSpPr/>
            <p:nvPr/>
          </p:nvSpPr>
          <p:spPr>
            <a:xfrm>
              <a:off x="1830240" y="450360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7" name=""/>
            <p:cNvSpPr/>
            <p:nvPr/>
          </p:nvSpPr>
          <p:spPr>
            <a:xfrm>
              <a:off x="4100400" y="3746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8" name=""/>
            <p:cNvSpPr/>
            <p:nvPr/>
          </p:nvSpPr>
          <p:spPr>
            <a:xfrm>
              <a:off x="5178600" y="564984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9" name=""/>
            <p:cNvSpPr/>
            <p:nvPr/>
          </p:nvSpPr>
          <p:spPr>
            <a:xfrm>
              <a:off x="2887560" y="569448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70" name=""/>
            <p:cNvSpPr/>
            <p:nvPr/>
          </p:nvSpPr>
          <p:spPr>
            <a:xfrm>
              <a:off x="3668760" y="4710240"/>
              <a:ext cx="4495320" cy="1828440"/>
            </a:xfrm>
            <a:custGeom>
              <a:avLst/>
              <a:gdLst/>
              <a:ahLst/>
              <a:rect l="l" t="t" r="r" b="b"/>
              <a:pathLst>
                <a:path stroke="0" w="21600" h="21600">
                  <a:moveTo>
                    <a:pt x="0" y="10800"/>
                  </a:moveTo>
                  <a:arcTo wR="10800" hR="10800" stAng="10800000" swAng="5397572"/>
                  <a:lnTo>
                    <a:pt x="10800" y="10800"/>
                  </a:lnTo>
                  <a:close/>
                </a:path>
                <a:path fill="none" w="21600" h="21600">
                  <a:moveTo>
                    <a:pt x="0" y="10800"/>
                  </a:moveTo>
                  <a:arcTo wR="10800" hR="10800" stAng="10800000" swAng="539757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70520" y="5811840"/>
              <a:ext cx="757080" cy="1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72" name=""/>
            <p:cNvSpPr/>
            <p:nvPr/>
          </p:nvSpPr>
          <p:spPr>
            <a:xfrm>
              <a:off x="4186080" y="5799240"/>
              <a:ext cx="536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854600" y="568944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888080" y="5722920"/>
              <a:ext cx="32040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11920" y="56880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943600" y="57196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3672000" y="5695920"/>
              <a:ext cx="385560" cy="238320"/>
              <a:chOff x="3672000" y="5695920"/>
              <a:chExt cx="385560" cy="238320"/>
            </a:xfrm>
          </p:grpSpPr>
          <p:sp>
            <p:nvSpPr>
              <p:cNvPr id="378" name=""/>
              <p:cNvSpPr/>
              <p:nvPr/>
            </p:nvSpPr>
            <p:spPr>
              <a:xfrm>
                <a:off x="3672000" y="569592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705120" y="572940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0" name=""/>
            <p:cNvSpPr/>
            <p:nvPr/>
          </p:nvSpPr>
          <p:spPr>
            <a:xfrm>
              <a:off x="3054240" y="5465880"/>
              <a:ext cx="3859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087720" y="5499000"/>
              <a:ext cx="320760" cy="17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522520" y="5697360"/>
              <a:ext cx="38592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556000" y="5730840"/>
              <a:ext cx="3204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241000" y="4641840"/>
              <a:ext cx="972000" cy="1724040"/>
            </a:xfrm>
            <a:custGeom>
              <a:avLst/>
              <a:gdLst/>
              <a:ahLst/>
              <a:rect l="l" t="t" r="r" b="b"/>
              <a:pathLst>
                <a:path stroke="0" w="21600" h="21600">
                  <a:moveTo>
                    <a:pt x="10765" y="0"/>
                  </a:moveTo>
                  <a:arcTo wR="10800" hR="10800" stAng="-5411234" swAng="5112473"/>
                  <a:lnTo>
                    <a:pt x="10800" y="10800"/>
                  </a:lnTo>
                  <a:close/>
                </a:path>
                <a:path fill="none" w="21600" h="21600">
                  <a:moveTo>
                    <a:pt x="10765" y="0"/>
                  </a:moveTo>
                  <a:arcTo wR="10800" hR="10800" stAng="-5411234" swAng="5112473"/>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182680" y="3922560"/>
              <a:ext cx="2901960" cy="1126800"/>
            </a:xfrm>
            <a:custGeom>
              <a:avLst/>
              <a:gdLst/>
              <a:ahLst/>
              <a:rect l="l" t="t" r="r" b="b"/>
              <a:pathLst>
                <a:path stroke="0" w="21600" h="21600">
                  <a:moveTo>
                    <a:pt x="5" y="11134"/>
                  </a:moveTo>
                  <a:arcTo wR="10800" hR="10800" stAng="10693720" swAng="5502522"/>
                  <a:lnTo>
                    <a:pt x="10800" y="10800"/>
                  </a:lnTo>
                  <a:close/>
                </a:path>
                <a:path fill="none" w="21600" h="21600">
                  <a:moveTo>
                    <a:pt x="5" y="11134"/>
                  </a:moveTo>
                  <a:arcTo wR="10800" hR="10800" stAng="10693720" swAng="550252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035080" y="4770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068560" y="480384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60840" y="38196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92520" y="38512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57720" y="402120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90840" y="4054320"/>
              <a:ext cx="32076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710880" y="4734000"/>
              <a:ext cx="4290480" cy="1711440"/>
            </a:xfrm>
            <a:custGeom>
              <a:avLst/>
              <a:gdLst/>
              <a:ahLst/>
              <a:rect l="l" t="t" r="r" b="b"/>
              <a:pathLst>
                <a:path stroke="0" w="21600" h="21600">
                  <a:moveTo>
                    <a:pt x="52" y="9739"/>
                  </a:moveTo>
                  <a:arcTo wR="10800" hR="10800" stAng="-10461681" swAng="4965048"/>
                  <a:lnTo>
                    <a:pt x="10800" y="10800"/>
                  </a:lnTo>
                  <a:close/>
                </a:path>
                <a:path fill="none" w="21600" h="21600">
                  <a:moveTo>
                    <a:pt x="52" y="9739"/>
                  </a:moveTo>
                  <a:arcTo wR="10800" hR="10800" stAng="-10461681" swAng="4965048"/>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72040" y="4554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005520" y="458784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089840" y="458136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2960" y="460548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133960" y="3974040"/>
              <a:ext cx="2295360" cy="1907280"/>
            </a:xfrm>
            <a:custGeom>
              <a:avLst/>
              <a:gdLst/>
              <a:ahLst/>
              <a:rect l="l" t="t" r="r" b="b"/>
              <a:pathLst>
                <a:path stroke="0" w="21600" h="21600">
                  <a:moveTo>
                    <a:pt x="21568" y="9972"/>
                  </a:moveTo>
                  <a:arcTo wR="10800" hR="10800" stAng="-263700" swAng="5663700"/>
                  <a:lnTo>
                    <a:pt x="10800" y="10800"/>
                  </a:lnTo>
                  <a:close/>
                </a:path>
                <a:path fill="none" w="21600" h="21600">
                  <a:moveTo>
                    <a:pt x="21568" y="9972"/>
                  </a:moveTo>
                  <a:arcTo wR="10800" hR="10800" stAng="-263700" swAng="56637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437280" y="3929040"/>
              <a:ext cx="3301200" cy="1066680"/>
            </a:xfrm>
            <a:custGeom>
              <a:avLst/>
              <a:gdLst/>
              <a:ahLst/>
              <a:rect l="l" t="t" r="r" b="b"/>
              <a:pathLst>
                <a:path stroke="0" w="21600" h="21600">
                  <a:moveTo>
                    <a:pt x="10790" y="0"/>
                  </a:moveTo>
                  <a:arcTo wR="10800" hR="10800" stAng="-5403306" swAng="5403306"/>
                  <a:lnTo>
                    <a:pt x="10800" y="10800"/>
                  </a:lnTo>
                  <a:close/>
                </a:path>
                <a:path fill="none" w="21600" h="21600">
                  <a:moveTo>
                    <a:pt x="10790" y="0"/>
                  </a:moveTo>
                  <a:arcTo wR="10800" hR="10800" stAng="-5403306" swAng="5403306"/>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rot="10800000">
              <a:off x="1829160" y="3903840"/>
              <a:ext cx="1395360" cy="1920240"/>
            </a:xfrm>
            <a:custGeom>
              <a:avLst/>
              <a:gdLst/>
              <a:ahLst/>
              <a:rect l="l" t="t" r="r" b="b"/>
              <a:pathLst>
                <a:path stroke="0" w="21600" h="21600">
                  <a:moveTo>
                    <a:pt x="13256" y="283"/>
                  </a:moveTo>
                  <a:arcTo wR="10800" hR="10800" stAng="-4611354" swAng="4010067"/>
                  <a:lnTo>
                    <a:pt x="10800" y="10800"/>
                  </a:lnTo>
                  <a:close/>
                </a:path>
                <a:path fill="none" w="21600" h="21600">
                  <a:moveTo>
                    <a:pt x="13256" y="283"/>
                  </a:moveTo>
                  <a:arcTo wR="10800" hR="10800" stAng="-4611354" swAng="401006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10800000">
              <a:off x="2226960" y="4457520"/>
              <a:ext cx="1606680" cy="1107720"/>
            </a:xfrm>
            <a:custGeom>
              <a:avLst/>
              <a:gdLst/>
              <a:ahLst/>
              <a:rect l="l" t="t" r="r" b="b"/>
              <a:pathLst>
                <a:path stroke="0" w="21600" h="21600">
                  <a:moveTo>
                    <a:pt x="11906" y="57"/>
                  </a:moveTo>
                  <a:arcTo wR="10800" hR="10800" stAng="-5047291" swAng="4201100"/>
                  <a:lnTo>
                    <a:pt x="10800" y="10800"/>
                  </a:lnTo>
                  <a:close/>
                </a:path>
                <a:path fill="none" w="21600" h="21600">
                  <a:moveTo>
                    <a:pt x="11906" y="57"/>
                  </a:moveTo>
                  <a:arcTo wR="10800" hR="10800" stAng="-5047291" swAng="4201100"/>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PlaceHolder 2"/>
          <p:cNvSpPr>
            <a:spLocks noGrp="1"/>
          </p:cNvSpPr>
          <p:nvPr>
            <p:ph/>
          </p:nvPr>
        </p:nvSpPr>
        <p:spPr>
          <a:xfrm>
            <a:off x="923760" y="1782720"/>
            <a:ext cx="7166160" cy="18748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natural modeling of real world</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by increments</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bject-oriente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424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Hierarchies</a:t>
            </a:r>
            <a:endParaRPr b="0" lang="en-US" sz="3600" spc="-1" strike="noStrike">
              <a:solidFill>
                <a:srgbClr val="ffffff"/>
              </a:solidFill>
              <a:latin typeface="Century Schoolbook"/>
            </a:endParaRPr>
          </a:p>
        </p:txBody>
      </p:sp>
      <p:sp>
        <p:nvSpPr>
          <p:cNvPr id="403" name=""/>
          <p:cNvSpPr/>
          <p:nvPr/>
        </p:nvSpPr>
        <p:spPr>
          <a:xfrm>
            <a:off x="847800" y="1633680"/>
            <a:ext cx="8143920" cy="1513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portability, reuse</a:t>
            </a:r>
            <a:endParaRPr b="0" lang="en-US" sz="2400" spc="-1" strike="noStrike">
              <a:solidFill>
                <a:srgbClr val="ffffff"/>
              </a:solidFill>
              <a:latin typeface="Times New Roman"/>
            </a:endParaRPr>
          </a:p>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SO Open Systems Interconnection reference model</a:t>
            </a:r>
            <a:endParaRPr b="0" lang="en-US" sz="2400" spc="-1" strike="noStrike">
              <a:solidFill>
                <a:srgbClr val="ffffff"/>
              </a:solidFill>
              <a:latin typeface="Times New Roman"/>
            </a:endParaRPr>
          </a:p>
        </p:txBody>
      </p:sp>
      <p:sp>
        <p:nvSpPr>
          <p:cNvPr id="404" name=""/>
          <p:cNvSpPr/>
          <p:nvPr/>
        </p:nvSpPr>
        <p:spPr>
          <a:xfrm>
            <a:off x="1920960" y="3251160"/>
            <a:ext cx="529884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954080" y="330192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846960" y="3259080"/>
            <a:ext cx="1448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r interface</a:t>
            </a:r>
            <a:endParaRPr b="0" lang="en-US" sz="1600" spc="-1" strike="noStrike">
              <a:solidFill>
                <a:srgbClr val="ffffff"/>
              </a:solidFill>
              <a:latin typeface="Times New Roman"/>
            </a:endParaRPr>
          </a:p>
        </p:txBody>
      </p:sp>
      <p:sp>
        <p:nvSpPr>
          <p:cNvPr id="407" name=""/>
          <p:cNvSpPr/>
          <p:nvPr/>
        </p:nvSpPr>
        <p:spPr>
          <a:xfrm>
            <a:off x="4570560" y="361944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70560" y="368604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920960" y="412740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954080" y="417816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839400" y="4135320"/>
            <a:ext cx="1462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ful system</a:t>
            </a:r>
            <a:endParaRPr b="0" lang="en-US" sz="1600" spc="-1" strike="noStrike">
              <a:solidFill>
                <a:srgbClr val="ffffff"/>
              </a:solidFill>
              <a:latin typeface="Times New Roman"/>
            </a:endParaRPr>
          </a:p>
        </p:txBody>
      </p:sp>
      <p:sp>
        <p:nvSpPr>
          <p:cNvPr id="412" name=""/>
          <p:cNvSpPr/>
          <p:nvPr/>
        </p:nvSpPr>
        <p:spPr>
          <a:xfrm>
            <a:off x="4570560" y="449568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570560" y="456264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920960" y="500364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954080" y="5054760"/>
            <a:ext cx="5234040" cy="250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968280" y="5011560"/>
            <a:ext cx="1204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sic utility</a:t>
            </a:r>
            <a:endParaRPr b="0" lang="en-US" sz="1600" spc="-1" strike="noStrike">
              <a:solidFill>
                <a:srgbClr val="ffffff"/>
              </a:solidFill>
              <a:latin typeface="Times New Roman"/>
            </a:endParaRPr>
          </a:p>
        </p:txBody>
      </p:sp>
      <p:sp>
        <p:nvSpPr>
          <p:cNvPr id="417" name=""/>
          <p:cNvSpPr/>
          <p:nvPr/>
        </p:nvSpPr>
        <p:spPr>
          <a:xfrm>
            <a:off x="4570560" y="537228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0560" y="543888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920960" y="586728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954080" y="591804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259160" y="5875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sp>
        <p:nvSpPr>
          <p:cNvPr id="422" name=""/>
          <p:cNvSpPr/>
          <p:nvPr/>
        </p:nvSpPr>
        <p:spPr>
          <a:xfrm>
            <a:off x="4591080" y="368928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584600" y="4572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4591080" y="5445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eterogeneous Systems</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 systems are constructed purely from a single style.  Most are heterogeneous mixtures of 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types of heterogeneous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taneou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erarchi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ocational Heterogeneity</a:t>
            </a:r>
            <a:endParaRPr b="0" lang="en-US" sz="3600" spc="-1" strike="noStrike">
              <a:solidFill>
                <a:srgbClr val="ffffff"/>
              </a:solidFill>
              <a:latin typeface="Century Schoolbook"/>
            </a:endParaRPr>
          </a:p>
        </p:txBody>
      </p:sp>
      <p:sp>
        <p:nvSpPr>
          <p:cNvPr id="428" name="PlaceHolder 2"/>
          <p:cNvSpPr>
            <a:spLocks noGrp="1"/>
          </p:cNvSpPr>
          <p:nvPr>
            <p:ph/>
          </p:nvPr>
        </p:nvSpPr>
        <p:spPr>
          <a:xfrm>
            <a:off x="923400" y="1706400"/>
            <a:ext cx="7301160" cy="1570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in different parts of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used a cooperating process style in function drivers and call/return style elsewhe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29" name=""/>
          <p:cNvGrpSpPr/>
          <p:nvPr/>
        </p:nvGrpSpPr>
        <p:grpSpPr>
          <a:xfrm>
            <a:off x="492120" y="3530520"/>
            <a:ext cx="8185320" cy="2516400"/>
            <a:chOff x="492120" y="3530520"/>
            <a:chExt cx="8185320" cy="2516400"/>
          </a:xfrm>
        </p:grpSpPr>
        <p:sp>
          <p:nvSpPr>
            <p:cNvPr id="430" name=""/>
            <p:cNvSpPr/>
            <p:nvPr/>
          </p:nvSpPr>
          <p:spPr>
            <a:xfrm>
              <a:off x="1060560" y="3546360"/>
              <a:ext cx="149832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21932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1</a:t>
              </a:r>
              <a:endParaRPr b="0" lang="en-US" sz="1800" spc="-1" strike="noStrike">
                <a:solidFill>
                  <a:srgbClr val="ffffff"/>
                </a:solidFill>
                <a:latin typeface="Times New Roman"/>
              </a:endParaRPr>
            </a:p>
          </p:txBody>
        </p:sp>
        <p:sp>
          <p:nvSpPr>
            <p:cNvPr id="432" name=""/>
            <p:cNvSpPr/>
            <p:nvPr/>
          </p:nvSpPr>
          <p:spPr>
            <a:xfrm>
              <a:off x="34099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5686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2</a:t>
              </a:r>
              <a:endParaRPr b="0" lang="en-US" sz="1800" spc="-1" strike="noStrike">
                <a:solidFill>
                  <a:srgbClr val="ffffff"/>
                </a:solidFill>
                <a:latin typeface="Times New Roman"/>
              </a:endParaRPr>
            </a:p>
          </p:txBody>
        </p:sp>
        <p:sp>
          <p:nvSpPr>
            <p:cNvPr id="434" name=""/>
            <p:cNvSpPr/>
            <p:nvPr/>
          </p:nvSpPr>
          <p:spPr>
            <a:xfrm>
              <a:off x="556884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5" name=""/>
            <p:cNvSpPr/>
            <p:nvPr/>
          </p:nvSpPr>
          <p:spPr>
            <a:xfrm>
              <a:off x="577836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6" name=""/>
            <p:cNvSpPr/>
            <p:nvPr/>
          </p:nvSpPr>
          <p:spPr>
            <a:xfrm>
              <a:off x="598968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7" name=""/>
            <p:cNvSpPr/>
            <p:nvPr/>
          </p:nvSpPr>
          <p:spPr>
            <a:xfrm>
              <a:off x="180324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93996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97776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6380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41" name=""/>
            <p:cNvSpPr/>
            <p:nvPr/>
          </p:nvSpPr>
          <p:spPr>
            <a:xfrm>
              <a:off x="7239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4628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21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44" name=""/>
            <p:cNvSpPr/>
            <p:nvPr/>
          </p:nvSpPr>
          <p:spPr>
            <a:xfrm>
              <a:off x="16225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45" name=""/>
            <p:cNvSpPr/>
            <p:nvPr/>
          </p:nvSpPr>
          <p:spPr>
            <a:xfrm>
              <a:off x="18543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7632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844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23840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152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289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327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13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53" name=""/>
            <p:cNvSpPr/>
            <p:nvPr/>
          </p:nvSpPr>
          <p:spPr>
            <a:xfrm>
              <a:off x="30733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0956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8414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56" name=""/>
            <p:cNvSpPr/>
            <p:nvPr/>
          </p:nvSpPr>
          <p:spPr>
            <a:xfrm>
              <a:off x="397188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57" name=""/>
            <p:cNvSpPr/>
            <p:nvPr/>
          </p:nvSpPr>
          <p:spPr>
            <a:xfrm>
              <a:off x="420372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226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18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587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365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502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540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626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65" name=""/>
            <p:cNvSpPr/>
            <p:nvPr/>
          </p:nvSpPr>
          <p:spPr>
            <a:xfrm>
              <a:off x="628668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0864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05484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68" name=""/>
            <p:cNvSpPr/>
            <p:nvPr/>
          </p:nvSpPr>
          <p:spPr>
            <a:xfrm>
              <a:off x="71848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69" name=""/>
            <p:cNvSpPr/>
            <p:nvPr/>
          </p:nvSpPr>
          <p:spPr>
            <a:xfrm>
              <a:off x="74167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439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931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00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6103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690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n</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taneous Heterogeneity</a:t>
            </a:r>
            <a:endParaRPr b="0" lang="en-US" sz="3600" spc="-1" strike="noStrike">
              <a:solidFill>
                <a:srgbClr val="ffffff"/>
              </a:solidFill>
              <a:latin typeface="Century Schoolbook"/>
            </a:endParaRPr>
          </a:p>
        </p:txBody>
      </p:sp>
      <p:sp>
        <p:nvSpPr>
          <p:cNvPr id="476" name="PlaceHolder 2"/>
          <p:cNvSpPr>
            <a:spLocks noGrp="1"/>
          </p:cNvSpPr>
          <p:nvPr>
            <p:ph/>
          </p:nvPr>
        </p:nvSpPr>
        <p:spPr>
          <a:xfrm>
            <a:off x="901800" y="1741320"/>
            <a:ext cx="7300800" cy="13701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due to style overla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simultaneously used laye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 and object-based styles.</a:t>
            </a:r>
            <a:endParaRPr b="1" lang="en-US" sz="2400" spc="-1" strike="noStrike">
              <a:solidFill>
                <a:srgbClr val="ffffff"/>
              </a:solidFill>
              <a:latin typeface="Arial"/>
            </a:endParaRPr>
          </a:p>
        </p:txBody>
      </p:sp>
      <p:grpSp>
        <p:nvGrpSpPr>
          <p:cNvPr id="477" name=""/>
          <p:cNvGrpSpPr/>
          <p:nvPr/>
        </p:nvGrpSpPr>
        <p:grpSpPr>
          <a:xfrm>
            <a:off x="2130480" y="3141720"/>
            <a:ext cx="4873680" cy="3309840"/>
            <a:chOff x="2130480" y="3141720"/>
            <a:chExt cx="4873680" cy="3309840"/>
          </a:xfrm>
        </p:grpSpPr>
        <p:sp>
          <p:nvSpPr>
            <p:cNvPr id="478" name=""/>
            <p:cNvSpPr/>
            <p:nvPr/>
          </p:nvSpPr>
          <p:spPr>
            <a:xfrm>
              <a:off x="372384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2</a:t>
              </a:r>
              <a:endParaRPr b="0" lang="en-US" sz="1200" spc="-1" strike="noStrike">
                <a:solidFill>
                  <a:srgbClr val="ffffff"/>
                </a:solidFill>
                <a:latin typeface="Times New Roman"/>
              </a:endParaRPr>
            </a:p>
          </p:txBody>
        </p:sp>
        <p:sp>
          <p:nvSpPr>
            <p:cNvPr id="479" name=""/>
            <p:cNvSpPr/>
            <p:nvPr/>
          </p:nvSpPr>
          <p:spPr>
            <a:xfrm>
              <a:off x="3616560" y="3660840"/>
              <a:ext cx="12430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Shared</a:t>
              </a:r>
              <a:r>
                <a:rPr b="0" lang="en-US" sz="1200" spc="-1" strike="noStrike">
                  <a:solidFill>
                    <a:srgbClr val="cc0000"/>
                  </a:solidFill>
                  <a:latin typeface="Arial"/>
                </a:rPr>
                <a:t> </a:t>
              </a:r>
              <a:r>
                <a:rPr b="0" lang="en-US" sz="1200" spc="-1" strike="noStrike">
                  <a:solidFill>
                    <a:srgbClr val="ffff00"/>
                  </a:solidFill>
                  <a:latin typeface="Arial"/>
                </a:rPr>
                <a:t>services</a:t>
              </a:r>
              <a:endParaRPr b="0" lang="en-US" sz="1200" spc="-1" strike="noStrike">
                <a:solidFill>
                  <a:srgbClr val="ffffff"/>
                </a:solidFill>
                <a:latin typeface="Times New Roman"/>
              </a:endParaRPr>
            </a:p>
          </p:txBody>
        </p:sp>
        <p:sp>
          <p:nvSpPr>
            <p:cNvPr id="480" name=""/>
            <p:cNvSpPr/>
            <p:nvPr/>
          </p:nvSpPr>
          <p:spPr>
            <a:xfrm>
              <a:off x="6163200" y="4268880"/>
              <a:ext cx="75024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Software</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utilities</a:t>
              </a:r>
              <a:endParaRPr b="0" lang="en-US" sz="1200" spc="-1" strike="noStrike">
                <a:solidFill>
                  <a:srgbClr val="ffffff"/>
                </a:solidFill>
                <a:latin typeface="Times New Roman"/>
              </a:endParaRPr>
            </a:p>
          </p:txBody>
        </p:sp>
        <p:grpSp>
          <p:nvGrpSpPr>
            <p:cNvPr id="481" name=""/>
            <p:cNvGrpSpPr/>
            <p:nvPr/>
          </p:nvGrpSpPr>
          <p:grpSpPr>
            <a:xfrm>
              <a:off x="5727600" y="3905280"/>
              <a:ext cx="362160" cy="1270080"/>
              <a:chOff x="5727600" y="3905280"/>
              <a:chExt cx="362160" cy="1270080"/>
            </a:xfrm>
          </p:grpSpPr>
          <p:sp>
            <p:nvSpPr>
              <p:cNvPr id="482" name=""/>
              <p:cNvSpPr/>
              <p:nvPr/>
            </p:nvSpPr>
            <p:spPr>
              <a:xfrm>
                <a:off x="5727600" y="3905280"/>
                <a:ext cx="362160" cy="1270080"/>
              </a:xfrm>
              <a:custGeom>
                <a:avLst/>
                <a:gdLst>
                  <a:gd name="textAreaLeft" fmla="*/ 12960 w 362160"/>
                  <a:gd name="textAreaRight" fmla="*/ 349200 w 362160"/>
                  <a:gd name="textAreaTop" fmla="*/ 12960 h 1270080"/>
                  <a:gd name="textAreaBottom" fmla="*/ 1257120 h 1270080"/>
                </a:gdLst>
                <a:ahLst/>
                <a:rect l="textAreaLeft" t="textAreaTop" r="textAreaRight" b="textAreaBottom"/>
                <a:pathLst>
                  <a:path w="21600" h="75697">
                    <a:moveTo>
                      <a:pt x="2699" y="0"/>
                    </a:moveTo>
                    <a:arcTo wR="2699" hR="2699" stAng="16200000" swAng="-5400000"/>
                    <a:lnTo>
                      <a:pt x="0" y="72998"/>
                    </a:lnTo>
                    <a:arcTo wR="2699" hR="2699" stAng="10800000" swAng="-5400000"/>
                    <a:lnTo>
                      <a:pt x="18901" y="75697"/>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43440" y="3924360"/>
                <a:ext cx="325440" cy="1238040"/>
              </a:xfrm>
              <a:custGeom>
                <a:avLst/>
                <a:gdLst>
                  <a:gd name="textAreaLeft" fmla="*/ 11880 w 325440"/>
                  <a:gd name="textAreaRight" fmla="*/ 313560 w 325440"/>
                  <a:gd name="textAreaTop" fmla="*/ 11880 h 1238040"/>
                  <a:gd name="textAreaBottom" fmla="*/ 1226160 h 1238040"/>
                </a:gdLst>
                <a:ahLst/>
                <a:rect l="textAreaLeft" t="textAreaTop" r="textAreaRight" b="textAreaBottom"/>
                <a:pathLst>
                  <a:path w="21600" h="82104">
                    <a:moveTo>
                      <a:pt x="2699" y="0"/>
                    </a:moveTo>
                    <a:arcTo wR="2699" hR="2699" stAng="16200000" swAng="-5400000"/>
                    <a:lnTo>
                      <a:pt x="0" y="79405"/>
                    </a:lnTo>
                    <a:arcTo wR="2699" hR="2699" stAng="10800000" swAng="-5400000"/>
                    <a:lnTo>
                      <a:pt x="18901" y="8210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4" name=""/>
            <p:cNvGrpSpPr/>
            <p:nvPr/>
          </p:nvGrpSpPr>
          <p:grpSpPr>
            <a:xfrm>
              <a:off x="5149800" y="4241880"/>
              <a:ext cx="584280" cy="12600"/>
              <a:chOff x="5149800" y="4241880"/>
              <a:chExt cx="584280" cy="12600"/>
            </a:xfrm>
          </p:grpSpPr>
          <p:sp>
            <p:nvSpPr>
              <p:cNvPr id="485" name=""/>
              <p:cNvSpPr/>
              <p:nvPr/>
            </p:nvSpPr>
            <p:spPr>
              <a:xfrm>
                <a:off x="5149800" y="4254480"/>
                <a:ext cx="584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6400" y="4241880"/>
                <a:ext cx="45108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5121360" y="3772080"/>
              <a:ext cx="955440" cy="6120"/>
              <a:chOff x="5121360" y="3772080"/>
              <a:chExt cx="955440" cy="6120"/>
            </a:xfrm>
          </p:grpSpPr>
          <p:sp>
            <p:nvSpPr>
              <p:cNvPr id="488" name=""/>
              <p:cNvSpPr/>
              <p:nvPr/>
            </p:nvSpPr>
            <p:spPr>
              <a:xfrm>
                <a:off x="5121360" y="3778200"/>
                <a:ext cx="9554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230800" y="3772080"/>
                <a:ext cx="73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0" name=""/>
            <p:cNvGrpSpPr/>
            <p:nvPr/>
          </p:nvGrpSpPr>
          <p:grpSpPr>
            <a:xfrm>
              <a:off x="4014720" y="4255920"/>
              <a:ext cx="422280" cy="5040"/>
              <a:chOff x="4014720" y="4255920"/>
              <a:chExt cx="422280" cy="5040"/>
            </a:xfrm>
          </p:grpSpPr>
          <p:sp>
            <p:nvSpPr>
              <p:cNvPr id="491" name=""/>
              <p:cNvSpPr/>
              <p:nvPr/>
            </p:nvSpPr>
            <p:spPr>
              <a:xfrm>
                <a:off x="4014720" y="4260960"/>
                <a:ext cx="422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060800" y="4255920"/>
                <a:ext cx="3301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3" name=""/>
            <p:cNvGrpSpPr/>
            <p:nvPr/>
          </p:nvGrpSpPr>
          <p:grpSpPr>
            <a:xfrm>
              <a:off x="5099040" y="5334120"/>
              <a:ext cx="1003320" cy="14040"/>
              <a:chOff x="5099040" y="5334120"/>
              <a:chExt cx="1003320" cy="14040"/>
            </a:xfrm>
          </p:grpSpPr>
          <p:sp>
            <p:nvSpPr>
              <p:cNvPr id="494" name=""/>
              <p:cNvSpPr/>
              <p:nvPr/>
            </p:nvSpPr>
            <p:spPr>
              <a:xfrm>
                <a:off x="5099040" y="5348160"/>
                <a:ext cx="100332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214960" y="5334120"/>
                <a:ext cx="77472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6" name=""/>
            <p:cNvGrpSpPr/>
            <p:nvPr/>
          </p:nvGrpSpPr>
          <p:grpSpPr>
            <a:xfrm>
              <a:off x="6080040" y="3368520"/>
              <a:ext cx="19080" cy="298440"/>
              <a:chOff x="6080040" y="3368520"/>
              <a:chExt cx="19080" cy="298440"/>
            </a:xfrm>
          </p:grpSpPr>
          <p:sp>
            <p:nvSpPr>
              <p:cNvPr id="497" name=""/>
              <p:cNvSpPr/>
              <p:nvPr/>
            </p:nvSpPr>
            <p:spPr>
              <a:xfrm>
                <a:off x="6099120" y="3392640"/>
                <a:ext cx="0" cy="27432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080040" y="336852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9" name=""/>
            <p:cNvGrpSpPr/>
            <p:nvPr/>
          </p:nvGrpSpPr>
          <p:grpSpPr>
            <a:xfrm>
              <a:off x="4356000" y="3362400"/>
              <a:ext cx="19080" cy="299880"/>
              <a:chOff x="4356000" y="3362400"/>
              <a:chExt cx="19080" cy="299880"/>
            </a:xfrm>
          </p:grpSpPr>
          <p:sp>
            <p:nvSpPr>
              <p:cNvPr id="500" name=""/>
              <p:cNvSpPr/>
              <p:nvPr/>
            </p:nvSpPr>
            <p:spPr>
              <a:xfrm>
                <a:off x="4375080" y="338760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356000" y="336240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2573280" y="3857760"/>
              <a:ext cx="19080" cy="299880"/>
              <a:chOff x="2573280" y="3857760"/>
              <a:chExt cx="19080" cy="299880"/>
            </a:xfrm>
          </p:grpSpPr>
          <p:sp>
            <p:nvSpPr>
              <p:cNvPr id="503" name=""/>
              <p:cNvSpPr/>
              <p:nvPr/>
            </p:nvSpPr>
            <p:spPr>
              <a:xfrm>
                <a:off x="2592360" y="38829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73280" y="385776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3689280" y="3936960"/>
              <a:ext cx="12600" cy="206280"/>
              <a:chOff x="3689280" y="3936960"/>
              <a:chExt cx="12600" cy="206280"/>
            </a:xfrm>
          </p:grpSpPr>
          <p:sp>
            <p:nvSpPr>
              <p:cNvPr id="506" name=""/>
              <p:cNvSpPr/>
              <p:nvPr/>
            </p:nvSpPr>
            <p:spPr>
              <a:xfrm>
                <a:off x="3701880" y="3954600"/>
                <a:ext cx="0" cy="18864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689280" y="393696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8" name=""/>
            <p:cNvGrpSpPr/>
            <p:nvPr/>
          </p:nvGrpSpPr>
          <p:grpSpPr>
            <a:xfrm>
              <a:off x="2906640" y="4224240"/>
              <a:ext cx="466920" cy="12960"/>
              <a:chOff x="2906640" y="4224240"/>
              <a:chExt cx="466920" cy="12960"/>
            </a:xfrm>
          </p:grpSpPr>
          <p:sp>
            <p:nvSpPr>
              <p:cNvPr id="509" name=""/>
              <p:cNvSpPr/>
              <p:nvPr/>
            </p:nvSpPr>
            <p:spPr>
              <a:xfrm>
                <a:off x="2906640" y="4237200"/>
                <a:ext cx="4669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959200" y="4224240"/>
                <a:ext cx="360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5068800" y="5791320"/>
              <a:ext cx="1040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5141880" y="5776920"/>
              <a:ext cx="897120" cy="1440"/>
            </a:xfrm>
            <a:prstGeom prst="line">
              <a:avLst/>
            </a:prstGeom>
            <a:ln w="12600">
              <a:solidFill>
                <a:srgbClr val="0099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3" name=""/>
            <p:cNvGrpSpPr/>
            <p:nvPr/>
          </p:nvGrpSpPr>
          <p:grpSpPr>
            <a:xfrm>
              <a:off x="2903400" y="4510080"/>
              <a:ext cx="2792520" cy="19080"/>
              <a:chOff x="2903400" y="4510080"/>
              <a:chExt cx="2792520" cy="19080"/>
            </a:xfrm>
          </p:grpSpPr>
          <p:sp>
            <p:nvSpPr>
              <p:cNvPr id="514" name=""/>
              <p:cNvSpPr/>
              <p:nvPr/>
            </p:nvSpPr>
            <p:spPr>
              <a:xfrm>
                <a:off x="2995560" y="4510080"/>
                <a:ext cx="264636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15" name=""/>
              <p:cNvSpPr/>
              <p:nvPr/>
            </p:nvSpPr>
            <p:spPr>
              <a:xfrm>
                <a:off x="2903400" y="4529160"/>
                <a:ext cx="27925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6" name=""/>
            <p:cNvSpPr/>
            <p:nvPr/>
          </p:nvSpPr>
          <p:spPr>
            <a:xfrm>
              <a:off x="2978280" y="4708440"/>
              <a:ext cx="13777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903400" y="4721400"/>
              <a:ext cx="153360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029120" y="4867200"/>
              <a:ext cx="1673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108320" y="4857840"/>
              <a:ext cx="15084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577960" y="4987800"/>
              <a:ext cx="0" cy="2271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0040" y="4968720"/>
              <a:ext cx="0" cy="1764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695760" y="4997520"/>
              <a:ext cx="1440" cy="217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684600" y="4983120"/>
              <a:ext cx="0" cy="173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H="1">
              <a:off x="4828680" y="5003640"/>
              <a:ext cx="3240" cy="2048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818240" y="4992840"/>
              <a:ext cx="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6" name=""/>
            <p:cNvGrpSpPr/>
            <p:nvPr/>
          </p:nvGrpSpPr>
          <p:grpSpPr>
            <a:xfrm>
              <a:off x="3692520" y="5530680"/>
              <a:ext cx="12600" cy="142920"/>
              <a:chOff x="3692520" y="5530680"/>
              <a:chExt cx="12600" cy="142920"/>
            </a:xfrm>
          </p:grpSpPr>
          <p:sp>
            <p:nvSpPr>
              <p:cNvPr id="527" name=""/>
              <p:cNvSpPr/>
              <p:nvPr/>
            </p:nvSpPr>
            <p:spPr>
              <a:xfrm>
                <a:off x="3705120" y="5530680"/>
                <a:ext cx="0" cy="14292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692520" y="5533920"/>
                <a:ext cx="1440" cy="1047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9" name=""/>
            <p:cNvGrpSpPr/>
            <p:nvPr/>
          </p:nvGrpSpPr>
          <p:grpSpPr>
            <a:xfrm>
              <a:off x="6340320" y="5810400"/>
              <a:ext cx="9720" cy="333360"/>
              <a:chOff x="6340320" y="5810400"/>
              <a:chExt cx="9720" cy="333360"/>
            </a:xfrm>
          </p:grpSpPr>
          <p:sp>
            <p:nvSpPr>
              <p:cNvPr id="530" name=""/>
              <p:cNvSpPr/>
              <p:nvPr/>
            </p:nvSpPr>
            <p:spPr>
              <a:xfrm>
                <a:off x="6350040" y="5810400"/>
                <a:ext cx="0" cy="3333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340320" y="5816520"/>
                <a:ext cx="0" cy="2462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28924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736800" y="3166920"/>
              <a:ext cx="125748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1352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27628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1</a:t>
              </a:r>
              <a:endParaRPr b="0" lang="en-US" sz="1200" spc="-1" strike="noStrike">
                <a:solidFill>
                  <a:srgbClr val="ffffff"/>
                </a:solidFill>
                <a:latin typeface="Times New Roman"/>
              </a:endParaRPr>
            </a:p>
          </p:txBody>
        </p:sp>
        <p:sp>
          <p:nvSpPr>
            <p:cNvPr id="536" name=""/>
            <p:cNvSpPr/>
            <p:nvPr/>
          </p:nvSpPr>
          <p:spPr>
            <a:xfrm>
              <a:off x="520020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n</a:t>
              </a:r>
              <a:endParaRPr b="0" lang="en-US" sz="1200" spc="-1" strike="noStrike">
                <a:solidFill>
                  <a:srgbClr val="ffffff"/>
                </a:solidFill>
                <a:latin typeface="Times New Roman"/>
              </a:endParaRPr>
            </a:p>
          </p:txBody>
        </p:sp>
        <p:grpSp>
          <p:nvGrpSpPr>
            <p:cNvPr id="537" name=""/>
            <p:cNvGrpSpPr/>
            <p:nvPr/>
          </p:nvGrpSpPr>
          <p:grpSpPr>
            <a:xfrm>
              <a:off x="3352680" y="3375000"/>
              <a:ext cx="19080" cy="300240"/>
              <a:chOff x="3352680" y="3375000"/>
              <a:chExt cx="19080" cy="300240"/>
            </a:xfrm>
          </p:grpSpPr>
          <p:sp>
            <p:nvSpPr>
              <p:cNvPr id="538" name=""/>
              <p:cNvSpPr/>
              <p:nvPr/>
            </p:nvSpPr>
            <p:spPr>
              <a:xfrm>
                <a:off x="3371760" y="34005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352680" y="337500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3130560" y="3632040"/>
              <a:ext cx="2000160" cy="3175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1" name=""/>
            <p:cNvGrpSpPr/>
            <p:nvPr/>
          </p:nvGrpSpPr>
          <p:grpSpPr>
            <a:xfrm>
              <a:off x="4768920" y="3943440"/>
              <a:ext cx="12600" cy="206280"/>
              <a:chOff x="4768920" y="3943440"/>
              <a:chExt cx="12600" cy="206280"/>
            </a:xfrm>
          </p:grpSpPr>
          <p:sp>
            <p:nvSpPr>
              <p:cNvPr id="542" name=""/>
              <p:cNvSpPr/>
              <p:nvPr/>
            </p:nvSpPr>
            <p:spPr>
              <a:xfrm>
                <a:off x="4781520" y="3960720"/>
                <a:ext cx="0" cy="1890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768920" y="394344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4" name=""/>
            <p:cNvSpPr/>
            <p:nvPr/>
          </p:nvSpPr>
          <p:spPr>
            <a:xfrm>
              <a:off x="2306520" y="3675240"/>
              <a:ext cx="855720" cy="19980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343240" y="3699000"/>
              <a:ext cx="788760" cy="15228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6" name=""/>
            <p:cNvGrpSpPr/>
            <p:nvPr/>
          </p:nvGrpSpPr>
          <p:grpSpPr>
            <a:xfrm>
              <a:off x="2286000" y="5207040"/>
              <a:ext cx="2824200" cy="317520"/>
              <a:chOff x="2286000" y="5207040"/>
              <a:chExt cx="2824200" cy="317520"/>
            </a:xfrm>
          </p:grpSpPr>
          <p:sp>
            <p:nvSpPr>
              <p:cNvPr id="547" name=""/>
              <p:cNvSpPr/>
              <p:nvPr/>
            </p:nvSpPr>
            <p:spPr>
              <a:xfrm>
                <a:off x="3450600" y="5238720"/>
                <a:ext cx="13186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Device interfaces</a:t>
                </a:r>
                <a:endParaRPr b="0" lang="en-US" sz="1200" spc="-1" strike="noStrike">
                  <a:solidFill>
                    <a:srgbClr val="ffffff"/>
                  </a:solidFill>
                  <a:latin typeface="Times New Roman"/>
                </a:endParaRPr>
              </a:p>
            </p:txBody>
          </p:sp>
          <p:sp>
            <p:nvSpPr>
              <p:cNvPr id="548" name=""/>
              <p:cNvSpPr/>
              <p:nvPr/>
            </p:nvSpPr>
            <p:spPr>
              <a:xfrm>
                <a:off x="3110040" y="5207040"/>
                <a:ext cx="2000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286000" y="5249880"/>
                <a:ext cx="85572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322360" y="5273640"/>
                <a:ext cx="789120" cy="15228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1" name=""/>
            <p:cNvGrpSpPr/>
            <p:nvPr/>
          </p:nvGrpSpPr>
          <p:grpSpPr>
            <a:xfrm>
              <a:off x="2286000" y="6134040"/>
              <a:ext cx="4210200" cy="317520"/>
              <a:chOff x="2286000" y="6134040"/>
              <a:chExt cx="4210200" cy="317520"/>
            </a:xfrm>
          </p:grpSpPr>
          <p:sp>
            <p:nvSpPr>
              <p:cNvPr id="552" name=""/>
              <p:cNvSpPr/>
              <p:nvPr/>
            </p:nvSpPr>
            <p:spPr>
              <a:xfrm>
                <a:off x="4065840" y="6165720"/>
                <a:ext cx="1474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Extended computer</a:t>
                </a:r>
                <a:endParaRPr b="0" lang="en-US" sz="1200" spc="-1" strike="noStrike">
                  <a:solidFill>
                    <a:srgbClr val="ffffff"/>
                  </a:solidFill>
                  <a:latin typeface="Times New Roman"/>
                </a:endParaRPr>
              </a:p>
            </p:txBody>
          </p:sp>
          <p:sp>
            <p:nvSpPr>
              <p:cNvPr id="553" name=""/>
              <p:cNvSpPr/>
              <p:nvPr/>
            </p:nvSpPr>
            <p:spPr>
              <a:xfrm>
                <a:off x="3110040" y="6134040"/>
                <a:ext cx="3386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2286000" y="6176880"/>
                <a:ext cx="145404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322360" y="6200640"/>
                <a:ext cx="1341720" cy="15264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286000" y="5689440"/>
              <a:ext cx="2824200" cy="317520"/>
              <a:chOff x="2286000" y="5689440"/>
              <a:chExt cx="2824200" cy="317520"/>
            </a:xfrm>
          </p:grpSpPr>
          <p:sp>
            <p:nvSpPr>
              <p:cNvPr id="557" name=""/>
              <p:cNvSpPr/>
              <p:nvPr/>
            </p:nvSpPr>
            <p:spPr>
              <a:xfrm>
                <a:off x="3288600" y="5721480"/>
                <a:ext cx="164484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Application data types</a:t>
                </a:r>
                <a:endParaRPr b="0" lang="en-US" sz="1200" spc="-1" strike="noStrike">
                  <a:solidFill>
                    <a:srgbClr val="ffffff"/>
                  </a:solidFill>
                  <a:latin typeface="Times New Roman"/>
                </a:endParaRPr>
              </a:p>
            </p:txBody>
          </p:sp>
          <p:sp>
            <p:nvSpPr>
              <p:cNvPr id="558" name=""/>
              <p:cNvSpPr/>
              <p:nvPr/>
            </p:nvSpPr>
            <p:spPr>
              <a:xfrm>
                <a:off x="3110040" y="5689440"/>
                <a:ext cx="2000160" cy="31752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286000" y="5732640"/>
                <a:ext cx="855720" cy="19980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322360" y="5756400"/>
                <a:ext cx="789120" cy="152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1" name=""/>
            <p:cNvGrpSpPr/>
            <p:nvPr/>
          </p:nvGrpSpPr>
          <p:grpSpPr>
            <a:xfrm>
              <a:off x="4054320" y="6006960"/>
              <a:ext cx="12960" cy="185760"/>
              <a:chOff x="4054320" y="6006960"/>
              <a:chExt cx="12960" cy="185760"/>
            </a:xfrm>
          </p:grpSpPr>
          <p:sp>
            <p:nvSpPr>
              <p:cNvPr id="562" name=""/>
              <p:cNvSpPr/>
              <p:nvPr/>
            </p:nvSpPr>
            <p:spPr>
              <a:xfrm>
                <a:off x="4067280" y="6006960"/>
                <a:ext cx="0" cy="1857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054320" y="6010200"/>
                <a:ext cx="180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6070680" y="3643200"/>
              <a:ext cx="933480" cy="2171880"/>
            </a:xfrm>
            <a:custGeom>
              <a:avLst/>
              <a:gdLst>
                <a:gd name="textAreaLeft" fmla="*/ 33840 w 933480"/>
                <a:gd name="textAreaRight" fmla="*/ 899640 w 933480"/>
                <a:gd name="textAreaTop" fmla="*/ 33840 h 2171880"/>
                <a:gd name="textAreaBottom" fmla="*/ 2138040 h 2171880"/>
              </a:gdLst>
              <a:ahLst/>
              <a:rect l="textAreaLeft" t="textAreaTop" r="textAreaRight" b="textAreaBottom"/>
              <a:pathLst>
                <a:path w="21600" h="50245">
                  <a:moveTo>
                    <a:pt x="2699" y="0"/>
                  </a:moveTo>
                  <a:arcTo wR="2699" hR="2699" stAng="16200000" swAng="-5400000"/>
                  <a:lnTo>
                    <a:pt x="0" y="47546"/>
                  </a:lnTo>
                  <a:arcTo wR="2699" hR="2699" stAng="10800000" swAng="-5400000"/>
                  <a:lnTo>
                    <a:pt x="18901" y="50245"/>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4441680" y="4127400"/>
              <a:ext cx="746280" cy="873360"/>
              <a:chOff x="4441680" y="4127400"/>
              <a:chExt cx="746280" cy="873360"/>
            </a:xfrm>
          </p:grpSpPr>
          <p:grpSp>
            <p:nvGrpSpPr>
              <p:cNvPr id="566" name=""/>
              <p:cNvGrpSpPr/>
              <p:nvPr/>
            </p:nvGrpSpPr>
            <p:grpSpPr>
              <a:xfrm>
                <a:off x="4441680" y="4191120"/>
                <a:ext cx="231840" cy="733320"/>
                <a:chOff x="4441680" y="4191120"/>
                <a:chExt cx="231840" cy="733320"/>
              </a:xfrm>
            </p:grpSpPr>
            <p:sp>
              <p:nvSpPr>
                <p:cNvPr id="567" name=""/>
                <p:cNvSpPr/>
                <p:nvPr/>
              </p:nvSpPr>
              <p:spPr>
                <a:xfrm>
                  <a:off x="44416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6076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9" name=""/>
              <p:cNvSpPr/>
              <p:nvPr/>
            </p:nvSpPr>
            <p:spPr>
              <a:xfrm>
                <a:off x="4676400" y="4160880"/>
                <a:ext cx="4852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Filter</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eh.</a:t>
                </a:r>
                <a:endParaRPr b="0" lang="en-US" sz="1200" spc="-1" strike="noStrike">
                  <a:solidFill>
                    <a:srgbClr val="ffffff"/>
                  </a:solidFill>
                  <a:latin typeface="Times New Roman"/>
                </a:endParaRPr>
              </a:p>
            </p:txBody>
          </p:sp>
          <p:sp>
            <p:nvSpPr>
              <p:cNvPr id="570" name=""/>
              <p:cNvSpPr/>
              <p:nvPr/>
            </p:nvSpPr>
            <p:spPr>
              <a:xfrm>
                <a:off x="4667400" y="4127400"/>
                <a:ext cx="520560" cy="873360"/>
              </a:xfrm>
              <a:custGeom>
                <a:avLst/>
                <a:gdLst>
                  <a:gd name="textAreaLeft" fmla="*/ 18720 w 520560"/>
                  <a:gd name="textAreaRight" fmla="*/ 501840 w 520560"/>
                  <a:gd name="textAreaTop" fmla="*/ 18720 h 873360"/>
                  <a:gd name="textAreaBottom" fmla="*/ 854640 h 873360"/>
                </a:gdLst>
                <a:ahLst/>
                <a:rect l="textAreaLeft" t="textAreaTop" r="textAreaRight" b="textAreaBottom"/>
                <a:pathLst>
                  <a:path w="21600" h="36229">
                    <a:moveTo>
                      <a:pt x="2699" y="0"/>
                    </a:moveTo>
                    <a:arcTo wR="2699" hR="2699" stAng="16200000" swAng="-5400000"/>
                    <a:lnTo>
                      <a:pt x="0" y="33530"/>
                    </a:lnTo>
                    <a:arcTo wR="2699" hR="2699" stAng="10800000" swAng="-5400000"/>
                    <a:lnTo>
                      <a:pt x="18901" y="3622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2130480" y="4127400"/>
              <a:ext cx="810720" cy="873360"/>
              <a:chOff x="2130480" y="4127400"/>
              <a:chExt cx="810720" cy="873360"/>
            </a:xfrm>
          </p:grpSpPr>
          <p:grpSp>
            <p:nvGrpSpPr>
              <p:cNvPr id="572" name=""/>
              <p:cNvGrpSpPr/>
              <p:nvPr/>
            </p:nvGrpSpPr>
            <p:grpSpPr>
              <a:xfrm>
                <a:off x="2130480" y="4191120"/>
                <a:ext cx="231840" cy="733320"/>
                <a:chOff x="2130480" y="4191120"/>
                <a:chExt cx="231840" cy="733320"/>
              </a:xfrm>
            </p:grpSpPr>
            <p:sp>
              <p:nvSpPr>
                <p:cNvPr id="573" name=""/>
                <p:cNvSpPr/>
                <p:nvPr/>
              </p:nvSpPr>
              <p:spPr>
                <a:xfrm>
                  <a:off x="21304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9560" y="4214880"/>
                  <a:ext cx="187200" cy="693720"/>
                </a:xfrm>
                <a:custGeom>
                  <a:avLst/>
                  <a:gdLst>
                    <a:gd name="textAreaLeft" fmla="*/ 6840 w 187200"/>
                    <a:gd name="textAreaRight" fmla="*/ 180360 w 187200"/>
                    <a:gd name="textAreaTop" fmla="*/ 6840 h 693720"/>
                    <a:gd name="textAreaBottom" fmla="*/ 686880 h 693720"/>
                  </a:gdLst>
                  <a:ahLst/>
                  <a:rect l="textAreaLeft" t="textAreaTop" r="textAreaRight" b="textAreaBottom"/>
                  <a:pathLst>
                    <a:path w="21600" h="79932">
                      <a:moveTo>
                        <a:pt x="2699" y="0"/>
                      </a:moveTo>
                      <a:arcTo wR="2699" hR="2699" stAng="16200000" swAng="-5400000"/>
                      <a:lnTo>
                        <a:pt x="0" y="77233"/>
                      </a:lnTo>
                      <a:arcTo wR="2699" hR="2699" stAng="10800000" swAng="-5400000"/>
                      <a:lnTo>
                        <a:pt x="18901" y="79932"/>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2326320" y="4160880"/>
                <a:ext cx="6148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Data</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anker</a:t>
                </a:r>
                <a:endParaRPr b="0" lang="en-US" sz="1200" spc="-1" strike="noStrike">
                  <a:solidFill>
                    <a:srgbClr val="ffffff"/>
                  </a:solidFill>
                  <a:latin typeface="Times New Roman"/>
                </a:endParaRPr>
              </a:p>
            </p:txBody>
          </p:sp>
          <p:sp>
            <p:nvSpPr>
              <p:cNvPr id="576" name=""/>
              <p:cNvSpPr/>
              <p:nvPr/>
            </p:nvSpPr>
            <p:spPr>
              <a:xfrm>
                <a:off x="235584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3336840" y="4127400"/>
              <a:ext cx="825480" cy="873360"/>
              <a:chOff x="3336840" y="4127400"/>
              <a:chExt cx="825480" cy="873360"/>
            </a:xfrm>
          </p:grpSpPr>
          <p:grpSp>
            <p:nvGrpSpPr>
              <p:cNvPr id="578" name=""/>
              <p:cNvGrpSpPr/>
              <p:nvPr/>
            </p:nvGrpSpPr>
            <p:grpSpPr>
              <a:xfrm>
                <a:off x="3336840" y="4191120"/>
                <a:ext cx="231840" cy="733320"/>
                <a:chOff x="3336840" y="4191120"/>
                <a:chExt cx="231840" cy="733320"/>
              </a:xfrm>
            </p:grpSpPr>
            <p:sp>
              <p:nvSpPr>
                <p:cNvPr id="579" name=""/>
                <p:cNvSpPr/>
                <p:nvPr/>
              </p:nvSpPr>
              <p:spPr>
                <a:xfrm>
                  <a:off x="333684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35592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3523320" y="4160880"/>
                <a:ext cx="63900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Phys.</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models</a:t>
                </a:r>
                <a:endParaRPr b="0" lang="en-US" sz="1200" spc="-1" strike="noStrike">
                  <a:solidFill>
                    <a:srgbClr val="ffffff"/>
                  </a:solidFill>
                  <a:latin typeface="Times New Roman"/>
                </a:endParaRPr>
              </a:p>
            </p:txBody>
          </p:sp>
          <p:sp>
            <p:nvSpPr>
              <p:cNvPr id="582" name=""/>
              <p:cNvSpPr/>
              <p:nvPr/>
            </p:nvSpPr>
            <p:spPr>
              <a:xfrm>
                <a:off x="356220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erarchical Heterogeneity</a:t>
            </a:r>
            <a:endParaRPr b="0" lang="en-US" sz="3600" spc="-1" strike="noStrike">
              <a:solidFill>
                <a:srgbClr val="ffffff"/>
              </a:solidFill>
              <a:latin typeface="Century Schoolbook"/>
            </a:endParaRPr>
          </a:p>
        </p:txBody>
      </p:sp>
      <p:sp>
        <p:nvSpPr>
          <p:cNvPr id="584" name=""/>
          <p:cNvSpPr/>
          <p:nvPr/>
        </p:nvSpPr>
        <p:spPr>
          <a:xfrm>
            <a:off x="832320" y="1660680"/>
            <a:ext cx="75063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 of one style may itself be realized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style. </a:t>
            </a:r>
            <a:endParaRPr b="0" lang="en-US" sz="2400" spc="-1" strike="noStrike">
              <a:solidFill>
                <a:srgbClr val="ffffff"/>
              </a:solidFill>
              <a:latin typeface="Times New Roman"/>
            </a:endParaRPr>
          </a:p>
        </p:txBody>
      </p:sp>
      <p:grpSp>
        <p:nvGrpSpPr>
          <p:cNvPr id="585" name=""/>
          <p:cNvGrpSpPr/>
          <p:nvPr/>
        </p:nvGrpSpPr>
        <p:grpSpPr>
          <a:xfrm>
            <a:off x="2187720" y="2530440"/>
            <a:ext cx="4762440" cy="4016520"/>
            <a:chOff x="2187720" y="2530440"/>
            <a:chExt cx="4762440" cy="4016520"/>
          </a:xfrm>
        </p:grpSpPr>
        <p:sp>
          <p:nvSpPr>
            <p:cNvPr id="586" name=""/>
            <p:cNvSpPr/>
            <p:nvPr/>
          </p:nvSpPr>
          <p:spPr>
            <a:xfrm>
              <a:off x="2187720" y="2530440"/>
              <a:ext cx="2379600" cy="199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2235240" y="2576520"/>
              <a:ext cx="2293920" cy="190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360520" y="2867040"/>
              <a:ext cx="663840" cy="1525680"/>
            </a:xfrm>
            <a:custGeom>
              <a:avLst/>
              <a:gdLst>
                <a:gd name="textAreaLeft" fmla="*/ 24120 w 663840"/>
                <a:gd name="textAreaRight" fmla="*/ 639720 w 663840"/>
                <a:gd name="textAreaTop" fmla="*/ 24120 h 1525680"/>
                <a:gd name="textAreaBottom" fmla="*/ 1501560 h 1525680"/>
              </a:gdLst>
              <a:ahLst/>
              <a:rect l="textAreaLeft" t="textAreaTop" r="textAreaRight" b="textAreaBottom"/>
              <a:pathLst>
                <a:path w="21600" h="49627">
                  <a:moveTo>
                    <a:pt x="2699" y="0"/>
                  </a:moveTo>
                  <a:arcTo wR="2699" hR="2699" stAng="16200000" swAng="-5400000"/>
                  <a:lnTo>
                    <a:pt x="0" y="46928"/>
                  </a:lnTo>
                  <a:arcTo wR="2699" hR="2699" stAng="10800000" swAng="-5400000"/>
                  <a:lnTo>
                    <a:pt x="18901" y="4962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397240" y="2901960"/>
              <a:ext cx="585720" cy="1460520"/>
            </a:xfrm>
            <a:custGeom>
              <a:avLst/>
              <a:gdLst>
                <a:gd name="textAreaLeft" fmla="*/ 21240 w 585720"/>
                <a:gd name="textAreaRight" fmla="*/ 564480 w 585720"/>
                <a:gd name="textAreaTop" fmla="*/ 21240 h 1460520"/>
                <a:gd name="textAreaBottom" fmla="*/ 1439280 h 1460520"/>
              </a:gdLst>
              <a:ahLst/>
              <a:rect l="textAreaLeft" t="textAreaTop" r="textAreaRight" b="textAreaBottom"/>
              <a:pathLst>
                <a:path w="21600" h="53841">
                  <a:moveTo>
                    <a:pt x="2699" y="0"/>
                  </a:moveTo>
                  <a:arcTo wR="2699" hR="2699" stAng="16200000" swAng="-5400000"/>
                  <a:lnTo>
                    <a:pt x="0" y="51142"/>
                  </a:lnTo>
                  <a:arcTo wR="2699" hR="2699" stAng="10800000" swAng="-5400000"/>
                  <a:lnTo>
                    <a:pt x="18901" y="5384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3863880" y="3305160"/>
              <a:ext cx="486000" cy="193680"/>
              <a:chOff x="3863880" y="3305160"/>
              <a:chExt cx="486000" cy="193680"/>
            </a:xfrm>
          </p:grpSpPr>
          <p:sp>
            <p:nvSpPr>
              <p:cNvPr id="591" name=""/>
              <p:cNvSpPr/>
              <p:nvPr/>
            </p:nvSpPr>
            <p:spPr>
              <a:xfrm>
                <a:off x="3863880" y="3305160"/>
                <a:ext cx="48600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92680" y="3340080"/>
                <a:ext cx="42840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3" name=""/>
            <p:cNvGrpSpPr/>
            <p:nvPr/>
          </p:nvGrpSpPr>
          <p:grpSpPr>
            <a:xfrm>
              <a:off x="3854520" y="2857680"/>
              <a:ext cx="485640" cy="193320"/>
              <a:chOff x="3854520" y="2857680"/>
              <a:chExt cx="485640" cy="193320"/>
            </a:xfrm>
          </p:grpSpPr>
          <p:sp>
            <p:nvSpPr>
              <p:cNvPr id="594" name=""/>
              <p:cNvSpPr/>
              <p:nvPr/>
            </p:nvSpPr>
            <p:spPr>
              <a:xfrm>
                <a:off x="3854520" y="2857680"/>
                <a:ext cx="485640" cy="19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882960" y="289260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6" name=""/>
            <p:cNvGrpSpPr/>
            <p:nvPr/>
          </p:nvGrpSpPr>
          <p:grpSpPr>
            <a:xfrm>
              <a:off x="3859200" y="3753000"/>
              <a:ext cx="485640" cy="193680"/>
              <a:chOff x="3859200" y="3753000"/>
              <a:chExt cx="485640" cy="193680"/>
            </a:xfrm>
          </p:grpSpPr>
          <p:sp>
            <p:nvSpPr>
              <p:cNvPr id="597" name=""/>
              <p:cNvSpPr/>
              <p:nvPr/>
            </p:nvSpPr>
            <p:spPr>
              <a:xfrm>
                <a:off x="3859200" y="37530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887640" y="37879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3859200" y="4195800"/>
              <a:ext cx="485640" cy="193680"/>
              <a:chOff x="3859200" y="4195800"/>
              <a:chExt cx="485640" cy="193680"/>
            </a:xfrm>
          </p:grpSpPr>
          <p:sp>
            <p:nvSpPr>
              <p:cNvPr id="600" name=""/>
              <p:cNvSpPr/>
              <p:nvPr/>
            </p:nvSpPr>
            <p:spPr>
              <a:xfrm>
                <a:off x="3859200" y="41958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887640" y="42307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2" name=""/>
            <p:cNvGrpSpPr/>
            <p:nvPr/>
          </p:nvGrpSpPr>
          <p:grpSpPr>
            <a:xfrm>
              <a:off x="3022560" y="2952720"/>
              <a:ext cx="811080" cy="12600"/>
              <a:chOff x="3022560" y="2952720"/>
              <a:chExt cx="811080" cy="12600"/>
            </a:xfrm>
          </p:grpSpPr>
          <p:sp>
            <p:nvSpPr>
              <p:cNvPr id="603" name=""/>
              <p:cNvSpPr/>
              <p:nvPr/>
            </p:nvSpPr>
            <p:spPr>
              <a:xfrm>
                <a:off x="3022560" y="296532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046320" y="2952720"/>
                <a:ext cx="7034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05" name=""/>
            <p:cNvGrpSpPr/>
            <p:nvPr/>
          </p:nvGrpSpPr>
          <p:grpSpPr>
            <a:xfrm>
              <a:off x="3035160" y="3394080"/>
              <a:ext cx="811440" cy="12600"/>
              <a:chOff x="3035160" y="3394080"/>
              <a:chExt cx="811440" cy="12600"/>
            </a:xfrm>
          </p:grpSpPr>
          <p:sp>
            <p:nvSpPr>
              <p:cNvPr id="606" name=""/>
              <p:cNvSpPr/>
              <p:nvPr/>
            </p:nvSpPr>
            <p:spPr>
              <a:xfrm>
                <a:off x="3035160" y="3406680"/>
                <a:ext cx="81144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059280" y="339408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3036960" y="3857760"/>
              <a:ext cx="81108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060720" y="384480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H="1">
              <a:off x="3033360" y="428616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H="1">
              <a:off x="3117600" y="427356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275560" y="2554200"/>
              <a:ext cx="220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level style: event system</a:t>
              </a:r>
              <a:endParaRPr b="0" lang="en-US" sz="1200" spc="-1" strike="noStrike">
                <a:solidFill>
                  <a:srgbClr val="ffffff"/>
                </a:solidFill>
                <a:latin typeface="Times New Roman"/>
              </a:endParaRPr>
            </a:p>
          </p:txBody>
        </p:sp>
        <p:sp>
          <p:nvSpPr>
            <p:cNvPr id="613" name=""/>
            <p:cNvSpPr/>
            <p:nvPr/>
          </p:nvSpPr>
          <p:spPr>
            <a:xfrm>
              <a:off x="3852720" y="4200480"/>
              <a:ext cx="325440" cy="77796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63880" y="4394160"/>
              <a:ext cx="187560" cy="194328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4346640" y="4378320"/>
              <a:ext cx="885600" cy="58752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4351320" y="4211640"/>
              <a:ext cx="2494080" cy="74124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554360" y="5006880"/>
              <a:ext cx="1919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ponent style: layered</a:t>
              </a:r>
              <a:endParaRPr b="0" lang="en-US" sz="1200" spc="-1" strike="noStrike">
                <a:solidFill>
                  <a:srgbClr val="ffffff"/>
                </a:solidFill>
                <a:latin typeface="Times New Roman"/>
              </a:endParaRPr>
            </a:p>
          </p:txBody>
        </p:sp>
        <p:sp>
          <p:nvSpPr>
            <p:cNvPr id="618" name=""/>
            <p:cNvSpPr/>
            <p:nvPr/>
          </p:nvSpPr>
          <p:spPr>
            <a:xfrm>
              <a:off x="4076640" y="4971960"/>
              <a:ext cx="2873520" cy="1575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116240" y="5024520"/>
              <a:ext cx="2791080" cy="147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5357880" y="5297400"/>
              <a:ext cx="307800" cy="1116000"/>
              <a:chOff x="5357880" y="5297400"/>
              <a:chExt cx="307800" cy="1116000"/>
            </a:xfrm>
          </p:grpSpPr>
          <p:sp>
            <p:nvSpPr>
              <p:cNvPr id="621" name=""/>
              <p:cNvSpPr/>
              <p:nvPr/>
            </p:nvSpPr>
            <p:spPr>
              <a:xfrm>
                <a:off x="5361120" y="5959440"/>
                <a:ext cx="30132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5383080" y="598644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3" name=""/>
              <p:cNvSpPr/>
              <p:nvPr/>
            </p:nvSpPr>
            <p:spPr>
              <a:xfrm>
                <a:off x="5364000" y="628956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386320" y="631656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5" name=""/>
              <p:cNvSpPr/>
              <p:nvPr/>
            </p:nvSpPr>
            <p:spPr>
              <a:xfrm>
                <a:off x="5357880" y="562752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380200" y="5654520"/>
                <a:ext cx="2584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7" name=""/>
              <p:cNvSpPr/>
              <p:nvPr/>
            </p:nvSpPr>
            <p:spPr>
              <a:xfrm>
                <a:off x="5364000" y="529740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5386320" y="5326200"/>
                <a:ext cx="258840" cy="69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629" name=""/>
              <p:cNvSpPr/>
              <p:nvPr/>
            </p:nvSpPr>
            <p:spPr>
              <a:xfrm>
                <a:off x="5524560" y="541188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5521320" y="57373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514840" y="60721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what is meant by “architectural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several examples of architectural styles and describe the key characteristics of e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how the use of particular architectural styles helps achieve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1</a:t>
            </a:r>
            <a:endParaRPr b="0" lang="en-US" sz="3600" spc="-1" strike="noStrike">
              <a:solidFill>
                <a:srgbClr val="ffffff"/>
              </a:solidFill>
              <a:latin typeface="Century Schoolbook"/>
            </a:endParaRPr>
          </a:p>
        </p:txBody>
      </p:sp>
      <p:sp>
        <p:nvSpPr>
          <p:cNvPr id="633" name="PlaceHolder 2"/>
          <p:cNvSpPr>
            <a:spLocks noGrp="1"/>
          </p:cNvSpPr>
          <p:nvPr>
            <p:ph/>
          </p:nvPr>
        </p:nvSpPr>
        <p:spPr>
          <a:xfrm>
            <a:off x="923760" y="1782720"/>
            <a:ext cx="73440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small historical exam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In-Context (KWIC)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strings, each of which consists of </a:t>
            </a:r>
            <a:br>
              <a:rPr sz="2400"/>
            </a:br>
            <a:r>
              <a:rPr b="1" lang="en-US" sz="2400" spc="-1" strike="noStrike">
                <a:solidFill>
                  <a:srgbClr val="ffffff"/>
                </a:solidFill>
                <a:latin typeface="Arial"/>
              </a:rPr>
              <a:t>several word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 a sorted list of all orderings of each input string.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2</a:t>
            </a:r>
            <a:endParaRPr b="0" lang="en-US" sz="3600" spc="-1" strike="noStrike">
              <a:solidFill>
                <a:srgbClr val="ffffff"/>
              </a:solidFill>
              <a:latin typeface="Century Schoolbook"/>
            </a:endParaRPr>
          </a:p>
        </p:txBody>
      </p:sp>
      <p:sp>
        <p:nvSpPr>
          <p:cNvPr id="63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f KWIC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white clou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autiful pittsburgh i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beautiful pittsburg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clouds a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Used with KWIC</a:t>
            </a:r>
            <a:endParaRPr b="0" lang="en-US" sz="3600" spc="-1" strike="noStrike">
              <a:solidFill>
                <a:srgbClr val="ffffff"/>
              </a:solidFill>
              <a:latin typeface="Century Schoolbook"/>
            </a:endParaRPr>
          </a:p>
        </p:txBody>
      </p:sp>
      <p:sp>
        <p:nvSpPr>
          <p:cNvPr id="637" name="PlaceHolder 2"/>
          <p:cNvSpPr>
            <a:spLocks noGrp="1"/>
          </p:cNvSpPr>
          <p:nvPr>
            <p:ph/>
          </p:nvPr>
        </p:nvSpPr>
        <p:spPr>
          <a:xfrm>
            <a:off x="88740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WIC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data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it inv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and-filter</a:t>
            </a:r>
            <a:endParaRPr b="1" lang="en-US" sz="2400" spc="-1" strike="noStrike">
              <a:solidFill>
                <a:srgbClr val="ffffff"/>
              </a:solidFill>
              <a:latin typeface="Arial"/>
            </a:endParaRPr>
          </a:p>
        </p:txBody>
      </p:sp>
      <p:graphicFrame>
        <p:nvGraphicFramePr>
          <p:cNvPr id="638" name=""/>
          <p:cNvGraphicFramePr/>
          <p:nvPr/>
        </p:nvGraphicFramePr>
        <p:xfrm>
          <a:off x="7918560" y="50760"/>
          <a:ext cx="1158840" cy="1282680"/>
        </p:xfrm>
        <a:graphic>
          <a:graphicData uri="http://schemas.openxmlformats.org/presentationml/2006/ole">
            <p:oleObj r:id="rId1" spid="">
              <p:embed/>
              <p:pic>
                <p:nvPicPr>
                  <p:cNvPr id="63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1</a:t>
            </a:r>
            <a:endParaRPr b="0" lang="en-US" sz="3600" spc="-1" strike="noStrike">
              <a:solidFill>
                <a:srgbClr val="ffffff"/>
              </a:solidFill>
              <a:latin typeface="Century Schoolbook"/>
            </a:endParaRPr>
          </a:p>
        </p:txBody>
      </p:sp>
      <p:sp>
        <p:nvSpPr>
          <p:cNvPr id="641" name=""/>
          <p:cNvSpPr/>
          <p:nvPr/>
        </p:nvSpPr>
        <p:spPr>
          <a:xfrm>
            <a:off x="860400" y="1716120"/>
            <a:ext cx="7394760" cy="3018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orical example: Shared memory style is the way that systems were built for performance reasons until the early 1970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 is not normally used today due to concerns with other qualities.  (Shared memory style does not easily scale up to large architect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2</a:t>
            </a:r>
            <a:endParaRPr b="0" lang="en-US" sz="3600" spc="-1" strike="noStrike">
              <a:solidFill>
                <a:srgbClr val="ffffff"/>
              </a:solidFill>
              <a:latin typeface="Century Schoolbook"/>
            </a:endParaRPr>
          </a:p>
        </p:txBody>
      </p:sp>
      <p:sp>
        <p:nvSpPr>
          <p:cNvPr id="64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 control call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put, which inputs and stores character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ircShift, which reads characters/writ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lphabetize, which alphabetiz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which prints alphabetized index</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modifiability,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30240" y="842760"/>
            <a:ext cx="8010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3</a:t>
            </a:r>
            <a:endParaRPr b="0" lang="en-US" sz="3600" spc="-1" strike="noStrike">
              <a:solidFill>
                <a:srgbClr val="ffffff"/>
              </a:solidFill>
              <a:latin typeface="Century Schoolbook"/>
            </a:endParaRPr>
          </a:p>
        </p:txBody>
      </p:sp>
      <p:sp>
        <p:nvSpPr>
          <p:cNvPr id="645" name=""/>
          <p:cNvSpPr/>
          <p:nvPr/>
        </p:nvSpPr>
        <p:spPr>
          <a:xfrm flipV="1">
            <a:off x="3809880" y="3784320"/>
            <a:ext cx="1498680" cy="6476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31156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2284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389880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5353200" y="272736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4356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1" name=""/>
          <p:cNvGrpSpPr/>
          <p:nvPr/>
        </p:nvGrpSpPr>
        <p:grpSpPr>
          <a:xfrm>
            <a:off x="1095480" y="2292480"/>
            <a:ext cx="6951600" cy="2506320"/>
            <a:chOff x="1095480" y="2292480"/>
            <a:chExt cx="6951600" cy="2506320"/>
          </a:xfrm>
        </p:grpSpPr>
        <p:sp>
          <p:nvSpPr>
            <p:cNvPr id="652" name=""/>
            <p:cNvSpPr/>
            <p:nvPr/>
          </p:nvSpPr>
          <p:spPr>
            <a:xfrm>
              <a:off x="1627200" y="23176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1684440" y="2362320"/>
              <a:ext cx="5771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597840" y="229248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655" name=""/>
            <p:cNvSpPr/>
            <p:nvPr/>
          </p:nvSpPr>
          <p:spPr>
            <a:xfrm>
              <a:off x="161784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7004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1955880" y="339084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658" name=""/>
            <p:cNvSpPr/>
            <p:nvPr/>
          </p:nvSpPr>
          <p:spPr>
            <a:xfrm>
              <a:off x="615960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21180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418440" y="339084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661" name=""/>
            <p:cNvSpPr/>
            <p:nvPr/>
          </p:nvSpPr>
          <p:spPr>
            <a:xfrm>
              <a:off x="7556400" y="358308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1095480" y="359712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4662360" y="3406680"/>
              <a:ext cx="1403640" cy="34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714920" y="346716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695120" y="339408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666" name=""/>
            <p:cNvSpPr/>
            <p:nvPr/>
          </p:nvSpPr>
          <p:spPr>
            <a:xfrm>
              <a:off x="3129120" y="3409920"/>
              <a:ext cx="1403280" cy="338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181320" y="3459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280680" y="338616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grpSp>
          <p:nvGrpSpPr>
            <p:cNvPr id="669" name=""/>
            <p:cNvGrpSpPr/>
            <p:nvPr/>
          </p:nvGrpSpPr>
          <p:grpSpPr>
            <a:xfrm>
              <a:off x="1373040" y="4425840"/>
              <a:ext cx="1982880" cy="372960"/>
              <a:chOff x="1373040" y="4425840"/>
              <a:chExt cx="1982880" cy="372960"/>
            </a:xfrm>
          </p:grpSpPr>
          <p:sp>
            <p:nvSpPr>
              <p:cNvPr id="670" name=""/>
              <p:cNvSpPr/>
              <p:nvPr/>
            </p:nvSpPr>
            <p:spPr>
              <a:xfrm>
                <a:off x="137304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1667160" y="442584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grpSp>
          <p:nvGrpSpPr>
            <p:cNvPr id="672" name=""/>
            <p:cNvGrpSpPr/>
            <p:nvPr/>
          </p:nvGrpSpPr>
          <p:grpSpPr>
            <a:xfrm>
              <a:off x="3495600" y="4425840"/>
              <a:ext cx="1982880" cy="372960"/>
              <a:chOff x="3495600" y="4425840"/>
              <a:chExt cx="1982880" cy="372960"/>
            </a:xfrm>
          </p:grpSpPr>
          <p:sp>
            <p:nvSpPr>
              <p:cNvPr id="673" name=""/>
              <p:cNvSpPr/>
              <p:nvPr/>
            </p:nvSpPr>
            <p:spPr>
              <a:xfrm>
                <a:off x="349560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068720" y="4425840"/>
                <a:ext cx="834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Index</a:t>
                </a:r>
                <a:endParaRPr b="0" lang="en-US" sz="1800" spc="-1" strike="noStrike">
                  <a:solidFill>
                    <a:srgbClr val="ffffff"/>
                  </a:solidFill>
                  <a:latin typeface="Times New Roman"/>
                </a:endParaRPr>
              </a:p>
            </p:txBody>
          </p:sp>
        </p:grpSp>
        <p:grpSp>
          <p:nvGrpSpPr>
            <p:cNvPr id="675" name=""/>
            <p:cNvGrpSpPr/>
            <p:nvPr/>
          </p:nvGrpSpPr>
          <p:grpSpPr>
            <a:xfrm>
              <a:off x="5573520" y="4425840"/>
              <a:ext cx="2202120" cy="372960"/>
              <a:chOff x="5573520" y="4425840"/>
              <a:chExt cx="2202120" cy="372960"/>
            </a:xfrm>
          </p:grpSpPr>
          <p:sp>
            <p:nvSpPr>
              <p:cNvPr id="676" name=""/>
              <p:cNvSpPr/>
              <p:nvPr/>
            </p:nvSpPr>
            <p:spPr>
              <a:xfrm>
                <a:off x="5573520" y="4425840"/>
                <a:ext cx="2202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zed index</a:t>
                </a:r>
                <a:endParaRPr b="0" lang="en-US" sz="1800" spc="-1" strike="noStrike">
                  <a:solidFill>
                    <a:srgbClr val="ffffff"/>
                  </a:solidFill>
                  <a:latin typeface="Times New Roman"/>
                </a:endParaRPr>
              </a:p>
            </p:txBody>
          </p:sp>
          <p:sp>
            <p:nvSpPr>
              <p:cNvPr id="677" name=""/>
              <p:cNvSpPr/>
              <p:nvPr/>
            </p:nvSpPr>
            <p:spPr>
              <a:xfrm>
                <a:off x="5613480" y="4449600"/>
                <a:ext cx="2120760" cy="316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8" name=""/>
            <p:cNvSpPr/>
            <p:nvPr/>
          </p:nvSpPr>
          <p:spPr>
            <a:xfrm>
              <a:off x="2298600" y="2730600"/>
              <a:ext cx="180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3828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6845400" y="273060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92928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2" name=""/>
          <p:cNvSpPr/>
          <p:nvPr/>
        </p:nvSpPr>
        <p:spPr>
          <a:xfrm flipV="1">
            <a:off x="6453360" y="3769920"/>
            <a:ext cx="404640" cy="677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2325600" y="3797280"/>
            <a:ext cx="1014480" cy="650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2336760" y="3809880"/>
            <a:ext cx="2387520" cy="6350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2311560" y="3822840"/>
            <a:ext cx="4000320" cy="622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flipV="1">
            <a:off x="5321160" y="3784320"/>
            <a:ext cx="1144800" cy="6634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765600" y="273384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1</a:t>
            </a:r>
            <a:endParaRPr b="0" lang="en-US" sz="3600" spc="-1" strike="noStrike">
              <a:solidFill>
                <a:srgbClr val="ffffff"/>
              </a:solidFill>
              <a:latin typeface="Century Schoolbook"/>
            </a:endParaRPr>
          </a:p>
        </p:txBody>
      </p:sp>
      <p:sp>
        <p:nvSpPr>
          <p:cNvPr id="689" name=""/>
          <p:cNvSpPr/>
          <p:nvPr/>
        </p:nvSpPr>
        <p:spPr>
          <a:xfrm>
            <a:off x="849240" y="1719360"/>
            <a:ext cx="7824960" cy="3750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ypes are “protected” by access program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ormats are proprietary to each module. Abstract data types hide whether alphabetization is done all at once, or on demand.</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a:t>
            </a:r>
            <a:r>
              <a:rPr b="1" lang="en-US" sz="2400" spc="-1" strike="noStrike">
                <a:solidFill>
                  <a:srgbClr val="ffffff"/>
                </a:solidFill>
                <a:latin typeface="Arial"/>
              </a:rPr>
              <a:t>	</a:t>
            </a:r>
            <a:r>
              <a:rPr b="1" lang="en-US" sz="2400" spc="-1" strike="noStrike">
                <a:solidFill>
                  <a:srgbClr val="ffffff"/>
                </a:solidFill>
                <a:latin typeface="Arial"/>
              </a:rPr>
              <a:t>modifiability to change existing functions or format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performance when accessing d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2</a:t>
            </a:r>
            <a:endParaRPr b="0" lang="en-US" sz="3600" spc="-1" strike="noStrike">
              <a:solidFill>
                <a:srgbClr val="ffffff"/>
              </a:solidFill>
              <a:latin typeface="Century Schoolbook"/>
            </a:endParaRPr>
          </a:p>
        </p:txBody>
      </p:sp>
      <p:sp>
        <p:nvSpPr>
          <p:cNvPr id="691" name=""/>
          <p:cNvSpPr/>
          <p:nvPr/>
        </p:nvSpPr>
        <p:spPr>
          <a:xfrm>
            <a:off x="128268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31760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22976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4" name=""/>
          <p:cNvSpPr/>
          <p:nvPr/>
        </p:nvSpPr>
        <p:spPr>
          <a:xfrm>
            <a:off x="1782000" y="464508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5" name=""/>
          <p:cNvSpPr/>
          <p:nvPr/>
        </p:nvSpPr>
        <p:spPr>
          <a:xfrm>
            <a:off x="2337840" y="465300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696" name=""/>
          <p:cNvSpPr/>
          <p:nvPr/>
        </p:nvSpPr>
        <p:spPr>
          <a:xfrm>
            <a:off x="184464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187956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241128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2446200" y="4440240"/>
            <a:ext cx="400320" cy="701640"/>
          </a:xfrm>
          <a:custGeom>
            <a:avLst/>
            <a:gdLst>
              <a:gd name="textAreaLeft" fmla="*/ 14400 w 400320"/>
              <a:gd name="textAreaRight" fmla="*/ 385920 w 400320"/>
              <a:gd name="textAreaTop" fmla="*/ 14400 h 701640"/>
              <a:gd name="textAreaBottom" fmla="*/ 687240 h 701640"/>
            </a:gdLst>
            <a:ahLst/>
            <a:rect l="textAreaLeft" t="textAreaTop" r="textAreaRight" b="textAreaBottom"/>
            <a:pathLst>
              <a:path w="21600" h="37844">
                <a:moveTo>
                  <a:pt x="2699" y="0"/>
                </a:moveTo>
                <a:arcTo wR="2699" hR="2699" stAng="16200000" swAng="-5400000"/>
                <a:lnTo>
                  <a:pt x="0" y="35145"/>
                </a:lnTo>
                <a:arcTo wR="2699" hR="2699" stAng="10800000" swAng="-5400000"/>
                <a:lnTo>
                  <a:pt x="18901" y="3784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03560" y="439272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40280" y="443556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5208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3" name=""/>
          <p:cNvSpPr/>
          <p:nvPr/>
        </p:nvSpPr>
        <p:spPr>
          <a:xfrm>
            <a:off x="4504680" y="464976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4" name=""/>
          <p:cNvSpPr/>
          <p:nvPr/>
        </p:nvSpPr>
        <p:spPr>
          <a:xfrm>
            <a:off x="456552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224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12280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5159520" y="4440240"/>
            <a:ext cx="398160" cy="701640"/>
          </a:xfrm>
          <a:custGeom>
            <a:avLst/>
            <a:gdLst>
              <a:gd name="textAreaLeft" fmla="*/ 14400 w 398160"/>
              <a:gd name="textAreaRight" fmla="*/ 383760 w 398160"/>
              <a:gd name="textAreaTop" fmla="*/ 14400 h 701640"/>
              <a:gd name="textAreaBottom" fmla="*/ 687240 h 701640"/>
            </a:gdLst>
            <a:ahLst/>
            <a:rect l="textAreaLeft" t="textAreaTop" r="textAreaRight" b="textAreaBottom"/>
            <a:pathLst>
              <a:path w="21600" h="38049">
                <a:moveTo>
                  <a:pt x="2699" y="0"/>
                </a:moveTo>
                <a:arcTo wR="2699" hR="2699" stAng="16200000" swAng="-5400000"/>
                <a:lnTo>
                  <a:pt x="0" y="35350"/>
                </a:lnTo>
                <a:arcTo wR="2699" hR="2699" stAng="10800000" swAng="-5400000"/>
                <a:lnTo>
                  <a:pt x="18901" y="3804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446640" y="43974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48300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357720" y="4635360"/>
            <a:ext cx="677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711" name=""/>
          <p:cNvSpPr/>
          <p:nvPr/>
        </p:nvSpPr>
        <p:spPr>
          <a:xfrm>
            <a:off x="5037840" y="464328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712" name=""/>
          <p:cNvSpPr/>
          <p:nvPr/>
        </p:nvSpPr>
        <p:spPr>
          <a:xfrm>
            <a:off x="6492240" y="4648320"/>
            <a:ext cx="5666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713" name=""/>
          <p:cNvSpPr/>
          <p:nvPr/>
        </p:nvSpPr>
        <p:spPr>
          <a:xfrm>
            <a:off x="6532560" y="439416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56892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089840" y="439416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12620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7081200" y="464040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nvGrpSpPr>
          <p:cNvPr id="718" name=""/>
          <p:cNvGrpSpPr/>
          <p:nvPr/>
        </p:nvGrpSpPr>
        <p:grpSpPr>
          <a:xfrm>
            <a:off x="1539720" y="1870200"/>
            <a:ext cx="5884920" cy="444960"/>
            <a:chOff x="1539720" y="1870200"/>
            <a:chExt cx="5884920" cy="444960"/>
          </a:xfrm>
        </p:grpSpPr>
        <p:sp>
          <p:nvSpPr>
            <p:cNvPr id="719" name=""/>
            <p:cNvSpPr/>
            <p:nvPr/>
          </p:nvSpPr>
          <p:spPr>
            <a:xfrm>
              <a:off x="1539720" y="1895400"/>
              <a:ext cx="5884920" cy="39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1596960" y="1940040"/>
              <a:ext cx="577080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508920" y="187020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grpSp>
      <p:grpSp>
        <p:nvGrpSpPr>
          <p:cNvPr id="722" name=""/>
          <p:cNvGrpSpPr/>
          <p:nvPr/>
        </p:nvGrpSpPr>
        <p:grpSpPr>
          <a:xfrm>
            <a:off x="1517760" y="2567160"/>
            <a:ext cx="1404720" cy="414360"/>
            <a:chOff x="1517760" y="2567160"/>
            <a:chExt cx="1404720" cy="414360"/>
          </a:xfrm>
        </p:grpSpPr>
        <p:sp>
          <p:nvSpPr>
            <p:cNvPr id="723" name=""/>
            <p:cNvSpPr/>
            <p:nvPr/>
          </p:nvSpPr>
          <p:spPr>
            <a:xfrm>
              <a:off x="1517760" y="2604960"/>
              <a:ext cx="140472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1569960" y="265428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27000" y="2567160"/>
              <a:ext cx="7848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grpSp>
      <p:grpSp>
        <p:nvGrpSpPr>
          <p:cNvPr id="726" name=""/>
          <p:cNvGrpSpPr/>
          <p:nvPr/>
        </p:nvGrpSpPr>
        <p:grpSpPr>
          <a:xfrm>
            <a:off x="6059520" y="2567160"/>
            <a:ext cx="1403280" cy="414360"/>
            <a:chOff x="6059520" y="2567160"/>
            <a:chExt cx="1403280" cy="414360"/>
          </a:xfrm>
        </p:grpSpPr>
        <p:sp>
          <p:nvSpPr>
            <p:cNvPr id="727" name=""/>
            <p:cNvSpPr/>
            <p:nvPr/>
          </p:nvSpPr>
          <p:spPr>
            <a:xfrm>
              <a:off x="6059520" y="260496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111720" y="265428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6279840" y="2567160"/>
              <a:ext cx="9630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grpSp>
      <p:grpSp>
        <p:nvGrpSpPr>
          <p:cNvPr id="730" name=""/>
          <p:cNvGrpSpPr/>
          <p:nvPr/>
        </p:nvGrpSpPr>
        <p:grpSpPr>
          <a:xfrm>
            <a:off x="1106640" y="5630760"/>
            <a:ext cx="1982520" cy="372960"/>
            <a:chOff x="1106640" y="5630760"/>
            <a:chExt cx="1982520" cy="372960"/>
          </a:xfrm>
        </p:grpSpPr>
        <p:sp>
          <p:nvSpPr>
            <p:cNvPr id="731" name=""/>
            <p:cNvSpPr/>
            <p:nvPr/>
          </p:nvSpPr>
          <p:spPr>
            <a:xfrm>
              <a:off x="110664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1400400" y="563076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sp>
        <p:nvSpPr>
          <p:cNvPr id="733" name=""/>
          <p:cNvSpPr/>
          <p:nvPr/>
        </p:nvSpPr>
        <p:spPr>
          <a:xfrm>
            <a:off x="3559320" y="56656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3777120" y="5632560"/>
            <a:ext cx="1545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ircular shift</a:t>
            </a:r>
            <a:endParaRPr b="0" lang="en-US" sz="1800" spc="-1" strike="noStrike">
              <a:solidFill>
                <a:srgbClr val="ffffff"/>
              </a:solidFill>
              <a:latin typeface="Times New Roman"/>
            </a:endParaRPr>
          </a:p>
        </p:txBody>
      </p:sp>
      <p:sp>
        <p:nvSpPr>
          <p:cNvPr id="735" name=""/>
          <p:cNvSpPr/>
          <p:nvPr/>
        </p:nvSpPr>
        <p:spPr>
          <a:xfrm>
            <a:off x="6257880" y="5630760"/>
            <a:ext cx="1824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c shift</a:t>
            </a:r>
            <a:endParaRPr b="0" lang="en-US" sz="1800" spc="-1" strike="noStrike">
              <a:solidFill>
                <a:srgbClr val="ffffff"/>
              </a:solidFill>
              <a:latin typeface="Times New Roman"/>
            </a:endParaRPr>
          </a:p>
        </p:txBody>
      </p:sp>
      <p:sp>
        <p:nvSpPr>
          <p:cNvPr id="736" name=""/>
          <p:cNvSpPr/>
          <p:nvPr/>
        </p:nvSpPr>
        <p:spPr>
          <a:xfrm>
            <a:off x="617868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V="1">
            <a:off x="210168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2647800" y="383076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2201760" y="390204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2744640" y="390672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2203560" y="3897360"/>
            <a:ext cx="101268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42" name=""/>
          <p:cNvSpPr/>
          <p:nvPr/>
        </p:nvSpPr>
        <p:spPr>
          <a:xfrm>
            <a:off x="3230640" y="3895560"/>
            <a:ext cx="0" cy="1897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2098800" y="3828960"/>
            <a:ext cx="10332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3133800" y="3828960"/>
            <a:ext cx="0" cy="9352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30560" y="4761000"/>
            <a:ext cx="3207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230640" y="5805360"/>
            <a:ext cx="3315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1581120" y="2962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1716120" y="2987640"/>
            <a:ext cx="0" cy="1360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V="1">
            <a:off x="474804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5297400" y="384012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853160" y="391176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396040" y="391644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4853160" y="3906720"/>
            <a:ext cx="101124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54" name=""/>
          <p:cNvSpPr/>
          <p:nvPr/>
        </p:nvSpPr>
        <p:spPr>
          <a:xfrm>
            <a:off x="4749840" y="3825720"/>
            <a:ext cx="10335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783400" y="3838680"/>
            <a:ext cx="0" cy="93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781600" y="4781520"/>
            <a:ext cx="7383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864400" y="3897360"/>
            <a:ext cx="0" cy="1881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867280" y="5776920"/>
            <a:ext cx="319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248600" y="2989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H="1">
            <a:off x="7384680" y="2986200"/>
            <a:ext cx="3240" cy="1387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6781680" y="5207040"/>
            <a:ext cx="0" cy="44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7329600" y="521640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4630680" y="2357280"/>
            <a:ext cx="1417680" cy="433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4419720" y="2325600"/>
            <a:ext cx="225396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a:off x="3684600" y="2325600"/>
            <a:ext cx="65088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954160" y="2333520"/>
            <a:ext cx="1301760" cy="424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745488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99540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5364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815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6575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21067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1523880" y="52052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42433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7069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1</a:t>
            </a:r>
            <a:endParaRPr b="0" lang="en-US" sz="3600" spc="-1" strike="noStrike">
              <a:solidFill>
                <a:srgbClr val="ffffff"/>
              </a:solidFill>
              <a:latin typeface="Century Schoolbook"/>
            </a:endParaRPr>
          </a:p>
        </p:txBody>
      </p:sp>
      <p:sp>
        <p:nvSpPr>
          <p:cNvPr id="777" name=""/>
          <p:cNvSpPr/>
          <p:nvPr/>
        </p:nvSpPr>
        <p:spPr>
          <a:xfrm>
            <a:off x="860400" y="1706400"/>
            <a:ext cx="777564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to circular shift and alphabetizer are implicit, and are the result of inserting line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ng a function is easy: register it against the event of interest, and it is automatically called.</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modifiability to add new function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tracking control flow is difficult;</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mplicit invocations will add overhead in tasking if there are many tasks); harder to analyze system for deadlo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2</a:t>
            </a:r>
            <a:endParaRPr b="0" lang="en-US" sz="3600" spc="-1" strike="noStrike">
              <a:solidFill>
                <a:srgbClr val="ffffff"/>
              </a:solidFill>
              <a:latin typeface="Century Schoolbook"/>
            </a:endParaRPr>
          </a:p>
        </p:txBody>
      </p:sp>
      <p:sp>
        <p:nvSpPr>
          <p:cNvPr id="779" name=""/>
          <p:cNvSpPr/>
          <p:nvPr/>
        </p:nvSpPr>
        <p:spPr>
          <a:xfrm>
            <a:off x="230184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23367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1" name=""/>
          <p:cNvGrpSpPr/>
          <p:nvPr/>
        </p:nvGrpSpPr>
        <p:grpSpPr>
          <a:xfrm>
            <a:off x="2208600" y="4684680"/>
            <a:ext cx="1713240" cy="294840"/>
            <a:chOff x="2208600" y="4684680"/>
            <a:chExt cx="1713240" cy="294840"/>
          </a:xfrm>
        </p:grpSpPr>
        <p:sp>
          <p:nvSpPr>
            <p:cNvPr id="782" name=""/>
            <p:cNvSpPr/>
            <p:nvPr/>
          </p:nvSpPr>
          <p:spPr>
            <a:xfrm>
              <a:off x="220860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783" name=""/>
            <p:cNvSpPr/>
            <p:nvPr/>
          </p:nvSpPr>
          <p:spPr>
            <a:xfrm>
              <a:off x="27471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784" name=""/>
            <p:cNvSpPr/>
            <p:nvPr/>
          </p:nvSpPr>
          <p:spPr>
            <a:xfrm>
              <a:off x="34329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785" name=""/>
          <p:cNvSpPr/>
          <p:nvPr/>
        </p:nvSpPr>
        <p:spPr>
          <a:xfrm>
            <a:off x="286380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28987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3430440" y="44388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456000" y="4475160"/>
            <a:ext cx="433440" cy="701640"/>
          </a:xfrm>
          <a:custGeom>
            <a:avLst/>
            <a:gdLst>
              <a:gd name="textAreaLeft" fmla="*/ 15840 w 433440"/>
              <a:gd name="textAreaRight" fmla="*/ 417600 w 433440"/>
              <a:gd name="textAreaTop" fmla="*/ 15840 h 701640"/>
              <a:gd name="textAreaBottom" fmla="*/ 685800 h 701640"/>
            </a:gdLst>
            <a:ahLst/>
            <a:rect l="textAreaLeft" t="textAreaTop" r="textAreaRight" b="textAreaBottom"/>
            <a:pathLst>
              <a:path w="21600" h="34954">
                <a:moveTo>
                  <a:pt x="2699" y="0"/>
                </a:moveTo>
                <a:arcTo wR="2699" hR="2699" stAng="16200000" swAng="-5400000"/>
                <a:lnTo>
                  <a:pt x="0" y="32255"/>
                </a:lnTo>
                <a:arcTo wR="2699" hR="2699" stAng="10800000" swAng="-5400000"/>
                <a:lnTo>
                  <a:pt x="18901" y="3495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639800" y="19432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697040" y="1990800"/>
            <a:ext cx="577224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3610800" y="193824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792" name=""/>
          <p:cNvSpPr/>
          <p:nvPr/>
        </p:nvSpPr>
        <p:spPr>
          <a:xfrm>
            <a:off x="161784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167796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967040" y="262908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795" name=""/>
          <p:cNvSpPr/>
          <p:nvPr/>
        </p:nvSpPr>
        <p:spPr>
          <a:xfrm>
            <a:off x="615960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21972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394680" y="262908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798" name=""/>
          <p:cNvSpPr/>
          <p:nvPr/>
        </p:nvSpPr>
        <p:spPr>
          <a:xfrm>
            <a:off x="2125800" y="56800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2804760" y="5673600"/>
            <a:ext cx="76320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Lines</a:t>
            </a:r>
            <a:endParaRPr b="0" lang="en-US" sz="1600" spc="-1" strike="noStrike">
              <a:solidFill>
                <a:srgbClr val="ffffff"/>
              </a:solidFill>
              <a:latin typeface="Times New Roman"/>
            </a:endParaRPr>
          </a:p>
        </p:txBody>
      </p:sp>
      <p:sp>
        <p:nvSpPr>
          <p:cNvPr id="800" name=""/>
          <p:cNvSpPr/>
          <p:nvPr/>
        </p:nvSpPr>
        <p:spPr>
          <a:xfrm>
            <a:off x="5338800" y="568476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677200" y="5678640"/>
            <a:ext cx="138528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Shifted lines</a:t>
            </a:r>
            <a:endParaRPr b="0" lang="en-US" sz="1600" spc="-1" strike="noStrike">
              <a:solidFill>
                <a:srgbClr val="ffffff"/>
              </a:solidFill>
              <a:latin typeface="Times New Roman"/>
            </a:endParaRPr>
          </a:p>
        </p:txBody>
      </p:sp>
      <p:sp>
        <p:nvSpPr>
          <p:cNvPr id="802" name=""/>
          <p:cNvSpPr/>
          <p:nvPr/>
        </p:nvSpPr>
        <p:spPr>
          <a:xfrm>
            <a:off x="2544840" y="300528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2565360" y="3006720"/>
            <a:ext cx="0" cy="1359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576840" y="304812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6637320" y="3044880"/>
            <a:ext cx="1440" cy="13874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4699080" y="2362320"/>
            <a:ext cx="1450800" cy="4712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H="1">
            <a:off x="3054240" y="2376360"/>
            <a:ext cx="1301760" cy="4240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7556400" y="283536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095480" y="282240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6594480" y="525456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6766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1258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43040" y="5248440"/>
            <a:ext cx="0" cy="4222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022800" y="5254560"/>
            <a:ext cx="0" cy="4208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5486400" y="52736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15000" y="3360600"/>
            <a:ext cx="1403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4873680" y="341460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876200" y="334332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819" name=""/>
          <p:cNvSpPr/>
          <p:nvPr/>
        </p:nvSpPr>
        <p:spPr>
          <a:xfrm>
            <a:off x="2925720" y="337644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984400" y="3432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3115800" y="336060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822" name=""/>
          <p:cNvSpPr/>
          <p:nvPr/>
        </p:nvSpPr>
        <p:spPr>
          <a:xfrm rot="1200000">
            <a:off x="3584520" y="2783880"/>
            <a:ext cx="1982160" cy="1850400"/>
          </a:xfrm>
          <a:custGeom>
            <a:avLst/>
            <a:gdLst/>
            <a:ahLst/>
            <a:rect l="l" t="t" r="r" b="b"/>
            <a:pathLst>
              <a:path stroke="0" w="21600" h="21600">
                <a:moveTo>
                  <a:pt x="0" y="10800"/>
                </a:moveTo>
                <a:arcTo wR="10800" hR="10800" stAng="10800000" swAng="7917429"/>
                <a:lnTo>
                  <a:pt x="10800" y="10800"/>
                </a:lnTo>
                <a:close/>
              </a:path>
              <a:path fill="none" w="21600" h="21600">
                <a:moveTo>
                  <a:pt x="0" y="10800"/>
                </a:moveTo>
                <a:arcTo wR="10800" hR="10800" stAng="10800000" swAng="7917429"/>
              </a:path>
            </a:pathLst>
          </a:custGeom>
          <a:noFill/>
          <a:ln cap="rnd" w="12600">
            <a:solidFill>
              <a:srgbClr val="eaeaea"/>
            </a:solidFill>
            <a:custDash>
              <a:ds d="100000" sp="1000"/>
            </a:custDash>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2629080" y="3744720"/>
            <a:ext cx="879120" cy="649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3684600" y="3738600"/>
            <a:ext cx="0" cy="67932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741840" y="3751200"/>
            <a:ext cx="0" cy="6555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4322880" y="3735360"/>
            <a:ext cx="901440" cy="739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475240" y="3713040"/>
            <a:ext cx="544680" cy="7178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653080" y="3689280"/>
            <a:ext cx="811080" cy="7048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24844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52833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1" name=""/>
          <p:cNvGrpSpPr/>
          <p:nvPr/>
        </p:nvGrpSpPr>
        <p:grpSpPr>
          <a:xfrm>
            <a:off x="5154840" y="4684680"/>
            <a:ext cx="1713600" cy="294840"/>
            <a:chOff x="5154840" y="4684680"/>
            <a:chExt cx="1713600" cy="294840"/>
          </a:xfrm>
        </p:grpSpPr>
        <p:sp>
          <p:nvSpPr>
            <p:cNvPr id="832" name=""/>
            <p:cNvSpPr/>
            <p:nvPr/>
          </p:nvSpPr>
          <p:spPr>
            <a:xfrm>
              <a:off x="515484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833" name=""/>
            <p:cNvSpPr/>
            <p:nvPr/>
          </p:nvSpPr>
          <p:spPr>
            <a:xfrm>
              <a:off x="56937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834" name=""/>
            <p:cNvSpPr/>
            <p:nvPr/>
          </p:nvSpPr>
          <p:spPr>
            <a:xfrm>
              <a:off x="63795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835" name=""/>
          <p:cNvSpPr/>
          <p:nvPr/>
        </p:nvSpPr>
        <p:spPr>
          <a:xfrm>
            <a:off x="581040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8453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6377040" y="44388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411960" y="4478400"/>
            <a:ext cx="417600" cy="701640"/>
          </a:xfrm>
          <a:custGeom>
            <a:avLst/>
            <a:gdLst>
              <a:gd name="textAreaLeft" fmla="*/ 15120 w 417600"/>
              <a:gd name="textAreaRight" fmla="*/ 402480 w 417600"/>
              <a:gd name="textAreaTop" fmla="*/ 15120 h 701640"/>
              <a:gd name="textAreaBottom" fmla="*/ 686520 h 701640"/>
            </a:gdLst>
            <a:ahLst/>
            <a:rect l="textAreaLeft" t="textAreaTop" r="textAreaRight" b="textAreaBottom"/>
            <a:pathLst>
              <a:path w="21600" h="36279">
                <a:moveTo>
                  <a:pt x="2699" y="0"/>
                </a:moveTo>
                <a:arcTo wR="2699" hR="2699" stAng="16200000" swAng="-5400000"/>
                <a:lnTo>
                  <a:pt x="0" y="33580"/>
                </a:lnTo>
                <a:arcTo wR="2699" hR="2699" stAng="10800000" swAng="-5400000"/>
                <a:lnTo>
                  <a:pt x="18901" y="3627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4297320" y="3684600"/>
            <a:ext cx="901800" cy="739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5740560" y="3708360"/>
            <a:ext cx="736560" cy="647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5500800" y="3700440"/>
            <a:ext cx="544320" cy="71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1</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 architectural style is a description of component types and a pattern of their runtime control and/or data transf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found repeatedly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package of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known properties that permit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class of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1</a:t>
            </a:r>
            <a:endParaRPr b="0" lang="en-US" sz="3600" spc="-1" strike="noStrike">
              <a:solidFill>
                <a:srgbClr val="ffffff"/>
              </a:solidFill>
              <a:latin typeface="Century Schoolbook"/>
            </a:endParaRPr>
          </a:p>
        </p:txBody>
      </p:sp>
      <p:sp>
        <p:nvSpPr>
          <p:cNvPr id="8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functions do all the work.</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produce the circular shif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alphabetiz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functions can be reused; they ar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sely coupled.</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this system will likely have poor</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is stored twi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filter is a separate proc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2</a:t>
            </a:r>
            <a:endParaRPr b="0" lang="en-US" sz="3600" spc="-1" strike="noStrike">
              <a:solidFill>
                <a:srgbClr val="ffffff"/>
              </a:solidFill>
              <a:latin typeface="Century Schoolbook"/>
            </a:endParaRPr>
          </a:p>
        </p:txBody>
      </p:sp>
      <p:sp>
        <p:nvSpPr>
          <p:cNvPr id="845" name=""/>
          <p:cNvSpPr/>
          <p:nvPr/>
        </p:nvSpPr>
        <p:spPr>
          <a:xfrm>
            <a:off x="1584360" y="310212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567440" y="317016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Circular shift</a:t>
            </a:r>
            <a:endParaRPr b="0" lang="en-US" sz="2000" spc="-1" strike="noStrike">
              <a:solidFill>
                <a:srgbClr val="ffffff"/>
              </a:solidFill>
              <a:latin typeface="Times New Roman"/>
            </a:endParaRPr>
          </a:p>
        </p:txBody>
      </p:sp>
      <p:sp>
        <p:nvSpPr>
          <p:cNvPr id="847" name=""/>
          <p:cNvSpPr/>
          <p:nvPr/>
        </p:nvSpPr>
        <p:spPr>
          <a:xfrm>
            <a:off x="4386240" y="309240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391640" y="317664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Alphabetizer</a:t>
            </a:r>
            <a:endParaRPr b="0" lang="en-US" sz="2000" spc="-1" strike="noStrike">
              <a:solidFill>
                <a:srgbClr val="ffffff"/>
              </a:solidFill>
              <a:latin typeface="Times New Roman"/>
            </a:endParaRPr>
          </a:p>
        </p:txBody>
      </p:sp>
      <p:sp>
        <p:nvSpPr>
          <p:cNvPr id="849" name=""/>
          <p:cNvSpPr/>
          <p:nvPr/>
        </p:nvSpPr>
        <p:spPr>
          <a:xfrm>
            <a:off x="968400" y="2481120"/>
            <a:ext cx="12038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Input lines</a:t>
            </a:r>
            <a:endParaRPr b="0" lang="en-US" sz="1600" spc="-1" strike="noStrike">
              <a:solidFill>
                <a:srgbClr val="ffffff"/>
              </a:solidFill>
              <a:latin typeface="Times New Roman"/>
            </a:endParaRPr>
          </a:p>
        </p:txBody>
      </p:sp>
      <p:sp>
        <p:nvSpPr>
          <p:cNvPr id="850" name=""/>
          <p:cNvSpPr/>
          <p:nvPr/>
        </p:nvSpPr>
        <p:spPr>
          <a:xfrm>
            <a:off x="3824640" y="2473200"/>
            <a:ext cx="1385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hifted lines</a:t>
            </a:r>
            <a:endParaRPr b="0" lang="en-US" sz="1600" spc="-1" strike="noStrike">
              <a:solidFill>
                <a:srgbClr val="ffffff"/>
              </a:solidFill>
              <a:latin typeface="Times New Roman"/>
            </a:endParaRPr>
          </a:p>
        </p:txBody>
      </p:sp>
      <p:sp>
        <p:nvSpPr>
          <p:cNvPr id="851" name=""/>
          <p:cNvSpPr/>
          <p:nvPr/>
        </p:nvSpPr>
        <p:spPr>
          <a:xfrm>
            <a:off x="6592320" y="2473200"/>
            <a:ext cx="20617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orted, shifted lines</a:t>
            </a:r>
            <a:endParaRPr b="0" lang="en-US" sz="1600" spc="-1" strike="noStrike">
              <a:solidFill>
                <a:srgbClr val="ffffff"/>
              </a:solidFill>
              <a:latin typeface="Times New Roman"/>
            </a:endParaRPr>
          </a:p>
        </p:txBody>
      </p:sp>
      <p:sp>
        <p:nvSpPr>
          <p:cNvPr id="852" name=""/>
          <p:cNvSpPr/>
          <p:nvPr/>
        </p:nvSpPr>
        <p:spPr>
          <a:xfrm>
            <a:off x="388800" y="3392640"/>
            <a:ext cx="1155960" cy="12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53" name=""/>
          <p:cNvSpPr/>
          <p:nvPr/>
        </p:nvSpPr>
        <p:spPr>
          <a:xfrm>
            <a:off x="3295800" y="3403440"/>
            <a:ext cx="103500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6095880" y="3406680"/>
            <a:ext cx="1140120" cy="79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855" name=""/>
          <p:cNvSpPr/>
          <p:nvPr/>
        </p:nvSpPr>
        <p:spPr>
          <a:xfrm>
            <a:off x="944640" y="270504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78040" y="2597040"/>
            <a:ext cx="12204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7" name=""/>
          <p:cNvSpPr/>
          <p:nvPr/>
        </p:nvSpPr>
        <p:spPr>
          <a:xfrm>
            <a:off x="3713040" y="2590920"/>
            <a:ext cx="123840" cy="1220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858" name=""/>
          <p:cNvSpPr/>
          <p:nvPr/>
        </p:nvSpPr>
        <p:spPr>
          <a:xfrm>
            <a:off x="6478560" y="2606760"/>
            <a:ext cx="12240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9" name=""/>
          <p:cNvSpPr/>
          <p:nvPr/>
        </p:nvSpPr>
        <p:spPr>
          <a:xfrm>
            <a:off x="3773520" y="272412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543720" y="2733840"/>
            <a:ext cx="0" cy="674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30240" y="817200"/>
            <a:ext cx="78962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Rough Comparison of KWIC Architectures</a:t>
            </a:r>
            <a:endParaRPr b="0" lang="en-US" sz="3200" spc="-1" strike="noStrike">
              <a:solidFill>
                <a:srgbClr val="ffffff"/>
              </a:solidFill>
              <a:latin typeface="Century Schoolbook"/>
            </a:endParaRPr>
          </a:p>
        </p:txBody>
      </p:sp>
      <p:sp>
        <p:nvSpPr>
          <p:cNvPr id="862" name=""/>
          <p:cNvSpPr/>
          <p:nvPr/>
        </p:nvSpPr>
        <p:spPr>
          <a:xfrm>
            <a:off x="936720" y="2720880"/>
            <a:ext cx="2109600" cy="305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algorith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esent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use</a:t>
            </a:r>
            <a:endParaRPr b="0" lang="en-US" sz="1800" spc="-1" strike="noStrike">
              <a:solidFill>
                <a:srgbClr val="ffffff"/>
              </a:solidFill>
              <a:latin typeface="Times New Roman"/>
            </a:endParaRPr>
          </a:p>
        </p:txBody>
      </p:sp>
      <p:sp>
        <p:nvSpPr>
          <p:cNvPr id="863" name=""/>
          <p:cNvSpPr/>
          <p:nvPr/>
        </p:nvSpPr>
        <p:spPr>
          <a:xfrm>
            <a:off x="2968560" y="223668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3049920" y="1989000"/>
            <a:ext cx="5253840" cy="4075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a:t>
            </a:r>
            <a:r>
              <a:rPr b="1" lang="en-US" sz="1800" spc="-1" strike="noStrike">
                <a:solidFill>
                  <a:srgbClr val="ffffff"/>
                </a:solidFill>
                <a:latin typeface="Arial"/>
              </a:rPr>
              <a:t>	</a:t>
            </a:r>
            <a:r>
              <a:rPr b="1" lang="en-US" sz="1800" spc="-1" strike="noStrike">
                <a:solidFill>
                  <a:srgbClr val="ffffff"/>
                </a:solidFill>
                <a:latin typeface="Arial"/>
              </a:rPr>
              <a:t>Abstract</a:t>
            </a:r>
            <a:r>
              <a:rPr b="1" lang="en-US" sz="1800" spc="-1" strike="noStrike">
                <a:solidFill>
                  <a:srgbClr val="ffffff"/>
                </a:solidFill>
                <a:latin typeface="Arial"/>
              </a:rPr>
              <a:t>	</a:t>
            </a:r>
            <a:r>
              <a:rPr b="1" lang="en-US" sz="1800" spc="-1" strike="noStrike">
                <a:solidFill>
                  <a:srgbClr val="ffffff"/>
                </a:solidFill>
                <a:latin typeface="Arial"/>
              </a:rPr>
              <a:t>Implici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ipe and</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r>
              <a:rPr b="1" lang="en-US" sz="1800" spc="-1" strike="noStrike">
                <a:solidFill>
                  <a:srgbClr val="ffffff"/>
                </a:solidFill>
                <a:latin typeface="Arial"/>
              </a:rPr>
              <a:t>	</a:t>
            </a:r>
            <a:r>
              <a:rPr b="1" lang="en-US" sz="1800" spc="-1" strike="noStrike">
                <a:solidFill>
                  <a:srgbClr val="ffffff"/>
                </a:solidFill>
                <a:latin typeface="Arial"/>
              </a:rPr>
              <a:t>data type</a:t>
            </a:r>
            <a:r>
              <a:rPr b="1" lang="en-US" sz="1800" spc="-1" strike="noStrike">
                <a:solidFill>
                  <a:srgbClr val="ffffff"/>
                </a:solidFill>
                <a:latin typeface="Arial"/>
              </a:rPr>
              <a:t>	</a:t>
            </a:r>
            <a:r>
              <a:rPr b="1" lang="en-US" sz="1800" spc="-1" strike="noStrike">
                <a:solidFill>
                  <a:srgbClr val="ffffff"/>
                </a:solidFill>
                <a:latin typeface="Arial"/>
              </a:rPr>
              <a:t>invocation</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filter</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865" name=""/>
          <p:cNvSpPr/>
          <p:nvPr/>
        </p:nvSpPr>
        <p:spPr>
          <a:xfrm>
            <a:off x="885960" y="3403440"/>
            <a:ext cx="748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92080" y="501336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92080" y="5610240"/>
            <a:ext cx="746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82720" y="2000160"/>
            <a:ext cx="7480080" cy="4127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82720" y="25844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82720" y="41846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930240" y="842760"/>
            <a:ext cx="76168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les of Thumb for Choosing Styles</a:t>
            </a:r>
            <a:endParaRPr b="0" lang="en-US" sz="3600" spc="-1" strike="noStrike">
              <a:solidFill>
                <a:srgbClr val="ffffff"/>
              </a:solidFill>
              <a:latin typeface="Century Schoolbook"/>
            </a:endParaRPr>
          </a:p>
        </p:txBody>
      </p:sp>
      <p:sp>
        <p:nvSpPr>
          <p:cNvPr id="87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of style catalogs is to develop a design handbook: “If your problem looks like x, us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 y.”</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actice is not that advanced yet.  The best that we can do is offer rules of thumb.</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tyle</a:t>
            </a:r>
            <a:endParaRPr b="0" lang="en-US" sz="3600" spc="-1" strike="noStrike">
              <a:solidFill>
                <a:srgbClr val="ffffff"/>
              </a:solidFill>
              <a:latin typeface="Century Schoolbook"/>
            </a:endParaRPr>
          </a:p>
        </p:txBody>
      </p:sp>
      <p:sp>
        <p:nvSpPr>
          <p:cNvPr id="8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makes sense to view your system as one that produces a well-defined, easily-identified output that is the direct result of sequentially transforming a well-defined, easily-identified input in a time-independent fash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n this case, resulting from relatively simple interfaces between components) is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ubstyles</a:t>
            </a:r>
            <a:endParaRPr b="0" lang="en-US" sz="3600" spc="-1" strike="noStrike">
              <a:solidFill>
                <a:srgbClr val="ffffff"/>
              </a:solidFill>
              <a:latin typeface="Century Schoolbook"/>
            </a:endParaRPr>
          </a:p>
        </p:txBody>
      </p:sp>
      <p:sp>
        <p:nvSpPr>
          <p:cNvPr id="8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taflow network:</a:t>
            </a:r>
            <a:r>
              <a:rPr b="1" lang="en-US" sz="2400" spc="-1" strike="noStrike">
                <a:solidFill>
                  <a:srgbClr val="ffffff"/>
                </a:solidFill>
                <a:latin typeface="Arial"/>
              </a:rPr>
              <a:t> input and output occur as recurring series, with direct correlation between corresponding members of each se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ipeline, pipe and filter:</a:t>
            </a:r>
            <a:r>
              <a:rPr b="1" lang="en-US" sz="2400" spc="-1" strike="noStrike">
                <a:solidFill>
                  <a:srgbClr val="ffffff"/>
                </a:solidFill>
                <a:latin typeface="Arial"/>
              </a:rPr>
              <a:t> the computation involves transformations on continuous stream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osed loop control:</a:t>
            </a:r>
            <a:r>
              <a:rPr b="1" lang="en-US" sz="2400" spc="-1" strike="noStrike">
                <a:solidFill>
                  <a:srgbClr val="ffffff"/>
                </a:solidFill>
                <a:latin typeface="Arial"/>
              </a:rPr>
              <a:t> your system involves controlling continuing action, is embedded in a physical system, and is subject to unpredictable external perturbation so that preset algorithms go aw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tyle </a:t>
            </a:r>
            <a:endParaRPr b="0" lang="en-US" sz="3600" spc="-1" strike="noStrike">
              <a:solidFill>
                <a:srgbClr val="ffffff"/>
              </a:solidFill>
              <a:latin typeface="Century Schoolbook"/>
            </a:endParaRPr>
          </a:p>
        </p:txBody>
      </p:sp>
      <p:sp>
        <p:nvSpPr>
          <p:cNvPr id="87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the order of computation is fixed, and components can make no useful progress while awaiting the results of requests to other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1</a:t>
            </a:r>
            <a:endParaRPr b="0" lang="en-US" sz="3600" spc="-1" strike="noStrike">
              <a:solidFill>
                <a:srgbClr val="ffffff"/>
              </a:solidFill>
              <a:latin typeface="Century Schoolbook"/>
            </a:endParaRPr>
          </a:p>
        </p:txBody>
      </p:sp>
      <p:sp>
        <p:nvSpPr>
          <p:cNvPr id="880"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oriented:</a:t>
            </a:r>
            <a:r>
              <a:rPr b="1" lang="en-US" sz="2400" spc="-1" strike="noStrike">
                <a:solidFill>
                  <a:srgbClr val="ffffff"/>
                </a:solidFill>
                <a:latin typeface="Arial"/>
              </a:rPr>
              <a:t> overall modifiability and integrability (via careful attention to interfaces) are driving quality requirem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bstract data types:</a:t>
            </a:r>
            <a:r>
              <a:rPr b="1" lang="en-US" sz="2400" spc="-1" strike="noStrike">
                <a:solidFill>
                  <a:srgbClr val="ffffff"/>
                </a:solidFill>
                <a:latin typeface="Arial"/>
              </a:rPr>
              <a:t> many system data types whose representation is likely to chan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s: </a:t>
            </a:r>
            <a:r>
              <a:rPr b="1" lang="en-US" sz="2400" spc="-1" strike="noStrike">
                <a:solidFill>
                  <a:srgbClr val="ffffff"/>
                </a:solidFill>
                <a:latin typeface="Arial"/>
              </a:rPr>
              <a:t>many like modules, commonalties could be exploited through inherit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l-and-return-based client-server:</a:t>
            </a:r>
            <a:r>
              <a:rPr b="1" lang="en-US" sz="2400" spc="-1" strike="noStrike">
                <a:solidFill>
                  <a:srgbClr val="ffffff"/>
                </a:solidFill>
                <a:latin typeface="Arial"/>
              </a:rPr>
              <a:t> modifiability with respect to the production of data and how it is consumed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2</a:t>
            </a:r>
            <a:endParaRPr b="0" lang="en-US" sz="3600" spc="-1" strike="noStrike">
              <a:solidFill>
                <a:srgbClr val="ffffff"/>
              </a:solidFill>
              <a:latin typeface="Century Schoolbook"/>
            </a:endParaRPr>
          </a:p>
        </p:txBody>
      </p:sp>
      <p:sp>
        <p:nvSpPr>
          <p:cNvPr id="88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tasks in your system can be divided between those specific to the application and those generic to many applications but specific to the underlying computing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ortability across computing platform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can use an already-developed computing infrastructure layer (operating system, network management package,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dependent Component Style</a:t>
            </a:r>
            <a:endParaRPr b="0" lang="en-US" sz="3600" spc="-1" strike="noStrike">
              <a:solidFill>
                <a:srgbClr val="ffffff"/>
              </a:solidFill>
              <a:latin typeface="Century Schoolbook"/>
            </a:endParaRPr>
          </a:p>
        </p:txBody>
      </p:sp>
      <p:sp>
        <p:nvSpPr>
          <p:cNvPr id="88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runs on a multi-processor platform (or may do so in the fu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can be structured as a set of loosely coupled components (meaning that one component can continue to make progress somewhat independently of the state of other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work among processe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processes to processors)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2</a:t>
            </a:r>
            <a:endParaRPr b="0" lang="en-US" sz="3600" spc="-1" strike="noStrike">
              <a:solidFill>
                <a:srgbClr val="ffffff"/>
              </a:solidFill>
              <a:latin typeface="Century Schoolbook"/>
            </a:endParaRPr>
          </a:p>
        </p:txBody>
      </p:sp>
      <p:sp>
        <p:nvSpPr>
          <p:cNvPr id="135" name="PlaceHolder 2"/>
          <p:cNvSpPr>
            <a:spLocks noGrp="1"/>
          </p:cNvSpPr>
          <p:nvPr>
            <p:ph/>
          </p:nvPr>
        </p:nvSpPr>
        <p:spPr>
          <a:xfrm>
            <a:off x="923760" y="1777680"/>
            <a:ext cx="7369200" cy="4584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is determined (describ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mponent types (e.g., data repository, process,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opological layout of these component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semantic constraints (e.g., a data repository is not allowed to change stored val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interaction mechanisms (e.g., subroutine call, event, pip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29880" y="89352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1</a:t>
            </a:r>
            <a:endParaRPr b="0" lang="en-US" sz="3200" spc="-1" strike="noStrike">
              <a:solidFill>
                <a:srgbClr val="ffffff"/>
              </a:solidFill>
              <a:latin typeface="Century Schoolbook"/>
            </a:endParaRPr>
          </a:p>
        </p:txBody>
      </p:sp>
      <p:sp>
        <p:nvSpPr>
          <p:cNvPr id="88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mmunicating processes:</a:t>
            </a:r>
            <a:r>
              <a:rPr b="1" lang="en-US" sz="2400" spc="-1" strike="noStrike">
                <a:solidFill>
                  <a:srgbClr val="ffffff"/>
                </a:solidFill>
                <a:latin typeface="Arial"/>
              </a:rPr>
              <a:t> message-passing is sufficient as an interaction mechanis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ightweight processes:</a:t>
            </a:r>
            <a:r>
              <a:rPr b="1" lang="en-US" sz="2400" spc="-1" strike="noStrike">
                <a:solidFill>
                  <a:srgbClr val="ffffff"/>
                </a:solidFill>
                <a:latin typeface="Arial"/>
              </a:rPr>
              <a:t> access to shared data is critical to meet performance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istributed objects:</a:t>
            </a:r>
            <a:r>
              <a:rPr b="1" lang="en-US" sz="2400" spc="-1" strike="noStrike">
                <a:solidFill>
                  <a:srgbClr val="ffffff"/>
                </a:solidFill>
                <a:latin typeface="Arial"/>
              </a:rPr>
              <a:t> the reasons for the object-oriented style and the interacting process style all app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2</a:t>
            </a:r>
            <a:endParaRPr b="0" lang="en-US" sz="3200" spc="-1" strike="noStrike">
              <a:solidFill>
                <a:srgbClr val="ffffff"/>
              </a:solidFill>
              <a:latin typeface="Century Schoolbook"/>
            </a:endParaRPr>
          </a:p>
        </p:txBody>
      </p:sp>
      <p:sp>
        <p:nvSpPr>
          <p:cNvPr id="888"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roadcast:</a:t>
            </a:r>
            <a:r>
              <a:rPr b="1" lang="en-US" sz="2400" spc="-1" strike="noStrike">
                <a:solidFill>
                  <a:srgbClr val="ffffff"/>
                </a:solidFill>
                <a:latin typeface="Arial"/>
              </a:rPr>
              <a:t> all of the components need to be synchronized from time to time, and/or availability is an important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vent systems:</a:t>
            </a:r>
            <a:r>
              <a:rPr b="1" lang="en-US" sz="2400" spc="-1" strike="noStrike">
                <a:solidFill>
                  <a:srgbClr val="ffffff"/>
                </a:solidFill>
                <a:latin typeface="Arial"/>
              </a:rPr>
              <a:t> you want to decouple the consumers of events from their signalers, or you want scalability in the form of adding processes that are triggered by events already detected/signaled in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a:t>
            </a:r>
            <a:endParaRPr b="0" lang="en-US" sz="3600" spc="-1" strike="noStrike">
              <a:solidFill>
                <a:srgbClr val="ffffff"/>
              </a:solidFill>
              <a:latin typeface="Century Schoolbook"/>
            </a:endParaRPr>
          </a:p>
        </p:txBody>
      </p:sp>
      <p:sp>
        <p:nvSpPr>
          <p:cNvPr id="890"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central issue is the storage, representation, management, and retrieval of a large amount of related long-lived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nsactional database/repository:</a:t>
            </a:r>
            <a:r>
              <a:rPr b="1" lang="en-US" sz="2400" spc="-1" strike="noStrike">
                <a:solidFill>
                  <a:srgbClr val="ffffff"/>
                </a:solidFill>
                <a:latin typeface="Arial"/>
              </a:rPr>
              <a:t> order of component execution is determined by a stream of incoming requests to access/update the data, and the data is highly structured</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lackboard:</a:t>
            </a:r>
            <a:r>
              <a:rPr b="1" lang="en-US" sz="2400" spc="-1" strike="noStrike">
                <a:solidFill>
                  <a:srgbClr val="ffffff"/>
                </a:solidFill>
                <a:latin typeface="Arial"/>
              </a:rPr>
              <a:t> you want scalability in the form of adding consumers of data without changing the producers; or you want modifiability in the form of changing who produces and consumes which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a:t>
            </a:r>
            <a:endParaRPr b="0" lang="en-US" sz="3600" spc="-1" strike="noStrike">
              <a:solidFill>
                <a:srgbClr val="ffffff"/>
              </a:solidFill>
              <a:latin typeface="Century Schoolbook"/>
            </a:endParaRPr>
          </a:p>
        </p:txBody>
      </p:sp>
      <p:sp>
        <p:nvSpPr>
          <p:cNvPr id="8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you have designed a computation, but have no fixed machine to run it 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89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can be described by the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e of their components and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ograph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d of qualities and reasoning they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have important influences or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yle(s) used for a system depends on which qualities are most des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provide a concise way of designing and describing a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896"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last part of this lecture gives rules of thumb </a:t>
            </a:r>
            <a:r>
              <a:rPr b="1" lang="en-US" sz="2400" spc="-1" strike="noStrike">
                <a:solidFill>
                  <a:srgbClr val="ffffff"/>
                </a:solidFill>
                <a:latin typeface="Arial"/>
              </a:rPr>
              <a:t>	</a:t>
            </a:r>
            <a:r>
              <a:rPr b="1" lang="en-US" sz="2400" spc="-1" strike="noStrike">
                <a:solidFill>
                  <a:srgbClr val="ffffff"/>
                </a:solidFill>
                <a:latin typeface="Arial"/>
              </a:rPr>
              <a:t>for style selection.  Pick a few of the styles not </a:t>
            </a:r>
            <a:r>
              <a:rPr b="1" lang="en-US" sz="2400" spc="-1" strike="noStrike">
                <a:solidFill>
                  <a:srgbClr val="ffffff"/>
                </a:solidFill>
                <a:latin typeface="Arial"/>
              </a:rPr>
              <a:t>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ntioned and see if you can write rules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umb for choosing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 large number of styles are designed to suppor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quality of modifiability.  Give exampl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s of the different types of modific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th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8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tyles, as they are commonly described,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result of empirical observation, not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xonomic organization from first princip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 a result, overlap is high:  Objects can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operating processes that can be layer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so on.  Why is that?  Hint:  Think abou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chitectural structures from Lecture 2</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involved in the description of each styl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3</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id Garlan and Mary Shaw have compiled a catalog of architectural styles [Shaw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complete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unique, non-overlapping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overlap.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exhibit multiple styles at o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1</a:t>
            </a:r>
            <a:endParaRPr b="0" lang="en-US" sz="3200" spc="-1" strike="noStrike">
              <a:solidFill>
                <a:srgbClr val="ffffff"/>
              </a:solidFill>
              <a:latin typeface="Century Schoolbook"/>
            </a:endParaRPr>
          </a:p>
        </p:txBody>
      </p:sp>
      <p:sp>
        <p:nvSpPr>
          <p:cNvPr id="139" name=""/>
          <p:cNvSpPr/>
          <p:nvPr/>
        </p:nvSpPr>
        <p:spPr>
          <a:xfrm>
            <a:off x="1467000" y="1746360"/>
            <a:ext cx="6183000" cy="165096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467000" y="3554280"/>
            <a:ext cx="293040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467000" y="4859280"/>
            <a:ext cx="2930400" cy="1079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494240" y="3554280"/>
            <a:ext cx="31557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506840" y="4863960"/>
            <a:ext cx="31431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40840" y="1838160"/>
            <a:ext cx="13129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pendent</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mponents</a:t>
            </a:r>
            <a:endParaRPr b="0" lang="en-US" sz="1600" spc="-1" strike="noStrike">
              <a:solidFill>
                <a:srgbClr val="ffffff"/>
              </a:solidFill>
              <a:latin typeface="Times New Roman"/>
            </a:endParaRPr>
          </a:p>
        </p:txBody>
      </p:sp>
      <p:sp>
        <p:nvSpPr>
          <p:cNvPr id="145" name=""/>
          <p:cNvSpPr/>
          <p:nvPr/>
        </p:nvSpPr>
        <p:spPr>
          <a:xfrm>
            <a:off x="2244960" y="2473200"/>
            <a:ext cx="1422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unicating</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es</a:t>
            </a:r>
            <a:endParaRPr b="0" lang="en-US" sz="1400" spc="-1" strike="noStrike">
              <a:solidFill>
                <a:srgbClr val="ffffff"/>
              </a:solidFill>
              <a:latin typeface="Times New Roman"/>
            </a:endParaRPr>
          </a:p>
        </p:txBody>
      </p:sp>
      <p:sp>
        <p:nvSpPr>
          <p:cNvPr id="146" name=""/>
          <p:cNvSpPr/>
          <p:nvPr/>
        </p:nvSpPr>
        <p:spPr>
          <a:xfrm>
            <a:off x="4547160" y="28926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7" name=""/>
          <p:cNvSpPr/>
          <p:nvPr/>
        </p:nvSpPr>
        <p:spPr>
          <a:xfrm>
            <a:off x="5815800" y="28908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x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8" name=""/>
          <p:cNvSpPr/>
          <p:nvPr/>
        </p:nvSpPr>
        <p:spPr>
          <a:xfrm>
            <a:off x="5021280" y="2470320"/>
            <a:ext cx="134928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ent systems</a:t>
            </a:r>
            <a:endParaRPr b="0" lang="en-US" sz="1400" spc="-1" strike="noStrike">
              <a:solidFill>
                <a:srgbClr val="ffffff"/>
              </a:solidFill>
              <a:latin typeface="Times New Roman"/>
            </a:endParaRPr>
          </a:p>
        </p:txBody>
      </p:sp>
      <p:sp>
        <p:nvSpPr>
          <p:cNvPr id="149" name=""/>
          <p:cNvSpPr/>
          <p:nvPr/>
        </p:nvSpPr>
        <p:spPr>
          <a:xfrm>
            <a:off x="2416680" y="3629160"/>
            <a:ext cx="10310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 flow</a:t>
            </a:r>
            <a:endParaRPr b="0" lang="en-US" sz="1600" spc="-1" strike="noStrike">
              <a:solidFill>
                <a:srgbClr val="ffffff"/>
              </a:solidFill>
              <a:latin typeface="Times New Roman"/>
            </a:endParaRPr>
          </a:p>
        </p:txBody>
      </p:sp>
      <p:sp>
        <p:nvSpPr>
          <p:cNvPr id="150" name=""/>
          <p:cNvSpPr/>
          <p:nvPr/>
        </p:nvSpPr>
        <p:spPr>
          <a:xfrm>
            <a:off x="5337720" y="3629160"/>
            <a:ext cx="14698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centered</a:t>
            </a:r>
            <a:endParaRPr b="0" lang="en-US" sz="1600" spc="-1" strike="noStrike">
              <a:solidFill>
                <a:srgbClr val="ffffff"/>
              </a:solidFill>
              <a:latin typeface="Times New Roman"/>
            </a:endParaRPr>
          </a:p>
        </p:txBody>
      </p:sp>
      <p:sp>
        <p:nvSpPr>
          <p:cNvPr id="151" name=""/>
          <p:cNvSpPr/>
          <p:nvPr/>
        </p:nvSpPr>
        <p:spPr>
          <a:xfrm>
            <a:off x="2141280" y="4924440"/>
            <a:ext cx="15854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Virtual machine</a:t>
            </a:r>
            <a:endParaRPr b="0" lang="en-US" sz="1600" spc="-1" strike="noStrike">
              <a:solidFill>
                <a:srgbClr val="ffffff"/>
              </a:solidFill>
              <a:latin typeface="Times New Roman"/>
            </a:endParaRPr>
          </a:p>
        </p:txBody>
      </p:sp>
      <p:sp>
        <p:nvSpPr>
          <p:cNvPr id="152" name=""/>
          <p:cNvSpPr/>
          <p:nvPr/>
        </p:nvSpPr>
        <p:spPr>
          <a:xfrm>
            <a:off x="5695920" y="4915080"/>
            <a:ext cx="1120680" cy="29916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all/return</a:t>
            </a:r>
            <a:endParaRPr b="0" lang="en-US" sz="1600" spc="-1" strike="noStrike">
              <a:solidFill>
                <a:srgbClr val="ffffff"/>
              </a:solidFill>
              <a:latin typeface="Times New Roman"/>
            </a:endParaRPr>
          </a:p>
        </p:txBody>
      </p:sp>
      <p:sp>
        <p:nvSpPr>
          <p:cNvPr id="153" name=""/>
          <p:cNvSpPr/>
          <p:nvPr/>
        </p:nvSpPr>
        <p:spPr>
          <a:xfrm>
            <a:off x="1743120" y="5424480"/>
            <a:ext cx="119052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terpreter</a:t>
            </a:r>
            <a:endParaRPr b="0" lang="en-US" sz="1400" spc="-1" strike="noStrike">
              <a:solidFill>
                <a:srgbClr val="ffffff"/>
              </a:solidFill>
              <a:latin typeface="Times New Roman"/>
            </a:endParaRPr>
          </a:p>
        </p:txBody>
      </p:sp>
      <p:sp>
        <p:nvSpPr>
          <p:cNvPr id="154" name=""/>
          <p:cNvSpPr/>
          <p:nvPr/>
        </p:nvSpPr>
        <p:spPr>
          <a:xfrm>
            <a:off x="2933640" y="5430960"/>
            <a:ext cx="12319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ule-bas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
            </a:r>
            <a:endParaRPr b="0" lang="en-US" sz="1400" spc="-1" strike="noStrike">
              <a:solidFill>
                <a:srgbClr val="ffffff"/>
              </a:solidFill>
              <a:latin typeface="Times New Roman"/>
            </a:endParaRPr>
          </a:p>
        </p:txBody>
      </p:sp>
      <p:sp>
        <p:nvSpPr>
          <p:cNvPr id="155" name=""/>
          <p:cNvSpPr/>
          <p:nvPr/>
        </p:nvSpPr>
        <p:spPr>
          <a:xfrm>
            <a:off x="4278240" y="5388120"/>
            <a:ext cx="17161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 program</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subroutine</a:t>
            </a:r>
            <a:endParaRPr b="0" lang="en-US" sz="1400" spc="-1" strike="noStrike">
              <a:solidFill>
                <a:srgbClr val="ffffff"/>
              </a:solidFill>
              <a:latin typeface="Times New Roman"/>
            </a:endParaRPr>
          </a:p>
        </p:txBody>
      </p:sp>
      <p:sp>
        <p:nvSpPr>
          <p:cNvPr id="156" name=""/>
          <p:cNvSpPr/>
          <p:nvPr/>
        </p:nvSpPr>
        <p:spPr>
          <a:xfrm>
            <a:off x="5719680" y="5388120"/>
            <a:ext cx="111600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riented</a:t>
            </a:r>
            <a:endParaRPr b="0" lang="en-US" sz="1400" spc="-1" strike="noStrike">
              <a:solidFill>
                <a:srgbClr val="ffffff"/>
              </a:solidFill>
              <a:latin typeface="Times New Roman"/>
            </a:endParaRPr>
          </a:p>
        </p:txBody>
      </p:sp>
      <p:sp>
        <p:nvSpPr>
          <p:cNvPr id="157" name=""/>
          <p:cNvSpPr/>
          <p:nvPr/>
        </p:nvSpPr>
        <p:spPr>
          <a:xfrm>
            <a:off x="6729480" y="5386320"/>
            <a:ext cx="923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ayered</a:t>
            </a:r>
            <a:endParaRPr b="0" lang="en-US" sz="1400" spc="-1" strike="noStrike">
              <a:solidFill>
                <a:srgbClr val="ffffff"/>
              </a:solidFill>
              <a:latin typeface="Times New Roman"/>
            </a:endParaRPr>
          </a:p>
        </p:txBody>
      </p:sp>
      <p:sp>
        <p:nvSpPr>
          <p:cNvPr id="158" name=""/>
          <p:cNvSpPr/>
          <p:nvPr/>
        </p:nvSpPr>
        <p:spPr>
          <a:xfrm>
            <a:off x="2951280" y="2409840"/>
            <a:ext cx="276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333520" y="5297400"/>
            <a:ext cx="11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199120" y="5283360"/>
            <a:ext cx="196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33880" y="2827440"/>
            <a:ext cx="12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94480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72292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495680" y="229716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38560" y="282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6311880" y="2822400"/>
            <a:ext cx="1440" cy="8748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7" name=""/>
          <p:cNvSpPr/>
          <p:nvPr/>
        </p:nvSpPr>
        <p:spPr>
          <a:xfrm>
            <a:off x="5718240" y="27241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99120" y="52894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157880" y="5291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333520" y="5299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537000" y="5297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72280" y="519444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89520" y="4138560"/>
            <a:ext cx="111600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pository</a:t>
            </a:r>
            <a:endParaRPr b="0" lang="en-US" sz="1400" spc="-1" strike="noStrike">
              <a:solidFill>
                <a:srgbClr val="ffffff"/>
              </a:solidFill>
              <a:latin typeface="Times New Roman"/>
            </a:endParaRPr>
          </a:p>
        </p:txBody>
      </p:sp>
      <p:sp>
        <p:nvSpPr>
          <p:cNvPr id="174" name=""/>
          <p:cNvSpPr/>
          <p:nvPr/>
        </p:nvSpPr>
        <p:spPr>
          <a:xfrm>
            <a:off x="6153120" y="4133880"/>
            <a:ext cx="1085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lackboard</a:t>
            </a:r>
            <a:endParaRPr b="0" lang="en-US" sz="1400" spc="-1" strike="noStrike">
              <a:solidFill>
                <a:srgbClr val="ffffff"/>
              </a:solidFill>
              <a:latin typeface="Times New Roman"/>
            </a:endParaRPr>
          </a:p>
        </p:txBody>
      </p:sp>
      <p:sp>
        <p:nvSpPr>
          <p:cNvPr id="175" name=""/>
          <p:cNvSpPr/>
          <p:nvPr/>
        </p:nvSpPr>
        <p:spPr>
          <a:xfrm>
            <a:off x="5448240" y="398952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442120" y="39877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675480" y="398448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43680" y="3878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830240" y="4100400"/>
            <a:ext cx="99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atch</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equential</a:t>
            </a:r>
            <a:endParaRPr b="0" lang="en-US" sz="1400" spc="-1" strike="noStrike">
              <a:solidFill>
                <a:srgbClr val="ffffff"/>
              </a:solidFill>
              <a:latin typeface="Times New Roman"/>
            </a:endParaRPr>
          </a:p>
        </p:txBody>
      </p:sp>
      <p:sp>
        <p:nvSpPr>
          <p:cNvPr id="180" name=""/>
          <p:cNvSpPr/>
          <p:nvPr/>
        </p:nvSpPr>
        <p:spPr>
          <a:xfrm>
            <a:off x="3066120" y="4098960"/>
            <a:ext cx="96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ip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filters</a:t>
            </a:r>
            <a:endParaRPr b="0" lang="en-US" sz="1400" spc="-1" strike="noStrike">
              <a:solidFill>
                <a:srgbClr val="ffffff"/>
              </a:solidFill>
              <a:latin typeface="Times New Roman"/>
            </a:endParaRPr>
          </a:p>
        </p:txBody>
      </p:sp>
      <p:sp>
        <p:nvSpPr>
          <p:cNvPr id="181" name=""/>
          <p:cNvSpPr/>
          <p:nvPr/>
        </p:nvSpPr>
        <p:spPr>
          <a:xfrm flipV="1">
            <a:off x="2319480" y="3997440"/>
            <a:ext cx="12240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 name=""/>
          <p:cNvSpPr/>
          <p:nvPr/>
        </p:nvSpPr>
        <p:spPr>
          <a:xfrm>
            <a:off x="2316240" y="399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546360" y="399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930400" y="3886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32200" y="5191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2</a:t>
            </a:r>
            <a:endParaRPr b="0" lang="en-US" sz="3200" spc="-1" strike="noStrike">
              <a:solidFill>
                <a:srgbClr val="ffffff"/>
              </a:solidFill>
              <a:latin typeface="Century Schoolbook"/>
            </a:endParaRPr>
          </a:p>
        </p:txBody>
      </p:sp>
      <p:sp>
        <p:nvSpPr>
          <p:cNvPr id="1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ollowing styles will be discussed in detail in the next section of this l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mach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retur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tyles will be introduced through examples.</a:t>
            </a:r>
            <a:endParaRPr b="1" lang="en-US" sz="2400" spc="-1" strike="noStrike">
              <a:solidFill>
                <a:srgbClr val="ffffff"/>
              </a:solidFill>
              <a:latin typeface="Arial"/>
            </a:endParaRPr>
          </a:p>
        </p:txBody>
      </p:sp>
      <p:graphicFrame>
        <p:nvGraphicFramePr>
          <p:cNvPr id="188" name=""/>
          <p:cNvGraphicFramePr/>
          <p:nvPr/>
        </p:nvGraphicFramePr>
        <p:xfrm>
          <a:off x="7918560" y="50760"/>
          <a:ext cx="1158840" cy="1282680"/>
        </p:xfrm>
        <a:graphic>
          <a:graphicData uri="http://schemas.openxmlformats.org/presentationml/2006/ole">
            <p:oleObj r:id="rId1" spid="">
              <p:embed/>
              <p:pic>
                <p:nvPicPr>
                  <p:cNvPr id="18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lability (new clients/data easily added)</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ive data store: repository style</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 data store: blackboar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2</a:t>
            </a:r>
            <a:endParaRPr b="0" lang="en-US" sz="3600" spc="-1" strike="noStrike">
              <a:solidFill>
                <a:srgbClr val="ffffff"/>
              </a:solidFill>
              <a:latin typeface="Century Schoolbook"/>
            </a:endParaRPr>
          </a:p>
        </p:txBody>
      </p:sp>
      <p:grpSp>
        <p:nvGrpSpPr>
          <p:cNvPr id="193" name=""/>
          <p:cNvGrpSpPr/>
          <p:nvPr/>
        </p:nvGrpSpPr>
        <p:grpSpPr>
          <a:xfrm>
            <a:off x="1521000" y="2147760"/>
            <a:ext cx="6107040" cy="2823120"/>
            <a:chOff x="1521000" y="2147760"/>
            <a:chExt cx="6107040" cy="2823120"/>
          </a:xfrm>
        </p:grpSpPr>
        <p:grpSp>
          <p:nvGrpSpPr>
            <p:cNvPr id="194" name=""/>
            <p:cNvGrpSpPr/>
            <p:nvPr/>
          </p:nvGrpSpPr>
          <p:grpSpPr>
            <a:xfrm>
              <a:off x="1521000" y="2147760"/>
              <a:ext cx="1027080" cy="410400"/>
              <a:chOff x="1521000" y="2147760"/>
              <a:chExt cx="1027080" cy="410400"/>
            </a:xfrm>
          </p:grpSpPr>
          <p:grpSp>
            <p:nvGrpSpPr>
              <p:cNvPr id="195" name=""/>
              <p:cNvGrpSpPr/>
              <p:nvPr/>
            </p:nvGrpSpPr>
            <p:grpSpPr>
              <a:xfrm>
                <a:off x="1521000" y="2147760"/>
                <a:ext cx="1027080" cy="371520"/>
                <a:chOff x="1521000" y="2147760"/>
                <a:chExt cx="1027080" cy="371520"/>
              </a:xfrm>
            </p:grpSpPr>
            <p:sp>
              <p:nvSpPr>
                <p:cNvPr id="196" name=""/>
                <p:cNvSpPr/>
                <p:nvPr/>
              </p:nvSpPr>
              <p:spPr>
                <a:xfrm>
                  <a:off x="15210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55880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16167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sp>
          <p:nvSpPr>
            <p:cNvPr id="199" name=""/>
            <p:cNvSpPr/>
            <p:nvPr/>
          </p:nvSpPr>
          <p:spPr>
            <a:xfrm>
              <a:off x="3700440" y="3279600"/>
              <a:ext cx="1733400" cy="484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760920" y="3322800"/>
              <a:ext cx="157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hared data</a:t>
              </a:r>
              <a:endParaRPr b="0" lang="en-US" sz="2000" spc="-1" strike="noStrike">
                <a:solidFill>
                  <a:srgbClr val="ffffff"/>
                </a:solidFill>
                <a:latin typeface="Times New Roman"/>
              </a:endParaRPr>
            </a:p>
          </p:txBody>
        </p:sp>
        <p:sp>
          <p:nvSpPr>
            <p:cNvPr id="201" name=""/>
            <p:cNvSpPr/>
            <p:nvPr/>
          </p:nvSpPr>
          <p:spPr>
            <a:xfrm>
              <a:off x="2577960" y="2581200"/>
              <a:ext cx="109728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443560" y="377208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5445000" y="258264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2583000" y="3786120"/>
              <a:ext cx="109692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575240" y="2603520"/>
              <a:ext cx="0" cy="6588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4574880" y="3782880"/>
              <a:ext cx="3240" cy="71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7" name=""/>
            <p:cNvGrpSpPr/>
            <p:nvPr/>
          </p:nvGrpSpPr>
          <p:grpSpPr>
            <a:xfrm>
              <a:off x="4060800" y="2147760"/>
              <a:ext cx="1027080" cy="410400"/>
              <a:chOff x="4060800" y="2147760"/>
              <a:chExt cx="1027080" cy="410400"/>
            </a:xfrm>
          </p:grpSpPr>
          <p:grpSp>
            <p:nvGrpSpPr>
              <p:cNvPr id="208" name=""/>
              <p:cNvGrpSpPr/>
              <p:nvPr/>
            </p:nvGrpSpPr>
            <p:grpSpPr>
              <a:xfrm>
                <a:off x="4060800" y="2147760"/>
                <a:ext cx="1027080" cy="371520"/>
                <a:chOff x="4060800" y="2147760"/>
                <a:chExt cx="1027080" cy="371520"/>
              </a:xfrm>
            </p:grpSpPr>
            <p:sp>
              <p:nvSpPr>
                <p:cNvPr id="209" name=""/>
                <p:cNvSpPr/>
                <p:nvPr/>
              </p:nvSpPr>
              <p:spPr>
                <a:xfrm>
                  <a:off x="40608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0989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41565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2" name=""/>
            <p:cNvGrpSpPr/>
            <p:nvPr/>
          </p:nvGrpSpPr>
          <p:grpSpPr>
            <a:xfrm>
              <a:off x="6600960" y="2147760"/>
              <a:ext cx="1027080" cy="410400"/>
              <a:chOff x="6600960" y="2147760"/>
              <a:chExt cx="1027080" cy="410400"/>
            </a:xfrm>
          </p:grpSpPr>
          <p:grpSp>
            <p:nvGrpSpPr>
              <p:cNvPr id="213" name=""/>
              <p:cNvGrpSpPr/>
              <p:nvPr/>
            </p:nvGrpSpPr>
            <p:grpSpPr>
              <a:xfrm>
                <a:off x="6600960" y="2147760"/>
                <a:ext cx="1027080" cy="371520"/>
                <a:chOff x="6600960" y="2147760"/>
                <a:chExt cx="1027080" cy="371520"/>
              </a:xfrm>
            </p:grpSpPr>
            <p:sp>
              <p:nvSpPr>
                <p:cNvPr id="214" name=""/>
                <p:cNvSpPr/>
                <p:nvPr/>
              </p:nvSpPr>
              <p:spPr>
                <a:xfrm>
                  <a:off x="660096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6387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669672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7" name=""/>
            <p:cNvGrpSpPr/>
            <p:nvPr/>
          </p:nvGrpSpPr>
          <p:grpSpPr>
            <a:xfrm>
              <a:off x="1521000" y="4560840"/>
              <a:ext cx="1027080" cy="410040"/>
              <a:chOff x="1521000" y="4560840"/>
              <a:chExt cx="1027080" cy="410040"/>
            </a:xfrm>
          </p:grpSpPr>
          <p:grpSp>
            <p:nvGrpSpPr>
              <p:cNvPr id="218" name=""/>
              <p:cNvGrpSpPr/>
              <p:nvPr/>
            </p:nvGrpSpPr>
            <p:grpSpPr>
              <a:xfrm>
                <a:off x="1521000" y="4560840"/>
                <a:ext cx="1027080" cy="371520"/>
                <a:chOff x="1521000" y="4560840"/>
                <a:chExt cx="1027080" cy="371520"/>
              </a:xfrm>
            </p:grpSpPr>
            <p:sp>
              <p:nvSpPr>
                <p:cNvPr id="219" name=""/>
                <p:cNvSpPr/>
                <p:nvPr/>
              </p:nvSpPr>
              <p:spPr>
                <a:xfrm>
                  <a:off x="15210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55880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1" name=""/>
              <p:cNvSpPr/>
              <p:nvPr/>
            </p:nvSpPr>
            <p:spPr>
              <a:xfrm>
                <a:off x="16167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2" name=""/>
            <p:cNvGrpSpPr/>
            <p:nvPr/>
          </p:nvGrpSpPr>
          <p:grpSpPr>
            <a:xfrm>
              <a:off x="4060800" y="4560840"/>
              <a:ext cx="1027080" cy="410040"/>
              <a:chOff x="4060800" y="4560840"/>
              <a:chExt cx="1027080" cy="410040"/>
            </a:xfrm>
          </p:grpSpPr>
          <p:grpSp>
            <p:nvGrpSpPr>
              <p:cNvPr id="223" name=""/>
              <p:cNvGrpSpPr/>
              <p:nvPr/>
            </p:nvGrpSpPr>
            <p:grpSpPr>
              <a:xfrm>
                <a:off x="4060800" y="4560840"/>
                <a:ext cx="1027080" cy="371520"/>
                <a:chOff x="4060800" y="4560840"/>
                <a:chExt cx="1027080" cy="371520"/>
              </a:xfrm>
            </p:grpSpPr>
            <p:sp>
              <p:nvSpPr>
                <p:cNvPr id="224" name=""/>
                <p:cNvSpPr/>
                <p:nvPr/>
              </p:nvSpPr>
              <p:spPr>
                <a:xfrm>
                  <a:off x="40608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0989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a:off x="41565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7" name=""/>
            <p:cNvGrpSpPr/>
            <p:nvPr/>
          </p:nvGrpSpPr>
          <p:grpSpPr>
            <a:xfrm>
              <a:off x="6600960" y="4560840"/>
              <a:ext cx="1027080" cy="410040"/>
              <a:chOff x="6600960" y="4560840"/>
              <a:chExt cx="1027080" cy="410040"/>
            </a:xfrm>
          </p:grpSpPr>
          <p:grpSp>
            <p:nvGrpSpPr>
              <p:cNvPr id="228" name=""/>
              <p:cNvGrpSpPr/>
              <p:nvPr/>
            </p:nvGrpSpPr>
            <p:grpSpPr>
              <a:xfrm>
                <a:off x="6600960" y="4560840"/>
                <a:ext cx="1027080" cy="371520"/>
                <a:chOff x="6600960" y="4560840"/>
                <a:chExt cx="1027080" cy="371520"/>
              </a:xfrm>
            </p:grpSpPr>
            <p:sp>
              <p:nvSpPr>
                <p:cNvPr id="229" name=""/>
                <p:cNvSpPr/>
                <p:nvPr/>
              </p:nvSpPr>
              <p:spPr>
                <a:xfrm>
                  <a:off x="660096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6387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1" name=""/>
              <p:cNvSpPr/>
              <p:nvPr/>
            </p:nvSpPr>
            <p:spPr>
              <a:xfrm>
                <a:off x="669672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7:07:55Z</cp:lastPrinted>
  <dcterms:modified xsi:type="dcterms:W3CDTF">1998-10-20T13:05:40Z</dcterms:modified>
  <cp:revision>387</cp:revision>
  <dc:subject/>
  <dc:title>Cover Slide Example</dc:title>
</cp:coreProperties>
</file>