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ED0800F6-C4D5-49BA-B967-84F3DF9D6148}"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33560" y="657360"/>
            <a:ext cx="4321080" cy="3240000"/>
          </a:xfrm>
          <a:prstGeom prst="rect">
            <a:avLst/>
          </a:prstGeom>
          <a:ln w="0">
            <a:noFill/>
          </a:ln>
        </p:spPr>
      </p:sp>
      <p:sp>
        <p:nvSpPr>
          <p:cNvPr id="224" name="PlaceHolder 2"/>
          <p:cNvSpPr>
            <a:spLocks noGrp="1"/>
          </p:cNvSpPr>
          <p:nvPr>
            <p:ph type="body"/>
          </p:nvPr>
        </p:nvSpPr>
        <p:spPr>
          <a:xfrm>
            <a:off x="90756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bjective for all architectures is the desire to achieve particular software qualities.  This lecture discusses software qualities and their implications.  Some qualities can be achieved through architectural means; others are only partially dependent on the architecture; and still others have no dependence on the architecture.  The lecture discusses the software qualities in terms that tie them to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31760" y="657360"/>
            <a:ext cx="4324320" cy="3240000"/>
          </a:xfrm>
          <a:prstGeom prst="rect">
            <a:avLst/>
          </a:prstGeom>
          <a:ln w="0">
            <a:noFill/>
          </a:ln>
        </p:spPr>
      </p:sp>
      <p:sp>
        <p:nvSpPr>
          <p:cNvPr id="24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begin our tour of the classes of quality attributes by first examining runtime qualities, or those qualities that can be discerned by observing the system execute.  These include functionality, performance, security, availability, usability,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you have not already discussed the issues of measurement an prediction of qualities, this is a good time to introduce these top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31760" y="657360"/>
            <a:ext cx="4324320" cy="3240000"/>
          </a:xfrm>
          <a:prstGeom prst="rect">
            <a:avLst/>
          </a:prstGeom>
          <a:ln w="0">
            <a:noFill/>
          </a:ln>
        </p:spPr>
      </p:sp>
      <p:sp>
        <p:nvSpPr>
          <p:cNvPr id="244" name="PlaceHolder 2"/>
          <p:cNvSpPr>
            <a:spLocks noGrp="1"/>
          </p:cNvSpPr>
          <p:nvPr>
            <p:ph type="body"/>
          </p:nvPr>
        </p:nvSpPr>
        <p:spPr>
          <a:xfrm>
            <a:off x="907920" y="4222440"/>
            <a:ext cx="48103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the ability of the system to do the work for which is was intend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a task requires that many or most of the system’s components work in a coordinated manner to complete the job, just as framers, electricians, plumbers, drywall hangers, painters, and finish carpenters all come together to cooperatively perform the task of getting a house built.  Therefore, if the components have not been assigned the correct responsibilities or have not been endowed with the correct facilities for coordinating other components (so that, for instance, they know when it is time for them to begin their portion of the task), the system will be unable to perform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orthogonal to structure, meaning that it is largely nonarchitectural in nature.  Any number of possible structures can be conceived to implement any functionality.  In fact, if the achievement of functionality were the only requirement, the system could exist as a single monolithic component with no internal structure at all.  Recall the example of the A-7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31760" y="657360"/>
            <a:ext cx="4324320" cy="3240000"/>
          </a:xfrm>
          <a:prstGeom prst="rect">
            <a:avLst/>
          </a:prstGeom>
          <a:ln w="0">
            <a:noFill/>
          </a:ln>
        </p:spPr>
      </p:sp>
      <p:sp>
        <p:nvSpPr>
          <p:cNvPr id="246" name="PlaceHolder 2"/>
          <p:cNvSpPr>
            <a:spLocks noGrp="1"/>
          </p:cNvSpPr>
          <p:nvPr>
            <p:ph type="body"/>
          </p:nvPr>
        </p:nvSpPr>
        <p:spPr>
          <a:xfrm>
            <a:off x="907560" y="4222440"/>
            <a:ext cx="5010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refers to the responsiveness of the system - the time requir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stimuli (events) or the number of events processed in some interval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ime.  Performance qualities are often expressed by the number of transactions p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time or by the amount of time it takes a transaction with the system to complet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communication usually takes longer than computation, performance is ofte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of how much communication and interaction there is betwe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a system - clearly an architectural issue.  Some of the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chanisms for achieving performance are listed on the sl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tionability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exibility of allocation to hardware (e.g., whether components reside on different processors, or the amount of interaction by subroutine invocation or other communications mechanisms used when components reside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n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 time scheduling and monitor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way of getting and relinquishing contro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facilities for modeling performanc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31760" y="657360"/>
            <a:ext cx="4324320" cy="3240000"/>
          </a:xfrm>
          <a:prstGeom prst="rect">
            <a:avLst/>
          </a:prstGeom>
          <a:ln w="0">
            <a:noFill/>
          </a:ln>
        </p:spPr>
      </p:sp>
      <p:sp>
        <p:nvSpPr>
          <p:cNvPr id="24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an be measur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ing environments and resource usages of the various components of the system (e.g., arrival rates and distributions of service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alytic models, queuing theory, and/or simulation of a system’s performance based upon anticipated workload scenarios to determine bottlenecks, latency (the rate at which requests are serviced), and other performance meas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s of performance measurement techniques include rate monoton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and software performance evalu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31760" y="657360"/>
            <a:ext cx="4324320" cy="3240000"/>
          </a:xfrm>
          <a:prstGeom prst="rect">
            <a:avLst/>
          </a:prstGeom>
          <a:ln w="0">
            <a:noFill/>
          </a:ln>
        </p:spPr>
      </p:sp>
      <p:sp>
        <p:nvSpPr>
          <p:cNvPr id="250" name="PlaceHolder 2"/>
          <p:cNvSpPr>
            <a:spLocks noGrp="1"/>
          </p:cNvSpPr>
          <p:nvPr>
            <p:ph type="body"/>
          </p:nvPr>
        </p:nvSpPr>
        <p:spPr>
          <a:xfrm>
            <a:off x="907920" y="4222440"/>
            <a:ext cx="477216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a measure of the system’s ability to resist unauthorized attempts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ge and denial of service, while still providing its services to legitimate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categorized in terms of the types of threats that might be mad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nial of service</a:t>
            </a:r>
            <a:r>
              <a:rPr b="0" lang="en-US" sz="1000" spc="-1" strike="noStrike">
                <a:solidFill>
                  <a:srgbClr val="000000"/>
                </a:solidFill>
                <a:latin typeface="Arial"/>
              </a:rPr>
              <a:t>:  This form of attack is aimed at preventing a targeted system from providing, receiving, or responding to network services.  The attack typically occurs by flooding the target with connection requests or que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ssuming trusted identity</a:t>
            </a:r>
            <a:r>
              <a:rPr b="0" lang="en-US" sz="1000" spc="-1" strike="noStrike">
                <a:solidFill>
                  <a:srgbClr val="000000"/>
                </a:solidFill>
                <a:latin typeface="Arial"/>
              </a:rPr>
              <a:t>:  This form of attack attempts to gain access to the target by assuming a false identity.  This can be the identity of a host trusted by the target or of a user known to the targ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ft of privileged data</a:t>
            </a:r>
            <a:r>
              <a:rPr b="0" lang="en-US" sz="1000" spc="-1" strike="noStrike">
                <a:solidFill>
                  <a:srgbClr val="000000"/>
                </a:solidFill>
                <a:latin typeface="Arial"/>
              </a:rPr>
              <a:t>:  This form of attack attempts to gain access to date on the target system, either a password for future attacks or privileged data.  The data being stolen can either be resident on a target machine or in transit between one machine and another over a net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evention, detection of, and response to an attack will often involv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ing architectural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y monitoring mechanisms for intrusion detection, such as installing network monitors for inspection and logging of network ev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encryption and decryp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number of points of entry, such as placing an authentication server between outside users and the portion of the system that provides services, or placing the system behind a communications “firewall” through which all communication to or from the system must be channeled by a prox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ng the system on top of a trusted kernel or shell that provides security servi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31760" y="657360"/>
            <a:ext cx="4324320" cy="3240000"/>
          </a:xfrm>
          <a:prstGeom prst="rect">
            <a:avLst/>
          </a:prstGeom>
          <a:ln w="0">
            <a:noFill/>
          </a:ln>
        </p:spPr>
      </p:sp>
      <p:sp>
        <p:nvSpPr>
          <p:cNvPr id="25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of system security can be done by inspection or estimation methods (such as CERT’s ISRE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pproaches (and others) involve attempting to ascertain how the system would respond to particular attack or misuse scenarios, then correcting problems identified by separating the components identified by the scenarios from the rest of the system’s functionality, and arranging the coordination and interaction of the other components through authentication servers, network monitors, firewalls, or other, similar architectural strategi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31760" y="657360"/>
            <a:ext cx="4324320" cy="3240000"/>
          </a:xfrm>
          <a:prstGeom prst="rect">
            <a:avLst/>
          </a:prstGeom>
          <a:ln w="0">
            <a:noFill/>
          </a:ln>
        </p:spPr>
      </p:sp>
      <p:sp>
        <p:nvSpPr>
          <p:cNvPr id="25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s the measure of the proportion of time the system is up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unning.  It is measured by the length of time between failures as well as by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ly the system is able to resume operation in the event of fail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techniques for achieving avail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ying careful attention to error reporting and handling (which involves constraining the interaction patterns among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provisions for managing unreliable transpor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lling redundant componentry to take over in case of failure or using special kinds of components such as time-out moni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suring redundancy of critical communication paths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31760" y="657360"/>
            <a:ext cx="4324320" cy="3240000"/>
          </a:xfrm>
          <a:prstGeom prst="rect">
            <a:avLst/>
          </a:prstGeom>
          <a:ln w="0">
            <a:noFill/>
          </a:ln>
        </p:spPr>
      </p:sp>
      <p:sp>
        <p:nvSpPr>
          <p:cNvPr id="25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availability also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ve switching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of liveness and reporting fail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for fault raising, catching, and propag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 recovery or startup cap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Markov model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31760" y="657360"/>
            <a:ext cx="4324320" cy="3240000"/>
          </a:xfrm>
          <a:prstGeom prst="rect">
            <a:avLst/>
          </a:prstGeom>
          <a:ln w="0">
            <a:noFill/>
          </a:ln>
        </p:spPr>
      </p:sp>
      <p:sp>
        <p:nvSpPr>
          <p:cNvPr id="25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bility is the ease of use of the system and of training the end users.  Us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broken down into the following fiv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arnability</a:t>
            </a:r>
            <a:r>
              <a:rPr b="0" lang="en-US" sz="1000" spc="-1" strike="noStrike">
                <a:solidFill>
                  <a:srgbClr val="000000"/>
                </a:solidFill>
                <a:latin typeface="Arial"/>
              </a:rPr>
              <a:t>:  How quick and easy is it for a user to learn to use the system’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fficiency</a:t>
            </a:r>
            <a:r>
              <a:rPr b="0" lang="en-US" sz="1000" spc="-1" strike="noStrike">
                <a:solidFill>
                  <a:srgbClr val="000000"/>
                </a:solidFill>
                <a:latin typeface="Arial"/>
              </a:rPr>
              <a:t>:  Does the system respond with appropriate speed to a user’s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ffect</a:t>
            </a:r>
            <a:r>
              <a:rPr b="0" lang="en-US" sz="1000" spc="-1" strike="noStrike">
                <a:solidFill>
                  <a:srgbClr val="000000"/>
                </a:solidFill>
                <a:latin typeface="Arial"/>
              </a:rPr>
              <a:t>:  Does the user feel good about using the system?  Does the system make the user’s job easi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rror avoidance and handling/helpfulness</a:t>
            </a:r>
            <a:r>
              <a:rPr b="0" lang="en-US" sz="1000" spc="-1" strike="noStrike">
                <a:solidFill>
                  <a:srgbClr val="000000"/>
                </a:solidFill>
                <a:latin typeface="Arial"/>
              </a:rPr>
              <a:t>:  Does the system anticipate and prevent common user errors?   Does the system communicate well and assist the user in resolving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rol</a:t>
            </a:r>
            <a:r>
              <a:rPr b="0" lang="en-US" sz="1000" spc="-1" strike="noStrike">
                <a:solidFill>
                  <a:srgbClr val="000000"/>
                </a:solidFill>
                <a:latin typeface="Arial"/>
              </a:rPr>
              <a:t>:  Does the user feel that the software is responding normally and consistentl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31760" y="657360"/>
            <a:ext cx="4324320" cy="3240000"/>
          </a:xfrm>
          <a:prstGeom prst="rect">
            <a:avLst/>
          </a:prstGeom>
          <a:ln w="0">
            <a:noFill/>
          </a:ln>
        </p:spPr>
      </p:sp>
      <p:sp>
        <p:nvSpPr>
          <p:cNvPr id="26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a system’s user interface clear and easy to use is primarily a matt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tting the details of a user’s interaction correct:  matching the interfac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mental model of the system; using familiar metaphors, standard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 conventions; providing adequate performance; and allowing a user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el in control.  Some details (such as button choice, screen layout, use of col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shading, and size and choice of type face) are important to the end user,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
            </a:r>
            <a:r>
              <a:rPr b="0" lang="en-US" sz="1000" spc="-1" strike="noStrike" u="sng">
                <a:solidFill>
                  <a:srgbClr val="000000"/>
                </a:solidFill>
                <a:uFillTx/>
                <a:latin typeface="Arial"/>
              </a:rPr>
              <a:t>not</a:t>
            </a:r>
            <a:r>
              <a:rPr b="0" lang="en-US" sz="1000" spc="-1" strike="noStrike">
                <a:solidFill>
                  <a:srgbClr val="000000"/>
                </a:solidFill>
                <a:latin typeface="Arial"/>
              </a:rPr>
              <a:t> architectural.  However, among the architectural mechanism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ing us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mock-up tools an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ser interface (UI) look and feel and common UI tool k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tyle guide and supporting frame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for usability of a system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cognitive walk throughs and prototypes of the user interfac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ing user testing of prototypes or the fully functioning system</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031760" y="657360"/>
            <a:ext cx="4324320" cy="3240000"/>
          </a:xfrm>
          <a:prstGeom prst="rect">
            <a:avLst/>
          </a:prstGeom>
          <a:ln w="0">
            <a:noFill/>
          </a:ln>
        </p:spPr>
      </p:sp>
      <p:sp>
        <p:nvSpPr>
          <p:cNvPr id="22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seen in the ABC, business considerations determine qualities that must be accommodated in a system’s architecture.  These qualities are over and above that of functionality, which is the basic statement of the system’s services, capabilities, and behavior.  Although functionality and other qualities are closely related, functionality often not only takes the front seat in the development scheme, but the only seat.  It is the mapping of a system’s functionality onto software structures that determines the architecture’s support for qualities.  It should be kept in mind that this support is always a compromise.  No quality can be maximized in a system without sacrificing some other quality or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examines four broad categories of system qualities, and provides examples of qualities in each class.  It also describes, at a high level, the ways by which qualities are achieved through architectural mean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31760" y="657360"/>
            <a:ext cx="4324320" cy="3240000"/>
          </a:xfrm>
          <a:prstGeom prst="rect">
            <a:avLst/>
          </a:prstGeom>
          <a:ln w="0">
            <a:noFill/>
          </a:ln>
        </p:spPr>
      </p:sp>
      <p:sp>
        <p:nvSpPr>
          <p:cNvPr id="26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the ability of two or more systems to cooperate at run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roper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external complexity of the components (i.e., interfaces, environmental, assumptions, pre- and post-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ed set of interaction mechanisms and protoc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a universal naming scheme (not limiting the names that can be 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ame service facilities (providing a way for users to know where to look to find out what names mea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eful attention to component interfac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te the “less is more” effect of limiting interaction mechanisms.  We will se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again and agai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31760" y="657360"/>
            <a:ext cx="4324320" cy="3240000"/>
          </a:xfrm>
          <a:prstGeom prst="rect">
            <a:avLst/>
          </a:prstGeom>
          <a:ln w="0">
            <a:noFill/>
          </a:ln>
        </p:spPr>
      </p:sp>
      <p:sp>
        <p:nvSpPr>
          <p:cNvPr id="26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used to meas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This method attempts to ass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developer identifies system el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user identifies system elemen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31760" y="657360"/>
            <a:ext cx="4324320" cy="3240000"/>
          </a:xfrm>
          <a:prstGeom prst="rect">
            <a:avLst/>
          </a:prstGeom>
          <a:ln w="0">
            <a:noFill/>
          </a:ln>
        </p:spPr>
      </p:sp>
      <p:sp>
        <p:nvSpPr>
          <p:cNvPr id="26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other attributes of software-intensive systems that cannot be discerned at runtime.  These include modifiability, portability, reusability, integrability, and testabilit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31760" y="657360"/>
            <a:ext cx="4324320" cy="3240000"/>
          </a:xfrm>
          <a:prstGeom prst="rect">
            <a:avLst/>
          </a:prstGeom>
          <a:ln w="0">
            <a:noFill/>
          </a:ln>
        </p:spPr>
      </p:sp>
      <p:sp>
        <p:nvSpPr>
          <p:cNvPr id="268"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n all its forms, may be the quality attribute most closely aligned to the architecture of a system.  The ability to make changes quickly and cost effectively follows directly from the architecture:  modifiability is largely a function of the locality of any change.  Making a widespread change to the system is more costly than making a change to a single component, all things being equ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the architecture defines the components and the responsibilities of each, it also defines the circumstances under which each component will have to change.  An architecture effectively classifies all possible changes into three categories, according to whether the change will precipitate a modification of one component only, of more than one component, or of something more drastic (such as change to the underlying architectural sty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31760" y="657360"/>
            <a:ext cx="4324320" cy="3240000"/>
          </a:xfrm>
          <a:prstGeom prst="rect">
            <a:avLst/>
          </a:prstGeom>
          <a:ln w="0">
            <a:noFill/>
          </a:ln>
        </p:spPr>
      </p:sp>
      <p:sp>
        <p:nvSpPr>
          <p:cNvPr id="27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c technique for achieving modifiability is to limit the knowledge tha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has of external modules.  This includes information hiding, layering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limiting knowledge of data producers about the consumer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and vice vers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functional decomposition and allocation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mall number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packaging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nd abstra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gn="just">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techniques for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31760" y="657360"/>
            <a:ext cx="4324320" cy="3240000"/>
          </a:xfrm>
          <a:prstGeom prst="rect">
            <a:avLst/>
          </a:prstGeom>
          <a:ln w="0">
            <a:noFill/>
          </a:ln>
        </p:spPr>
      </p:sp>
      <p:sp>
        <p:nvSpPr>
          <p:cNvPr id="272"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is the ability of a system to run under different computing environments.  These environments can be hardware, software, or a combination of the two.  A system is portable to the extent that all of the assumptions about any particular computing environment are confined to one component (or at worst, a small number of easily changed component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31760" y="657360"/>
            <a:ext cx="4324320" cy="3240000"/>
          </a:xfrm>
          <a:prstGeom prst="rect">
            <a:avLst/>
          </a:prstGeom>
          <a:ln w="0">
            <a:noFill/>
          </a:ln>
        </p:spPr>
      </p:sp>
      <p:sp>
        <p:nvSpPr>
          <p:cNvPr id="27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capsulation of platform-specific considerations in an architecture typically takes the form of a portability layer, a set of software services that gives application software an abstract interface to its environment.  This interface remains constant (thus insulating the application software from change) even though the implementation of that layer changes as the system is ported from environment to environment.  A portability layer results from a straightforward application of the design principle of information hid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31760" y="657360"/>
            <a:ext cx="4324320" cy="3240000"/>
          </a:xfrm>
          <a:prstGeom prst="rect">
            <a:avLst/>
          </a:prstGeom>
          <a:ln w="0">
            <a:noFill/>
          </a:ln>
        </p:spPr>
      </p:sp>
      <p:sp>
        <p:nvSpPr>
          <p:cNvPr id="276"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usually taken to mean designing a system so that the system’s structure or some of its components can be reused again in future applications.  Designing for reusability means that the system has been structured so that its components can be chosen from previously built products; reusing components reduces the time to market and costs of building and implementing future system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31760" y="657360"/>
            <a:ext cx="4324320" cy="3240000"/>
          </a:xfrm>
          <a:prstGeom prst="rect">
            <a:avLst/>
          </a:prstGeom>
          <a:ln w="0">
            <a:noFill/>
          </a:ln>
        </p:spPr>
      </p:sp>
      <p:sp>
        <p:nvSpPr>
          <p:cNvPr id="27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related to software architecture in that architectural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units of reuse, and how reusable a component is depends on how tigh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upled it is with other components.  A module is more reusable the fe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it makes about its environment.  Thus, the technique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ase modifiability (limiting knowledge) also increase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reus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ularity and minimization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n application frame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 product lin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31760" y="657360"/>
            <a:ext cx="4324320" cy="3240000"/>
          </a:xfrm>
          <a:prstGeom prst="rect">
            <a:avLst/>
          </a:prstGeom>
          <a:ln w="0">
            <a:noFill/>
          </a:ln>
        </p:spPr>
      </p:sp>
      <p:sp>
        <p:nvSpPr>
          <p:cNvPr id="280" name="PlaceHolder 2"/>
          <p:cNvSpPr>
            <a:spLocks noGrp="1"/>
          </p:cNvSpPr>
          <p:nvPr>
            <p:ph type="body"/>
          </p:nvPr>
        </p:nvSpPr>
        <p:spPr>
          <a:xfrm>
            <a:off x="907920" y="4213080"/>
            <a:ext cx="4734000" cy="3810240"/>
          </a:xfrm>
          <a:prstGeom prst="rect">
            <a:avLst/>
          </a:prstGeom>
          <a:noFill/>
          <a:ln w="0">
            <a:noFill/>
          </a:ln>
        </p:spPr>
        <p:txBody>
          <a:bodyPr lIns="85680" rIns="85680" tIns="42840" bIns="42840" anchor="t">
            <a:noAutofit/>
          </a:bodyPr>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the ability to make the separately developed components of th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work correctly together.  This in turn depends on the external complexity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components, their interaction mechanisms and protocols, and the degre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which responsibilities have been cleanly partitioned - all architecture-level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Integrability also depends on how well and completely the interfaces to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have been specified.</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grability include</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interface assumptions</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set of interaction mechanisms/protocols</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31760" y="657360"/>
            <a:ext cx="4324320" cy="3240000"/>
          </a:xfrm>
          <a:prstGeom prst="rect">
            <a:avLst/>
          </a:prstGeom>
          <a:ln w="0">
            <a:noFill/>
          </a:ln>
        </p:spPr>
      </p:sp>
      <p:sp>
        <p:nvSpPr>
          <p:cNvPr id="22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already seen, the structure of a system’s architecture matters, because it is the first opportunity for designing quality attributes into the system.  Because functionality - getting the system do what its end users want it to do - was the only requirement for acceptance, then architecture would not matter.  But because the mapping of the system’s functionality onto software structures is what determines which qualities can be supported (e.g., maintainability, portability across platforms, system security, and so on), architecture is a critical means for determining what qualities can be included in the system and where trade-offs must occur in the case of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lso influences other life cycle factors, such as development time and breakdown/coordination of work team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31760" y="657360"/>
            <a:ext cx="4324320" cy="3240000"/>
          </a:xfrm>
          <a:prstGeom prst="rect">
            <a:avLst/>
          </a:prstGeom>
          <a:ln w="0">
            <a:noFill/>
          </a:ln>
        </p:spPr>
      </p:sp>
      <p:sp>
        <p:nvSpPr>
          <p:cNvPr id="282"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ility refers to the ease with which software can be made to demonst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faults through (typically execution-based) testing.  In particular, test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s to the probability that, assuming that the software does have at least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 the software will fail on its next test execution.  For a system to be prope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le, it must be possible to control each component’s internal stat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and then to observe its outpu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lf-monitoring, capture, playback, and report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environment for execution (e.g., for embedd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simul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tools (that help in assessing code coverage and condition cover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31760" y="657360"/>
            <a:ext cx="4324320" cy="3240000"/>
          </a:xfrm>
          <a:prstGeom prst="rect">
            <a:avLst/>
          </a:prstGeom>
          <a:ln w="0">
            <a:noFill/>
          </a:ln>
        </p:spPr>
      </p:sp>
      <p:sp>
        <p:nvSpPr>
          <p:cNvPr id="28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architectural mechanisms for achieving test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formal specification of behavi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cilities for monitoring and debugg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error handling sche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lk through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pe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31760" y="657360"/>
            <a:ext cx="4324320" cy="3240000"/>
          </a:xfrm>
          <a:prstGeom prst="rect">
            <a:avLst/>
          </a:prstGeom>
          <a:ln w="0">
            <a:noFill/>
          </a:ln>
        </p:spPr>
      </p:sp>
      <p:sp>
        <p:nvSpPr>
          <p:cNvPr id="28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preceding qualities that apply directly to a system, there are a number of business quality goals that frequently shape a system’s architecture.  We will briefly examine three kinds of business goals:  cost and schedule, marketability, and organizational need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31760" y="657360"/>
            <a:ext cx="4324320" cy="3240000"/>
          </a:xfrm>
          <a:prstGeom prst="rect">
            <a:avLst/>
          </a:prstGeom>
          <a:ln w="0">
            <a:noFill/>
          </a:ln>
        </p:spPr>
      </p:sp>
      <p:sp>
        <p:nvSpPr>
          <p:cNvPr id="288" name="PlaceHolder 2"/>
          <p:cNvSpPr>
            <a:spLocks noGrp="1"/>
          </p:cNvSpPr>
          <p:nvPr>
            <p:ph type="body"/>
          </p:nvPr>
        </p:nvSpPr>
        <p:spPr>
          <a:xfrm>
            <a:off x="907560" y="4222440"/>
            <a:ext cx="48862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st</a:t>
            </a:r>
            <a:r>
              <a:rPr b="0" lang="en-US" sz="1000" spc="-1" strike="noStrike">
                <a:solidFill>
                  <a:srgbClr val="000000"/>
                </a:solidFill>
                <a:latin typeface="Arial"/>
              </a:rPr>
              <a:t>:  The development effort will naturally have a budget that must not be exceeded.  Different architectures will yield different development costs; for instance, an architecture that relies on technology or expertise that is not resident within the development organization will be more expensive to realize than one that takes advantages of assets already in-ho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 to market</a:t>
            </a:r>
            <a:r>
              <a:rPr b="0" lang="en-US" sz="1000" spc="-1" strike="noStrike">
                <a:solidFill>
                  <a:srgbClr val="000000"/>
                </a:solidFill>
                <a:latin typeface="Arial"/>
              </a:rPr>
              <a:t>:  If there is competitive pressure or if there is a short window of opportunity for a system or product, development time becomes important.  This, in turn, leads to pressure to buy or otherwise reuse existing components.  Time to market is often reduced by using prebuilt components such as commercial off-the-shelf (COTS) products or components reused from previous projects.  The ability to insert a component into a system depends on the decomposition of the system into components, one or more of which are pre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ed lifetime</a:t>
            </a:r>
            <a:r>
              <a:rPr b="0" lang="en-US" sz="1000" spc="-1" strike="noStrike">
                <a:solidFill>
                  <a:srgbClr val="000000"/>
                </a:solidFill>
                <a:latin typeface="Arial"/>
              </a:rPr>
              <a:t>:  If the system is intended to have a long lifetime, modifiability and portability across different platforms become important.  But building in the additional infrastructure (such as a portability layer) to support modifiability and portability will usually compromise time to market.  On the other hand, a modifiable, extensible product is more likely to survive longer in the marketplace, extending its life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tilization of legacy systems</a:t>
            </a:r>
            <a:r>
              <a:rPr b="0" lang="en-US" sz="1000" spc="-1" strike="noStrike">
                <a:solidFill>
                  <a:srgbClr val="000000"/>
                </a:solidFill>
                <a:latin typeface="Arial"/>
              </a:rPr>
              <a:t>:  If the new system must integrate with existing systems, care must be taken to define appropriate integration mechanisms.  The architectural constraints implied by this integration must be analyzed for potential effects on cost a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31760" y="657360"/>
            <a:ext cx="4324320" cy="3240000"/>
          </a:xfrm>
          <a:prstGeom prst="rect">
            <a:avLst/>
          </a:prstGeom>
          <a:ln w="0">
            <a:noFill/>
          </a:ln>
        </p:spPr>
      </p:sp>
      <p:sp>
        <p:nvSpPr>
          <p:cNvPr id="29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ize of market targeted by the architecture</a:t>
            </a:r>
            <a:r>
              <a:rPr b="0" lang="en-US" sz="1000" spc="-1" strike="noStrike">
                <a:solidFill>
                  <a:srgbClr val="000000"/>
                </a:solidFill>
                <a:latin typeface="Arial"/>
              </a:rPr>
              <a:t>:  For general-purpose (mass-market) software, the platforms on which a system runs as well as its feature set will determine the size of the potential market.  Thus, portability and functionality are key to market share.  Other qualities such as performance, reliability, and usability also play a role.  For a large but specific market, a product-line approach should be considered, in which a core of the system is common (frequently including provisions for portability) and around which layers of software of increasing specificity are constructed.  (Such an approach will be discussed in the CelsiusTech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pability of included functions</a:t>
            </a:r>
            <a:r>
              <a:rPr b="0" lang="en-US" sz="1000" spc="-1" strike="noStrike">
                <a:solidFill>
                  <a:srgbClr val="000000"/>
                </a:solidFill>
                <a:latin typeface="Arial"/>
              </a:rPr>
              <a:t>:  If a product is to be introduced as base functionality with many options, flexibility and customizability are important.  Particularly, the system must be constructed with ease of expansion and contrac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eting plans (e.g., incremental release versus total release)</a:t>
            </a:r>
            <a:r>
              <a:rPr b="0" lang="en-US" sz="1000" spc="-1" strike="noStrike">
                <a:solidFill>
                  <a:srgbClr val="000000"/>
                </a:solidFill>
                <a:latin typeface="Arial"/>
              </a:rPr>
              <a:t>:  A system to be released incrementally can use the uses structure to identify coherent groups of functionality that can be released together.</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31760" y="657360"/>
            <a:ext cx="4324320" cy="3240000"/>
          </a:xfrm>
          <a:prstGeom prst="rect">
            <a:avLst/>
          </a:prstGeom>
          <a:ln w="0">
            <a:noFill/>
          </a:ln>
        </p:spPr>
      </p:sp>
      <p:sp>
        <p:nvSpPr>
          <p:cNvPr id="292" name="PlaceHolder 2"/>
          <p:cNvSpPr>
            <a:spLocks noGrp="1"/>
          </p:cNvSpPr>
          <p:nvPr>
            <p:ph type="body"/>
          </p:nvPr>
        </p:nvSpPr>
        <p:spPr>
          <a:xfrm>
            <a:off x="90792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priateness for organization issu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of work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ignment of team structure and softwar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ill set of the available workforce will determine the architectural mechanis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re used in the design.  For example, if the workforce has littl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Web-based development, then the utilization of sophisticate Web serv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ght be too much of a stretch.</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31760" y="657360"/>
            <a:ext cx="4324320" cy="3240000"/>
          </a:xfrm>
          <a:prstGeom prst="rect">
            <a:avLst/>
          </a:prstGeom>
          <a:ln w="0">
            <a:noFill/>
          </a:ln>
        </p:spPr>
      </p:sp>
      <p:sp>
        <p:nvSpPr>
          <p:cNvPr id="29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qualities about the system and those related to the business environment, there are also qualities related directly to the architecture itself that are important to achieve.  We will briefly discuss three:  conceptual integrity, correctness and completeness, and buildabilit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31760" y="657360"/>
            <a:ext cx="4324320" cy="3240000"/>
          </a:xfrm>
          <a:prstGeom prst="rect">
            <a:avLst/>
          </a:prstGeom>
          <a:ln w="0">
            <a:noFill/>
          </a:ln>
        </p:spPr>
      </p:sp>
      <p:sp>
        <p:nvSpPr>
          <p:cNvPr id="29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he underlying theme or vision that unifies the design of the system at all levels.  The architecture should do similar things in similar w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ed Brooks writes that conceptual integrity is the most important aspect of a system:  “Conceptual integrity is central to product quality.  Having a system architect is the most important single step towar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ypically achieved by using either a single architect or a small, well-coordinated architecture team.  For a team approach, Brooks insists that having a separate architect is critical, even on teams as small as four peopl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31760" y="657360"/>
            <a:ext cx="4324320" cy="3240000"/>
          </a:xfrm>
          <a:prstGeom prst="rect">
            <a:avLst/>
          </a:prstGeom>
          <a:ln w="0">
            <a:noFill/>
          </a:ln>
        </p:spPr>
      </p:sp>
      <p:sp>
        <p:nvSpPr>
          <p:cNvPr id="29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rrectness and completeness</a:t>
            </a:r>
            <a:r>
              <a:rPr b="0" lang="en-US" sz="1000" spc="-1" strike="noStrike">
                <a:solidFill>
                  <a:srgbClr val="000000"/>
                </a:solidFill>
                <a:latin typeface="Arial"/>
              </a:rPr>
              <a:t> means that an architecture should allow for the satisfaction of all requirements.  These qualities are essential for the architecture to allow for the meeting of all behavioral and quality requirements and runtime resource constrai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is the quality of the architecture that allows the system to be completed by the available team in a timely manner with available resources, and to be open to certain changes as the system development progresses.  Buildability is the ease of constructing a desired system.  It is usually measured in terms of cost and time.  Thus, there is a relationship between the buildability quality and various cost models.  However, buildability is usually more complex that what is usually covered in the cost models.  A system is created from certain materials, and these materials are composed using a variety of tools.  So one element of buildability is the match between the materials that are to be used in the system and the tools that are available to manipulate these materials.  Another aspect of buildability is the state of knowledge about the problem to be solved.  Thus, a design that casts a solution in terms of well-understood concepts is more buildable than a design that introduces new concept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31760" y="657360"/>
            <a:ext cx="4324320" cy="3240000"/>
          </a:xfrm>
          <a:prstGeom prst="rect">
            <a:avLst/>
          </a:prstGeom>
          <a:ln w="0">
            <a:noFill/>
          </a:ln>
        </p:spPr>
      </p:sp>
      <p:sp>
        <p:nvSpPr>
          <p:cNvPr id="30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arge, complex systems, there are many requirements which are often conflicting or mutually exclusive.  In such systems, the quality attributes are principally determined by their architecture, which dictates those qualities that will be emphasized and those that will be minimized.  Thus, to build the most effective system possible, we should analyze the desired attributes </a:t>
            </a:r>
            <a:r>
              <a:rPr b="0" lang="en-US" sz="1000" spc="-1" strike="noStrike" u="sng">
                <a:solidFill>
                  <a:srgbClr val="000000"/>
                </a:solidFill>
                <a:uFillTx/>
                <a:latin typeface="Arial"/>
              </a:rPr>
              <a:t>before</a:t>
            </a:r>
            <a:r>
              <a:rPr b="0" lang="en-US" sz="1000" spc="-1" strike="noStrike">
                <a:solidFill>
                  <a:srgbClr val="000000"/>
                </a:solidFill>
                <a:latin typeface="Arial"/>
              </a:rPr>
              <a:t> we build to ensure that the system achieves the desired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analysis is performed in isolation, in which one component or structure is analyzed separately from the others.  But because system attributes interact and all designs involve making trade-offs among the desired functionalities and attributes, the analysis should be at the system level:   all components, structures, and relations examined at the same time.  This will enable us to reason about the trade-offs that must be made, rather than allowing circumstances to dictate th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31760" y="657360"/>
            <a:ext cx="4324320" cy="3240000"/>
          </a:xfrm>
          <a:prstGeom prst="rect">
            <a:avLst/>
          </a:prstGeom>
          <a:ln w="0">
            <a:noFill/>
          </a:ln>
        </p:spPr>
      </p:sp>
      <p:sp>
        <p:nvSpPr>
          <p:cNvPr id="23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s no need to dwell on the various aspects of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class of system qualities here.  Just give a brief definition and move on</a:t>
            </a:r>
            <a:r>
              <a:rPr b="0" lang="en-US" sz="1000" spc="-1" strike="noStrike">
                <a:solidFill>
                  <a:srgbClr val="000000"/>
                </a:solidFill>
                <a:latin typeface="Arial"/>
              </a:rPr>
              <a: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define the term </a:t>
            </a:r>
            <a:r>
              <a:rPr b="0" lang="en-US" sz="1000" spc="-1" strike="noStrike" u="sng">
                <a:solidFill>
                  <a:srgbClr val="000000"/>
                </a:solidFill>
                <a:uFillTx/>
                <a:latin typeface="Arial"/>
              </a:rPr>
              <a:t>quality</a:t>
            </a:r>
            <a:r>
              <a:rPr b="0" lang="en-US" sz="1000" spc="-1" strike="noStrike">
                <a:solidFill>
                  <a:srgbClr val="000000"/>
                </a:solidFill>
                <a:latin typeface="Arial"/>
              </a:rPr>
              <a:t> as the fitness of a product for its intended use:  How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oes the product do what it was designed to do?</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four classes of system qualiti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Runtime qualities</a:t>
            </a:r>
            <a:r>
              <a:rPr b="0" lang="en-US" sz="1000" spc="-1" strike="noStrike">
                <a:solidFill>
                  <a:srgbClr val="000000"/>
                </a:solidFill>
                <a:latin typeface="Arial"/>
              </a:rPr>
              <a:t>:  These are qualities that can be observed and measured as the system executes (perhaps an infinite number of tim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Non-runtime qualities</a:t>
            </a:r>
            <a:r>
              <a:rPr b="0" lang="en-US" sz="1000" spc="-1" strike="noStrike">
                <a:solidFill>
                  <a:srgbClr val="000000"/>
                </a:solidFill>
                <a:latin typeface="Arial"/>
              </a:rPr>
              <a:t>:  These are qualities that cannot be observed and measured through system execu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Business qualities</a:t>
            </a:r>
            <a:r>
              <a:rPr b="0" lang="en-US" sz="1000" spc="-1" strike="noStrike">
                <a:solidFill>
                  <a:srgbClr val="000000"/>
                </a:solidFill>
                <a:latin typeface="Arial"/>
              </a:rPr>
              <a:t>:  These qualities are in addition to those that apply directly to a system, but are equally important in shaping a system’s architecture.  They concern issues such as cost and schedule, marketability, and organizational factors such as workforce avail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Architecture qualities</a:t>
            </a:r>
            <a:r>
              <a:rPr b="0" lang="en-US" sz="1000" spc="-1" strike="noStrike">
                <a:solidFill>
                  <a:srgbClr val="000000"/>
                </a:solidFill>
                <a:latin typeface="Arial"/>
              </a:rPr>
              <a:t>:  There are also qualities directly related to the architecture itself that are important to achieve.  These include the conceptual integrity of the system, architectural correctness and completeness, and build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31760" y="657360"/>
            <a:ext cx="4324320" cy="3240000"/>
          </a:xfrm>
          <a:prstGeom prst="rect">
            <a:avLst/>
          </a:prstGeom>
          <a:ln w="0">
            <a:noFill/>
          </a:ln>
        </p:spPr>
      </p:sp>
      <p:sp>
        <p:nvSpPr>
          <p:cNvPr id="30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31760" y="657360"/>
            <a:ext cx="4324320" cy="3240000"/>
          </a:xfrm>
          <a:prstGeom prst="rect">
            <a:avLst/>
          </a:prstGeom>
          <a:ln w="0">
            <a:noFill/>
          </a:ln>
        </p:spPr>
      </p:sp>
      <p:sp>
        <p:nvSpPr>
          <p:cNvPr id="30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31760" y="657360"/>
            <a:ext cx="4324320" cy="3240000"/>
          </a:xfrm>
          <a:prstGeom prst="rect">
            <a:avLst/>
          </a:prstGeom>
          <a:ln w="0">
            <a:noFill/>
          </a:ln>
        </p:spPr>
      </p:sp>
      <p:sp>
        <p:nvSpPr>
          <p:cNvPr id="30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31760" y="657360"/>
            <a:ext cx="4324320" cy="3240000"/>
          </a:xfrm>
          <a:prstGeom prst="rect">
            <a:avLst/>
          </a:prstGeom>
          <a:ln w="0">
            <a:noFill/>
          </a:ln>
        </p:spPr>
      </p:sp>
      <p:sp>
        <p:nvSpPr>
          <p:cNvPr id="23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system qualities can be observed and measured by examining the system at runtime.  These qualities include satisfaction of behavioral requirements, ease of use, whether required results are provided (and how quickly), system security, and avail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good opportunity to engage students.  Ask them to enumerate qualities, define the qualities enumerated, and provide architecture techniques for achieving these qualities.  Record student answers on a flip char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31760" y="657360"/>
            <a:ext cx="4324320" cy="3240000"/>
          </a:xfrm>
          <a:prstGeom prst="rect">
            <a:avLst/>
          </a:prstGeom>
          <a:ln w="0">
            <a:noFill/>
          </a:ln>
        </p:spPr>
      </p:sp>
      <p:sp>
        <p:nvSpPr>
          <p:cNvPr id="23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system qualities cannot be seen or measured by observing the system at runtime.  These include time to build, test, and integrate the system, cost, modifiability, time to market,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Qualities are useful to the extent that they can be measured.  Ask students how to measure runtime qualities (from the previous slide) and developmental (non-runtime) qualities (from this slide).  Then ask students how to predict the values of these measures (again, for both runtime and non-runtime/developmental qualiti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31760" y="657360"/>
            <a:ext cx="4324320" cy="3240000"/>
          </a:xfrm>
          <a:prstGeom prst="rect">
            <a:avLst/>
          </a:prstGeom>
          <a:ln w="0">
            <a:noFill/>
          </a:ln>
        </p:spPr>
      </p:sp>
      <p:sp>
        <p:nvSpPr>
          <p:cNvPr id="23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that can be supported by a system are largely dependent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decisions.  Because the user needs for any system can (and oft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 produce conflicting or mutually exclusive quality requirements, trade-off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Likewise, different qualities may manifest themselves differen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different phases of design, implementation, and deployment.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ant to realize that quality attributes exist within complex system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action can </a:t>
            </a:r>
            <a:r>
              <a:rPr b="0" lang="en-US" sz="1000" spc="-1" strike="noStrike" u="sng">
                <a:solidFill>
                  <a:srgbClr val="000000"/>
                </a:solidFill>
                <a:uFillTx/>
                <a:latin typeface="Arial"/>
              </a:rPr>
              <a:t>never</a:t>
            </a:r>
            <a:r>
              <a:rPr b="0" lang="en-US" sz="1000" spc="-1" strike="noStrike">
                <a:solidFill>
                  <a:srgbClr val="000000"/>
                </a:solidFill>
                <a:latin typeface="Arial"/>
              </a:rPr>
              <a:t> be achieved in iso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nowing something about one quality (or class of qualities) does not tell you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about other qualities (or classes of qualities).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that is highly modifiable may or may not be very fa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cure system may or may not be easily modifia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at unfailingly meet all of their runtime requirements may or may not have been prohibitively expensive to develop and may or may not be next to impossible to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ly modifiable systems may or may not be reliable (produce correct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o realize that in highly complex systems, a chang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or structure that improves one quality attribute may often affec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qualities that can be achieved, and to what ext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31760" y="657360"/>
            <a:ext cx="4324320" cy="3240000"/>
          </a:xfrm>
          <a:prstGeom prst="rect">
            <a:avLst/>
          </a:prstGeom>
          <a:ln w="0">
            <a:noFill/>
          </a:ln>
        </p:spPr>
      </p:sp>
      <p:sp>
        <p:nvSpPr>
          <p:cNvPr id="238" name="PlaceHolder 2"/>
          <p:cNvSpPr>
            <a:spLocks noGrp="1"/>
          </p:cNvSpPr>
          <p:nvPr>
            <p:ph type="body"/>
          </p:nvPr>
        </p:nvSpPr>
        <p:spPr>
          <a:xfrm>
            <a:off x="907920" y="4222440"/>
            <a:ext cx="47628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ugh architecture affects most qualities, it does not affect all </a:t>
            </a:r>
            <a:r>
              <a:rPr b="0" lang="en-US" sz="1000" spc="-1" strike="noStrike" u="sng">
                <a:solidFill>
                  <a:srgbClr val="000000"/>
                </a:solidFill>
                <a:uFillTx/>
                <a:latin typeface="Arial"/>
              </a:rPr>
              <a:t>aspects</a:t>
            </a:r>
            <a:r>
              <a:rPr b="0" lang="en-US" sz="1000" spc="-1" strike="noStrike">
                <a:solidFill>
                  <a:srgbClr val="000000"/>
                </a:solidFill>
                <a:latin typeface="Arial"/>
              </a:rPr>
              <a:t> of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many aspects of the quality of usability are not architectur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the user interface clear and easy to use is primarily a matter of getting the details correct.  Should you provide a radio button or a dialog box?  What screen layout is most intuitive?  What typeface is most clea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uch details matter tremendously to the end user and influence the usability, they are not architectural because they are almost always encapsulated within a single component.  This localization affects modifiability, not usab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31760" y="657360"/>
            <a:ext cx="4324320" cy="3240000"/>
          </a:xfrm>
          <a:prstGeom prst="rect">
            <a:avLst/>
          </a:prstGeom>
          <a:ln w="0">
            <a:noFill/>
          </a:ln>
        </p:spPr>
      </p:sp>
      <p:sp>
        <p:nvSpPr>
          <p:cNvPr id="240"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already noted that in the discussion of quality attributes, we must keep in mind that qualities in a complex system are complexly related, and their satisfaction can never be achieved in isolation.  The achievement of any quality will have an effect, sometimes negative and sometimes positive, on the achievement of other quality attributes.  Though qualities may be provided for in the architecture, the interaction of those qualities when the system is implemented may affect other opera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a system may be designed to implement both portability and fast performance.  The main technique for achieving portable software is to isolate system dependencies.  This isolation produces overhead into the system’s execution, typically in the form of process or procedure boundaries.  This, in turn, can hurt performance.  Though the architecture was meant to allow both qualities, the implementation of one had a negative effect on the 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0FE22C99-C8B6-44B5-A37D-646FDBF1948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0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1600" y="656604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EB851458-F67D-4149-BF0D-CE9F0BABFC4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0680" y="1663200"/>
            <a:ext cx="7746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r>
              <a:rPr b="0" lang="en-US" sz="4000" spc="-1" strike="noStrike">
                <a:solidFill>
                  <a:srgbClr val="ffffff"/>
                </a:solidFill>
                <a:latin typeface="Century Schoolbook"/>
              </a:rPr>
              <a:t> </a:t>
            </a:r>
            <a:br>
              <a:rPr sz="4000"/>
            </a:br>
            <a:r>
              <a:rPr b="0" lang="en-US" sz="3200" spc="-1" strike="noStrike">
                <a:solidFill>
                  <a:srgbClr val="ffffff"/>
                </a:solidFill>
                <a:latin typeface="Century Schoolbook"/>
              </a:rPr>
              <a:t>Chapter 4: Software Qualiti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47" name=""/>
          <p:cNvSpPr/>
          <p:nvPr/>
        </p:nvSpPr>
        <p:spPr>
          <a:xfrm>
            <a:off x="393840" y="1943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48" name=""/>
          <p:cNvGraphicFramePr/>
          <p:nvPr/>
        </p:nvGraphicFramePr>
        <p:xfrm>
          <a:off x="7920000" y="50760"/>
          <a:ext cx="1158840" cy="1282680"/>
        </p:xfrm>
        <a:graphic>
          <a:graphicData uri="http://schemas.openxmlformats.org/presentationml/2006/ole">
            <p:oleObj r:id="rId1" spid="">
              <p:embed/>
              <p:pic>
                <p:nvPicPr>
                  <p:cNvPr id="14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Functionality</a:t>
            </a:r>
            <a:endParaRPr b="0" lang="en-US" sz="3600" spc="-1" strike="noStrike">
              <a:solidFill>
                <a:srgbClr val="ffffff"/>
              </a:solidFill>
              <a:latin typeface="Century Schoolbook"/>
            </a:endParaRPr>
          </a:p>
        </p:txBody>
      </p:sp>
      <p:sp>
        <p:nvSpPr>
          <p:cNvPr id="151" name="PlaceHolder 2"/>
          <p:cNvSpPr>
            <a:spLocks noGrp="1"/>
          </p:cNvSpPr>
          <p:nvPr>
            <p:ph/>
          </p:nvPr>
        </p:nvSpPr>
        <p:spPr>
          <a:xfrm>
            <a:off x="923400" y="2201400"/>
            <a:ext cx="7301160" cy="407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do the work for which it was inten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requires components to interact, cooperate, and synchronize correc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argely orthogonal to the structure: the A-7E system showed this.  (Before A-7E, some people said avionics programs </a:t>
            </a:r>
            <a:r>
              <a:rPr b="1" i="1" lang="en-US" sz="2400" spc="-1" strike="noStrike">
                <a:solidFill>
                  <a:srgbClr val="ffffff"/>
                </a:solidFill>
                <a:latin typeface="Arial"/>
              </a:rPr>
              <a:t>could not</a:t>
            </a:r>
            <a:r>
              <a:rPr b="1" lang="en-US" sz="2400" spc="-1" strike="noStrike">
                <a:solidFill>
                  <a:srgbClr val="ffffff"/>
                </a:solidFill>
                <a:latin typeface="Arial"/>
              </a:rPr>
              <a:t> be built using information-hiding modu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3" name="PlaceHolder 2"/>
          <p:cNvSpPr>
            <a:spLocks noGrp="1"/>
          </p:cNvSpPr>
          <p:nvPr>
            <p:ph/>
          </p:nvPr>
        </p:nvSpPr>
        <p:spPr>
          <a:xfrm>
            <a:off x="898560" y="2163240"/>
            <a:ext cx="7991280" cy="445644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response time, utilization, and throughput behavior of the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tionability of 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ibility of allocation to hardwa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n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scheduling and monitoring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way of getting and relinquishing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facilities for modeling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ng environments and resource usages of various system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nalytic models, queuing theory, and/or simulation to determine latency, bottlenecks, and other meas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easurement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 monotonic analysis (RM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erformance evaluation (SP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a measure of a system’s ability to resist unauthorized attempts at usage or behavior modification, while still providing service to legitimate 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 monitoring mechanisms for intrusion det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ryption and decryp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number of points of entr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kernels and shel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220176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inspection or estimation metho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h as CERT’s ISRE metho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these techniques, one would try to ascertain how the system would respond to particular attack or misuse scenari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52200" y="2197080"/>
            <a:ext cx="7708680" cy="429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measure of the time that the system is up and running correctly; the length of time between failures and the length of time needed to resume operation after a fail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covery strateg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sions for managing unreliable transpo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munication paths</a:t>
            </a:r>
            <a:endParaRPr b="1" lang="en-US" sz="2400" spc="-1" strike="noStrike">
              <a:solidFill>
                <a:srgbClr val="ffffff"/>
              </a:solidFill>
              <a:latin typeface="Arial"/>
            </a:endParaRPr>
          </a:p>
        </p:txBody>
      </p:sp>
      <p:sp>
        <p:nvSpPr>
          <p:cNvPr id="161" name="PlaceHolder 2"/>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760" y="2201400"/>
            <a:ext cx="7547040" cy="4173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switching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of liveness and reporting fail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 fault raising, catching, and propaga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 recovery or startup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Markov modeling.  The mean time to failure and mean time to repair of critical components must be identified (typically measured) or estima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2226960"/>
            <a:ext cx="7890120" cy="41353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of use and of training the end users of the system.  Usability has five asp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bility: how is the software to learn; how easy is the documentation to 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does the software keep pace with the user’s task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 does the user feel good about using the syste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fulness: does the system communicate well and assist the user in resolving probl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does the user feel that the software is responding normally and consisten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220176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mock-up tools and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ser interface (UI) look and feel, and common UI toolk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yle guide and supporting framewor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ing cognitive walk throughs and prototypes of the 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ing user testing of prototypes or fully function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familiar with four classes of system qualities and examples from each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general way that qualities are achieved by architectural mea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2209320"/>
            <a:ext cx="7737480" cy="41943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wo or more systems to cooperate </a:t>
            </a:r>
            <a:r>
              <a:rPr b="1" i="1" lang="en-US" sz="2400" spc="-1" strike="noStrike">
                <a:solidFill>
                  <a:srgbClr val="ffffff"/>
                </a:solidFill>
                <a:latin typeface="Arial"/>
              </a:rPr>
              <a:t>at runtim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ing the external complexity of the components (i.e., interfaces, environmental, assumptions, pre- and post-condi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 and protoco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a universal naming schem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service fac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ful attention to component interf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2189160"/>
            <a:ext cx="7648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oftware architecture analysis method (SAAM).  Try to ass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developer identify system el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user identify system ele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74" name=""/>
          <p:cNvSpPr/>
          <p:nvPr/>
        </p:nvSpPr>
        <p:spPr>
          <a:xfrm>
            <a:off x="393840" y="2654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75" name=""/>
          <p:cNvGraphicFramePr/>
          <p:nvPr/>
        </p:nvGraphicFramePr>
        <p:xfrm>
          <a:off x="7920000" y="50760"/>
          <a:ext cx="1158840" cy="1282680"/>
        </p:xfrm>
        <a:graphic>
          <a:graphicData uri="http://schemas.openxmlformats.org/presentationml/2006/ole">
            <p:oleObj r:id="rId1" spid="">
              <p:embed/>
              <p:pic>
                <p:nvPicPr>
                  <p:cNvPr id="176"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1</a:t>
            </a:r>
            <a:endParaRPr b="0" lang="en-US" sz="3600" spc="-1" strike="noStrike">
              <a:solidFill>
                <a:srgbClr val="ffffff"/>
              </a:solidFill>
              <a:latin typeface="Century Schoolbook"/>
            </a:endParaRPr>
          </a:p>
        </p:txBody>
      </p:sp>
      <p:sp>
        <p:nvSpPr>
          <p:cNvPr id="17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a software system can accommodate changes to its software. Modifiability is perhaps most closely aligned to the architecture because of the locality principle: c</a:t>
            </a:r>
            <a:r>
              <a:rPr b="1" i="1" lang="en-US" sz="2400" spc="-1" strike="noStrike">
                <a:solidFill>
                  <a:srgbClr val="ffffff"/>
                </a:solidFill>
                <a:latin typeface="Arial"/>
              </a:rPr>
              <a:t>hanges confined to a single component are usually easier than changes to many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defines the components, architecture defines which changes are lo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2</a:t>
            </a:r>
            <a:endParaRPr b="0" lang="en-US" sz="3600" spc="-1" strike="noStrike">
              <a:solidFill>
                <a:srgbClr val="ffffff"/>
              </a:solidFill>
              <a:latin typeface="Century Schoolbook"/>
            </a:endParaRPr>
          </a:p>
        </p:txBody>
      </p:sp>
      <p:sp>
        <p:nvSpPr>
          <p:cNvPr id="180" name="PlaceHolder 2"/>
          <p:cNvSpPr>
            <a:spLocks noGrp="1"/>
          </p:cNvSpPr>
          <p:nvPr>
            <p:ph/>
          </p:nvPr>
        </p:nvSpPr>
        <p:spPr>
          <a:xfrm>
            <a:off x="939960" y="2197080"/>
            <a:ext cx="7657920" cy="4330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functional decomposition and allocation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small number of) patterns</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packaging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and abstraction</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upling the producers and consumers of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2" name="PlaceHolder 2"/>
          <p:cNvSpPr>
            <a:spLocks noGrp="1"/>
          </p:cNvSpPr>
          <p:nvPr>
            <p:ph/>
          </p:nvPr>
        </p:nvSpPr>
        <p:spPr>
          <a:xfrm>
            <a:off x="911160" y="2189160"/>
            <a:ext cx="730080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run under different computing environments.  These environments can be hardware, software, or a combination of the two.</a:t>
            </a:r>
            <a:endParaRPr b="1"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4" name="PlaceHolder 2"/>
          <p:cNvSpPr>
            <a:spLocks noGrp="1"/>
          </p:cNvSpPr>
          <p:nvPr>
            <p:ph/>
          </p:nvPr>
        </p:nvSpPr>
        <p:spPr>
          <a:xfrm>
            <a:off x="923400" y="2196720"/>
            <a:ext cx="7301160" cy="42577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network independent lay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interface standar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6"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degree to which existing components can be reused in new applications. Reusing components reduces time to market and cost of futur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rity and minimization of patt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frame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 product lin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Integrability</a:t>
            </a:r>
            <a:endParaRPr b="0" lang="en-US" sz="3600" spc="-1" strike="noStrike">
              <a:solidFill>
                <a:srgbClr val="ffffff"/>
              </a:solidFill>
              <a:latin typeface="Century Schoolbook"/>
            </a:endParaRPr>
          </a:p>
        </p:txBody>
      </p:sp>
      <p:sp>
        <p:nvSpPr>
          <p:cNvPr id="190" name="PlaceHolder 2"/>
          <p:cNvSpPr>
            <a:spLocks noGrp="1"/>
          </p:cNvSpPr>
          <p:nvPr>
            <p:ph/>
          </p:nvPr>
        </p:nvSpPr>
        <p:spPr>
          <a:xfrm>
            <a:off x="911160" y="2188800"/>
            <a:ext cx="7750080" cy="3830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to make the separately developed components of the system work correctly toge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interface assumption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protocol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Attribute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ago, people like Dijkstra and Parnas realized that in software, </a:t>
            </a:r>
            <a:r>
              <a:rPr b="1" i="1" lang="en-US" sz="2400" spc="-1" strike="noStrike">
                <a:solidFill>
                  <a:srgbClr val="ffffff"/>
                </a:solidFill>
                <a:latin typeface="Arial"/>
              </a:rPr>
              <a:t>structure matte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only criterion for acceptance was getting the right answer, we would not need architecture:  Unstructured, monolithic systems would suff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ther things also mat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of work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92" name="PlaceHolder 2"/>
          <p:cNvSpPr>
            <a:spLocks noGrp="1"/>
          </p:cNvSpPr>
          <p:nvPr>
            <p:ph/>
          </p:nvPr>
        </p:nvSpPr>
        <p:spPr>
          <a:xfrm>
            <a:off x="923760" y="2189160"/>
            <a:ext cx="7560000" cy="36021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software can be made to demonstrate its faul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f-monitoring, capture, playback, and reporting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environment for execution (e.g., for embedded syste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simulation tool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ing tools (that help in assessing code coverage and condition cover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94" name="PlaceHolder 2"/>
          <p:cNvSpPr>
            <a:spLocks noGrp="1"/>
          </p:cNvSpPr>
          <p:nvPr>
            <p:ph/>
          </p:nvPr>
        </p:nvSpPr>
        <p:spPr>
          <a:xfrm>
            <a:off x="923400" y="2189160"/>
            <a:ext cx="7301160" cy="3602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work for formal specification of behavi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ies for monitoring and debugg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r>
              <a:rPr b="0" lang="en-US" sz="2400" spc="-1" strike="noStrike">
                <a:solidFill>
                  <a:srgbClr val="ffffff"/>
                </a:solidFill>
                <a:latin typeface="Times New Roman"/>
              </a:rPr>
              <a:t> </a:t>
            </a:r>
            <a:r>
              <a:rPr b="1" lang="en-US" sz="2400" spc="-1" strike="noStrike">
                <a:solidFill>
                  <a:srgbClr val="ffffff"/>
                </a:solidFill>
                <a:latin typeface="Arial"/>
              </a:rPr>
              <a:t>error handl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k throug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9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97" name=""/>
          <p:cNvSpPr/>
          <p:nvPr/>
        </p:nvSpPr>
        <p:spPr>
          <a:xfrm>
            <a:off x="393840" y="3403440"/>
            <a:ext cx="444240" cy="12960"/>
          </a:xfrm>
          <a:prstGeom prst="line">
            <a:avLst/>
          </a:prstGeom>
          <a:ln w="25560">
            <a:solidFill>
              <a:srgbClr val="ffff00"/>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7920000" y="50760"/>
          <a:ext cx="1158840" cy="1282680"/>
        </p:xfrm>
        <a:graphic>
          <a:graphicData uri="http://schemas.openxmlformats.org/presentationml/2006/ole">
            <p:oleObj r:id="rId1" spid="">
              <p:embed/>
              <p:pic>
                <p:nvPicPr>
                  <p:cNvPr id="19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1</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and sche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ed life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ation of legac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2</a:t>
            </a:r>
            <a:endParaRPr b="0" lang="en-US" sz="3600" spc="-1" strike="noStrike">
              <a:solidFill>
                <a:srgbClr val="ffffff"/>
              </a:solidFill>
              <a:latin typeface="Century Schoolbook"/>
            </a:endParaRPr>
          </a:p>
        </p:txBody>
      </p:sp>
      <p:sp>
        <p:nvSpPr>
          <p:cNvPr id="2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 of market targeted by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bility of included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plans (e.g., incremental release versus total rel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3</a:t>
            </a:r>
            <a:endParaRPr b="0" lang="en-US" sz="3600" spc="-1" strike="noStrike">
              <a:solidFill>
                <a:srgbClr val="ffffff"/>
              </a:solidFill>
              <a:latin typeface="Century Schoolbook"/>
            </a:endParaRPr>
          </a:p>
        </p:txBody>
      </p:sp>
      <p:sp>
        <p:nvSpPr>
          <p:cNvPr id="2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priateness for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workfor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team structure and softwa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 qualities</a:t>
            </a:r>
            <a:endParaRPr b="1" lang="en-US" sz="2400" spc="-1" strike="noStrike">
              <a:solidFill>
                <a:srgbClr val="ffffff"/>
              </a:solidFill>
              <a:latin typeface="Arial"/>
            </a:endParaRPr>
          </a:p>
        </p:txBody>
      </p:sp>
      <p:sp>
        <p:nvSpPr>
          <p:cNvPr id="208" name=""/>
          <p:cNvSpPr/>
          <p:nvPr/>
        </p:nvSpPr>
        <p:spPr>
          <a:xfrm>
            <a:off x="393840" y="415296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209" name=""/>
          <p:cNvGraphicFramePr/>
          <p:nvPr/>
        </p:nvGraphicFramePr>
        <p:xfrm>
          <a:off x="7920000" y="50760"/>
          <a:ext cx="1158840" cy="1282680"/>
        </p:xfrm>
        <a:graphic>
          <a:graphicData uri="http://schemas.openxmlformats.org/presentationml/2006/ole">
            <p:oleObj r:id="rId1" spid="">
              <p:embed/>
              <p:pic>
                <p:nvPicPr>
                  <p:cNvPr id="21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1</a:t>
            </a:r>
            <a:endParaRPr b="0" lang="en-US" sz="3600" spc="-1" strike="noStrike">
              <a:solidFill>
                <a:srgbClr val="ffffff"/>
              </a:solidFill>
              <a:latin typeface="Century Schoolbook"/>
            </a:endParaRPr>
          </a:p>
        </p:txBody>
      </p:sp>
      <p:sp>
        <p:nvSpPr>
          <p:cNvPr id="212" name="PlaceHolder 2"/>
          <p:cNvSpPr>
            <a:spLocks noGrp="1"/>
          </p:cNvSpPr>
          <p:nvPr>
            <p:ph/>
          </p:nvPr>
        </p:nvSpPr>
        <p:spPr>
          <a:xfrm>
            <a:off x="910800" y="1778040"/>
            <a:ext cx="73184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A system is constructed from a small number of architectural structures that interact in a small number of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s argues that this is the most important aspect of a system. [Brooks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is typically achieved via a single architect, or a small, well-coordinated architecture tea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2</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ness/completeness: Architecture should allow satisfaction of all the (behavioral and quality)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ildability:” The system must be buildable with given resour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and Quality Attributes</a:t>
            </a:r>
            <a:endParaRPr b="0" lang="en-US" sz="3600" spc="-1" strike="noStrike">
              <a:solidFill>
                <a:srgbClr val="ffffff"/>
              </a:solidFill>
              <a:latin typeface="Century Schoolbook"/>
            </a:endParaRPr>
          </a:p>
        </p:txBody>
      </p:sp>
      <p:sp>
        <p:nvSpPr>
          <p:cNvPr id="21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s of </a:t>
            </a:r>
            <a:r>
              <a:rPr b="1" i="1" lang="en-US" sz="2400" spc="-1" strike="noStrike">
                <a:solidFill>
                  <a:srgbClr val="ffffff"/>
                </a:solidFill>
                <a:latin typeface="Arial"/>
              </a:rPr>
              <a:t>large</a:t>
            </a:r>
            <a:r>
              <a:rPr b="1" lang="en-US" sz="2400" spc="-1" strike="noStrike">
                <a:solidFill>
                  <a:srgbClr val="ffffff"/>
                </a:solidFill>
                <a:latin typeface="Arial"/>
              </a:rPr>
              <a:t> software systems are principally determined by their architectu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nalyze these attributes </a:t>
            </a:r>
            <a:r>
              <a:rPr b="1" i="1" lang="en-US" sz="2400" spc="-1" strike="noStrike">
                <a:solidFill>
                  <a:srgbClr val="ffffff"/>
                </a:solidFill>
                <a:latin typeface="Arial"/>
              </a:rPr>
              <a:t>before</a:t>
            </a:r>
            <a:r>
              <a:rPr b="1" lang="en-US" sz="2400" spc="-1" strike="noStrike">
                <a:solidFill>
                  <a:srgbClr val="ffffff"/>
                </a:solidFill>
                <a:latin typeface="Arial"/>
              </a:rPr>
              <a:t> we buil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re typically performed in iso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the attributes of a system intera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l</a:t>
            </a:r>
            <a:r>
              <a:rPr b="1" lang="en-US" sz="2400" spc="-1" strike="noStrike">
                <a:solidFill>
                  <a:srgbClr val="ffffff"/>
                </a:solidFill>
                <a:latin typeface="Arial"/>
              </a:rPr>
              <a:t> design involves trade-off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t>
            </a:r>
            <a:r>
              <a:rPr b="1" i="1" lang="en-US" sz="2400" spc="-1" strike="noStrike">
                <a:solidFill>
                  <a:srgbClr val="ffffff"/>
                </a:solidFill>
                <a:latin typeface="Arial"/>
              </a:rPr>
              <a:t>reason</a:t>
            </a:r>
            <a:r>
              <a:rPr b="1" lang="en-US" sz="2400" spc="-1" strike="noStrike">
                <a:solidFill>
                  <a:srgbClr val="ffffff"/>
                </a:solidFill>
                <a:latin typeface="Arial"/>
              </a:rPr>
              <a:t> about these trade-of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is the fitness of a product for its intended use.</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Runtime qualities: those that can be measured </a:t>
            </a:r>
            <a:r>
              <a:rPr b="1" lang="en-US" sz="2400" spc="-1" strike="noStrike">
                <a:solidFill>
                  <a:srgbClr val="ffffff"/>
                </a:solidFill>
                <a:latin typeface="Arial"/>
              </a:rPr>
              <a:t>	</a:t>
            </a:r>
            <a:r>
              <a:rPr b="1" lang="en-US" sz="2400" spc="-1" strike="noStrike">
                <a:solidFill>
                  <a:srgbClr val="ffffff"/>
                </a:solidFill>
                <a:latin typeface="Arial"/>
              </a:rPr>
              <a:t>as the system executes (perhaps an infinite </a:t>
            </a:r>
            <a:r>
              <a:rPr b="1" lang="en-US" sz="2400" spc="-1" strike="noStrike">
                <a:solidFill>
                  <a:srgbClr val="ffffff"/>
                </a:solidFill>
                <a:latin typeface="Arial"/>
              </a:rPr>
              <a:t>	</a:t>
            </a:r>
            <a:r>
              <a:rPr b="1" lang="en-US" sz="2400" spc="-1" strike="noStrike">
                <a:solidFill>
                  <a:srgbClr val="ffffff"/>
                </a:solidFill>
                <a:latin typeface="Arial"/>
              </a:rPr>
              <a:t>number of tim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Non-runtime qualities: those that cannot be </a:t>
            </a:r>
            <a:r>
              <a:rPr b="1" lang="en-US" sz="2400" spc="-1" strike="noStrike">
                <a:solidFill>
                  <a:srgbClr val="ffffff"/>
                </a:solidFill>
                <a:latin typeface="Arial"/>
              </a:rPr>
              <a:t>	</a:t>
            </a:r>
            <a:r>
              <a:rPr b="1" lang="en-US" sz="2400" spc="-1" strike="noStrike">
                <a:solidFill>
                  <a:srgbClr val="ffffff"/>
                </a:solidFill>
                <a:latin typeface="Arial"/>
              </a:rPr>
              <a:t>measured as the system execut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Architecture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3" name=""/>
          <p:cNvGraphicFramePr/>
          <p:nvPr/>
        </p:nvGraphicFramePr>
        <p:xfrm>
          <a:off x="7920000" y="50760"/>
          <a:ext cx="1158840" cy="1282680"/>
        </p:xfrm>
        <a:graphic>
          <a:graphicData uri="http://schemas.openxmlformats.org/presentationml/2006/ole">
            <p:oleObj r:id="rId1" spid="">
              <p:embed/>
              <p:pic>
                <p:nvPicPr>
                  <p:cNvPr id="134"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21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 applying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xecuting system (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 maintenance efforts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ies in all of the cla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220" name="PlaceHolder 2"/>
          <p:cNvSpPr>
            <a:spLocks noGrp="1"/>
          </p:cNvSpPr>
          <p:nvPr>
            <p:ph/>
          </p:nvPr>
        </p:nvSpPr>
        <p:spPr>
          <a:xfrm>
            <a:off x="939960" y="1778040"/>
            <a:ext cx="7238880" cy="449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for qualities ahead of time.  Build them into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understand the architectural aspects of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tight reins on the implementation to make sure that the contributions of the architecture are not under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7374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many other qualities of softwar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me that were not covered in this lecture?  Fo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when is it observable?  How is it measur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w is it analyzed?  With which other qualiti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most often interac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Brooks argues that conceptual integrity is a ke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successful systems.  Do you agre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of successful systems that have not had th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erty?  If so, what factors made those syste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anyway?  How would you go abou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suring a system to see if it meets Brook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cri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Measurable by Observing the System</a:t>
            </a:r>
            <a:endParaRPr b="0" lang="en-US" sz="3600" spc="-1" strike="noStrike">
              <a:solidFill>
                <a:srgbClr val="ffffff"/>
              </a:solidFill>
              <a:latin typeface="Century Schoolbook"/>
            </a:endParaRPr>
          </a:p>
        </p:txBody>
      </p:sp>
      <p:sp>
        <p:nvSpPr>
          <p:cNvPr id="136" name="PlaceHolder 2"/>
          <p:cNvSpPr>
            <a:spLocks noGrp="1"/>
          </p:cNvSpPr>
          <p:nvPr>
            <p:ph/>
          </p:nvPr>
        </p:nvSpPr>
        <p:spPr>
          <a:xfrm>
            <a:off x="911160" y="220176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do what was expected?</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it easy to u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compute the right answ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unauthorized user hack in to i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often does it crash or stop 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Not Measurable by Observing the System</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buil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tes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integr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did it co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easy will it be to modif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qualities are largely dependent on architectural deci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ing something about one quality provides no information about other qualiti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fast will a modifiable system ru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odifiable will a secure system b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hange in structure that improves one quality often affects the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1</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22273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most qualities, but not all aspects of all quali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radio buttons, dialog boxes, or command line input affects usability, but these decisions are not architectur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lating those decisions so that they are changeable is architectural, but that affects modifiability, not 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298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2</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only permit, not guarantee, any quality attribute: “What the architecture giveth, the implementation can taketh aw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6-11T18:02:57Z</cp:lastPrinted>
  <dcterms:modified xsi:type="dcterms:W3CDTF">1998-10-20T13:06:27Z</dcterms:modified>
  <cp:revision>343</cp:revision>
  <dc:subject/>
  <dc:title>Cover Slide Example</dc:title>
</cp:coreProperties>
</file>