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1F7F6221-F444-478C-9E6F-F2901E972620}"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33560" y="657360"/>
            <a:ext cx="4321080" cy="3240000"/>
          </a:xfrm>
          <a:prstGeom prst="rect">
            <a:avLst/>
          </a:prstGeom>
          <a:ln w="0">
            <a:noFill/>
          </a:ln>
        </p:spPr>
      </p:sp>
      <p:sp>
        <p:nvSpPr>
          <p:cNvPr id="16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30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re typically represented informally.  In the past few years, architecture description languages have emerged as a way of formally representing architectures.  Many such languages are being developed at research organizations, and a few are commercially available, but they will become increasingly important in the future.  This lecture discusses how to evaluate the suitability of architecture description languag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031760" y="657360"/>
            <a:ext cx="4324320" cy="3240000"/>
          </a:xfrm>
          <a:prstGeom prst="rect">
            <a:avLst/>
          </a:prstGeom>
          <a:ln w="0">
            <a:noFill/>
          </a:ln>
        </p:spPr>
      </p:sp>
      <p:sp>
        <p:nvSpPr>
          <p:cNvPr id="178"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that achieves all of the goals we enumerated for it must be a part of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ted development environment that supports the incremental addition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A generic scenario of how an ADL can be used to build a system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would be initially described through a textual or (more typically) graphical input procedure that is based on architectural styles and component types.  Major subsystems are described in terms of the information that they accept and produce.  A description of behavior is associated with each component, which might include the kinds of events they produce and respond to, timing information, and resource usage inform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 that describes the behavior of the system, perhaps via use cases or scenarios, or some more formal trace language, is entered and maintained along with the high level descrip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ose types of analyses that can be performed at this level of detail are performed.  Changes to the component types are allowed without the necessity of reentering any information that has already been furnish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ource estimates and descriptions for the ADL simulator or model analyzer are also entered into the ADL system.  These allow for further analyses, such as analyses of performance, availability, or secur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onents are refined, as necessary, for each type of analysis.  At any time a component can be viewed along with any information about that component entered this far and the results of any analyses that affect the compon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the system yields acceptable results for the different analyses, the components are refined into code.  The code, or at least the code templates, is generated where possible from the descriptions associated with the component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031760" y="657360"/>
            <a:ext cx="4324320" cy="3240000"/>
          </a:xfrm>
          <a:prstGeom prst="rect">
            <a:avLst/>
          </a:prstGeom>
          <a:ln w="0">
            <a:noFill/>
          </a:ln>
        </p:spPr>
      </p:sp>
      <p:sp>
        <p:nvSpPr>
          <p:cNvPr id="180"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ost compelling question to an architect about an ADL is, “Which ADL shoul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 choose for my project?”  Just as choosing the best architecture depends up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ting the goals for it, choosing the best ADL depends upon what the archite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shes to achieve by using it.  While we cannot give an answer to the question -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are rapidly emerging and evolving - we can give advice about how you c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swer this question for yourself:  Evaluate a candidate ADL against a se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bility criteri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ection of the lecture give a list of questions to ask about an ADL to see h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compares to other ADLs in terms of inherent capability, tool support, matur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other criteria.  ADLs can be evaluated or described by listing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ystem-oriented attributes</a:t>
            </a:r>
            <a:r>
              <a:rPr b="0" lang="en-US" sz="1000" spc="-1" strike="noStrike">
                <a:solidFill>
                  <a:srgbClr val="000000"/>
                </a:solidFill>
                <a:latin typeface="Arial"/>
              </a:rPr>
              <a:t>:  What kind of systems does the ADL help you buil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anguage-oriented attributes</a:t>
            </a:r>
            <a:r>
              <a:rPr b="0" lang="en-US" sz="1000" spc="-1" strike="noStrike">
                <a:solidFill>
                  <a:srgbClr val="000000"/>
                </a:solidFill>
                <a:latin typeface="Arial"/>
              </a:rPr>
              <a:t>:  What are the properties of the language itself?</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cess-oriented attributes</a:t>
            </a:r>
            <a:r>
              <a:rPr b="0" lang="en-US" sz="1000" spc="-1" strike="noStrike">
                <a:solidFill>
                  <a:srgbClr val="000000"/>
                </a:solidFill>
                <a:latin typeface="Arial"/>
              </a:rPr>
              <a:t>:  What support does the ADL provide for the development proces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031760" y="657360"/>
            <a:ext cx="4324320" cy="3240000"/>
          </a:xfrm>
          <a:prstGeom prst="rect">
            <a:avLst/>
          </a:prstGeom>
          <a:ln w="0">
            <a:noFill/>
          </a:ln>
        </p:spPr>
      </p:sp>
      <p:sp>
        <p:nvSpPr>
          <p:cNvPr id="182"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oriented attributes are related to the application system derived from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architecture that was encoded in the ADL.  Although all are attribute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d system, they reflect the ability of the ADL to produce such a 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oriented attributes characterize an ADL by enumerating the type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for which they are especially applicable or which they were intend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rt.  We characterize a system by its predominant architectural style, i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road taxonomic category such as real-time or distributed, and its applic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main.  Sample questions used to elicit system-oriented attributes with respect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al styles supported by an ADL include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suitable is the ADL for representing a particular type of application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well does the ADL allow description of various architectural sty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broad classes of systems (e.g., hard real-time, distributed, embedded systems with dynamic architectures) can have their architectures represented with the ADL?</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031760" y="657360"/>
            <a:ext cx="4324320" cy="3240000"/>
          </a:xfrm>
          <a:prstGeom prst="rect">
            <a:avLst/>
          </a:prstGeom>
          <a:ln w="0">
            <a:noFill/>
          </a:ln>
        </p:spPr>
      </p:sp>
      <p:sp>
        <p:nvSpPr>
          <p:cNvPr id="18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lso a large class of language-oriented attributes.  These are attribut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ADL itself, independent of the system(s) it is being used to develop.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attributes include the kind of information usually found in a langu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anual, if one exists.  Sample questions used to elicit the languag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iented attributes of an ADL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the syntax and semantics formally defi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es the ADL allow incomplete archite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kinds of information are represented?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ch architectural structures are represented?  What about inter-structure mapping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presentation control is provi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extensions are provi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well does the ADL represent variability in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well does the ADL capture rational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031760" y="657360"/>
            <a:ext cx="4324320" cy="3240000"/>
          </a:xfrm>
          <a:prstGeom prst="rect">
            <a:avLst/>
          </a:prstGeom>
          <a:ln w="0">
            <a:noFill/>
          </a:ln>
        </p:spPr>
      </p:sp>
      <p:sp>
        <p:nvSpPr>
          <p:cNvPr id="186" name="PlaceHolder 2"/>
          <p:cNvSpPr>
            <a:spLocks noGrp="1"/>
          </p:cNvSpPr>
          <p:nvPr>
            <p:ph type="body"/>
          </p:nvPr>
        </p:nvSpPr>
        <p:spPr>
          <a:xfrm>
            <a:off x="917640" y="4213080"/>
            <a:ext cx="48765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ss-oriented attributes tell how the ADL is used to create, validate, analyz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refine an architecture description and to build an applicant system.  Includ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attributes that measure or describe how or to what extent an ADL allow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dictive evaluation of the application with respect to that attribute.  They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lated to the semantics of the language that support analysis, evaluation,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rification of the architecture.  These attributes test whether the ADL contai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ough information to allow analysis of an architecture, and whether tool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loit the capability actually exis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are ignoring the distinction between a language and any tools or environment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rastructure to support it.  The likelihood that any organization would adopt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 but eschew all tool support for it, presumably preferring to write its own 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ed manually, is quite small.  Process-oriented attributes exist to explicit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cribe the reasoning ability provided by the language and the tool suppor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le to exploit that ability.  They answer whether the ADL is executable in an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e or just exists to facilitate human-to-human communic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ample questions used to elicit the process-oriented attributes of an ADL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oes the ADL have a text/graphical edit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the ADL import other descrip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here a syntax checker?  A semantics checker?  A completeness checker?  A browser?  A version control capabilit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two architectures be compa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analysis or synthesis capabilities are provi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an executable system be buil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est case generation suppor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documentation generation suppor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here a good user’s manual?</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031760" y="657360"/>
            <a:ext cx="4324320" cy="3240000"/>
          </a:xfrm>
          <a:prstGeom prst="rect">
            <a:avLst/>
          </a:prstGeom>
          <a:ln w="0">
            <a:noFill/>
          </a:ln>
        </p:spPr>
      </p:sp>
      <p:sp>
        <p:nvSpPr>
          <p:cNvPr id="18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031760" y="657360"/>
            <a:ext cx="4324320" cy="3240000"/>
          </a:xfrm>
          <a:prstGeom prst="rect">
            <a:avLst/>
          </a:prstGeom>
          <a:ln w="0">
            <a:noFill/>
          </a:ln>
        </p:spPr>
      </p:sp>
      <p:sp>
        <p:nvSpPr>
          <p:cNvPr id="19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031760" y="657360"/>
            <a:ext cx="4324320" cy="3240000"/>
          </a:xfrm>
          <a:prstGeom prst="rect">
            <a:avLst/>
          </a:prstGeom>
          <a:ln w="0">
            <a:noFill/>
          </a:ln>
        </p:spPr>
      </p:sp>
      <p:sp>
        <p:nvSpPr>
          <p:cNvPr id="16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031760" y="657360"/>
            <a:ext cx="4324320" cy="3240000"/>
          </a:xfrm>
          <a:prstGeom prst="rect">
            <a:avLst/>
          </a:prstGeom>
          <a:ln w="0">
            <a:noFill/>
          </a:ln>
        </p:spPr>
      </p:sp>
      <p:sp>
        <p:nvSpPr>
          <p:cNvPr id="16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seen how architecture can be used as the vehicle to achieve qualit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tributes important to a business enterprise.  Up to this point, the treatment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opics has been independent of any technology (or technique, for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tter) for describing or representing an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date, architectures have largely been represented by box-and-line drawing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which the nature of the components, their properties, the semantics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nections, and the behavior of the system as a whole are poorly (if at al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ed.  Even though such figures often give an intuitive picture of the syste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uction, they frequently convey no behavioral information about part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usually fail to answer such questions as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are the boxes?  Are they components?  Are they modules that exist only at design-time but are compiled together before runtim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do the connections mean?  Do they mean “send data to,” “sends control to,” “calls, “is a part of,” some combination of these, or something else?  What are the mechanisms used to fulfill these rela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architecture is important 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primary vehicle for stakeholder communic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rst artifact for managing quality attribu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basis of early analysis for qua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transferable model, a reusable asse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fore, it is important to find a standard, commonly understood way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resenting architectur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031760" y="657360"/>
            <a:ext cx="4324320" cy="3240000"/>
          </a:xfrm>
          <a:prstGeom prst="rect">
            <a:avLst/>
          </a:prstGeom>
          <a:ln w="0">
            <a:noFill/>
          </a:ln>
        </p:spPr>
      </p:sp>
      <p:sp>
        <p:nvSpPr>
          <p:cNvPr id="166"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f the purposes of an architecture listed on the previous slide would be better served if there were a standard notation - an architecture description language - for representing architectur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ch a language would enhance communication because both the author and the reader of the architectural description would share a common understanding, saving time spent asking clarifying questions about the drawings.  A language would support the analysis of early design decisions and would enable tools to be built to assist in the development process.  A language would provide a mechanism to construct the artifact that is to be transferred to subsequent systems; for example, it might be possible to generate executable code for (at least part of) a system based on its formal architectural description.  Finally, a formal architecture representation is more likely to be maintained and followed than an informal one, can more readily be consulted and treated as authoritative, and can more easily be transferred to to other projects as a core asse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031760" y="657360"/>
            <a:ext cx="4324320" cy="3240000"/>
          </a:xfrm>
          <a:prstGeom prst="rect">
            <a:avLst/>
          </a:prstGeom>
          <a:ln w="0">
            <a:noFill/>
          </a:ln>
        </p:spPr>
      </p:sp>
      <p:sp>
        <p:nvSpPr>
          <p:cNvPr id="16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surprisingly large variety of ADLs emerging from industrial and academic research groups.  A few ADLs are commercial products; a dozen or so are emerging from university environments.  Most trace their lineage to government research sponsorship.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y languages that were not intended to be ADLs, it turns out, are suitable for representing and analyzing an architecture to varying degrees.  At the high end is Modechart/Statechart; at the low end is Ada package specific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Have the students discuss why Ada package specifications might be considered an AD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031760" y="657360"/>
            <a:ext cx="4324320" cy="3240000"/>
          </a:xfrm>
          <a:prstGeom prst="rect">
            <a:avLst/>
          </a:prstGeom>
          <a:ln w="0">
            <a:noFill/>
          </a:ln>
        </p:spPr>
      </p:sp>
      <p:sp>
        <p:nvSpPr>
          <p:cNvPr id="170"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lie at the conceptual intersection among requirements, programming, and modeling languages, and yet they are distinct from all thre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inciple, ADLs differ from requirements languages because the latter describe problem spaces, whereas ADLs are rooted in the solution space.  In practice, requirements are often divided into behavioral chunks for ease of presentation, and languages for representing those behaviors are sometimes well suited to representing architectural components, even though that was not the original goal of the languag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inciple, ADLs differ from programming languages because the latter bind all architectural abstractions to specific point solutions, whereas ADLs intentionally suppress or vary such binding.  In practice, architecture is embodied in and recoverable from code, and many languages provide architecture-level structures of the system.  For example, Ada offers the ability to view a system just in terms of its package specifications, which are the interfaces of components.  However, Ada offers little or no architectural analytical capabilities are “wired” together.  We would not be comfortable claiming that Ada is an ADL, but it does offer an architectural stru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principle, ADLs differ from modeling languages because the latter are more concerned with the behaviors of the whole rather than of the parts; ADLs concentrate on representation of components.  In practice, many modeling languages allow the representation of cooperating components and can represent architectures reasonably wel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031760" y="657360"/>
            <a:ext cx="4324320" cy="3240000"/>
          </a:xfrm>
          <a:prstGeom prst="rect">
            <a:avLst/>
          </a:prstGeom>
          <a:ln w="0">
            <a:noFill/>
          </a:ln>
        </p:spPr>
      </p:sp>
      <p:sp>
        <p:nvSpPr>
          <p:cNvPr id="172" name="PlaceHolder 2"/>
          <p:cNvSpPr>
            <a:spLocks noGrp="1"/>
          </p:cNvSpPr>
          <p:nvPr>
            <p:ph type="body"/>
          </p:nvPr>
        </p:nvSpPr>
        <p:spPr>
          <a:xfrm>
            <a:off x="917640" y="4213080"/>
            <a:ext cx="490536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s that are today considered mainstream ADLs provide abstractions, structures, and analysis capabilities that are clearly architectural in nature;  they describe components, inter-component relations, inter-component communication, and externally visible properties of components.  This is in contrast to a programming or requirements language that tends to show other kinds of inform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alysis capabilities of ADLs include a discrete event simulator that uses behavioral information about each component to generate partially ordered event sets and a rate monotonic analyzer that uses black-box performance information about each component in order to compute schedulability.</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031760" y="657360"/>
            <a:ext cx="4324320" cy="3240000"/>
          </a:xfrm>
          <a:prstGeom prst="rect">
            <a:avLst/>
          </a:prstGeom>
          <a:ln w="0">
            <a:noFill/>
          </a:ln>
        </p:spPr>
      </p:sp>
      <p:sp>
        <p:nvSpPr>
          <p:cNvPr id="17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arly all ADLs have the following things in comm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feature a graphical syntax; most also have a textual form, and nearly all feature formally defined syntax and semantic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provide features for modeling distributed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handle data flow and control flow as interconnection mechanisms; other kinds of connections are less well support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feature the ability to represent hierarchical levels of detail and handle multiple instantiations of a template as a quick way to copy substructures during cre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provide little support for capturing design rationale and/or history, other than through general-purpose annotation mechanis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differ in their ability to handle variability or different instantiations of the same architectures.  All support component variability through simple rewrite capability, but few support maintaining different instantiations of the same architectures simultaneously.  That is, ADLs do not yet support product line architectures in a helpful wa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lack much in-depth industrial experience and real-world application.  This is a reflection of the assertion earlier that ADLs are common in the research community but have not yet widely reached common practi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Ls vary in their ability to support the specification of particular architectural styles.  Nearly all ADLs can represent pipe-and-filter architectures, either directly or indirectly.  Other styles do not fare as well.  Most provide hierarchical structuring of components and can represent objects, but few can handle object-oriented class inheritance.  Few handle dynamic architectur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031760" y="657360"/>
            <a:ext cx="4324320" cy="3240000"/>
          </a:xfrm>
          <a:prstGeom prst="rect">
            <a:avLst/>
          </a:prstGeom>
          <a:ln w="0">
            <a:noFill/>
          </a:ln>
        </p:spPr>
      </p:sp>
      <p:sp>
        <p:nvSpPr>
          <p:cNvPr id="176" name="PlaceHolder 2"/>
          <p:cNvSpPr>
            <a:spLocks noGrp="1"/>
          </p:cNvSpPr>
          <p:nvPr>
            <p:ph type="body"/>
          </p:nvPr>
        </p:nvSpPr>
        <p:spPr>
          <a:xfrm>
            <a:off x="917640" y="4213080"/>
            <a:ext cx="48765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fter considering the requirements for ADLs, and after seeing how ADL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emble and differ from each other, what can we conclude about what make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guage an ADL?  The following is a minimal set of requirements for a languag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be an AD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DL must be suitable for communicating an architecture to all interested stakehold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 of the architecture’s structures must be available through the ADL, including a range of static and dynamic architectural stru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nd connectors and their types must be identified in each of the structures, and the level of granularity of the information must be customizable for the readers of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support the tasks of architecture creation, refinement, and valid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must embody rules about what constitutes a complete or consistent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provide the ability to represent (even if indirectly) most of the common architectural sty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have the ability to provide structures of the system that express architectural information but at the same time suppress implementation or nonarchitectural inform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the language can express implementation-level information, it must contain capabilities for matching more than one implementation to the architecture-level structures of the system.  That is, it must support specification of families of implementations that all satisfy a common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DL must support either an analytical capability, based on architecture-level information, or a capability for quickly generating prototype implementa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2  - page </a:t>
            </a:r>
            <a:fld id="{FCBE528A-FA7A-4D3B-897C-F16F8B5BD076}"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3948480" y="6551640"/>
            <a:ext cx="1315800" cy="244800"/>
          </a:xfrm>
          <a:prstGeom prst="rect">
            <a:avLst/>
          </a:prstGeom>
          <a:noFill/>
          <a:ln w="0">
            <a:noFill/>
          </a:ln>
        </p:spPr>
        <p:style>
          <a:lnRef idx="0"/>
          <a:fillRef idx="0"/>
          <a:effectRef idx="0"/>
          <a:fontRef idx="minor"/>
        </p:style>
        <p:txBody>
          <a:bodyPr wrap="none" lIns="92160" rIns="92160" tIns="46080" bIns="46080" anchor="t">
            <a:spAutoFit/>
          </a:bodyPr>
          <a:p>
            <a:pPr lvl="4"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32040" y="4683240"/>
            <a:ext cx="731340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2  - page </a:t>
            </a:r>
            <a:fld id="{F49B4B73-F8E7-4DEB-BAA3-A58732D11E00}"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929960"/>
            <a:ext cx="798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2: Architecture Description  Languages</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ossible Scenarios for ADL Use</a:t>
            </a:r>
            <a:endParaRPr b="0" lang="en-US" sz="3600" spc="-1" strike="noStrike">
              <a:solidFill>
                <a:srgbClr val="ffffff"/>
              </a:solidFill>
              <a:latin typeface="Century Schoolbook"/>
            </a:endParaRPr>
          </a:p>
        </p:txBody>
      </p:sp>
      <p:sp>
        <p:nvSpPr>
          <p:cNvPr id="144" name="PlaceHolder 2"/>
          <p:cNvSpPr>
            <a:spLocks noGrp="1"/>
          </p:cNvSpPr>
          <p:nvPr>
            <p:ph/>
          </p:nvPr>
        </p:nvSpPr>
        <p:spPr>
          <a:xfrm>
            <a:off x="949320" y="185904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lly, ADLs are part of an integrated architecture-to-system development environmen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described initially in terms of architectural styles and component typ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 added among major compon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havioral specifications added (e.g., resource usage, event behavio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use cases” enter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performed (e.g., schedul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 analyzers run; simulations creat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description refin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de developed from generated templat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ack box test cases generated and ru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iteria for Choosing an ADL</a:t>
            </a:r>
            <a:endParaRPr b="0" lang="en-US" sz="3600" spc="-1" strike="noStrike">
              <a:solidFill>
                <a:srgbClr val="ffffff"/>
              </a:solidFill>
              <a:latin typeface="Century Schoolbook"/>
            </a:endParaRPr>
          </a:p>
        </p:txBody>
      </p:sp>
      <p:sp>
        <p:nvSpPr>
          <p:cNvPr id="146" name="PlaceHolder 2"/>
          <p:cNvSpPr>
            <a:spLocks noGrp="1"/>
          </p:cNvSpPr>
          <p:nvPr>
            <p:ph/>
          </p:nvPr>
        </p:nvSpPr>
        <p:spPr>
          <a:xfrm>
            <a:off x="923400" y="183348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DL should be evaluated using three kinds of criteri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oriented attributes: What kind of systems does the ADL help you buil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guage-oriented attributes: What are the properties of the language itsel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iented attributes: What support does the ADL provide for the development process?</a:t>
            </a:r>
            <a:endParaRPr b="1" lang="en-US" sz="2400" spc="-1" strike="noStrike">
              <a:solidFill>
                <a:srgbClr val="ffffff"/>
              </a:solidFill>
              <a:latin typeface="Arial"/>
            </a:endParaRPr>
          </a:p>
        </p:txBody>
      </p:sp>
      <p:graphicFrame>
        <p:nvGraphicFramePr>
          <p:cNvPr id="147" name=""/>
          <p:cNvGraphicFramePr/>
          <p:nvPr/>
        </p:nvGraphicFramePr>
        <p:xfrm>
          <a:off x="7920000" y="63360"/>
          <a:ext cx="1158840" cy="1282680"/>
        </p:xfrm>
        <a:graphic>
          <a:graphicData uri="http://schemas.openxmlformats.org/presentationml/2006/ole">
            <p:oleObj r:id="rId1" spid="">
              <p:embed/>
              <p:pic>
                <p:nvPicPr>
                  <p:cNvPr id="148" name="" descr=""/>
                  <p:cNvPicPr/>
                  <p:nvPr/>
                </p:nvPicPr>
                <p:blipFill>
                  <a:blip r:embed="rId2"/>
                  <a:stretch/>
                </p:blipFill>
                <p:spPr>
                  <a:xfrm>
                    <a:off x="7920000" y="633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Oriented ADL Attributes</a:t>
            </a:r>
            <a:endParaRPr b="0" lang="en-US" sz="3600" spc="-1" strike="noStrike">
              <a:solidFill>
                <a:srgbClr val="ffffff"/>
              </a:solidFill>
              <a:latin typeface="Century Schoolbook"/>
            </a:endParaRPr>
          </a:p>
        </p:txBody>
      </p:sp>
      <p:sp>
        <p:nvSpPr>
          <p:cNvPr id="150" name="PlaceHolder 2"/>
          <p:cNvSpPr>
            <a:spLocks noGrp="1"/>
          </p:cNvSpPr>
          <p:nvPr>
            <p:ph/>
          </p:nvPr>
        </p:nvSpPr>
        <p:spPr>
          <a:xfrm>
            <a:off x="923400" y="183348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ques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suitable is the ADL for representing a particular type of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ll does the ADL represent various architectural 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broad classes of systems does the ADL provide facilities for representin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ribut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bedded?</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29880" y="842760"/>
            <a:ext cx="7705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nguage-Oriented ADL Attributes</a:t>
            </a:r>
            <a:endParaRPr b="0" lang="en-US" sz="3600" spc="-1" strike="noStrike">
              <a:solidFill>
                <a:srgbClr val="ffffff"/>
              </a:solidFill>
              <a:latin typeface="Century Schoolbook"/>
            </a:endParaRPr>
          </a:p>
        </p:txBody>
      </p:sp>
      <p:sp>
        <p:nvSpPr>
          <p:cNvPr id="152" name="PlaceHolder 2"/>
          <p:cNvSpPr>
            <a:spLocks noGrp="1"/>
          </p:cNvSpPr>
          <p:nvPr>
            <p:ph/>
          </p:nvPr>
        </p:nvSpPr>
        <p:spPr>
          <a:xfrm>
            <a:off x="923400" y="1833480"/>
            <a:ext cx="75344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ques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the syntax and semantics formally defin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ADL allow incomplet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kinds of information are represente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architectural structures are represented?  What about inter-structure mapping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presentation control is provi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extensions are provid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ll does the ADL represent variability in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ll does the ADL capture rationa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cess-Oriented ADL Attributes</a:t>
            </a:r>
            <a:endParaRPr b="0" lang="en-US" sz="3600" spc="-1" strike="noStrike">
              <a:solidFill>
                <a:srgbClr val="ffffff"/>
              </a:solidFill>
              <a:latin typeface="Century Schoolbook"/>
            </a:endParaRPr>
          </a:p>
        </p:txBody>
      </p:sp>
      <p:sp>
        <p:nvSpPr>
          <p:cNvPr id="154" name="PlaceHolder 2"/>
          <p:cNvSpPr>
            <a:spLocks noGrp="1"/>
          </p:cNvSpPr>
          <p:nvPr>
            <p:ph/>
          </p:nvPr>
        </p:nvSpPr>
        <p:spPr>
          <a:xfrm>
            <a:off x="923760" y="1820880"/>
            <a:ext cx="76867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questio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ADL have a text/graphical edito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the ADL import other descriptio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syntax checker?  A semantics checker?  A completeness checker?  A browser?  A version control cap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two architectures be compar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nalysis or synthesis capabilities are provid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an executable system be buil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est case generation support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documentation generation supporte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a good user’s manu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156" name="PlaceHolder 2"/>
          <p:cNvSpPr>
            <a:spLocks noGrp="1"/>
          </p:cNvSpPr>
          <p:nvPr>
            <p:ph/>
          </p:nvPr>
        </p:nvSpPr>
        <p:spPr>
          <a:xfrm>
            <a:off x="923760" y="1782720"/>
            <a:ext cx="7839360" cy="4456080"/>
          </a:xfrm>
          <a:prstGeom prst="rect">
            <a:avLst/>
          </a:prstGeom>
          <a:noFill/>
          <a:ln w="0">
            <a:noFill/>
          </a:ln>
        </p:spPr>
        <p:txBody>
          <a:bodyPr lIns="0" rIns="0" tIns="0" bIns="0" anchor="t">
            <a:normAutofit fontScale="9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Ls are an emerging technology that will help </a:t>
            </a:r>
            <a:br>
              <a:rPr sz="2400"/>
            </a:br>
            <a:r>
              <a:rPr b="1" lang="en-US" sz="2400" spc="-1" strike="noStrike">
                <a:solidFill>
                  <a:srgbClr val="ffffff"/>
                </a:solidFill>
                <a:latin typeface="Arial"/>
              </a:rPr>
              <a:t>to bring formality and analysis to architectur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ADLs are not “industrial-strength.”</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ew (commercial products) have been used to model real systems of appreciable siz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 for using an ADL</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ambiguity</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 communicate the architecture to its stakeholder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e early tool-based analysis</a:t>
            </a:r>
            <a:endParaRPr b="1" lang="en-US" sz="2400" spc="-1" strike="noStrike">
              <a:solidFill>
                <a:srgbClr val="ffffff"/>
              </a:solidFill>
              <a:latin typeface="Arial"/>
            </a:endParaRPr>
          </a:p>
          <a:p>
            <a:pPr lvl="1" marL="324360" indent="-214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 a jump-start on developing cod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158" name="PlaceHolder 2"/>
          <p:cNvSpPr>
            <a:spLocks noGrp="1"/>
          </p:cNvSpPr>
          <p:nvPr>
            <p:ph/>
          </p:nvPr>
        </p:nvSpPr>
        <p:spPr>
          <a:xfrm>
            <a:off x="923760" y="1782720"/>
            <a:ext cx="78264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Ada lets you represent a system by its packag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pecifications, “hiding” the implementations,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very architectural notion.  Is Ada, therefore, a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 description language?  Why or wh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Are data flow diagrams an architecture descrip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anguage?  Why or why no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If you could choose one or two kinds of analys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an architecture description language coul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form for you, what would they b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architecture description languages (ADLs) as a response to the need for clearly communicating component requirements and architectural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in how ADLs address the problems generated by informal representations of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criteria for selecting an AD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presenting Architectures -1</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often communicate with box-and-line drawings.  These are useful as starting point, bu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ambiguous meaning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re the box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meaning of a conne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y no behavioral information about par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all the importance of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 vehicle for stakeholder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artifact for managing quality attribut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is of early analysis for qua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ferable model, reusable ass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presenting Architectures -2</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of those roles would be enhanced by a formal representation of an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no ambigu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clear vehicle for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es an artifact that tends to be maintain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behavioral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ngs tools to bear for early analysi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s with development: providing or filling in code templat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mponent communic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 behaviors such as fault toler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e Description Languages (ADLs)</a:t>
            </a:r>
            <a:endParaRPr b="0" lang="en-US" sz="3200" spc="-1" strike="noStrike">
              <a:solidFill>
                <a:srgbClr val="ffffff"/>
              </a:solidFill>
              <a:latin typeface="Century Schoolbook"/>
            </a:endParaRPr>
          </a:p>
        </p:txBody>
      </p:sp>
      <p:sp>
        <p:nvSpPr>
          <p:cNvPr id="134" name="PlaceHolder 2"/>
          <p:cNvSpPr>
            <a:spLocks noGrp="1"/>
          </p:cNvSpPr>
          <p:nvPr>
            <p:ph/>
          </p:nvPr>
        </p:nvSpPr>
        <p:spPr>
          <a:xfrm>
            <a:off x="936360" y="2061720"/>
            <a:ext cx="7800840" cy="4024440"/>
          </a:xfrm>
          <a:prstGeom prst="rect">
            <a:avLst/>
          </a:prstGeom>
          <a:noFill/>
          <a:ln w="0">
            <a:noFill/>
          </a:ln>
        </p:spPr>
        <p:txBody>
          <a:bodyPr lIns="0" rIns="0" tIns="0" bIns="0" anchor="t">
            <a:normAutofit fontScale="94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Ls are an emerging technological solution for the problem of representing and analyzing architectur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ADLs have emerged from</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vernment-sponsored research</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versity environments</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rcial development</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more languages that were not designed </a:t>
            </a:r>
            <a:br>
              <a:rPr sz="2400"/>
            </a:br>
            <a:r>
              <a:rPr b="1" lang="en-US" sz="2400" spc="-1" strike="noStrike">
                <a:solidFill>
                  <a:srgbClr val="ffffff"/>
                </a:solidFill>
                <a:latin typeface="Arial"/>
              </a:rPr>
              <a:t>to be ADLs can represent architectures usefully, to varying degrees.</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end example: Modechart/Statechart</a:t>
            </a:r>
            <a:endParaRPr b="1" lang="en-US" sz="2400" spc="-1" strike="noStrike">
              <a:solidFill>
                <a:srgbClr val="ffffff"/>
              </a:solidFill>
              <a:latin typeface="Arial"/>
            </a:endParaRPr>
          </a:p>
          <a:p>
            <a:pPr lvl="1" marL="317520" indent="-209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end example: Ada package specific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Genealogy of ADLs</a:t>
            </a:r>
            <a:endParaRPr b="0" lang="en-US" sz="3600" spc="-1" strike="noStrike">
              <a:solidFill>
                <a:srgbClr val="ffffff"/>
              </a:solidFill>
              <a:latin typeface="Century Schoolbook"/>
            </a:endParaRPr>
          </a:p>
        </p:txBody>
      </p:sp>
      <p:sp>
        <p:nvSpPr>
          <p:cNvPr id="13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Ls lie at the conceptual intersection of</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s languag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ed in problem space, not solution spac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often model behaviors of “chunks” of system, which resemble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ming languag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ill out all architectural abstraction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often provide architectural abstractions (e.g., packag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ling languag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rned with behaviors of the whol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can model behaviors of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mon Features of ADLs -1</a:t>
            </a:r>
            <a:endParaRPr b="0" lang="en-US" sz="3600" spc="-1" strike="noStrike">
              <a:solidFill>
                <a:srgbClr val="ffffff"/>
              </a:solidFill>
              <a:latin typeface="Century Schoolbook"/>
            </a:endParaRPr>
          </a:p>
        </p:txBody>
      </p:sp>
      <p:sp>
        <p:nvSpPr>
          <p:cNvPr id="13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ions provided are architectural in na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mponent rela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mponent communic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rnally visible properties of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sis relies on architecture-level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havior specifications yield simulations or verification (model-checking, theorem-prov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 information yields schedulability analysis, generated schedul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mon Features of ADLs -2</a:t>
            </a:r>
            <a:endParaRPr b="0" lang="en-US" sz="3600" spc="-1" strike="noStrike">
              <a:solidFill>
                <a:srgbClr val="ffffff"/>
              </a:solidFill>
              <a:latin typeface="Century Schoolbook"/>
            </a:endParaRPr>
          </a:p>
        </p:txBody>
      </p:sp>
      <p:sp>
        <p:nvSpPr>
          <p:cNvPr id="140" name="PlaceHolder 2"/>
          <p:cNvSpPr>
            <a:spLocks noGrp="1"/>
          </p:cNvSpPr>
          <p:nvPr>
            <p:ph/>
          </p:nvPr>
        </p:nvSpPr>
        <p:spPr>
          <a:xfrm>
            <a:off x="936720" y="1808280"/>
            <a:ext cx="730080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rvey of about a dozen ADLs found</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s on graphical syntax</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ility to model distributed 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for data flow and control flow as connection mechanisms </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ility to model hierarchical levels of detail</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upport for capturing design rational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upport for instantiation of generic architectures</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a:t>
            </a:r>
            <a:r>
              <a:rPr b="1" lang="en-US" sz="2400" spc="-1" strike="noStrike">
                <a:solidFill>
                  <a:srgbClr val="ffffff"/>
                </a:solidFill>
                <a:latin typeface="Arial"/>
              </a:rPr>
              <a:t> copies of this component</a:t>
            </a:r>
            <a:endParaRPr b="1" lang="en-US" sz="2400" spc="-1" strike="noStrike">
              <a:solidFill>
                <a:srgbClr val="ffffff"/>
              </a:solidFill>
              <a:latin typeface="Arial"/>
            </a:endParaRPr>
          </a:p>
          <a:p>
            <a:pPr lvl="2" marL="693720" indent="-241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meterized copy of that componen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ck of much industrial experience/us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tle support for dynamic architectur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DL Desiderata</a:t>
            </a:r>
            <a:endParaRPr b="0" lang="en-US" sz="3600" spc="-1" strike="noStrike">
              <a:solidFill>
                <a:srgbClr val="ffffff"/>
              </a:solidFill>
              <a:latin typeface="Century Schoolbook"/>
            </a:endParaRPr>
          </a:p>
        </p:txBody>
      </p:sp>
      <p:sp>
        <p:nvSpPr>
          <p:cNvPr id="142" name="PlaceHolder 2"/>
          <p:cNvSpPr>
            <a:spLocks noGrp="1"/>
          </p:cNvSpPr>
          <p:nvPr>
            <p:ph/>
          </p:nvPr>
        </p:nvSpPr>
        <p:spPr>
          <a:xfrm>
            <a:off x="949320" y="1846440"/>
            <a:ext cx="730080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DL should be capable of </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ng an architecture to all interested stakeholder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ing a wide variety of static and dynamic architectural structur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architecture creation, refinement, and validation; and facilitating implementation</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bodying completeness/consistency rul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ing common architectural styl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ressing non-architectural information</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families of system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architecture-based analysi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4-03T22:43:29Z</cp:lastPrinted>
  <dcterms:modified xsi:type="dcterms:W3CDTF">1998-10-20T13:58:57Z</dcterms:modified>
  <cp:revision>121</cp:revision>
  <dc:subject/>
  <dc:title>Cover Slide Example</dc:title>
</cp:coreProperties>
</file>