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483C8BDC-5B14-4BA0-955E-6AEE2F7E85F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30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ypically represented informally.  In the past few years, architecture description languages have emerged as a way of formally representing architectures.  Many such languages are being developed at research organizations, and a few are commercially available, but they will become increasingly important in the future.  This lecture discusses how to evaluate the suitability of architecture description languag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that achieves all of the goals we enumerated for it must be a part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ed development environment that supports the incremental addi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 generic scenario of how an ADL can be used to build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would be initially described through a textual or (more typically) graphical input procedure that is based on architectural styles and component types.  Major subsystems are described in terms of the information that they accept and produce.  A description of behavior is associated with each component, which might include the kinds of events they produce and respond to, timing information, and resource usage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that describes the behavior of the system, perhaps via use cases or scenarios, or some more formal trace language, is entered and maintained along with the high level descrip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types of analyses that can be performed at this level of detail are performed.  Changes to the component types are allowed without the necessity of reentering any information that has already been furnish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estimates and descriptions for the ADL simulator or model analyzer are also entered into the ADL system.  These allow for further analyses, such as analyses of performance, availability, or secur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refined, as necessary, for each type of analysis.  At any time a component can be viewed along with any information about that component entered this far and the results of any analyses that affect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system yields acceptable results for the different analyses, the components are refined into code.  The code, or at least the code templates, is generated where possible from the descriptions associated with the componen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st compelling question to an architect about an ADL is, “Which ADL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 choose for my project?”  Just as choosing the best architecture depends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ting the goals for it, choosing the best ADL depends upon what the archit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achieve by using it.  While we cannot give an answer to the question -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are rapidly emerging and evolving - we can give advice about how you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this question for yourself:  Evaluate a candidate ADL against a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ility criteri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of the lecture give a list of questions to ask about an ADL to see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compares to other ADLs in terms of inherent capability, tool support, matur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other criteria.  ADLs can be evaluated or described by list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oriented attributes</a:t>
            </a:r>
            <a:r>
              <a:rPr b="0" lang="en-US" sz="1000" spc="-1" strike="noStrike">
                <a:solidFill>
                  <a:srgbClr val="000000"/>
                </a:solidFill>
                <a:latin typeface="Arial"/>
              </a:rPr>
              <a:t>:  What kind of systems does the ADL help you bui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nguage-oriented attributes</a:t>
            </a:r>
            <a:r>
              <a:rPr b="0" lang="en-US" sz="1000" spc="-1" strike="noStrike">
                <a:solidFill>
                  <a:srgbClr val="000000"/>
                </a:solidFill>
                <a:latin typeface="Arial"/>
              </a:rPr>
              <a:t>:  What are the properties of the languag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cess-oriented attributes</a:t>
            </a:r>
            <a:r>
              <a:rPr b="0" lang="en-US" sz="1000" spc="-1" strike="noStrike">
                <a:solidFill>
                  <a:srgbClr val="000000"/>
                </a:solidFill>
                <a:latin typeface="Arial"/>
              </a:rPr>
              <a:t>:  What support does the ADL provide for the development proc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are related to the application system derive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that was encoded in the ADL.  Although all are attribut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d system, they reflect the ability of the ADL to produce such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characterize an ADL by enumerating the typ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for which they are especially applicable or which they were intend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We characterize a system by its predominant architectural style, i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road taxonomic category such as real-time or distributed, and its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main.  Sample questions used to elicit system-oriented attributes with respec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s supported by an ADL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suitable is the ADL for representing a particular type of application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allow description of various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broad classes of systems (e.g., hard real-time, distributed, embedded systems with dynamic architectures) can have their architectures represented with the AD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lso a large class of language-oriented attributes.  These are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ADL itself, independent of the system(s) it is being used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ttributes include the kind of information usually found in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anual, if one exists.  Sample questions used to elicit the langu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syntax and semantics formally defi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allow incomplete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kinds of information are represent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s are represented?  What about inter-structure mapping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presentation control is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xtension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represent variability i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capture rational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oriented attributes tell how the ADL is used to create, validate, analyz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refine an architecture description and to build an applicant system.  Includ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tributes that measure or describe how or to what extent an ADL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ve evaluation of the application with respect to that attribute.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ed to the semantics of the language that support analysis, evalu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ication of the architecture.  These attributes test whether the ADL contai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ough information to allow analysis of an architecture, and whether tool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oit the capability actually exi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gnoring the distinction between a language and any tools or environ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rastructure to support it.  The likelihood that any organization would adop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but eschew all tool support for it, presumably preferring to write its ow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ed manually, is quite small.  Process-oriented attributes exist to explici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be the reasoning ability provided by the language and the tool suppo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to exploit that ability.  They answer whether the ADL is executable in 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r just exists to facilitate human-to-human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mple questions used to elicit the process-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have a text/graphical edit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e ADL import other descri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yntax checker?  A semantics checker?  A completeness checker?  A browser?  A version control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wo architectures be compa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alysis or synthesis capabilitie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an executable system be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est case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ocumentation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good user’s manu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31760" y="657360"/>
            <a:ext cx="4324320" cy="3240000"/>
          </a:xfrm>
          <a:prstGeom prst="rect">
            <a:avLst/>
          </a:prstGeom>
          <a:ln w="0">
            <a:noFill/>
          </a:ln>
        </p:spPr>
      </p:sp>
      <p:sp>
        <p:nvSpPr>
          <p:cNvPr id="18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31760" y="657360"/>
            <a:ext cx="4324320" cy="3240000"/>
          </a:xfrm>
          <a:prstGeom prst="rect">
            <a:avLst/>
          </a:prstGeom>
          <a:ln w="0">
            <a:noFill/>
          </a:ln>
        </p:spPr>
      </p:sp>
      <p:sp>
        <p:nvSpPr>
          <p:cNvPr id="19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architecture can be used as the vehicle to achiev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important to a business enterprise.  Up to this point, the treatmen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opics has been independent of any technology (or technique, for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ter) for describing or representing an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ate, architectures have largely been represented by box-and-line drawing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which the nature of the components, their properties, the semant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nections, and the behavior of the system as a whole are poorly (if 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Even though such figures often give an intuitive picture of the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they frequently convey no behavioral information about par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usually fail to answer such questions a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re the boxes?  Are they components?  Are they modules that exist only at design-time but are compiled together before run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connections mean?  Do they mean “send data to,” “sends control to,” “calls, “is a part of,” some combination of these, or something else?  What are the mechanisms used to fulfill these rel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e is important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imary vehicle for stakeholder commun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artifact for manag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s of early analysis for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ferable model, a reusable ass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 it is important to find a standard, commonly understood w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ing architectur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purposes of an architecture listed on the previous slide would be better served if there were a standard notation - an architecture description language - for representing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language would enhance communication because both the author and the reader of the architectural description would share a common understanding, saving time spent asking clarifying questions about the drawings.  A language would support the analysis of early design decisions and would enable tools to be built to assist in the development process.  A language would provide a mechanism to construct the artifact that is to be transferred to subsequent systems; for example, it might be possible to generate executable code for (at least part of) a system based on its formal architectural description.  Finally, a formal architecture representation is more likely to be maintained and followed than an informal one, can more readily be consulted and treated as authoritative, and can more easily be transferred to to other projects as a core asse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surprisingly large variety of ADLs emerging from industrial and academic research groups.  A few ADLs are commercial products; a dozen or so are emerging from university environments.  Most trace their lineage to government research sponsorshi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languages that were not intended to be ADLs, it turns out, are suitable for representing and analyzing an architecture to varying degrees.  At the high end is Modechart/Statechart; at the low end is Ada package spec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ave the students discuss why Ada package specifications might be considered an AD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ie at the conceptual intersection among requirements, programming, and modeling languages, and yet they are distinct from all thre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requirements languages because the latter describe problem spaces, whereas ADLs are rooted in the solution space.  In practice, requirements are often divided into behavioral chunks for ease of presentation, and languages for representing those behaviors are sometimes well suited to representing architectural components, even though that was not the original goal of the langua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programming languages because the latter bind all architectural abstractions to specific point solutions, whereas ADLs intentionally suppress or vary such binding.  In practice, architecture is embodied in and recoverable from code, and many languages provide architecture-level structures of the system.  For example, Ada offers the ability to view a system just in terms of its package specifications, which are the interfaces of components.  However, Ada offers little or no architectural analytical capabilities are “wired” together.  We would not be comfortable claiming that Ada is an ADL, but it does offer an architectural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modeling languages because the latter are more concerned with the behaviors of the whole rather than of the parts; ADLs concentrate on representation of components.  In practice, many modeling languages allow the representation of cooperating components and can represent architectures reasonably wel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17640" y="4213080"/>
            <a:ext cx="49053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s that are today considered mainstream ADLs provide abstractions, structures, and analysis capabilities that are clearly architectural in nature;  they describe components, inter-component relations, inter-component communication, and externally visible properties of components.  This is in contrast to a programming or requirements language that tends to show other kinds of inform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capabilities of ADLs include a discrete event simulator that uses behavioral information about each component to generate partially ordered event sets and a rate monotonic analyzer that uses black-box performance information about each component in order to compute schedul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arly all ADLs have the following things in comm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a graphical syntax; most also have a textual form, and nearly all feature formally defined syntax and semantic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features for modeling distribut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andle data flow and control flow as interconnection mechanisms; other kinds of connections are less well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the ability to represent hierarchical levels of detail and handle multiple instantiations of a template as a quick way to copy substructures during cre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little support for capturing design rationale and/or history, other than through general-purpose annota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differ in their ability to handle variability or different instantiations of the same architectures.  All support component variability through simple rewrite capability, but few support maintaining different instantiations of the same architectures simultaneously.  That is, ADLs do not yet support product line architectures in a helpful w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ack much in-depth industrial experience and real-world application.  This is a reflection of the assertion earlier that ADLs are common in the research community but have not yet widely reached commo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vary in their ability to support the specification of particular architectural styles.  Nearly all ADLs can represent pipe-and-filter architectures, either directly or indirectly.  Other styles do not fare as well.  Most provide hierarchical structuring of components and can represent objects, but few can handle object-oriented class inheritance.  Few handle dynamic architect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considering the requirements for ADLs, and after seeing how AD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mble and differ from each other, what can we conclude about what mak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an ADL?  The following is a minimal set of requirements for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be an AD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L must be suitable for communicating an architecture to all interested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architecture’s structures must be available through the ADL, including a range of static and dynamic architectural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connectors and their types must be identified in each of the structures, and the level of granularity of the information must be customizable for the readers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the tasks of architecture creation, refinement, and valid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embody rules about what constitutes a complete or consisten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provide the ability to represent (even if indirectly) most of the common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have the ability to provide structures of the system that express architectural information but at the same time suppress implementation or nonarchitectural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language can express implementation-level information, it must contain capabilities for matching more than one implementation to the architecture-level structures of the system.  That is, it must support specification of families of implementations that all satisfy a commo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either an analytical capability, based on architecture-level information, or a capability for quickly generating prototype implemen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74846699-ADEA-494C-AB21-B727F8252FF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848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2040" y="468324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D2FA3815-76C0-4BF8-AE25-F14DCC3F9D7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2996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2: Architecture Description  Languag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ossible Scenarios for ADL Use</a:t>
            </a:r>
            <a:endParaRPr b="0" lang="en-US" sz="3600" spc="-1" strike="noStrike">
              <a:solidFill>
                <a:srgbClr val="ffffff"/>
              </a:solidFill>
              <a:latin typeface="Century Schoolbook"/>
            </a:endParaRPr>
          </a:p>
        </p:txBody>
      </p:sp>
      <p:sp>
        <p:nvSpPr>
          <p:cNvPr id="144" name="PlaceHolder 2"/>
          <p:cNvSpPr>
            <a:spLocks noGrp="1"/>
          </p:cNvSpPr>
          <p:nvPr>
            <p:ph/>
          </p:nvPr>
        </p:nvSpPr>
        <p:spPr>
          <a:xfrm>
            <a:off x="949320" y="185904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ADLs are part of an integrated architecture-to-system development environm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described initially in terms of architectural styles and component typ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added among major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al specifications added (e.g., resource usage, event behavi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use cases” ente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erformed (e.g., schedul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analyzers run; simulations crea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refin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 developed from generated templat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 box test cases generated and ru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iteria for Choosing an ADL</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evaluated using three kinds of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oriented attributes: What kind of systems does the ADL help you bui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oriented attributes: What are the properties of the language itsel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iented attributes: What support does the ADL provide for the development process?</a:t>
            </a:r>
            <a:endParaRPr b="1" lang="en-US" sz="2400" spc="-1" strike="noStrike">
              <a:solidFill>
                <a:srgbClr val="ffffff"/>
              </a:solidFill>
              <a:latin typeface="Arial"/>
            </a:endParaRPr>
          </a:p>
        </p:txBody>
      </p:sp>
      <p:graphicFrame>
        <p:nvGraphicFramePr>
          <p:cNvPr id="147" name=""/>
          <p:cNvGraphicFramePr/>
          <p:nvPr/>
        </p:nvGraphicFramePr>
        <p:xfrm>
          <a:off x="7920000" y="63360"/>
          <a:ext cx="1158840" cy="1282680"/>
        </p:xfrm>
        <a:graphic>
          <a:graphicData uri="http://schemas.openxmlformats.org/presentationml/2006/ole">
            <p:oleObj r:id="rId1" spid="">
              <p:embed/>
              <p:pic>
                <p:nvPicPr>
                  <p:cNvPr id="148" name="" descr=""/>
                  <p:cNvPicPr/>
                  <p:nvPr/>
                </p:nvPicPr>
                <p:blipFill>
                  <a:blip r:embed="rId2"/>
                  <a:stretch/>
                </p:blipFill>
                <p:spPr>
                  <a:xfrm>
                    <a:off x="7920000" y="633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Oriented ADL Attributes</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uitable is the ADL for representing a particular type of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ous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broad classes of systems does the ADL provide facilities for represent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edd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nguage-Oriented ADL Attributes</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833480"/>
            <a:ext cx="7534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 syntax and semantics formally def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allow incomplet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s of information are represen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chitectural structures are represented?  What about inter-structure mapping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presentation control is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extensions are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ability in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capture rationa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Oriented ADL Attributes</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760" y="1820880"/>
            <a:ext cx="7686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have a text/graphical edit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ADL import other descrip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yntax checker?  A semantics checker?  A completeness checker?  A browser?  A version control cap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wo architectures be compa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nalysis or synthesis capabilities are provid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executable system be buil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est case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cumentation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good user’s manu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760" y="1782720"/>
            <a:ext cx="78393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y that will help </a:t>
            </a:r>
            <a:br>
              <a:rPr sz="2400"/>
            </a:br>
            <a:r>
              <a:rPr b="1" lang="en-US" sz="2400" spc="-1" strike="noStrike">
                <a:solidFill>
                  <a:srgbClr val="ffffff"/>
                </a:solidFill>
                <a:latin typeface="Arial"/>
              </a:rPr>
              <a:t>to bring formality and analysis to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ADLs are not “industrial-strength.”</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commercial products) have been used to model real systems of appreciable siz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for using an ADL</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ambiguit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 communicate the architecture to its stakeholder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e early tool-based analysi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a jump-start on developing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da lets you represent a system by its packa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ications, “hiding” the implementations,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y architectural notion.  Is Ada, therefore,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description language?  Why or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re data flow diagrams an architecture descrip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nguage?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f you could choose one or two kinds of analys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n architecture description language c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 for you, what would they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architecture description languages (ADLs) as a response to the need for clearly communicating component requirements and architectural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how ADLs address the problems generated by informal representations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riteria for selecting an AD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often communicate with box-and-line drawings.  These are useful as starting point, b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mbiguous meaning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box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meaning of a conn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y no behavioral information about pa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the importance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vehicle for stakeholde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rtifact for manag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early analysis for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able model, reusable ass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ose roles would be enhanced by a formal representation of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ambigu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clear vehicle fo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an artifact that tends to be mainta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behavior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s tools to bear for early analys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development: providing or filling in code templat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behaviors such as fault toler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Description Languages (ADLs)</a:t>
            </a:r>
            <a:endParaRPr b="0" lang="en-US" sz="3200" spc="-1" strike="noStrike">
              <a:solidFill>
                <a:srgbClr val="ffffff"/>
              </a:solidFill>
              <a:latin typeface="Century Schoolbook"/>
            </a:endParaRPr>
          </a:p>
        </p:txBody>
      </p:sp>
      <p:sp>
        <p:nvSpPr>
          <p:cNvPr id="134" name="PlaceHolder 2"/>
          <p:cNvSpPr>
            <a:spLocks noGrp="1"/>
          </p:cNvSpPr>
          <p:nvPr>
            <p:ph/>
          </p:nvPr>
        </p:nvSpPr>
        <p:spPr>
          <a:xfrm>
            <a:off x="936360" y="2061720"/>
            <a:ext cx="7800840" cy="4024440"/>
          </a:xfrm>
          <a:prstGeom prst="rect">
            <a:avLst/>
          </a:prstGeom>
          <a:noFill/>
          <a:ln w="0">
            <a:noFill/>
          </a:ln>
        </p:spPr>
        <p:txBody>
          <a:bodyPr lIns="0" rIns="0" tIns="0" bIns="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ical solution for the problem of representing and analyzing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DLs have emerged from</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ment-sponsored research</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environment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developmen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 languages that were not designed </a:t>
            </a:r>
            <a:br>
              <a:rPr sz="2400"/>
            </a:br>
            <a:r>
              <a:rPr b="1" lang="en-US" sz="2400" spc="-1" strike="noStrike">
                <a:solidFill>
                  <a:srgbClr val="ffffff"/>
                </a:solidFill>
                <a:latin typeface="Arial"/>
              </a:rPr>
              <a:t>to be ADLs can represent architectures usefully, to varying degree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nd example: Modechart/Statechart</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nd example: Ada package specif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alogy of ADLs</a:t>
            </a:r>
            <a:endParaRPr b="0" lang="en-US" sz="36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lie at the conceptual intersection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ed in problem space, not solution spa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model behaviors of “chunks” of system, which resem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ll out all architectural abstract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provide architectural abstractions (e.g., pack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behaviors of the whol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an model behaviors of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1</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s provided are architectural in na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rel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ly visible propert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relies on architecture-leve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 specifications yield simulations or verification (model-checking, theorem-prov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information yields schedulability analysis, generated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2</a:t>
            </a:r>
            <a:endParaRPr b="0" lang="en-US" sz="3600" spc="-1" strike="noStrike">
              <a:solidFill>
                <a:srgbClr val="ffffff"/>
              </a:solidFill>
              <a:latin typeface="Century Schoolbook"/>
            </a:endParaRPr>
          </a:p>
        </p:txBody>
      </p:sp>
      <p:sp>
        <p:nvSpPr>
          <p:cNvPr id="140" name="PlaceHolder 2"/>
          <p:cNvSpPr>
            <a:spLocks noGrp="1"/>
          </p:cNvSpPr>
          <p:nvPr>
            <p:ph/>
          </p:nvPr>
        </p:nvSpPr>
        <p:spPr>
          <a:xfrm>
            <a:off x="936720" y="180828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rvey of about a dozen ADLs foun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graphical syntax</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distributed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data flow and control flow as connection mechanism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hierarchical levels of detail</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capturing design rational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instantiation of generic architectur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
            </a:r>
            <a:r>
              <a:rPr b="1" lang="en-US" sz="2400" spc="-1" strike="noStrike">
                <a:solidFill>
                  <a:srgbClr val="ffffff"/>
                </a:solidFill>
                <a:latin typeface="Arial"/>
              </a:rPr>
              <a:t> copies of this component</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copy of that compon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much industrial experience/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tle support for dynamic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L Desiderata</a:t>
            </a:r>
            <a:endParaRPr b="0" lang="en-US" sz="3600" spc="-1" strike="noStrike">
              <a:solidFill>
                <a:srgbClr val="ffffff"/>
              </a:solidFill>
              <a:latin typeface="Century Schoolbook"/>
            </a:endParaRPr>
          </a:p>
        </p:txBody>
      </p:sp>
      <p:sp>
        <p:nvSpPr>
          <p:cNvPr id="142" name="PlaceHolder 2"/>
          <p:cNvSpPr>
            <a:spLocks noGrp="1"/>
          </p:cNvSpPr>
          <p:nvPr>
            <p:ph/>
          </p:nvPr>
        </p:nvSpPr>
        <p:spPr>
          <a:xfrm>
            <a:off x="949320" y="184644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capable of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ng an architecture to all interested stakeholder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a wide variety of static and dynamic architectural structur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 creation, refinement, and validation; and facilitating implement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odying completeness/consistency ru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common architectural sty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ng non-architectural inform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families of system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based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2:43:29Z</cp:lastPrinted>
  <dcterms:modified xsi:type="dcterms:W3CDTF">1998-10-20T13:58:57Z</dcterms:modified>
  <cp:revision>121</cp:revision>
  <dc:subject/>
  <dc:title>Cover Slide Example</dc:title>
</cp:coreProperties>
</file>