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E3C677FB-6245-41C9-816A-6A20E56A7A4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2737D31B-DA78-4001-9016-C0600596A6B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a:t>
            </a:r>
            <a:r>
              <a:rPr b="1" lang="en-US" sz="1000" spc="-1" strike="noStrike">
                <a:solidFill>
                  <a:srgbClr val="b7b7b7"/>
                </a:solidFill>
                <a:latin typeface="Arial"/>
              </a:rPr>
              <a:t>Chapter 7  - page </a:t>
            </a:r>
            <a:fld id="{EF8103F1-560F-4962-8ADF-374DBBF1EA1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1144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452520" algn="ct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40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7: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3:03:33Z</dcterms:modified>
  <cp:revision>276</cp:revision>
  <dc:subject/>
  <dc:title>Cover Slide Example</dc:title>
</cp:coreProperties>
</file>