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CBBCDD9E-B23C-4CA3-8484-79A4B97D593A}"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3560" y="657360"/>
            <a:ext cx="4321080" cy="3240000"/>
          </a:xfrm>
          <a:prstGeom prst="rect">
            <a:avLst/>
          </a:prstGeom>
          <a:ln w="0">
            <a:noFill/>
          </a:ln>
        </p:spPr>
      </p:sp>
      <p:sp>
        <p:nvSpPr>
          <p:cNvPr id="335"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OMG) was created to address the goal of interoperability of products created by independent software vendors.  Specifically, the Common Objects Request Broker Architecture (CORBA) is an architecture to achieve this goal.  This lecture describes the business climate in which the OMG was created and how the various architectures, standards, and reference models that have designed (including CORBA and object management architecture) reflect those goal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is supported b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interface definition language (IDL) to describe objects in the OMA.  As the name suggests, IDL describes the interface, not the implementation details to object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Internet, inter-orb protocol (IIOP) to provide a standard “on the wire” representation for requests and respons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olvability is supported by partitioning specification into separately evolv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categories.  OMA has processes to introduce task forces and specia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est group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is support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B (CORBA) core and CORBAServices, which form a stable co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Facilities, which allow niche-specific extens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upport buildability, the OMA standardization process combin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etitive “request for proposal” approach for developing specifications with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 that selected applications have commercial-quality implemen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within a year of acceptanc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CORBA is an architecture for a component of the OMA.  CORB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s of an object request broker (ORB), which is the communications hear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OMA.   As such, the ORB is really the infrastructure of the infra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its specification is the most complex part of the OMA.  The ORB allow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s to interact and communicate, using various interface mechanis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fferent classes of objects in CORBA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Services, the most fundamental application building bloc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Facilities, higher-level services that reuse and extend the CORBAServices building blocks and introduce domain-specific building bloc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objects, the applications server that reuses and extends both CORBAServices and CORBAFaciliti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ifferentiates client from object implementation.  Clients are computer programs that make requests of services provided by an object implementation.  The object implementation can be a client of other application programs or objects.  Thus, it is also useful to distinguish between clients, which can be application programs or objects, and </a:t>
            </a:r>
            <a:r>
              <a:rPr b="0" lang="en-US" sz="1000" spc="-1" strike="noStrike" u="sng">
                <a:solidFill>
                  <a:srgbClr val="000000"/>
                </a:solidFill>
                <a:uFillTx/>
                <a:latin typeface="Arial"/>
              </a:rPr>
              <a:t>pure clients</a:t>
            </a:r>
            <a:r>
              <a:rPr b="0" lang="en-US" sz="1000" spc="-1" strike="noStrike">
                <a:solidFill>
                  <a:srgbClr val="000000"/>
                </a:solidFill>
                <a:latin typeface="Arial"/>
              </a:rPr>
              <a:t>, which are not objects and provide no services that can be accessed via an ORB.</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clients and object implementations use the same ORB interface (the same for ORBs from any vendor) to do ORB bookkeeping such as binding to an ORB and binding to an object implementation.  The individual clients and object implementations could use either a static interface where the interface is described at specification time and does not change for the life of the execution, or a dynamic interface where the client dynamically determines the details of the object implementation’s interface.  The dynamic interface contacts the ORB, whereas the static interface uses the basic object adaptor (BOA), which contains common notions of how to sent information to or get information from object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L portion of the ORB interface is identical for all ORB implementations.  It provides instance binding and object identification servi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L stubs and skeleton components are generated from IDL interface specifications that are specific to each object type.  The stub is called by the client, and the skeleton calls the appropriate implementation that was specified statically at specification 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ything done statically can also be done dynamically (though it is more complicated).  Dynamic invocation gives more flexibility, since the interface details are determined by the client at runtime.  However, dynamic invocation is also more problematic due to the possibility of runtime erro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bject interfaces are defined in ID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L allows language independence of objects and provides binding for C++, Smalltalk, Fortran, and others.  Use of IDL is a mechanism for dealing with interfaces among legacy systems, through “wrapping” (which we will discuss in greater detail later in the course).  IDL allows explicit publication of interfaces and dependency on only public proper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L syntax was chosen to resemble that of C++, the object language of choice.  Selecting a C++-like syntax for IDL made the task of generating C++ code from IDL simpler than it would have been had a more abstract IDL syntax been chosen.  The C++ flavor also satisfies the principle of least surprise ( i.e., don’t introduce new concepts where old ones will do).  Since C++ programmers constitute the largest object-oriented developer market, it was a logical choice for the IDL.  This choice also helped to achieve the desired quality attribute of buildability, by using available technology that worked well with existing development technolog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ed to bind to languages that are simpler than C++ requires that no overloading of method names is allow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n example of an IDL interface, using a hypothetical banking abstraction.  It contains a notion of “Account,” within which are notions of “Checking” and “Savings” accounts.  There are also varied types of values (deposits, withdrawals, interests etc.).  The IDL in this example allows a client to interface with a banking systems and his/her account specifics without having to know what language the bank system us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allowing clients and object implementors to access ORB servic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a an IDL, there is also a need to provide a means for object implemen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cess ORB functions.  That means that some way for the ORB to acce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 implementation must be established.  Specifically, the ORB must be 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tivate object implementations in response to requests from clien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ctivated, the ORB must be able to deliver those requests.  The mea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osen was to use object adapto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 adaptors provide the following services to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tion and interpretation of object references - acting as pointers to locate and activate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pping of object references to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ation and deactivation of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ocation of methods on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istration of object implementations - allows new objects to be regist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control for object implementation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ry CORBA-compliant implementation must have a special kind of object adaptor that provides a uniform approach for developing object implementations:  the basic object adaptor (BOA).</a:t>
            </a: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OA uses the remote procedure call (RPC) model to implement objects, where objects are implemented as server processes.</a:t>
            </a: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s for BOA were published early on by OMG, ensuring availability in the marketplac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ility of clients (pure clients and object implementations that make requests of other objects) to make requests of objects implemented using different  vendor ORBs is supported by the CORBA interoperability architecture.  It is interesting to note that although interoperability of ORBs is essential to achieving the broadest objectives of the OMA - to provide an open, multivendor infrastructure for component integration to compete with Microsoft’s single vendor solution - CORBA version 1 did not address this.  The delay in implementing the inter-ORB interoperation requirement allowed faster time to market for ORBs; the degree of vendor cooperation required might have delayed initial introduction of CORBA, so the OMG decided that it was better to get CORBA implementations into the marketplace first and worry about ORB interoperability la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version 2 (1995) specifies interoperability.  Because of the delay in specification, the system must introduce interoperability between vendors without affecting clients of existing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BA interoperability architecture uses concept of “bridge” protocol adaptors between objects.  (This concept will be discussed later in the course.)  The architecture mandated use of Internet inter-ORB protocol (IIO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RBs must support “half bridges” that convert object requests into IIOP (or IIOP into object requests).  When two ORBs interact, their half bridges work together to form a full bridge between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RBs use IIOP as a native protocol.  Others use different protocols.  The bridges act as “translators” between the internal protocols so that neither ORB has to be modified to interoper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ridge works like this:  the client request goes into ORB1 and is converted by its half bridge from ORB1’s native protocol to IIOP.  The request is then sent to ORB2, where it is converted by ORB2’s half bridge from IIOP to object implementation, the native protocol for ORB2.</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both the World Wide Web (WWW) and CORBA address interoperability, there are some fundamental differen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is based on a data model.  CORBA is based on software objects (that is, interoperability is based on having the name of an objec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relies totally on protocols such as HTTP or FTP; a machine that does not support such protocols cannot operate on the WWW.  CORBA protocols are more flexible, since the protocols are adapted both within and between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has no central control.  CORBA has a central “software bus” where objects are registered; a central control must sort objects to support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provides runtime linkage of one page to another.  With CORBA, interfaces are linked at specification time or la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17640" y="4213080"/>
            <a:ext cx="49147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OMG) was chartered in 1989 - not coincidentally, just one year after Microsoft established its Windows NT design team - to “create a component-based software marketplace.”  Of course, such a marketplace already existed, but it was “owned” by Microsoft.  The OMG envisioned a technology whereby applications (components) could execute on different platforms and operating systems, and yet interact.  This would be an alternative to Microsoft’s Object Linking and Embedding (OLE) and provide users with competition to the Microsoft application.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included most non-Microsoft vendors (IBM, Digital, Sun, and Hewlett-Packard, just to name a few).  OMG succeeded where others had failed in capturing the attention of independent software vendors and unifying the disparate complexity of open systems computing, through </a:t>
            </a:r>
            <a:r>
              <a:rPr b="0" lang="en-US" sz="1000" spc="-1" strike="noStrike" u="sng">
                <a:solidFill>
                  <a:srgbClr val="000000"/>
                </a:solidFill>
                <a:uFillTx/>
                <a:latin typeface="Arial"/>
              </a:rPr>
              <a:t>object management architecture</a:t>
            </a:r>
            <a:r>
              <a:rPr b="0" lang="en-US" sz="1000" spc="-1" strike="noStrike">
                <a:solidFill>
                  <a:srgbClr val="000000"/>
                </a:solidFill>
                <a:latin typeface="Arial"/>
              </a:rPr>
              <a:t> (the high-level view) and CORBA (common object request broker architecture, the architecture for one component of the OM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object management architecture and CORBA is shown abo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ustomers for OMA and CORBA were hardware and software vendors such as IBM, Digital, and Sun.  The end users were the independent software vendors.  The technical environment of the time consisted of Microsoft’s OLE (the competition) and object-oriented everything (design, analysis, databases, and so on).  The architects were members of a consortium, so they had a variety of backgroun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y attributes for the OMA and CORBA included implementation transparency, evolvability, interoperability, extensibility, buildability, and balanced specificity.  The architects were the OMG itself, and the final systems were all of the systems to be constructed based on CORBA and the OM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860400" y="4203360"/>
            <a:ext cx="4686480" cy="38098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ea underlying the OMG is that a component industry that is independ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 particular vendor’s infrastructure can be established, if certain quality goal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et.  These goal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support interoperation of objects implemented on different vendor implementations of the OMA and allow bridges for interoperability of the OMA to other technologies (including Microsoft technolog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olvability</a:t>
            </a:r>
            <a:r>
              <a:rPr b="0" lang="en-US" sz="1000" spc="-1" strike="noStrike">
                <a:solidFill>
                  <a:srgbClr val="000000"/>
                </a:solidFill>
                <a:latin typeface="Arial"/>
              </a:rPr>
              <a:t>: be responsive to the development of new object and distributed systems technologies and new market needs (i.e., be open to new services and facilities and accommodate interoperation of many kinds of object technolo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a:t>
            </a:r>
            <a:r>
              <a:rPr b="0" lang="en-US" sz="1000" spc="-1" strike="noStrike">
                <a:solidFill>
                  <a:srgbClr val="000000"/>
                </a:solidFill>
                <a:latin typeface="Arial"/>
              </a:rPr>
              <a:t>:  provide a stable, core set of component integration and interoperation services needed by most component developers, but be extensible for component integration services needed by market ni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ildability</a:t>
            </a:r>
            <a:r>
              <a:rPr b="0" lang="en-US" sz="1000" spc="-1" strike="noStrike">
                <a:solidFill>
                  <a:srgbClr val="000000"/>
                </a:solidFill>
                <a:latin typeface="Arial"/>
              </a:rPr>
              <a:t>:  be readily implemented with available technology, across different computing platforms, and work well with existing software development tools and practices, to allow a quick time to marke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MA describes what it means to be an object, how objects communicate with each other, and how applications can be made to interoperate through the use of standard object services.  The figure above depicts a high-level view of the OM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MA assumes three different types of objects:  objects that provide universally useful services (CORBAServices), objects that provide useful (but not universally useful) services (CORBAFacilities), and objects that provide application-specific services (application objects).  What differentiates these types of objects is the kinds of services they provide; however, they are all objects.  In the OMA, all objects communicate via an object request broker (ORB); CORBA defines a standard architecture (and services) required of OMA-compliant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rtitioning scheme outlined is important despite the fact that there are no objective criteria for determining whether an object is a CORBAService, CORBAFacility, or application object.  Instead, the partitioning scheme is meant to separate the kinds of services that are needed by most developers (CORBA-Services) from those that are more likely to be niche specific (CORBAFacilities are those likely to be used by a single application) and from the application itself (application objects).  All of these are separated from the services that are necessary to enable object communication - the OR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is an architecture for one component of the OMA, and it reflects the deeper technical requirements that related to buildability, implementation transparency, and interoperability.  It defines a standard architecture and services for OMA-compliant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B component of CORBA provides the communication services that are necessary to enable object communication.  These include remote method invocation, and event channels, among othe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Services are objects that provide universally useful services.  Som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aming service</a:t>
            </a:r>
            <a:r>
              <a:rPr b="0" lang="en-US" sz="1000" spc="-1" strike="noStrike">
                <a:solidFill>
                  <a:srgbClr val="000000"/>
                </a:solidFill>
                <a:latin typeface="Arial"/>
              </a:rPr>
              <a:t>:  provides the ability to bind a name to an object; similar to other forms of directory serv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ent service</a:t>
            </a:r>
            <a:r>
              <a:rPr b="0" lang="en-US" sz="1000" spc="-1" strike="noStrike">
                <a:solidFill>
                  <a:srgbClr val="000000"/>
                </a:solidFill>
                <a:latin typeface="Arial"/>
              </a:rPr>
              <a:t>:  supports asynchronous message-based communication among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sistent-object services</a:t>
            </a:r>
            <a:r>
              <a:rPr b="0" lang="en-US" sz="1000" spc="-1" strike="noStrike">
                <a:solidFill>
                  <a:srgbClr val="000000"/>
                </a:solidFill>
                <a:latin typeface="Arial"/>
              </a:rPr>
              <a:t>:  provide a means for retaining and managing the persistent state of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ransaction services</a:t>
            </a:r>
            <a:r>
              <a:rPr b="0" lang="en-US" sz="1000" spc="-1" strike="noStrike">
                <a:solidFill>
                  <a:srgbClr val="000000"/>
                </a:solidFill>
                <a:latin typeface="Arial"/>
              </a:rPr>
              <a:t>:  support multiple transaction models, including mandatory “flat” and optional “nested” transa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currency-control services</a:t>
            </a:r>
            <a:r>
              <a:rPr b="0" lang="en-US" sz="1000" spc="-1" strike="noStrike">
                <a:solidFill>
                  <a:srgbClr val="000000"/>
                </a:solidFill>
                <a:latin typeface="Arial"/>
              </a:rPr>
              <a:t>:  support concurrent, coordinated access to objects from multiple cli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Facilities are objects that provide useful, but higher-level and domai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 services.  The category of CORBAFacilities objects is not yet mature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ll define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9  - page </a:t>
            </a:r>
            <a:fld id="{A1ABEC41-6A84-4EA2-9BAE-00569236C2F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42840" y="463248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9  - page </a:t>
            </a:r>
            <a:fld id="{05F1DB9A-2895-4C58-89C3-CB6034DD9F10}"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866600"/>
            <a:ext cx="83044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9: CORBA - A Case Study of an Industry-Standard Infrastructure</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OMA Supports Qualities -1</a:t>
            </a:r>
            <a:endParaRPr b="0" lang="en-US" sz="3600" spc="-1" strike="noStrike">
              <a:solidFill>
                <a:srgbClr val="ffffff"/>
              </a:solidFill>
              <a:latin typeface="Century Schoolbook"/>
            </a:endParaRPr>
          </a:p>
        </p:txBody>
      </p:sp>
      <p:sp>
        <p:nvSpPr>
          <p:cNvPr id="195"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 definition language (IDL) used as common basis for object interfa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nter-orb protocol (IIOP) provides standard “on the wire” representation for request/respon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 specification partitioned into separately evolvable subcategor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OMA Supports Qualities -2</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core and CORBAServices provide stable co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Facilities allow niche-specific extens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ability: selected specifications must have commercial-quality implementations within one year of accept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a:t>
            </a:r>
            <a:endParaRPr b="0" lang="en-US" sz="3600" spc="-1" strike="noStrike">
              <a:solidFill>
                <a:srgbClr val="ffffff"/>
              </a:solidFill>
              <a:latin typeface="Century Schoolbook"/>
            </a:endParaRPr>
          </a:p>
        </p:txBody>
      </p:sp>
      <p:sp>
        <p:nvSpPr>
          <p:cNvPr id="199" name="PlaceHolder 2"/>
          <p:cNvSpPr>
            <a:spLocks noGrp="1"/>
          </p:cNvSpPr>
          <p:nvPr>
            <p:ph/>
          </p:nvPr>
        </p:nvSpPr>
        <p:spPr>
          <a:xfrm>
            <a:off x="939600" y="1668600"/>
            <a:ext cx="76834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s of ORB and various interface mechanisms that allow objects to interact via the ORB</a:t>
            </a:r>
            <a:endParaRPr b="1" lang="en-US" sz="2400" spc="-1" strike="noStrike">
              <a:solidFill>
                <a:srgbClr val="ffffff"/>
              </a:solidFill>
              <a:latin typeface="Arial"/>
            </a:endParaRPr>
          </a:p>
        </p:txBody>
      </p:sp>
      <p:sp>
        <p:nvSpPr>
          <p:cNvPr id="200" name=""/>
          <p:cNvSpPr/>
          <p:nvPr/>
        </p:nvSpPr>
        <p:spPr>
          <a:xfrm>
            <a:off x="814320" y="323856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858960" y="329076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823560" y="3297240"/>
            <a:ext cx="208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 objects</a:t>
            </a:r>
            <a:endParaRPr b="0" lang="en-US" sz="1800" spc="-1" strike="noStrike">
              <a:solidFill>
                <a:srgbClr val="ffffff"/>
              </a:solidFill>
              <a:latin typeface="Times New Roman"/>
            </a:endParaRPr>
          </a:p>
        </p:txBody>
      </p:sp>
      <p:sp>
        <p:nvSpPr>
          <p:cNvPr id="203" name=""/>
          <p:cNvSpPr/>
          <p:nvPr/>
        </p:nvSpPr>
        <p:spPr>
          <a:xfrm>
            <a:off x="806400" y="4784760"/>
            <a:ext cx="317808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851040" y="4829040"/>
            <a:ext cx="309060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459440" y="4840200"/>
            <a:ext cx="1872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Services</a:t>
            </a:r>
            <a:endParaRPr b="0" lang="en-US" sz="1800" spc="-1" strike="noStrike">
              <a:solidFill>
                <a:srgbClr val="ffffff"/>
              </a:solidFill>
              <a:latin typeface="Times New Roman"/>
            </a:endParaRPr>
          </a:p>
        </p:txBody>
      </p:sp>
      <p:sp>
        <p:nvSpPr>
          <p:cNvPr id="206" name=""/>
          <p:cNvSpPr/>
          <p:nvPr/>
        </p:nvSpPr>
        <p:spPr>
          <a:xfrm>
            <a:off x="5329080" y="4780080"/>
            <a:ext cx="31784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373720" y="4824360"/>
            <a:ext cx="309096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976000" y="4843440"/>
            <a:ext cx="188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Facilities</a:t>
            </a:r>
            <a:endParaRPr b="0" lang="en-US" sz="1800" spc="-1" strike="noStrike">
              <a:solidFill>
                <a:srgbClr val="ffffff"/>
              </a:solidFill>
              <a:latin typeface="Times New Roman"/>
            </a:endParaRPr>
          </a:p>
        </p:txBody>
      </p:sp>
      <p:grpSp>
        <p:nvGrpSpPr>
          <p:cNvPr id="209" name=""/>
          <p:cNvGrpSpPr/>
          <p:nvPr/>
        </p:nvGrpSpPr>
        <p:grpSpPr>
          <a:xfrm>
            <a:off x="2374920" y="4444920"/>
            <a:ext cx="41400" cy="301680"/>
            <a:chOff x="2374920" y="4444920"/>
            <a:chExt cx="41400" cy="301680"/>
          </a:xfrm>
        </p:grpSpPr>
        <p:sp>
          <p:nvSpPr>
            <p:cNvPr id="210" name=""/>
            <p:cNvSpPr/>
            <p:nvPr/>
          </p:nvSpPr>
          <p:spPr>
            <a:xfrm>
              <a:off x="2374920" y="444492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416320" y="449748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651200" y="3635280"/>
            <a:ext cx="9720" cy="339840"/>
            <a:chOff x="4651200" y="3635280"/>
            <a:chExt cx="9720" cy="339840"/>
          </a:xfrm>
        </p:grpSpPr>
        <p:sp>
          <p:nvSpPr>
            <p:cNvPr id="213" name=""/>
            <p:cNvSpPr/>
            <p:nvPr/>
          </p:nvSpPr>
          <p:spPr>
            <a:xfrm>
              <a:off x="4651200" y="3635280"/>
              <a:ext cx="0" cy="339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60920" y="3684600"/>
              <a:ext cx="0" cy="2509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6897600" y="4457880"/>
            <a:ext cx="41400" cy="301320"/>
            <a:chOff x="6897600" y="4457880"/>
            <a:chExt cx="41400" cy="301320"/>
          </a:xfrm>
        </p:grpSpPr>
        <p:sp>
          <p:nvSpPr>
            <p:cNvPr id="216" name=""/>
            <p:cNvSpPr/>
            <p:nvPr/>
          </p:nvSpPr>
          <p:spPr>
            <a:xfrm>
              <a:off x="6897600" y="4457880"/>
              <a:ext cx="0" cy="301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939000" y="451008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814320" y="401328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58960" y="406548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16040" y="407196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Architecture</a:t>
            </a:r>
            <a:endParaRPr b="0" lang="en-US" sz="3600" spc="-1" strike="noStrike">
              <a:solidFill>
                <a:srgbClr val="ffffff"/>
              </a:solidFill>
              <a:latin typeface="Century Schoolbook"/>
            </a:endParaRPr>
          </a:p>
        </p:txBody>
      </p:sp>
      <p:grpSp>
        <p:nvGrpSpPr>
          <p:cNvPr id="222" name=""/>
          <p:cNvGrpSpPr/>
          <p:nvPr/>
        </p:nvGrpSpPr>
        <p:grpSpPr>
          <a:xfrm>
            <a:off x="791640" y="1790640"/>
            <a:ext cx="7666560" cy="3651120"/>
            <a:chOff x="791640" y="1790640"/>
            <a:chExt cx="7666560" cy="3651120"/>
          </a:xfrm>
        </p:grpSpPr>
        <p:grpSp>
          <p:nvGrpSpPr>
            <p:cNvPr id="223" name=""/>
            <p:cNvGrpSpPr/>
            <p:nvPr/>
          </p:nvGrpSpPr>
          <p:grpSpPr>
            <a:xfrm>
              <a:off x="791640" y="1790640"/>
              <a:ext cx="7666560" cy="3651120"/>
              <a:chOff x="791640" y="1790640"/>
              <a:chExt cx="7666560" cy="3651120"/>
            </a:xfrm>
          </p:grpSpPr>
          <p:grpSp>
            <p:nvGrpSpPr>
              <p:cNvPr id="224" name=""/>
              <p:cNvGrpSpPr/>
              <p:nvPr/>
            </p:nvGrpSpPr>
            <p:grpSpPr>
              <a:xfrm>
                <a:off x="4723920" y="1790640"/>
                <a:ext cx="3734280" cy="2800440"/>
                <a:chOff x="4723920" y="1790640"/>
                <a:chExt cx="3734280" cy="2800440"/>
              </a:xfrm>
            </p:grpSpPr>
            <p:grpSp>
              <p:nvGrpSpPr>
                <p:cNvPr id="225" name=""/>
                <p:cNvGrpSpPr/>
                <p:nvPr/>
              </p:nvGrpSpPr>
              <p:grpSpPr>
                <a:xfrm>
                  <a:off x="6016680" y="3257640"/>
                  <a:ext cx="41400" cy="301680"/>
                  <a:chOff x="6016680" y="3257640"/>
                  <a:chExt cx="41400" cy="301680"/>
                </a:xfrm>
              </p:grpSpPr>
              <p:sp>
                <p:nvSpPr>
                  <p:cNvPr id="226" name=""/>
                  <p:cNvSpPr/>
                  <p:nvPr/>
                </p:nvSpPr>
                <p:spPr>
                  <a:xfrm>
                    <a:off x="6016680" y="325764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058080" y="330984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8" name=""/>
                <p:cNvGrpSpPr/>
                <p:nvPr/>
              </p:nvGrpSpPr>
              <p:grpSpPr>
                <a:xfrm>
                  <a:off x="6973920" y="3257640"/>
                  <a:ext cx="41400" cy="301680"/>
                  <a:chOff x="6973920" y="3257640"/>
                  <a:chExt cx="41400" cy="301680"/>
                </a:xfrm>
              </p:grpSpPr>
              <p:sp>
                <p:nvSpPr>
                  <p:cNvPr id="229" name=""/>
                  <p:cNvSpPr/>
                  <p:nvPr/>
                </p:nvSpPr>
                <p:spPr>
                  <a:xfrm>
                    <a:off x="6973920" y="325764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015320" y="330984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1" name=""/>
                <p:cNvGrpSpPr/>
                <p:nvPr/>
              </p:nvGrpSpPr>
              <p:grpSpPr>
                <a:xfrm>
                  <a:off x="4876920" y="2603520"/>
                  <a:ext cx="1245960" cy="641160"/>
                  <a:chOff x="4876920" y="2603520"/>
                  <a:chExt cx="1245960" cy="641160"/>
                </a:xfrm>
              </p:grpSpPr>
              <p:sp>
                <p:nvSpPr>
                  <p:cNvPr id="232" name=""/>
                  <p:cNvSpPr/>
                  <p:nvPr/>
                </p:nvSpPr>
                <p:spPr>
                  <a:xfrm>
                    <a:off x="4876920" y="2604960"/>
                    <a:ext cx="1245960" cy="63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923000" y="2646360"/>
                    <a:ext cx="1153800" cy="55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911480" y="2603520"/>
                    <a:ext cx="117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tatic ID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keleton</a:t>
                    </a:r>
                    <a:endParaRPr b="0" lang="en-US" sz="1800" spc="-1" strike="noStrike">
                      <a:solidFill>
                        <a:srgbClr val="ffffff"/>
                      </a:solidFill>
                      <a:latin typeface="Times New Roman"/>
                    </a:endParaRPr>
                  </a:p>
                </p:txBody>
              </p:sp>
            </p:grpSp>
            <p:grpSp>
              <p:nvGrpSpPr>
                <p:cNvPr id="235" name=""/>
                <p:cNvGrpSpPr/>
                <p:nvPr/>
              </p:nvGrpSpPr>
              <p:grpSpPr>
                <a:xfrm>
                  <a:off x="5857920" y="3548160"/>
                  <a:ext cx="1246320" cy="963360"/>
                  <a:chOff x="5857920" y="3548160"/>
                  <a:chExt cx="1246320" cy="963360"/>
                </a:xfrm>
              </p:grpSpPr>
              <p:sp>
                <p:nvSpPr>
                  <p:cNvPr id="236" name=""/>
                  <p:cNvSpPr/>
                  <p:nvPr/>
                </p:nvSpPr>
                <p:spPr>
                  <a:xfrm>
                    <a:off x="5857920" y="3548160"/>
                    <a:ext cx="1246320" cy="9633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904000" y="3589200"/>
                    <a:ext cx="1154160" cy="88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001200" y="3571920"/>
                    <a:ext cx="95760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s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dapter</a:t>
                    </a:r>
                    <a:endParaRPr b="0" lang="en-US" sz="1800" spc="-1" strike="noStrike">
                      <a:solidFill>
                        <a:srgbClr val="ffffff"/>
                      </a:solidFill>
                      <a:latin typeface="Times New Roman"/>
                    </a:endParaRPr>
                  </a:p>
                </p:txBody>
              </p:sp>
            </p:grpSp>
            <p:grpSp>
              <p:nvGrpSpPr>
                <p:cNvPr id="239" name=""/>
                <p:cNvGrpSpPr/>
                <p:nvPr/>
              </p:nvGrpSpPr>
              <p:grpSpPr>
                <a:xfrm>
                  <a:off x="5857920" y="1881360"/>
                  <a:ext cx="1246320" cy="366840"/>
                  <a:chOff x="5857920" y="1881360"/>
                  <a:chExt cx="1246320" cy="366840"/>
                </a:xfrm>
              </p:grpSpPr>
              <p:sp>
                <p:nvSpPr>
                  <p:cNvPr id="240" name=""/>
                  <p:cNvSpPr/>
                  <p:nvPr/>
                </p:nvSpPr>
                <p:spPr>
                  <a:xfrm>
                    <a:off x="6039000" y="188136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a:t>
                    </a:r>
                    <a:endParaRPr b="0" lang="en-US" sz="1800" spc="-1" strike="noStrike">
                      <a:solidFill>
                        <a:srgbClr val="ffffff"/>
                      </a:solidFill>
                      <a:latin typeface="Times New Roman"/>
                    </a:endParaRPr>
                  </a:p>
                </p:txBody>
              </p:sp>
              <p:sp>
                <p:nvSpPr>
                  <p:cNvPr id="241" name=""/>
                  <p:cNvSpPr/>
                  <p:nvPr/>
                </p:nvSpPr>
                <p:spPr>
                  <a:xfrm>
                    <a:off x="5857920" y="1893960"/>
                    <a:ext cx="1246320" cy="3394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904000" y="1916280"/>
                    <a:ext cx="1154160" cy="295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 name=""/>
                <p:cNvGrpSpPr/>
                <p:nvPr/>
              </p:nvGrpSpPr>
              <p:grpSpPr>
                <a:xfrm>
                  <a:off x="6746760" y="2603520"/>
                  <a:ext cx="1246320" cy="641160"/>
                  <a:chOff x="6746760" y="2603520"/>
                  <a:chExt cx="1246320" cy="641160"/>
                </a:xfrm>
              </p:grpSpPr>
              <p:sp>
                <p:nvSpPr>
                  <p:cNvPr id="244" name=""/>
                  <p:cNvSpPr/>
                  <p:nvPr/>
                </p:nvSpPr>
                <p:spPr>
                  <a:xfrm>
                    <a:off x="6746760" y="2604960"/>
                    <a:ext cx="1246320" cy="63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792840" y="2646360"/>
                    <a:ext cx="1154160" cy="55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832800" y="2603520"/>
                    <a:ext cx="10720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ynam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keleton</a:t>
                    </a:r>
                    <a:endParaRPr b="0" lang="en-US" sz="1800" spc="-1" strike="noStrike">
                      <a:solidFill>
                        <a:srgbClr val="ffffff"/>
                      </a:solidFill>
                      <a:latin typeface="Times New Roman"/>
                    </a:endParaRPr>
                  </a:p>
                </p:txBody>
              </p:sp>
            </p:grpSp>
            <p:grpSp>
              <p:nvGrpSpPr>
                <p:cNvPr id="247" name=""/>
                <p:cNvGrpSpPr/>
                <p:nvPr/>
              </p:nvGrpSpPr>
              <p:grpSpPr>
                <a:xfrm>
                  <a:off x="4723920" y="1790640"/>
                  <a:ext cx="3734280" cy="2800440"/>
                  <a:chOff x="4723920" y="1790640"/>
                  <a:chExt cx="3734280" cy="2800440"/>
                </a:xfrm>
              </p:grpSpPr>
              <p:sp>
                <p:nvSpPr>
                  <p:cNvPr id="248" name=""/>
                  <p:cNvSpPr/>
                  <p:nvPr/>
                </p:nvSpPr>
                <p:spPr>
                  <a:xfrm flipH="1">
                    <a:off x="4723920" y="1800360"/>
                    <a:ext cx="32724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a:off x="8131320" y="4295880"/>
                    <a:ext cx="32688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H="1" flipV="1">
                    <a:off x="8131320" y="1790640"/>
                    <a:ext cx="32688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flipV="1">
                    <a:off x="4723920" y="4295880"/>
                    <a:ext cx="32724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735440" y="2085840"/>
                    <a:ext cx="0" cy="22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060880" y="4591080"/>
                    <a:ext cx="307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060880" y="1790640"/>
                    <a:ext cx="307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8458200" y="208584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6004080" y="2266920"/>
                  <a:ext cx="41040" cy="301680"/>
                  <a:chOff x="6004080" y="2266920"/>
                  <a:chExt cx="41040" cy="301680"/>
                </a:xfrm>
              </p:grpSpPr>
              <p:sp>
                <p:nvSpPr>
                  <p:cNvPr id="257" name=""/>
                  <p:cNvSpPr/>
                  <p:nvPr/>
                </p:nvSpPr>
                <p:spPr>
                  <a:xfrm>
                    <a:off x="6004080" y="2266920"/>
                    <a:ext cx="0" cy="30168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045120" y="2319480"/>
                    <a:ext cx="0" cy="17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6943680" y="2266920"/>
                  <a:ext cx="41400" cy="301680"/>
                  <a:chOff x="6943680" y="2266920"/>
                  <a:chExt cx="41400" cy="301680"/>
                </a:xfrm>
              </p:grpSpPr>
              <p:sp>
                <p:nvSpPr>
                  <p:cNvPr id="260" name=""/>
                  <p:cNvSpPr/>
                  <p:nvPr/>
                </p:nvSpPr>
                <p:spPr>
                  <a:xfrm>
                    <a:off x="6943680" y="2266920"/>
                    <a:ext cx="0" cy="30168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985080" y="2319480"/>
                    <a:ext cx="0" cy="17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5907600" y="1881360"/>
                  <a:ext cx="2425320" cy="2184120"/>
                  <a:chOff x="5907600" y="1881360"/>
                  <a:chExt cx="2425320" cy="2184120"/>
                </a:xfrm>
              </p:grpSpPr>
              <p:sp>
                <p:nvSpPr>
                  <p:cNvPr id="263" name=""/>
                  <p:cNvSpPr/>
                  <p:nvPr/>
                </p:nvSpPr>
                <p:spPr>
                  <a:xfrm>
                    <a:off x="5907600" y="2021040"/>
                    <a:ext cx="2412000" cy="1955160"/>
                  </a:xfrm>
                  <a:custGeom>
                    <a:avLst/>
                    <a:gdLst/>
                    <a:ahLst/>
                    <a:rect l="l" t="t" r="r" b="b"/>
                    <a:pathLst>
                      <a:path stroke="0" w="21600" h="21600">
                        <a:moveTo>
                          <a:pt x="10786" y="0"/>
                        </a:moveTo>
                        <a:arcTo wR="10800" hR="10800" stAng="-5404524" swAng="5404524"/>
                        <a:lnTo>
                          <a:pt x="10800" y="10800"/>
                        </a:lnTo>
                        <a:close/>
                      </a:path>
                      <a:path fill="none" w="21600" h="21600">
                        <a:moveTo>
                          <a:pt x="10786" y="0"/>
                        </a:moveTo>
                        <a:arcTo wR="10800" hR="10800" stAng="-5404524" swAng="54045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rot="10800000">
                    <a:off x="5996160" y="1881360"/>
                    <a:ext cx="2336760" cy="2184120"/>
                  </a:xfrm>
                  <a:custGeom>
                    <a:avLst/>
                    <a:gdLst/>
                    <a:ahLst/>
                    <a:rect l="l" t="t" r="r" b="b"/>
                    <a:pathLst>
                      <a:path stroke="0" w="21600" h="21600">
                        <a:moveTo>
                          <a:pt x="0" y="10800"/>
                        </a:moveTo>
                        <a:arcTo wR="10800" hR="10800" stAng="10800000" swAng="5357964"/>
                        <a:lnTo>
                          <a:pt x="10800" y="10800"/>
                        </a:lnTo>
                        <a:close/>
                      </a:path>
                      <a:path fill="none" w="21600" h="21600">
                        <a:moveTo>
                          <a:pt x="0" y="10800"/>
                        </a:moveTo>
                        <a:arcTo wR="10800" hR="10800" stAng="10800000" swAng="5357964"/>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5983560" y="2058840"/>
                  <a:ext cx="2285280" cy="1895400"/>
                </a:xfrm>
                <a:custGeom>
                  <a:avLst/>
                  <a:gdLst/>
                  <a:ahLst/>
                  <a:rect l="l" t="t" r="r" b="b"/>
                  <a:pathLst>
                    <a:path stroke="0" w="21600" h="21600">
                      <a:moveTo>
                        <a:pt x="10785" y="0"/>
                      </a:moveTo>
                      <a:arcTo wR="10800" hR="10800" stAng="-5404774" swAng="5404774"/>
                      <a:lnTo>
                        <a:pt x="10800" y="10800"/>
                      </a:lnTo>
                      <a:close/>
                    </a:path>
                    <a:path fill="none" w="21600" h="21600">
                      <a:moveTo>
                        <a:pt x="10785" y="0"/>
                      </a:moveTo>
                      <a:arcTo wR="10800" hR="10800" stAng="-5404774" swAng="5404774"/>
                    </a:path>
                  </a:pathLst>
                </a:cu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rot="10800000">
                  <a:off x="6066720" y="1925640"/>
                  <a:ext cx="2215440" cy="2114280"/>
                </a:xfrm>
                <a:custGeom>
                  <a:avLst/>
                  <a:gdLst/>
                  <a:ahLst/>
                  <a:rect l="l" t="t" r="r" b="b"/>
                  <a:pathLst>
                    <a:path stroke="0" w="21600" h="21600">
                      <a:moveTo>
                        <a:pt x="0" y="10800"/>
                      </a:moveTo>
                      <a:arcTo wR="10800" hR="10800" stAng="10800000" swAng="5360600"/>
                      <a:lnTo>
                        <a:pt x="10800" y="10800"/>
                      </a:lnTo>
                      <a:close/>
                    </a:path>
                    <a:path fill="none" w="21600" h="21600">
                      <a:moveTo>
                        <a:pt x="0" y="10800"/>
                      </a:moveTo>
                      <a:arcTo wR="10800" hR="10800" stAng="10800000" swAng="5360600"/>
                    </a:path>
                  </a:pathLst>
                </a:cu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7" name=""/>
              <p:cNvGrpSpPr/>
              <p:nvPr/>
            </p:nvGrpSpPr>
            <p:grpSpPr>
              <a:xfrm>
                <a:off x="791640" y="1790640"/>
                <a:ext cx="3381840" cy="3651120"/>
                <a:chOff x="791640" y="1790640"/>
                <a:chExt cx="3381840" cy="3651120"/>
              </a:xfrm>
            </p:grpSpPr>
            <p:grpSp>
              <p:nvGrpSpPr>
                <p:cNvPr id="268" name=""/>
                <p:cNvGrpSpPr/>
                <p:nvPr/>
              </p:nvGrpSpPr>
              <p:grpSpPr>
                <a:xfrm>
                  <a:off x="798480" y="4800600"/>
                  <a:ext cx="1739880" cy="641160"/>
                  <a:chOff x="798480" y="4800600"/>
                  <a:chExt cx="1739880" cy="641160"/>
                </a:xfrm>
              </p:grpSpPr>
              <p:sp>
                <p:nvSpPr>
                  <p:cNvPr id="269" name=""/>
                  <p:cNvSpPr/>
                  <p:nvPr/>
                </p:nvSpPr>
                <p:spPr>
                  <a:xfrm>
                    <a:off x="798480" y="4822920"/>
                    <a:ext cx="1739880" cy="59688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858960" y="4800600"/>
                    <a:ext cx="16192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 interfa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pository</a:t>
                    </a:r>
                    <a:endParaRPr b="0" lang="en-US" sz="1800" spc="-1" strike="noStrike">
                      <a:solidFill>
                        <a:srgbClr val="ffffff"/>
                      </a:solidFill>
                      <a:latin typeface="Times New Roman"/>
                    </a:endParaRPr>
                  </a:p>
                </p:txBody>
              </p:sp>
            </p:grpSp>
            <p:grpSp>
              <p:nvGrpSpPr>
                <p:cNvPr id="271" name=""/>
                <p:cNvGrpSpPr/>
                <p:nvPr/>
              </p:nvGrpSpPr>
              <p:grpSpPr>
                <a:xfrm>
                  <a:off x="791640" y="1790640"/>
                  <a:ext cx="3381840" cy="3651120"/>
                  <a:chOff x="791640" y="1790640"/>
                  <a:chExt cx="3381840" cy="3651120"/>
                </a:xfrm>
              </p:grpSpPr>
              <p:grpSp>
                <p:nvGrpSpPr>
                  <p:cNvPr id="272" name=""/>
                  <p:cNvGrpSpPr/>
                  <p:nvPr/>
                </p:nvGrpSpPr>
                <p:grpSpPr>
                  <a:xfrm>
                    <a:off x="791640" y="1790640"/>
                    <a:ext cx="3381840" cy="2800440"/>
                    <a:chOff x="791640" y="1790640"/>
                    <a:chExt cx="3381840" cy="2800440"/>
                  </a:xfrm>
                </p:grpSpPr>
                <p:grpSp>
                  <p:nvGrpSpPr>
                    <p:cNvPr id="273" name=""/>
                    <p:cNvGrpSpPr/>
                    <p:nvPr/>
                  </p:nvGrpSpPr>
                  <p:grpSpPr>
                    <a:xfrm>
                      <a:off x="1197000" y="1947960"/>
                      <a:ext cx="1246320" cy="366840"/>
                      <a:chOff x="1197000" y="1947960"/>
                      <a:chExt cx="1246320" cy="366840"/>
                    </a:xfrm>
                  </p:grpSpPr>
                  <p:sp>
                    <p:nvSpPr>
                      <p:cNvPr id="274" name=""/>
                      <p:cNvSpPr/>
                      <p:nvPr/>
                    </p:nvSpPr>
                    <p:spPr>
                      <a:xfrm>
                        <a:off x="1378440" y="1947960"/>
                        <a:ext cx="881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lients</a:t>
                        </a:r>
                        <a:endParaRPr b="0" lang="en-US" sz="1800" spc="-1" strike="noStrike">
                          <a:solidFill>
                            <a:srgbClr val="ffffff"/>
                          </a:solidFill>
                          <a:latin typeface="Times New Roman"/>
                        </a:endParaRPr>
                      </a:p>
                    </p:txBody>
                  </p:sp>
                  <p:sp>
                    <p:nvSpPr>
                      <p:cNvPr id="275" name=""/>
                      <p:cNvSpPr/>
                      <p:nvPr/>
                    </p:nvSpPr>
                    <p:spPr>
                      <a:xfrm>
                        <a:off x="1197000" y="1960560"/>
                        <a:ext cx="1246320" cy="339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243080" y="1982880"/>
                        <a:ext cx="1154160" cy="295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7" name=""/>
                    <p:cNvGrpSpPr/>
                    <p:nvPr/>
                  </p:nvGrpSpPr>
                  <p:grpSpPr>
                    <a:xfrm>
                      <a:off x="1197000" y="2744640"/>
                      <a:ext cx="1246320" cy="963720"/>
                      <a:chOff x="1197000" y="2744640"/>
                      <a:chExt cx="1246320" cy="963720"/>
                    </a:xfrm>
                  </p:grpSpPr>
                  <p:sp>
                    <p:nvSpPr>
                      <p:cNvPr id="278" name=""/>
                      <p:cNvSpPr/>
                      <p:nvPr/>
                    </p:nvSpPr>
                    <p:spPr>
                      <a:xfrm>
                        <a:off x="1197000" y="2744640"/>
                        <a:ext cx="1246320" cy="963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243080" y="2786040"/>
                        <a:ext cx="1154160" cy="88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213920" y="2768760"/>
                        <a:ext cx="121068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ynam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voc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terface</a:t>
                        </a:r>
                        <a:endParaRPr b="0" lang="en-US" sz="1800" spc="-1" strike="noStrike">
                          <a:solidFill>
                            <a:srgbClr val="ffffff"/>
                          </a:solidFill>
                          <a:latin typeface="Times New Roman"/>
                        </a:endParaRPr>
                      </a:p>
                    </p:txBody>
                  </p:sp>
                </p:grpSp>
                <p:grpSp>
                  <p:nvGrpSpPr>
                    <p:cNvPr id="281" name=""/>
                    <p:cNvGrpSpPr/>
                    <p:nvPr/>
                  </p:nvGrpSpPr>
                  <p:grpSpPr>
                    <a:xfrm>
                      <a:off x="2766960" y="2376360"/>
                      <a:ext cx="1246320" cy="366840"/>
                      <a:chOff x="2766960" y="2376360"/>
                      <a:chExt cx="1246320" cy="366840"/>
                    </a:xfrm>
                  </p:grpSpPr>
                  <p:sp>
                    <p:nvSpPr>
                      <p:cNvPr id="282" name=""/>
                      <p:cNvSpPr/>
                      <p:nvPr/>
                    </p:nvSpPr>
                    <p:spPr>
                      <a:xfrm>
                        <a:off x="2814480" y="2376360"/>
                        <a:ext cx="114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DL stubs</a:t>
                        </a:r>
                        <a:endParaRPr b="0" lang="en-US" sz="1800" spc="-1" strike="noStrike">
                          <a:solidFill>
                            <a:srgbClr val="ffffff"/>
                          </a:solidFill>
                          <a:latin typeface="Times New Roman"/>
                        </a:endParaRPr>
                      </a:p>
                    </p:txBody>
                  </p:sp>
                  <p:sp>
                    <p:nvSpPr>
                      <p:cNvPr id="283" name=""/>
                      <p:cNvSpPr/>
                      <p:nvPr/>
                    </p:nvSpPr>
                    <p:spPr>
                      <a:xfrm>
                        <a:off x="2766960" y="2389320"/>
                        <a:ext cx="1246320" cy="3394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2813040" y="2411280"/>
                        <a:ext cx="1154160" cy="295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5" name=""/>
                    <p:cNvGrpSpPr/>
                    <p:nvPr/>
                  </p:nvGrpSpPr>
                  <p:grpSpPr>
                    <a:xfrm>
                      <a:off x="791640" y="1790640"/>
                      <a:ext cx="3381840" cy="2800440"/>
                      <a:chOff x="791640" y="1790640"/>
                      <a:chExt cx="3381840" cy="2800440"/>
                    </a:xfrm>
                  </p:grpSpPr>
                  <p:sp>
                    <p:nvSpPr>
                      <p:cNvPr id="286" name=""/>
                      <p:cNvSpPr/>
                      <p:nvPr/>
                    </p:nvSpPr>
                    <p:spPr>
                      <a:xfrm flipH="1">
                        <a:off x="791640" y="1800360"/>
                        <a:ext cx="29556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3878280" y="4295880"/>
                        <a:ext cx="29520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3878280" y="1790640"/>
                        <a:ext cx="29520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791640" y="4295880"/>
                        <a:ext cx="29556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01720" y="2085840"/>
                        <a:ext cx="0" cy="22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096920" y="4591080"/>
                        <a:ext cx="278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096920" y="1790640"/>
                        <a:ext cx="278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173480" y="208584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4" name=""/>
                    <p:cNvSpPr/>
                    <p:nvPr/>
                  </p:nvSpPr>
                  <p:spPr>
                    <a:xfrm>
                      <a:off x="1757520" y="2311560"/>
                      <a:ext cx="0" cy="431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795320" y="2324160"/>
                      <a:ext cx="0" cy="431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443320" y="2120760"/>
                      <a:ext cx="7999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243240" y="2136600"/>
                      <a:ext cx="0" cy="254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462040" y="2101680"/>
                      <a:ext cx="800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262320" y="2117880"/>
                      <a:ext cx="0" cy="253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0" name=""/>
                  <p:cNvGrpSpPr/>
                  <p:nvPr/>
                </p:nvGrpSpPr>
                <p:grpSpPr>
                  <a:xfrm>
                    <a:off x="2867040" y="4800600"/>
                    <a:ext cx="1300320" cy="641160"/>
                    <a:chOff x="2867040" y="4800600"/>
                    <a:chExt cx="1300320" cy="641160"/>
                  </a:xfrm>
                </p:grpSpPr>
                <p:sp>
                  <p:nvSpPr>
                    <p:cNvPr id="301" name=""/>
                    <p:cNvSpPr/>
                    <p:nvPr/>
                  </p:nvSpPr>
                  <p:spPr>
                    <a:xfrm>
                      <a:off x="2867040" y="4822920"/>
                      <a:ext cx="1300320" cy="59688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052800" y="4800600"/>
                      <a:ext cx="9270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e</a:t>
                      </a:r>
                      <a:endParaRPr b="0" lang="en-US" sz="1800" spc="-1" strike="noStrike">
                        <a:solidFill>
                          <a:srgbClr val="ffffff"/>
                        </a:solidFill>
                        <a:latin typeface="Times New Roman"/>
                      </a:endParaRPr>
                    </a:p>
                  </p:txBody>
                </p:sp>
              </p:grpSp>
            </p:grpSp>
          </p:grpSp>
        </p:grpSp>
        <p:sp>
          <p:nvSpPr>
            <p:cNvPr id="303" name=""/>
            <p:cNvSpPr/>
            <p:nvPr/>
          </p:nvSpPr>
          <p:spPr>
            <a:xfrm>
              <a:off x="1676520" y="372096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892160" y="3733920"/>
              <a:ext cx="0" cy="109224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3797280" y="2755800"/>
              <a:ext cx="0" cy="204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772080" y="2768760"/>
              <a:ext cx="0" cy="20444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3080" y="3720960"/>
              <a:ext cx="927000" cy="1092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438280" y="3708360"/>
              <a:ext cx="927360" cy="1092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013280" y="3784680"/>
              <a:ext cx="180324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B Features</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400" y="1757520"/>
            <a:ext cx="775044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B interfac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cal for all ORB implementation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instance binding and object identification serv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 definition language stub/skelet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 to each object typ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b called by clien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eleton calls implementati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ed statically</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invocation: methods and parameters determined at run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face Definition Language</a:t>
            </a:r>
            <a:endParaRPr b="0" lang="en-US" sz="3600" spc="-1" strike="noStrike">
              <a:solidFill>
                <a:srgbClr val="ffffff"/>
              </a:solidFill>
              <a:latin typeface="Century Schoolbook"/>
            </a:endParaRPr>
          </a:p>
        </p:txBody>
      </p:sp>
      <p:sp>
        <p:nvSpPr>
          <p:cNvPr id="313" name="PlaceHolder 2"/>
          <p:cNvSpPr>
            <a:spLocks noGrp="1"/>
          </p:cNvSpPr>
          <p:nvPr>
            <p:ph/>
          </p:nvPr>
        </p:nvSpPr>
        <p:spPr>
          <a:xfrm>
            <a:off x="949320" y="1767960"/>
            <a:ext cx="7300800" cy="4456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bject interfaces are defined in ID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allo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 independence of obje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wrapping” of 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icit publication of interface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endency on only public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syntax was chosen to resemble that of 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overloading of method names is allowed to simplify bindings to existing languag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ple Bank Abstraction in IDL</a:t>
            </a:r>
            <a:endParaRPr b="0" lang="en-US" sz="3600" spc="-1" strike="noStrike">
              <a:solidFill>
                <a:srgbClr val="ffffff"/>
              </a:solidFill>
              <a:latin typeface="Century Schoolbook"/>
            </a:endParaRPr>
          </a:p>
        </p:txBody>
      </p:sp>
      <p:sp>
        <p:nvSpPr>
          <p:cNvPr id="315" name="PlaceHolder 2"/>
          <p:cNvSpPr>
            <a:spLocks noGrp="1"/>
          </p:cNvSpPr>
          <p:nvPr>
            <p:ph/>
          </p:nvPr>
        </p:nvSpPr>
        <p:spPr>
          <a:xfrm>
            <a:off x="949320" y="1757520"/>
            <a:ext cx="73008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Account {</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string name;</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float balance;</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deposit (in float am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withdraw (in float am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CheckingAccount : Account {</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float overdraft_limi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order_new_checks();</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SavingsAccount : Acc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float annual_interes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 Adaptors</a:t>
            </a:r>
            <a:endParaRPr b="0" lang="en-US" sz="3600" spc="-1" strike="noStrike">
              <a:solidFill>
                <a:srgbClr val="ffffff"/>
              </a:solidFill>
              <a:latin typeface="Century Schoolbook"/>
            </a:endParaRPr>
          </a:p>
        </p:txBody>
      </p:sp>
      <p:sp>
        <p:nvSpPr>
          <p:cNvPr id="317" name="PlaceHolder 2"/>
          <p:cNvSpPr>
            <a:spLocks noGrp="1"/>
          </p:cNvSpPr>
          <p:nvPr>
            <p:ph/>
          </p:nvPr>
        </p:nvSpPr>
        <p:spPr>
          <a:xfrm>
            <a:off x="923400" y="1770120"/>
            <a:ext cx="7813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 adaptors provide the following services to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ion and interpretation of object referen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pping of object references to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ation and deactivation of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cation of methods on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ration of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control for object implement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asic Object Adaptor</a:t>
            </a:r>
            <a:endParaRPr b="0" lang="en-US" sz="3600" spc="-1" strike="noStrike">
              <a:solidFill>
                <a:srgbClr val="ffffff"/>
              </a:solidFill>
              <a:latin typeface="Century Schoolbook"/>
            </a:endParaRPr>
          </a:p>
        </p:txBody>
      </p:sp>
      <p:sp>
        <p:nvSpPr>
          <p:cNvPr id="319"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CORBA-compliant implementation must have a special kind of object adaptor, basic object adaptor (BO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OA uses the remote procedure call (RPC) model to implement objects, where objects are implemented as server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 for BOA were published by OMG, ensuring availability in the marketpl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Do Systems Built with Different ORBS Interoperate?</a:t>
            </a:r>
            <a:endParaRPr b="0" lang="en-US" sz="3600" spc="-1" strike="noStrike">
              <a:solidFill>
                <a:srgbClr val="ffffff"/>
              </a:solidFill>
              <a:latin typeface="Century Schoolbook"/>
            </a:endParaRPr>
          </a:p>
        </p:txBody>
      </p:sp>
      <p:sp>
        <p:nvSpPr>
          <p:cNvPr id="321" name="PlaceHolder 2"/>
          <p:cNvSpPr>
            <a:spLocks noGrp="1"/>
          </p:cNvSpPr>
          <p:nvPr>
            <p:ph/>
          </p:nvPr>
        </p:nvSpPr>
        <p:spPr>
          <a:xfrm>
            <a:off x="923400" y="2184480"/>
            <a:ext cx="7301160" cy="4092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version 1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d not address the issue of interoperation among different clients of different ORB vend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ed faster time to market for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version 2 (1995) specifies interoper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cause of the delay in specification, the system must introduce interoperability between vendors without affecting clients of existing OR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 business needs of a consortium led to a particula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 software architecture of CORBA allows program interoper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2 Interoperability -1</a:t>
            </a:r>
            <a:endParaRPr b="0" lang="en-US" sz="3600" spc="-1" strike="noStrike">
              <a:solidFill>
                <a:srgbClr val="ffffff"/>
              </a:solidFill>
              <a:latin typeface="Century Schoolbook"/>
            </a:endParaRPr>
          </a:p>
        </p:txBody>
      </p:sp>
      <p:sp>
        <p:nvSpPr>
          <p:cNvPr id="323" name="PlaceHolder 2"/>
          <p:cNvSpPr>
            <a:spLocks noGrp="1"/>
          </p:cNvSpPr>
          <p:nvPr>
            <p:ph/>
          </p:nvPr>
        </p:nvSpPr>
        <p:spPr>
          <a:xfrm>
            <a:off x="949320" y="178272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dated Internet inter-ORB protocol (IIOP)</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concept of “bridge” protocol adaptors between objec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RBs must support “half bridges” that convert object requests into IIOP (or IIOP into object reques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ORBs use IIOP as a native protocol.</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2 Interoperability -2</a:t>
            </a:r>
            <a:endParaRPr b="0" lang="en-US" sz="3600" spc="-1" strike="noStrike">
              <a:solidFill>
                <a:srgbClr val="ffffff"/>
              </a:solidFill>
              <a:latin typeface="Century Schoolbook"/>
            </a:endParaRPr>
          </a:p>
        </p:txBody>
      </p:sp>
      <p:sp>
        <p:nvSpPr>
          <p:cNvPr id="32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 reque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es into ORB1</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ed via half bridge to IIOP</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t to ORB2</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ed via half bridge from IIOP to object implemen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WWW Comparison</a:t>
            </a:r>
            <a:endParaRPr b="0" lang="en-US" sz="3600" spc="-1" strike="noStrike">
              <a:solidFill>
                <a:srgbClr val="ffffff"/>
              </a:solidFill>
              <a:latin typeface="Century Schoolbook"/>
            </a:endParaRPr>
          </a:p>
        </p:txBody>
      </p:sp>
      <p:sp>
        <p:nvSpPr>
          <p:cNvPr id="327" name="PlaceHolder 2"/>
          <p:cNvSpPr>
            <a:spLocks noGrp="1"/>
          </p:cNvSpPr>
          <p:nvPr>
            <p:ph/>
          </p:nvPr>
        </p:nvSpPr>
        <p:spPr>
          <a:xfrm>
            <a:off x="923760" y="1782720"/>
            <a:ext cx="800424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WWW and CORBA address interoperabil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data mode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es totally on protoc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no central contr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runtime linkage of one page to another</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software object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are adapted both within and between ORB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central “software bus” with registr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s are linked at specification time or la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2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was designed to allow interoperation, fast time to market, and evolv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provides basic services for object invocation and referenc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allows objects written in multiple languages to be bound to ORB and provides common interfaces independent of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OP allows different ORBs to interoperat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331" name="PlaceHolder 2"/>
          <p:cNvSpPr>
            <a:spLocks noGrp="1"/>
          </p:cNvSpPr>
          <p:nvPr>
            <p:ph/>
          </p:nvPr>
        </p:nvSpPr>
        <p:spPr>
          <a:xfrm>
            <a:off x="923400" y="1782720"/>
            <a:ext cx="75726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discussion of CORBA in this lecture center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ound programmatic integration of application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discussion of the World Wide Web (WWW)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previous lecture centered around dat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gration of applications.  What is the majo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erence between these two approach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e the strengths and weaknesses of each?</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would be involved in moving CORB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ward a datacentric view or the WWW to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grammatic view?</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3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 are the issues involved in using CORB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obtain real-time performance?  To put i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other way, what would be involved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intaining real-time quality of service in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tributed object world (as was required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ny of the case studies in this boo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Motivation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bject Management Group (OMG) was chartered in 1989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 a common software platform in which distributed object-oriented programs can be communicated and intera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component-based marketplace for vendors to compete with Microsoft’s Object Linking and Embedding (O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Model</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MG included most non-Microsoft vendors (IBM, Digital, Sun, HP).</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specified the object-management architecture (OMA) and common object request broker architecture (CORB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the OMA</a:t>
            </a:r>
            <a:endParaRPr b="0" lang="en-US" sz="3600" spc="-1" strike="noStrike">
              <a:solidFill>
                <a:srgbClr val="ffffff"/>
              </a:solidFill>
              <a:latin typeface="Century Schoolbook"/>
            </a:endParaRPr>
          </a:p>
        </p:txBody>
      </p:sp>
      <p:sp>
        <p:nvSpPr>
          <p:cNvPr id="134" name=""/>
          <p:cNvSpPr/>
          <p:nvPr/>
        </p:nvSpPr>
        <p:spPr>
          <a:xfrm>
            <a:off x="1471680" y="3822840"/>
            <a:ext cx="7088040" cy="2444760"/>
          </a:xfrm>
          <a:custGeom>
            <a:avLst/>
            <a:gdLst/>
            <a:ahLst/>
            <a:rect l="l" t="t" r="r" b="b"/>
            <a:pathLst>
              <a:path w="4465" h="1540">
                <a:moveTo>
                  <a:pt x="412" y="369"/>
                </a:moveTo>
                <a:lnTo>
                  <a:pt x="0" y="1162"/>
                </a:lnTo>
                <a:lnTo>
                  <a:pt x="985" y="1162"/>
                </a:lnTo>
                <a:lnTo>
                  <a:pt x="1970" y="1162"/>
                </a:lnTo>
                <a:lnTo>
                  <a:pt x="2956" y="1162"/>
                </a:lnTo>
                <a:lnTo>
                  <a:pt x="3944" y="1162"/>
                </a:lnTo>
                <a:lnTo>
                  <a:pt x="3806" y="1539"/>
                </a:lnTo>
                <a:lnTo>
                  <a:pt x="4464" y="822"/>
                </a:lnTo>
                <a:lnTo>
                  <a:pt x="4408" y="0"/>
                </a:lnTo>
                <a:lnTo>
                  <a:pt x="4261" y="369"/>
                </a:lnTo>
                <a:lnTo>
                  <a:pt x="3299" y="369"/>
                </a:lnTo>
                <a:lnTo>
                  <a:pt x="2337" y="369"/>
                </a:lnTo>
                <a:lnTo>
                  <a:pt x="1374" y="369"/>
                </a:lnTo>
                <a:lnTo>
                  <a:pt x="412" y="369"/>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668600" y="237492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812880" y="2725560"/>
            <a:ext cx="183024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oftware community</a:t>
            </a:r>
            <a:endParaRPr b="0" lang="en-US" sz="1400" spc="-1" strike="noStrike">
              <a:solidFill>
                <a:srgbClr val="ffffff"/>
              </a:solidFill>
              <a:latin typeface="Times New Roman"/>
            </a:endParaRPr>
          </a:p>
        </p:txBody>
      </p:sp>
      <p:sp>
        <p:nvSpPr>
          <p:cNvPr id="137" name=""/>
          <p:cNvSpPr/>
          <p:nvPr/>
        </p:nvSpPr>
        <p:spPr>
          <a:xfrm>
            <a:off x="815760" y="3384720"/>
            <a:ext cx="185436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138" name=""/>
          <p:cNvSpPr/>
          <p:nvPr/>
        </p:nvSpPr>
        <p:spPr>
          <a:xfrm>
            <a:off x="826560" y="3935520"/>
            <a:ext cx="1939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O paradigm</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9" name=""/>
          <p:cNvSpPr/>
          <p:nvPr/>
        </p:nvSpPr>
        <p:spPr>
          <a:xfrm>
            <a:off x="818280" y="4780080"/>
            <a:ext cx="170820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Varied</a:t>
            </a:r>
            <a:endParaRPr b="0" lang="en-US" sz="1400" spc="-1" strike="noStrike">
              <a:solidFill>
                <a:srgbClr val="ffffff"/>
              </a:solidFill>
              <a:latin typeface="Times New Roman"/>
            </a:endParaRPr>
          </a:p>
        </p:txBody>
      </p:sp>
      <p:sp>
        <p:nvSpPr>
          <p:cNvPr id="140" name=""/>
          <p:cNvSpPr/>
          <p:nvPr/>
        </p:nvSpPr>
        <p:spPr>
          <a:xfrm>
            <a:off x="3286800" y="3038400"/>
            <a:ext cx="1384920" cy="132300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ransparenc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v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p:txBody>
      </p:sp>
      <p:sp>
        <p:nvSpPr>
          <p:cNvPr id="141" name=""/>
          <p:cNvSpPr/>
          <p:nvPr/>
        </p:nvSpPr>
        <p:spPr>
          <a:xfrm>
            <a:off x="1193760" y="5307120"/>
            <a:ext cx="348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1171440" y="2690640"/>
            <a:ext cx="3506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3" name=""/>
          <p:cNvSpPr/>
          <p:nvPr/>
        </p:nvSpPr>
        <p:spPr>
          <a:xfrm>
            <a:off x="4686480" y="2692440"/>
            <a:ext cx="0" cy="261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48080" y="2838600"/>
            <a:ext cx="55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590920" y="3476520"/>
            <a:ext cx="5079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6" name=""/>
          <p:cNvSpPr/>
          <p:nvPr/>
        </p:nvSpPr>
        <p:spPr>
          <a:xfrm>
            <a:off x="3105000" y="2843280"/>
            <a:ext cx="0" cy="63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116160" y="317016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700520" y="3322800"/>
            <a:ext cx="255600" cy="101520"/>
            <a:chOff x="4700520" y="3322800"/>
            <a:chExt cx="255600" cy="101520"/>
          </a:xfrm>
        </p:grpSpPr>
        <p:sp>
          <p:nvSpPr>
            <p:cNvPr id="149" name=""/>
            <p:cNvSpPr/>
            <p:nvPr/>
          </p:nvSpPr>
          <p:spPr>
            <a:xfrm>
              <a:off x="4700520" y="332280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700520" y="34243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a:off x="5854680" y="345924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610320" y="3659040"/>
            <a:ext cx="0" cy="270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3" name=""/>
          <p:cNvGrpSpPr/>
          <p:nvPr/>
        </p:nvGrpSpPr>
        <p:grpSpPr>
          <a:xfrm>
            <a:off x="6079680" y="3279600"/>
            <a:ext cx="1301400" cy="443160"/>
            <a:chOff x="6079680" y="3279600"/>
            <a:chExt cx="1301400" cy="443160"/>
          </a:xfrm>
        </p:grpSpPr>
        <p:sp>
          <p:nvSpPr>
            <p:cNvPr id="154" name=""/>
            <p:cNvSpPr/>
            <p:nvPr/>
          </p:nvSpPr>
          <p:spPr>
            <a:xfrm>
              <a:off x="6140520" y="3279600"/>
              <a:ext cx="1184040" cy="38592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079680" y="3281400"/>
              <a:ext cx="1301400" cy="441360"/>
            </a:xfrm>
            <a:prstGeom prst="rect">
              <a:avLst/>
            </a:prstGeom>
            <a:noFill/>
            <a:ln w="0">
              <a:noFill/>
            </a:ln>
          </p:spPr>
          <p:style>
            <a:lnRef idx="0"/>
            <a:fillRef idx="0"/>
            <a:effectRef idx="0"/>
            <a:fontRef idx="minor"/>
          </p:style>
          <p:txBody>
            <a:bodyPr wrap="none" lIns="106200" rIns="106200" tIns="52560" bIns="52560" anchor="t">
              <a:spAutoFit/>
            </a:bodyPr>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000000"/>
                  </a:solidFill>
                  <a:latin typeface="Arial"/>
                </a:rPr>
                <a:t>OMA/CORBA</a:t>
              </a:r>
              <a:endParaRPr b="0" lang="en-US" sz="1400" spc="-1" strike="noStrike">
                <a:solidFill>
                  <a:srgbClr val="ffffff"/>
                </a:solidFill>
                <a:latin typeface="Times New Roman"/>
              </a:endParaRPr>
            </a:p>
          </p:txBody>
        </p:sp>
      </p:grpSp>
      <p:sp>
        <p:nvSpPr>
          <p:cNvPr id="156" name=""/>
          <p:cNvSpPr/>
          <p:nvPr/>
        </p:nvSpPr>
        <p:spPr>
          <a:xfrm>
            <a:off x="6138720" y="3946680"/>
            <a:ext cx="1030320" cy="363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257160" y="4006800"/>
            <a:ext cx="722160" cy="288000"/>
          </a:xfrm>
          <a:prstGeom prst="rect">
            <a:avLst/>
          </a:prstGeom>
          <a:noFill/>
          <a:ln w="0">
            <a:noFill/>
          </a:ln>
        </p:spPr>
        <p:style>
          <a:lnRef idx="0"/>
          <a:fillRef idx="0"/>
          <a:effectRef idx="0"/>
          <a:fontRef idx="minor"/>
        </p:style>
        <p:txBody>
          <a:bodyPr wrap="none" lIns="106200" rIns="106200" tIns="52560" bIns="52560" anchor="t">
            <a:spAutoFit/>
          </a:bodyPr>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grpSp>
        <p:nvGrpSpPr>
          <p:cNvPr id="158" name=""/>
          <p:cNvGrpSpPr/>
          <p:nvPr/>
        </p:nvGrpSpPr>
        <p:grpSpPr>
          <a:xfrm>
            <a:off x="4896720" y="2771640"/>
            <a:ext cx="1054080" cy="2143440"/>
            <a:chOff x="4896720" y="2771640"/>
            <a:chExt cx="1054080" cy="2143440"/>
          </a:xfrm>
        </p:grpSpPr>
        <p:sp>
          <p:nvSpPr>
            <p:cNvPr id="159" name=""/>
            <p:cNvSpPr/>
            <p:nvPr/>
          </p:nvSpPr>
          <p:spPr>
            <a:xfrm>
              <a:off x="5257800" y="2771640"/>
              <a:ext cx="314280" cy="311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002200" y="3122640"/>
              <a:ext cx="830160" cy="1792440"/>
            </a:xfrm>
            <a:custGeom>
              <a:avLst/>
              <a:gdLst/>
              <a:ahLst/>
              <a:rect l="l" t="t" r="r" b="b"/>
              <a:pathLst>
                <a:path w="523" h="1129">
                  <a:moveTo>
                    <a:pt x="103" y="443"/>
                  </a:moveTo>
                  <a:lnTo>
                    <a:pt x="103" y="544"/>
                  </a:lnTo>
                  <a:lnTo>
                    <a:pt x="170" y="1128"/>
                  </a:lnTo>
                  <a:lnTo>
                    <a:pt x="354" y="1128"/>
                  </a:lnTo>
                  <a:lnTo>
                    <a:pt x="418" y="551"/>
                  </a:lnTo>
                  <a:lnTo>
                    <a:pt x="418" y="443"/>
                  </a:lnTo>
                  <a:lnTo>
                    <a:pt x="444" y="443"/>
                  </a:lnTo>
                  <a:lnTo>
                    <a:pt x="444" y="544"/>
                  </a:lnTo>
                  <a:lnTo>
                    <a:pt x="522" y="544"/>
                  </a:lnTo>
                  <a:lnTo>
                    <a:pt x="522" y="0"/>
                  </a:lnTo>
                  <a:lnTo>
                    <a:pt x="0" y="0"/>
                  </a:lnTo>
                  <a:lnTo>
                    <a:pt x="0" y="539"/>
                  </a:lnTo>
                  <a:lnTo>
                    <a:pt x="74" y="539"/>
                  </a:lnTo>
                  <a:lnTo>
                    <a:pt x="74" y="443"/>
                  </a:lnTo>
                  <a:lnTo>
                    <a:pt x="103" y="4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896720" y="3220920"/>
              <a:ext cx="1054080" cy="4759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OMG</a:t>
              </a:r>
              <a:endParaRPr b="0" lang="en-US" sz="1400" spc="-1" strike="noStrike">
                <a:solidFill>
                  <a:srgbClr val="ffffff"/>
                </a:solidFill>
                <a:latin typeface="Times New Roman"/>
              </a:endParaRPr>
            </a:p>
          </p:txBody>
        </p:sp>
      </p:grpSp>
      <p:sp>
        <p:nvSpPr>
          <p:cNvPr id="162" name=""/>
          <p:cNvSpPr/>
          <p:nvPr/>
        </p:nvSpPr>
        <p:spPr>
          <a:xfrm rot="2460000">
            <a:off x="2558880" y="1423080"/>
            <a:ext cx="4148280" cy="4143240"/>
          </a:xfrm>
          <a:custGeom>
            <a:avLst/>
            <a:gdLst/>
            <a:ahLst/>
            <a:rect l="l" t="t" r="r" b="b"/>
            <a:pathLst>
              <a:path stroke="0" w="21600" h="21600">
                <a:moveTo>
                  <a:pt x="125" y="12438"/>
                </a:moveTo>
                <a:arcTo wR="10800" hR="10800" stAng="10276638" swAng="8504052"/>
                <a:lnTo>
                  <a:pt x="10800" y="10800"/>
                </a:lnTo>
                <a:close/>
              </a:path>
              <a:path fill="none" w="21600" h="21600">
                <a:moveTo>
                  <a:pt x="125" y="12438"/>
                </a:moveTo>
                <a:arcTo wR="10800" hR="10800" stAng="10276638" swAng="850405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2460000">
            <a:off x="2663640" y="1537560"/>
            <a:ext cx="3938760" cy="3940200"/>
          </a:xfrm>
          <a:custGeom>
            <a:avLst/>
            <a:gdLst/>
            <a:ahLst/>
            <a:rect l="l" t="t" r="r" b="b"/>
            <a:pathLst>
              <a:path stroke="0" w="21600" h="21600">
                <a:moveTo>
                  <a:pt x="97" y="12244"/>
                </a:moveTo>
                <a:arcTo wR="10800" hR="10800" stAng="10339014" swAng="8414686"/>
                <a:lnTo>
                  <a:pt x="10800" y="10800"/>
                </a:lnTo>
                <a:close/>
              </a:path>
              <a:path fill="none" w="21600" h="21600">
                <a:moveTo>
                  <a:pt x="97" y="12244"/>
                </a:moveTo>
                <a:arcTo wR="10800" hR="10800" stAng="10339014" swAng="841468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11760000">
            <a:off x="2575440" y="2089440"/>
            <a:ext cx="4196880" cy="4133520"/>
          </a:xfrm>
          <a:custGeom>
            <a:avLst/>
            <a:gdLst/>
            <a:ahLst/>
            <a:rect l="l" t="t" r="r" b="b"/>
            <a:pathLst>
              <a:path stroke="0" w="21600" h="21600">
                <a:moveTo>
                  <a:pt x="217" y="12956"/>
                </a:moveTo>
                <a:arcTo wR="10800" hR="10800" stAng="10109186" swAng="8413884"/>
                <a:lnTo>
                  <a:pt x="10800" y="10800"/>
                </a:lnTo>
                <a:close/>
              </a:path>
              <a:path fill="none" w="21600" h="21600">
                <a:moveTo>
                  <a:pt x="217" y="12956"/>
                </a:moveTo>
                <a:arcTo wR="10800" hR="10800" stAng="10109186" swAng="84138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1760000">
            <a:off x="2747880" y="2058840"/>
            <a:ext cx="3937680" cy="4044600"/>
          </a:xfrm>
          <a:custGeom>
            <a:avLst/>
            <a:gdLst/>
            <a:ahLst/>
            <a:rect l="l" t="t" r="r" b="b"/>
            <a:pathLst>
              <a:path stroke="0" w="21600" h="21600">
                <a:moveTo>
                  <a:pt x="95" y="12232"/>
                </a:moveTo>
                <a:arcTo wR="10800" hR="10800" stAng="10342971" swAng="7991646"/>
                <a:lnTo>
                  <a:pt x="10800" y="10800"/>
                </a:lnTo>
                <a:close/>
              </a:path>
              <a:path fill="none" w="21600" h="21600">
                <a:moveTo>
                  <a:pt x="95" y="12232"/>
                </a:moveTo>
                <a:arcTo wR="10800" hR="10800" stAng="10342971" swAng="7991646"/>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Goals of the OMA</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1755720"/>
            <a:ext cx="8067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support interoperation of objects implemented by different vend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 be responsive to development of new object and distributed systems technolog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provide a core set of component integration servers but be extensible to support market niches served by independent software vend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ability: be readily constructed with available technology (time to mark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MA</a:t>
            </a:r>
            <a:endParaRPr b="0" lang="en-US" sz="3600" spc="-1" strike="noStrike">
              <a:solidFill>
                <a:srgbClr val="ffffff"/>
              </a:solidFill>
              <a:latin typeface="Century Schoolbook"/>
            </a:endParaRPr>
          </a:p>
        </p:txBody>
      </p:sp>
      <p:sp>
        <p:nvSpPr>
          <p:cNvPr id="169" name=""/>
          <p:cNvSpPr/>
          <p:nvPr/>
        </p:nvSpPr>
        <p:spPr>
          <a:xfrm>
            <a:off x="725400" y="240048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70040" y="245268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734640" y="2459160"/>
            <a:ext cx="208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 objects</a:t>
            </a:r>
            <a:endParaRPr b="0" lang="en-US" sz="1800" spc="-1" strike="noStrike">
              <a:solidFill>
                <a:srgbClr val="ffffff"/>
              </a:solidFill>
              <a:latin typeface="Times New Roman"/>
            </a:endParaRPr>
          </a:p>
        </p:txBody>
      </p:sp>
      <p:sp>
        <p:nvSpPr>
          <p:cNvPr id="172" name=""/>
          <p:cNvSpPr/>
          <p:nvPr/>
        </p:nvSpPr>
        <p:spPr>
          <a:xfrm>
            <a:off x="714240" y="3267000"/>
            <a:ext cx="7680600" cy="420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760320" y="3319560"/>
            <a:ext cx="7588440" cy="318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009600" y="3330720"/>
            <a:ext cx="3091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 request broker (ORB)</a:t>
            </a:r>
            <a:endParaRPr b="0" lang="en-US" sz="1800" spc="-1" strike="noStrike">
              <a:solidFill>
                <a:srgbClr val="ffffff"/>
              </a:solidFill>
              <a:latin typeface="Times New Roman"/>
            </a:endParaRPr>
          </a:p>
        </p:txBody>
      </p:sp>
      <p:sp>
        <p:nvSpPr>
          <p:cNvPr id="175" name=""/>
          <p:cNvSpPr/>
          <p:nvPr/>
        </p:nvSpPr>
        <p:spPr>
          <a:xfrm>
            <a:off x="714240" y="4137120"/>
            <a:ext cx="31784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58880" y="4181400"/>
            <a:ext cx="309096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367280" y="4192560"/>
            <a:ext cx="1872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Services</a:t>
            </a:r>
            <a:endParaRPr b="0" lang="en-US" sz="1800" spc="-1" strike="noStrike">
              <a:solidFill>
                <a:srgbClr val="ffffff"/>
              </a:solidFill>
              <a:latin typeface="Times New Roman"/>
            </a:endParaRPr>
          </a:p>
        </p:txBody>
      </p:sp>
      <p:sp>
        <p:nvSpPr>
          <p:cNvPr id="178" name=""/>
          <p:cNvSpPr/>
          <p:nvPr/>
        </p:nvSpPr>
        <p:spPr>
          <a:xfrm>
            <a:off x="5227560" y="4132440"/>
            <a:ext cx="317808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272200" y="4176720"/>
            <a:ext cx="309060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874480" y="4195800"/>
            <a:ext cx="188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Facilities</a:t>
            </a:r>
            <a:endParaRPr b="0" lang="en-US" sz="1800" spc="-1" strike="noStrike">
              <a:solidFill>
                <a:srgbClr val="ffffff"/>
              </a:solidFill>
              <a:latin typeface="Times New Roman"/>
            </a:endParaRPr>
          </a:p>
        </p:txBody>
      </p:sp>
      <p:grpSp>
        <p:nvGrpSpPr>
          <p:cNvPr id="181" name=""/>
          <p:cNvGrpSpPr/>
          <p:nvPr/>
        </p:nvGrpSpPr>
        <p:grpSpPr>
          <a:xfrm>
            <a:off x="2295360" y="3699000"/>
            <a:ext cx="16200" cy="425160"/>
            <a:chOff x="2295360" y="3699000"/>
            <a:chExt cx="16200" cy="425160"/>
          </a:xfrm>
        </p:grpSpPr>
        <p:sp>
          <p:nvSpPr>
            <p:cNvPr id="182" name=""/>
            <p:cNvSpPr/>
            <p:nvPr/>
          </p:nvSpPr>
          <p:spPr>
            <a:xfrm>
              <a:off x="2295360" y="3699000"/>
              <a:ext cx="0" cy="425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311560" y="3773520"/>
              <a:ext cx="0" cy="2509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4" name=""/>
          <p:cNvGrpSpPr/>
          <p:nvPr/>
        </p:nvGrpSpPr>
        <p:grpSpPr>
          <a:xfrm>
            <a:off x="4562640" y="2797200"/>
            <a:ext cx="10800" cy="498600"/>
            <a:chOff x="4562640" y="2797200"/>
            <a:chExt cx="10800" cy="498600"/>
          </a:xfrm>
        </p:grpSpPr>
        <p:sp>
          <p:nvSpPr>
            <p:cNvPr id="185" name=""/>
            <p:cNvSpPr/>
            <p:nvPr/>
          </p:nvSpPr>
          <p:spPr>
            <a:xfrm>
              <a:off x="4562640" y="2797200"/>
              <a:ext cx="0" cy="4986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573440" y="2868480"/>
              <a:ext cx="0" cy="370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7" name=""/>
          <p:cNvGrpSpPr/>
          <p:nvPr/>
        </p:nvGrpSpPr>
        <p:grpSpPr>
          <a:xfrm>
            <a:off x="6808680" y="3713040"/>
            <a:ext cx="15840" cy="425520"/>
            <a:chOff x="6808680" y="3713040"/>
            <a:chExt cx="15840" cy="425520"/>
          </a:xfrm>
        </p:grpSpPr>
        <p:sp>
          <p:nvSpPr>
            <p:cNvPr id="188" name=""/>
            <p:cNvSpPr/>
            <p:nvPr/>
          </p:nvSpPr>
          <p:spPr>
            <a:xfrm>
              <a:off x="6808680" y="3713040"/>
              <a:ext cx="0" cy="4255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824520" y="3787920"/>
              <a:ext cx="0" cy="250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OMA -1</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57520"/>
            <a:ext cx="7394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is an architecture specification.  It defines a standard architecture and services for OMA-compliant object request brokers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bject request broker (ORB) component of CORBA provides communication services, e.g., remote method invocation, event channe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OMA -2</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760" y="1757520"/>
            <a:ext cx="74836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Services: provides universally useful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ing serv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 serv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istent-object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action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urrency-control servi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Facilities: provides higher level and domain-specific services (not yet well def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6:58:38Z</cp:lastPrinted>
  <dcterms:modified xsi:type="dcterms:W3CDTF">1998-10-20T14:05:33Z</dcterms:modified>
  <cp:revision>220</cp:revision>
  <dc:subject/>
  <dc:title>Cover Slide Example</dc:title>
</cp:coreProperties>
</file>