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66434249-9E25-4A6E-BBD3-EBFB7C8D0AA5}"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501C02FC-E6F7-4300-BA1C-3B786656D01F}"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B70AC33B-2B1F-4AA2-A752-3F9D04094A6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8: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4:07:58Z</dcterms:modified>
  <cp:revision>275</cp:revision>
  <dc:subject/>
  <dc:title>Cover Slide Example</dc:title>
</cp:coreProperties>
</file>