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3555CF1-7EF5-4A9C-A700-A52701536B41}"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033560" y="657360"/>
            <a:ext cx="4321080" cy="3240000"/>
          </a:xfrm>
          <a:prstGeom prst="rect">
            <a:avLst/>
          </a:prstGeom>
          <a:ln w="0">
            <a:noFill/>
          </a:ln>
        </p:spPr>
      </p:sp>
      <p:sp>
        <p:nvSpPr>
          <p:cNvPr id="92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 and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possible to evaluate an architecture to see if it allows certain system quality attributes to be achieved.  This lecture presents a method for performing this evaluation with respect to the quality attribute of modifiability.  We present the method using several examples to clarify its step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031760" y="657360"/>
            <a:ext cx="4324320" cy="3240000"/>
          </a:xfrm>
          <a:prstGeom prst="rect">
            <a:avLst/>
          </a:prstGeom>
          <a:ln w="0">
            <a:noFill/>
          </a:ln>
        </p:spPr>
      </p:sp>
      <p:sp>
        <p:nvSpPr>
          <p:cNvPr id="94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reviously mentioned, the scenarios generated for a particular quality are dependent on the stakeholder roles, since different classes of stakeholders have different needs and interests in system function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are interested in schedule and budget, usefulness of the system, and whether the system meets their needs and expect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required functiona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s want an architecture that is complete and easy to understand, that features high cohesion and limited coupling of parts, and has clear mechanisms for component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want architectures that promote maintainability and make it easy to locate the aspects of the system that are likely to be chang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031760" y="657360"/>
            <a:ext cx="4324320" cy="3240000"/>
          </a:xfrm>
          <a:prstGeom prst="rect">
            <a:avLst/>
          </a:prstGeom>
          <a:ln w="0">
            <a:noFill/>
          </a:ln>
        </p:spPr>
      </p:sp>
      <p:sp>
        <p:nvSpPr>
          <p:cNvPr id="9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dministrators are interested in systems that provide ease of finding sources of operational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administrators want system with good network performance and high predict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ors’ interests include architectures that are complete and easy to understand, have high cohesion and limited coupling of parts, and have clear mechanisms for component interac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1760" y="657360"/>
            <a:ext cx="4324320" cy="3240000"/>
          </a:xfrm>
          <a:prstGeom prst="rect">
            <a:avLst/>
          </a:prstGeom>
          <a:ln w="0">
            <a:noFill/>
          </a:ln>
        </p:spPr>
      </p:sp>
      <p:sp>
        <p:nvSpPr>
          <p:cNvPr id="9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sters want systems with integrated and consistent error handling, limited component coupling, high component cohesion, and conceptual integr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product line architectures, the application builders are interested in architectural clarity and completeness, clear interaction mechanisms, and simple tailoring mechanisms.  They want to be able to build a collection of systems - members of the product line - efficiently and correctly, using the architecture as a ba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atives of the domain are interested in interoperability of the system with other systems in the domain; they may also be interested in using the architecture to build new systems of their own in the same domai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031760" y="657360"/>
            <a:ext cx="4324320" cy="3240000"/>
          </a:xfrm>
          <a:prstGeom prst="rect">
            <a:avLst/>
          </a:prstGeom>
          <a:ln w="0">
            <a:noFill/>
          </a:ln>
        </p:spPr>
      </p:sp>
      <p:sp>
        <p:nvSpPr>
          <p:cNvPr id="9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illustrate the kinds of activities that the system must support and the kinds of changes that it is anticipated will be made to the system.  In developing these scenarios, it is important to capture all important uses of a system, users of a system, and qualities that the system is to satisfy.  Among these are functionality, development activities, and change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can also be chosen to give insight into the system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should represent tasks relevant to different stakeholders such as end user, customer, marketing specialist, system administrator, maintainer, and develop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 good rule of thumb to generate 10 to 20 scenarios with which to analyze the architecture.  SAAM uses a brainstorming technique in which 50 to 60 scenarios may be generated.  A prioritization process then narrows this set down by clarifying, merging scenarios that express roughly the same concern, and dropping scenarios of little interest or importance.  Stakeholders then vote to determine the final se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031760" y="657360"/>
            <a:ext cx="4324320" cy="3240000"/>
          </a:xfrm>
          <a:prstGeom prst="rect">
            <a:avLst/>
          </a:prstGeom>
          <a:ln w="0">
            <a:noFill/>
          </a:ln>
        </p:spPr>
      </p:sp>
      <p:sp>
        <p:nvSpPr>
          <p:cNvPr id="955"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requently necessary to elicit appropriate descriptions of the architecture.  The candidate architecture or architectures should be described in an architectural notation that is well understood by the parties involved in the analysis.  These architectural descriptions must indicate the system’s computation and data components as well as all relevant conn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evaluations have tended to use very simplistic architectural primitives.  A typical representation will distinguish between data connections (passing information between components) and control connections (one component enabling another component to perform its function).  This simple lexicon provides a reasonable static representation of the architecture.  Accompanying this static representation of the architecture is a description of how the system behaves over time, or a more dynamic representation of the architecture.  This can take the form of a natural-language specification of the overall behavior or some other formal and structured specification.  The point is that sophisticated architectural documentation expressed in a formal language is </a:t>
            </a:r>
            <a:r>
              <a:rPr b="0" lang="en-US" sz="1000" spc="-1" strike="noStrike" u="sng">
                <a:solidFill>
                  <a:srgbClr val="000000"/>
                </a:solidFill>
                <a:uFillTx/>
                <a:latin typeface="Arial"/>
              </a:rPr>
              <a:t>not</a:t>
            </a:r>
            <a:r>
              <a:rPr b="0" lang="en-US" sz="1000" spc="-1" strike="noStrike">
                <a:solidFill>
                  <a:srgbClr val="000000"/>
                </a:solidFill>
                <a:latin typeface="Arial"/>
              </a:rPr>
              <a:t> a prerequisite for a SAAM evaluation to be effectiv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031760" y="657360"/>
            <a:ext cx="4324320" cy="3240000"/>
          </a:xfrm>
          <a:prstGeom prst="rect">
            <a:avLst/>
          </a:prstGeom>
          <a:ln w="0">
            <a:noFill/>
          </a:ln>
        </p:spPr>
      </p:sp>
      <p:sp>
        <p:nvSpPr>
          <p:cNvPr id="957" name="PlaceHolder 2"/>
          <p:cNvSpPr>
            <a:spLocks noGrp="1"/>
          </p:cNvSpPr>
          <p:nvPr>
            <p:ph type="body"/>
          </p:nvPr>
        </p:nvSpPr>
        <p:spPr>
          <a:xfrm>
            <a:off x="917280" y="421272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documentation is typically requested of the architect as a sta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for the evalu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logical or module structure, with a clear definition of the responsibilities of each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process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ta flow diagram showing how the modules interact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of the interconnection mechanism(s) used to distribute data and control among architectural components at run 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scription, if needed, of the “uses” structure, showing how potential subsets will be realiz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emselves may make further documentation necessary, or mak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arent which documents will be most useful in prosecuting the analysi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031760" y="657360"/>
            <a:ext cx="4324320" cy="3240000"/>
          </a:xfrm>
          <a:prstGeom prst="rect">
            <a:avLst/>
          </a:prstGeom>
          <a:ln w="0">
            <a:noFill/>
          </a:ln>
        </p:spPr>
      </p:sp>
      <p:sp>
        <p:nvSpPr>
          <p:cNvPr id="959"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n important distinction between scenario types that we introduce at thi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Recall that a scenario is a brief description of some anticipated or desir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 of a system.  There are two classes of scenario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irect scenarios</a:t>
            </a:r>
            <a:r>
              <a:rPr b="0" lang="en-US" sz="1000" spc="-1" strike="noStrike">
                <a:solidFill>
                  <a:srgbClr val="000000"/>
                </a:solidFill>
                <a:latin typeface="Arial"/>
              </a:rPr>
              <a:t>:  The system may directly support a scenario, meaning that anticipated use requires no modification to the system for the scenario to be performed.  This is usually determined by demonstrating how the existing architecture would behave in performing the scenario (rather like a walk-through simulation of the system conducted in terms of the architectural constr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direct scenarios</a:t>
            </a:r>
            <a:r>
              <a:rPr b="0" lang="en-US" sz="1000" spc="-1" strike="noStrike">
                <a:solidFill>
                  <a:srgbClr val="000000"/>
                </a:solidFill>
                <a:latin typeface="Arial"/>
              </a:rPr>
              <a:t>:  If the scenario is not directly supported, there must be some change to the system that we could represent architecturally.  This change could be to how one or more components perform an assigned activity, the addition of a component to perform some activity, the addition of a connection between existing components, or a combination of these facto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direct or indirect only with respect to a particular architecture.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didate architecture may execute a scenario and another may requi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cation before it can be execu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stinction between direct and indirect is not a completely reliable indicator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lexity of a change.  Systems might support a scenario directly but poor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degrees of modification must be captured when evaluating a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se to a scenario.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031760" y="657360"/>
            <a:ext cx="4324320" cy="3240000"/>
          </a:xfrm>
          <a:prstGeom prst="rect">
            <a:avLst/>
          </a:prstGeom>
          <a:ln w="0">
            <a:noFill/>
          </a:ln>
        </p:spPr>
      </p:sp>
      <p:sp>
        <p:nvSpPr>
          <p:cNvPr id="96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each indirect scenario, the changes to the architecture that are necessary for it to support the scenario must be listed, and the cost of performing the change must be estimated.  A modification to the architecture means that either a new component or connection is introduced or an existing component or connection requires a change in its specification.  By the end of this stage, there should be a summary table that lists all scenarios (direct and indirect).  For each indirect scenario, the effect of set of changes that the scenario has on the architecture should be describ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eighting of difficulty must also accompany this stage.  Usually, this weighting is coarse-grained, based on the understanding of the architecture.  A tabular summary is especially useful when comparing alternative architectural candidates because it provides an easy way to determine which architecture better supports a collection of scenarios.  A typical weighting scheme measures difficulty in terms of effort required:  e.g., one person-week, one person-month, one person-year, more than one person-y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ice that a monolithic system with little or no substructure will score quite well under this step:  every indirect scenario will require changing only a single component.  The next step provides a counterbalance to this result by revealing components that are the focus of too many kinds of chang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031760" y="657360"/>
            <a:ext cx="4324320" cy="3240000"/>
          </a:xfrm>
          <a:prstGeom prst="rect">
            <a:avLst/>
          </a:prstGeom>
          <a:ln w="0">
            <a:noFill/>
          </a:ln>
        </p:spPr>
      </p:sp>
      <p:sp>
        <p:nvSpPr>
          <p:cNvPr id="9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two or more indirect scenarios require changes to a single component of a system, they are said to interact in that component.  Scenario interaction is important to highlight because it exposes the allocation of functionality to the product’s design.  The interaction of semantically unrelated scenarios explicitly shows which system modules are computing semantically unrelated function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as of high scenario interaction reveal potentially poor separation of concerns in a system component, for example, if changing the background color of the user interface to red interacts with porting the system to a different platfor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eas of scenario interaction revealed indicate where the designer should focus subsequent attention.  The amount of scenario interaction is related to metrics such as structural complexity, coupling, and cohesion.  High interaction among scenarios that are fundamentally different corresponds to low cohes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uggests high structural complexity.  High interaction among fundamentally similar scenarios signals high cohesion.  Therefore, scenario interaction is likely to be strongly correlated with the number of defects in the final produc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031760" y="657360"/>
            <a:ext cx="4324320" cy="3240000"/>
          </a:xfrm>
          <a:prstGeom prst="rect">
            <a:avLst/>
          </a:prstGeom>
          <a:ln w="0">
            <a:noFill/>
          </a:ln>
        </p:spPr>
      </p:sp>
      <p:sp>
        <p:nvSpPr>
          <p:cNvPr id="9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ures are being compared, a weight should be assigned to each scenario and the scenario interactions in terms of their relative importance, and the weighting should be used to determine an overall ranking of the candidate architectures.  The purpose of assigning weights is to resolve the situation in which the first candidate architecture scores better on the other half.  Assigning weights is a subjective process involving all of the stakeholders in the system.  Rather than offering a single architectural metric, SAAM produces a collection of small metrics, a set of per-scenario analys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left to the users of SAAM to determine which scenarios are most important to them so that they can resolve cases in which the candidates outscore one another on different scenarios.  The process of performing a SAAM analysis has also been used to gain a more complete understanding of the competing architectures; this understanding, rather than just a scenario-based table, is useful for performing comparative analys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must then decide whether the design is acceptable as is or if it must be modifi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031760" y="657360"/>
            <a:ext cx="4324320" cy="3240000"/>
          </a:xfrm>
          <a:prstGeom prst="rect">
            <a:avLst/>
          </a:prstGeom>
          <a:ln w="0">
            <a:noFill/>
          </a:ln>
        </p:spPr>
      </p:sp>
      <p:sp>
        <p:nvSpPr>
          <p:cNvPr id="9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al analysis is only useful in the presence of clearly articulated goals for the artifact being analyzed.  Analyzing an architecture without knowing the exact criteria for “goodness” is like beginning a trip without a destination in mi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analysis method (SAAM) is a method designed to help articulate goals and then determine the degree to which an architecture meets th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st time to evaluate an architecture is early, before problems arise, as part of the standard development process; however, architectural evaluations are often done after the fact by outsider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031760" y="657360"/>
            <a:ext cx="4324320" cy="3240000"/>
          </a:xfrm>
          <a:prstGeom prst="rect">
            <a:avLst/>
          </a:prstGeom>
          <a:ln w="0">
            <a:noFill/>
          </a:ln>
        </p:spPr>
      </p:sp>
      <p:sp>
        <p:nvSpPr>
          <p:cNvPr id="96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graphic shows the dependencies among the SAAM analysis activiti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031760" y="657360"/>
            <a:ext cx="4324320" cy="3240000"/>
          </a:xfrm>
          <a:prstGeom prst="rect">
            <a:avLst/>
          </a:prstGeom>
          <a:ln w="0">
            <a:noFill/>
          </a:ln>
        </p:spPr>
      </p:sp>
      <p:sp>
        <p:nvSpPr>
          <p:cNvPr id="9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next section of this lecture, we apply SAAM to two examp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example is based on the keyword in context (KWIC) case study from the lecture on architectural styl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example examines the application of SAAM to a commercially available revision control system based on RCS, which we will call WRCS.  This example demonstrates the analysis method in a reengineering context.</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031760" y="657360"/>
            <a:ext cx="4324320" cy="3240000"/>
          </a:xfrm>
          <a:prstGeom prst="rect">
            <a:avLst/>
          </a:prstGeom>
          <a:ln w="0">
            <a:noFill/>
          </a:ln>
        </p:spPr>
      </p:sp>
      <p:sp>
        <p:nvSpPr>
          <p:cNvPr id="971" name="PlaceHolder 2"/>
          <p:cNvSpPr>
            <a:spLocks noGrp="1"/>
          </p:cNvSpPr>
          <p:nvPr>
            <p:ph type="body"/>
          </p:nvPr>
        </p:nvSpPr>
        <p:spPr>
          <a:xfrm>
            <a:off x="917640" y="4222440"/>
            <a:ext cx="4876560" cy="380052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KWIC system had four structural solutions presented, but it wa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lear how to evaluate and compare the solutions.  The original authors of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udies made evaluations of the architectures, but their results were largely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uitive.  Our purpose here is to illuminate the essential features of SAAM using a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easily understood example that will shed light on how compet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can be compared in a repeatable manner.  We will concentrate 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of the four structural solutions:  the shared memory architecture and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data type (ADT) archit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WIC example has two stakeholders that we will consider:  the end user, who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produce the KWIC index, and the developer, who produces or modifi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de that produces the KWIC index.  Two of the scenarios we use (1 and 2)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olve the end user.  The other two scenarios we will use (3 and 4) involve th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but are not apparent to the end user.  The scenarios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a:solidFill>
                  <a:srgbClr val="000000"/>
                </a:solidFill>
                <a:latin typeface="Arial"/>
              </a:rPr>
              <a:t>Make the KWIC program operate in an incremental rather than a batch fashion.  This version of the program would work by accepting one sentence at a time and producing an alphabetical list of all permutations of all sentences that have been input to dat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a:solidFill>
                  <a:srgbClr val="000000"/>
                </a:solidFill>
                <a:latin typeface="Arial"/>
              </a:rPr>
              <a:t>Make the KWIC program eliminate entries beginning with "noise” words (articles, prepositions, pronouns, conjunctions, etc.).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sentences (e.g., compressed or uncompressed).</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a:solidFill>
                  <a:srgbClr val="000000"/>
                </a:solidFill>
                <a:latin typeface="Arial"/>
              </a:rPr>
              <a:t>Change the internal representation of the intermediate data structure (e.g., either store the shifted sentences directly or store an index to the shifted word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031760" y="657360"/>
            <a:ext cx="4324320" cy="3240000"/>
          </a:xfrm>
          <a:prstGeom prst="rect">
            <a:avLst/>
          </a:prstGeom>
          <a:ln w="0">
            <a:noFill/>
          </a:ln>
        </p:spPr>
      </p:sp>
      <p:sp>
        <p:nvSpPr>
          <p:cNvPr id="973" name="PlaceHolder 2"/>
          <p:cNvSpPr>
            <a:spLocks noGrp="1"/>
          </p:cNvSpPr>
          <p:nvPr>
            <p:ph type="body"/>
          </p:nvPr>
        </p:nvSpPr>
        <p:spPr>
          <a:xfrm>
            <a:off x="917280" y="4222440"/>
            <a:ext cx="4848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scenario is to operate not in a batch mode but in an incremental mental mode.  That is, operate on one sentence at a time rather than inputting all of the sentences and operating on the total output.  For the shared memory solution, this requires a modification of the input routine so that it yields control after each sentence.  Master control must be modified because the sequencing among the subordinate routines is going to be repetitive rather than calling each routine only once.  The alphabetizer will need to be modified because an incremental algorithm (such as insertion sort) must be used rather than one that sorts all of the sentences at once.  Presumably, the circular shift routine operates on one sentence at a time and the output function outputs whatever is available whenever it is call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scenario is the elimination of noise words.  This change is most easily performed by modifying the circular shift function in the architecture to eliminate those shifted sentences beginning with noise word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shared memory architecture, all functions directly access the common representation for the data, and so all of the functions are affected by this scenario, except for the master contro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shared memory example, this requires a modification of the circular shift, the alphabetizer, and the output routin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031760" y="657360"/>
            <a:ext cx="4324320" cy="3240000"/>
          </a:xfrm>
          <a:prstGeom prst="rect">
            <a:avLst/>
          </a:prstGeom>
          <a:ln w="0">
            <a:noFill/>
          </a:ln>
        </p:spPr>
      </p:sp>
      <p:sp>
        <p:nvSpPr>
          <p:cNvPr id="975"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ADT solution to the first scenario (change operation from batch mode to an incremental mental mode), the input function must be changed so that only one line at a time is provided as input each time it is called.  The characters abstraction is assumed to be implemented to relinquish control when it has stored its input.  Since it receives input one sentence at a time, this need not be changed.  The circular shift abstraction is also assumed to be implemented to request and shift all available sentences when it is invoked.  Thus, this routine also does not need to be modified.  The alphabetic shift abstraction must be modified as in the shared memory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ith the shared memory architecture, the second scenario (elimination of noise words) change is most easily performed in the ADT solution by modifying the circular shift function in the architecture to eliminate those shifted sentences beginning with noise wo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ird scenario is the modification of the internal representation of an input sentence (e.g., moving from an uncompressed representation to a compressed representation).  In the ADT architecture, the internal representation of the input is an implementation secret that is hidden by the characters abstraction.  Thus, only this abstraction needs to be changed to satisfy the scenario.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urth scenario - changing the representation of the intermediate data structures - we observe that the shifting and alphabetizing functions maintain indices to the input sentences and only one copy of the input sentence exists. For the ADT solution, the changes required are a modification of the circular shift and alphabetic shift ADT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031760" y="657360"/>
            <a:ext cx="4324320" cy="3240000"/>
          </a:xfrm>
          <a:prstGeom prst="rect">
            <a:avLst/>
          </a:prstGeom>
          <a:ln w="0">
            <a:noFill/>
          </a:ln>
        </p:spPr>
      </p:sp>
      <p:sp>
        <p:nvSpPr>
          <p:cNvPr id="977" name="PlaceHolder 2"/>
          <p:cNvSpPr>
            <a:spLocks noGrp="1"/>
          </p:cNvSpPr>
          <p:nvPr>
            <p:ph type="body"/>
          </p:nvPr>
        </p:nvSpPr>
        <p:spPr>
          <a:xfrm>
            <a:off x="917280" y="4222800"/>
            <a:ext cx="4886280" cy="399096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able summarizes the results of the SAAM evaluation of this scenario se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r>
            <a:r>
              <a:rPr b="0" lang="en-US" sz="1000" spc="-1" strike="noStrike">
                <a:solidFill>
                  <a:srgbClr val="000000"/>
                </a:solidFill>
                <a:latin typeface="Arial"/>
              </a:rPr>
              <a:t>0” indicates that neither architecture is superior with regard to a scenario.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scenario 1, both candidate architectures have been affected equally, so we rate the two architectures as a ti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2, because the shifter is localized in both architectures noise word elimination does not affect the internal representation of the sentences, the difficulty of making the needed modification is equivalent for both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3, all of the functions (except for the master control) in the shared memory architecture are affected.  In the ADT architecture, only the characters abstraction needs to be changed.  The ADT architecture serves better h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cenario 4, the shared memory solution requires a modification of three components but the ADT solution need modify only two.  Thus, the ADT solution is superior for this scenari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ining the candidate architectures to determine which has more scenario interaction (components with more than one scenario annotation), we see that the ADT is superior in this regard.  Although both architectures show scenario interaction in four components, in the shared memory solution, the contention is among three of the scenarios in two components (circular shift and alphabetize), whereas no component in the ADT solution has contention from more than two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real evaluation, the evaluation would conclude by weighting the scenario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the organization’s priorities.  For example, if the addition of function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concern (as represented by scenario 2), the two architectures would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nked closely because they do not differ with respect to this task.  On the o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nd, if a change in the internal representation of sentences (as in scenario 3),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of primary concern to the organization, the ADT solution would be superi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031760" y="657360"/>
            <a:ext cx="4324320" cy="3240000"/>
          </a:xfrm>
          <a:prstGeom prst="rect">
            <a:avLst/>
          </a:prstGeom>
          <a:ln w="0">
            <a:noFill/>
          </a:ln>
        </p:spPr>
      </p:sp>
      <p:sp>
        <p:nvSpPr>
          <p:cNvPr id="979"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example, “WRCS” is a large, commercially-available revision control system.  It enables project developers to create archives, compare files, check files in and out, create releases, back up to old versions of files, and so on.  Project in this context means any group of related files, that when linked together appropriately, form a finished product.  For example, these files might be source code for a computer program, text for a book, or digitized audio and video for the creation of a video cli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RCS keeps track of changes made to files as they evolve over time.  It allows multiple users to work on the same project within their own private work areas.  It also allows each developer to modify and test the system in isolation, without disturbing other developers’ work and without corrupting the primary copy of the system.  Managerial functions, such as report production, are also provided.  WRCS’s functionality has been integrated with several program-development environments and can be accessed through these tools or through WRCS’s graphical user interfa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the evaluation was to assess the impact of anticipated future changes to the system. For an evaluation to take place, SAAM requires an architectural representation of the product with a well-specified semantic interpretation (principally what it means to be a component or a connector).  At the start of the evaluation, no architectural description of the product existed, so it had to be elicited at the start of the evaluation.  The elicitation of a satisfactory architectural description required three iterations.  Each iteration consisted of examining the existing product description and the product itself, devising questions or scenarios, and using the answers to the scenario questions to clarify and refine the existing architectural descrip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031760" y="657360"/>
            <a:ext cx="4324320" cy="3240000"/>
          </a:xfrm>
          <a:prstGeom prst="rect">
            <a:avLst/>
          </a:prstGeom>
          <a:ln w="0">
            <a:noFill/>
          </a:ln>
        </p:spPr>
      </p:sp>
      <p:sp>
        <p:nvSpPr>
          <p:cNvPr id="981" name="PlaceHolder 2"/>
          <p:cNvSpPr>
            <a:spLocks noGrp="1"/>
          </p:cNvSpPr>
          <p:nvPr>
            <p:ph type="body"/>
          </p:nvPr>
        </p:nvSpPr>
        <p:spPr>
          <a:xfrm>
            <a:off x="917640" y="4222440"/>
            <a:ext cx="48578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representation of WRCS (shown above) was elicited as a result of the iterative cycle just described on the previous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process of elicitation, the evaluators continually developed scenarios that represented the core values of the stakeholders in the system.  For WRCS, these stakeholders were users, developers, maintainers, and system administrators.  Scenario enumeration is simply a form of requirements elicitation and analysis.  The scenarios developed in the discussions with all the stakeholders in the WRCS system were used as a way to characterize all current and projected uses of the system.  The scenarios formed the basis for all further architectural evaluation.  The scenarios were a subset of the scenarios elicited from the WRCS domain exper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otal, 15 scenarios were studied.  On the following slides, 6 of these scenarios will be discussed.  A complete evaluation of a complex system would involve dozens of scenario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031760" y="657360"/>
            <a:ext cx="4324320" cy="3240000"/>
          </a:xfrm>
          <a:prstGeom prst="rect">
            <a:avLst/>
          </a:prstGeom>
          <a:ln w="0">
            <a:noFill/>
          </a:ln>
        </p:spPr>
      </p:sp>
      <p:sp>
        <p:nvSpPr>
          <p:cNvPr id="98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15 scenarios studied, we will examine 6.</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cenarios relate to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Compare binary files generated by other products.  For example, FrameMaker files are stored in a binary representation.  But when comparing two versions of a FrameMaker file, we want to see our editing changes in a human-readable form, not the changes to the binary codes stored in the fi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figure the product’s toolbar</a:t>
            </a:r>
            <a:r>
              <a:rPr b="0" lang="en-US" sz="1000" spc="-1" strike="noStrike">
                <a:solidFill>
                  <a:srgbClr val="000000"/>
                </a:solidFill>
                <a:latin typeface="Arial"/>
              </a:rPr>
              <a:t>.  Change the icons and actions associated with a button in the toolba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that concern the maintaine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Add a menu item or change the look and feel of the dialog box.</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f the administrator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hange access permissions for a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For example, attach to Symantec C++.</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031760" y="657360"/>
            <a:ext cx="4324320" cy="3240000"/>
          </a:xfrm>
          <a:prstGeom prst="rect">
            <a:avLst/>
          </a:prstGeom>
          <a:ln w="0">
            <a:noFill/>
          </a:ln>
        </p:spPr>
      </p:sp>
      <p:sp>
        <p:nvSpPr>
          <p:cNvPr id="98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xt step was to categorize each scenario as direct or indirect.  The resul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listed above on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the impact of each of the </a:t>
            </a:r>
            <a:r>
              <a:rPr b="0" lang="en-US" sz="1000" spc="-1" strike="noStrike" u="sng">
                <a:solidFill>
                  <a:srgbClr val="000000"/>
                </a:solidFill>
                <a:uFillTx/>
                <a:latin typeface="Arial"/>
              </a:rPr>
              <a:t>indirect</a:t>
            </a:r>
            <a:r>
              <a:rPr b="0" lang="en-US" sz="1000" spc="-1" strike="noStrike">
                <a:solidFill>
                  <a:srgbClr val="000000"/>
                </a:solidFill>
                <a:latin typeface="Arial"/>
              </a:rPr>
              <a:t> scenarios on the architectu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idered individually.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pare binary file representations</a:t>
            </a:r>
            <a:r>
              <a:rPr b="0" lang="en-US" sz="1000" spc="-1" strike="noStrike">
                <a:solidFill>
                  <a:srgbClr val="000000"/>
                </a:solidFill>
                <a:latin typeface="Arial"/>
              </a:rPr>
              <a:t>:  This requires modifications to diff (to make the comparison) and visdiff (to display the results of the comparis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 to another operating system</a:t>
            </a:r>
            <a:r>
              <a:rPr b="0" lang="en-US" sz="1000" spc="-1" strike="noStrike">
                <a:solidFill>
                  <a:srgbClr val="000000"/>
                </a:solidFill>
                <a:latin typeface="Arial"/>
              </a:rPr>
              <a:t>:  All components that call win31 must be modified (especially main, visdiff, and ctrls).  If the target operating system does not support OWL, either OWL or all components that call OWL (specifically, main and hook) must be ported.  If the new operating system is not supported by Novell’s software, wrcs must be modified to work with new networking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ake minor modifications to the user interface</a:t>
            </a:r>
            <a:r>
              <a:rPr b="0" lang="en-US" sz="1000" spc="-1" strike="noStrike">
                <a:solidFill>
                  <a:srgbClr val="000000"/>
                </a:solidFill>
                <a:latin typeface="Arial"/>
              </a:rPr>
              <a:t>:  This will require changes to one or more of those components that call the win31 API, specifically, main, visdiff, and ctr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te with a new development environment</a:t>
            </a:r>
            <a:r>
              <a:rPr b="0" lang="en-US" sz="1000" spc="-1" strike="noStrike">
                <a:solidFill>
                  <a:srgbClr val="000000"/>
                </a:solidFill>
                <a:latin typeface="Arial"/>
              </a:rPr>
              <a:t>:  This requires changes to hook as well as the addition of a module along the lines of bcext, mcext, and cbext, which connect the new development environment to hook.</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1760" y="657360"/>
            <a:ext cx="4324320" cy="3240000"/>
          </a:xfrm>
          <a:prstGeom prst="rect">
            <a:avLst/>
          </a:prstGeom>
          <a:ln w="0">
            <a:noFill/>
          </a:ln>
        </p:spPr>
      </p:sp>
      <p:sp>
        <p:nvSpPr>
          <p:cNvPr id="93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ways more cost-effective to evaluate software quality as early as possible in the life cycle.  If problems are found early in the software life cycle, they are easier to correct - a change to a requirement, specification, or design is all that is necessary.  Software quality cannot be appended late in a project; it must be inherent from the beginning, built in by design.  It is in the project's best interest for prospective candidate designs to be evaluated (and rejected, if necessary) during the design phase, before long-term institutionalization occu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building a system, architectures are useful ways to try to ensure that the desired qualities or functionalities can be supported.  However, the architecture cannot guarantee the quality or functionality, as there are factors later in the life cycle that can undermine it.  But since architecture is the earliest artifact in the life cycle that shows the visibility of trade-offs, analysis of the architecture before it becomes the project’s accepted blueprint is of great benefit to the development organization.  Unfortunately, the reality is that architecture analysis is often done later in the project as damage control when something goes wrong.</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031760" y="657360"/>
            <a:ext cx="4324320" cy="3240000"/>
          </a:xfrm>
          <a:prstGeom prst="rect">
            <a:avLst/>
          </a:prstGeom>
          <a:ln w="0">
            <a:noFill/>
          </a:ln>
        </p:spPr>
      </p:sp>
      <p:sp>
        <p:nvSpPr>
          <p:cNvPr id="98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indirect scenarios may necessitate changes to the same components or connections.  Determining scenario interaction is a process of identifying those indirect scenarios that affect a common set of components.  This determination is important because it highlights components that will be affected by multiple modifications.  Scenario interaction measures the extent to which the architecture supports an appropriate separation of concerns.  For each scenario, the components or connections affected by that scenario must be determined.  SAAM favors the architecture with the fewest such scenario contentions, as long as the scenario contentions represent fundamentally different scenario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anges required by each relevant scenario may be represented either tabularly or visually.  Similarly, the number of scenarios that affected each module in the system can be shown tabularly or visually with a graphic called the fish-eye view.  </a:t>
            </a:r>
            <a:r>
              <a:rPr b="0" i="1" lang="en-US" sz="1000" spc="-1" strike="noStrike">
                <a:solidFill>
                  <a:srgbClr val="000000"/>
                </a:solidFill>
                <a:latin typeface="Arial"/>
              </a:rPr>
              <a:t>(The following slide shows the tabular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sh-eye view of scenario interaction uses size to represent areas of interest.  </a:t>
            </a:r>
            <a:r>
              <a:rPr b="0" i="1" lang="en-US" sz="1000" spc="-1" strike="noStrike">
                <a:solidFill>
                  <a:srgbClr val="000000"/>
                </a:solidFill>
                <a:latin typeface="Arial"/>
              </a:rPr>
              <a:t>(This view is shown on slide 32.)</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031760" y="657360"/>
            <a:ext cx="4324320" cy="3240000"/>
          </a:xfrm>
          <a:prstGeom prst="rect">
            <a:avLst/>
          </a:prstGeom>
          <a:ln w="0">
            <a:noFill/>
          </a:ln>
        </p:spPr>
      </p:sp>
      <p:sp>
        <p:nvSpPr>
          <p:cNvPr id="98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able here shows the number of changes required in each module of the system; it accounts for all the relevant scenarios of the 15 elicited in the WRCS analysis, not just the 6 we discussed in preceding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see that the wrcs module has the largest scenario interaction (7), followed by main and hook (4 each), visdiff (3), and ctrls (2).</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031760" y="657360"/>
            <a:ext cx="4324320" cy="3240000"/>
          </a:xfrm>
          <a:prstGeom prst="rect">
            <a:avLst/>
          </a:prstGeom>
          <a:ln w="0">
            <a:noFill/>
          </a:ln>
        </p:spPr>
      </p:sp>
      <p:sp>
        <p:nvSpPr>
          <p:cNvPr id="99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ormation shown on the preceding table can be represented graphically in the fish-eye view of the system’s architectural description.  The purpose of such a diagram is to communicate the results of an architectural analysis to the software team and to document the design and design rationale, in such a way that the analysis results are clearly transmitted and properly emphasize problem areas.  The fish-eye diagram highlights scenario interactions by making areas of interest quite large and with detail, with other areas being successively smaller and with less detai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wrcs component was tagged by seven different scenarios as requiring changes.  In this representation of the WRCS system architecture, the size of the module representation is proportional to the number of interacting scenarios that affect it; the fish-eye shows where the scenario interactions lie and the relative scale of the interactions.  Thus, the wrcs component is largest, indicating the most scenario interaction.  Modules main, visdiff, and hook also suffer from high scenario interaction, and ctrls has a small amount of scenario intera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nformation immediately calls attention to the most architecturally problematic features of the system, as it currently exists, and guides designers and developers in their allocation of time and effort.  It has proven to be a highly effective device for communication among team members in the WRCS case study.  In particular, the representation serves to focus architectural restructuring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031760" y="657360"/>
            <a:ext cx="4324320" cy="3240000"/>
          </a:xfrm>
          <a:prstGeom prst="rect">
            <a:avLst/>
          </a:prstGeom>
          <a:ln w="0">
            <a:noFill/>
          </a:ln>
        </p:spPr>
      </p:sp>
      <p:sp>
        <p:nvSpPr>
          <p:cNvPr id="99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Each topic is discussed in the following slides.</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031760" y="657360"/>
            <a:ext cx="4324320" cy="3240000"/>
          </a:xfrm>
          <a:prstGeom prst="rect">
            <a:avLst/>
          </a:prstGeom>
          <a:ln w="0">
            <a:noFill/>
          </a:ln>
        </p:spPr>
      </p:sp>
      <p:sp>
        <p:nvSpPr>
          <p:cNvPr id="99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ummarize the lessons learned as on the slide.</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031760" y="657360"/>
            <a:ext cx="4324320" cy="3240000"/>
          </a:xfrm>
          <a:prstGeom prst="rect">
            <a:avLst/>
          </a:prstGeom>
          <a:ln w="0">
            <a:noFill/>
          </a:ln>
        </p:spPr>
      </p:sp>
      <p:sp>
        <p:nvSpPr>
          <p:cNvPr id="99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are this slide to slide 27 to see the difference in the representation that was finally used for the evalu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sson:  Architecture representation (and the granularity shown and the emphasis given) is a function of the evaluation path taken.  There is no one correct representation for all questions; the architect should be prepared to provide more and different information as the scenarios warrant.</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031760" y="657360"/>
            <a:ext cx="4324320" cy="3240000"/>
          </a:xfrm>
          <a:prstGeom prst="rect">
            <a:avLst/>
          </a:prstGeom>
          <a:ln w="0">
            <a:noFill/>
          </a:ln>
        </p:spPr>
      </p:sp>
      <p:sp>
        <p:nvSpPr>
          <p:cNvPr id="99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cenarios are all of the same class, then they are really just revealing the same thing about the architecture.  We would expect similar scenarios to impact an architecture in the same place(s), so this kind of scenario interaction reflects well on the architecture.  If the scenarios are qualitatively different, then having many of them impact the same component reveals a concern.  Perhaps that component really consists of smaller subparts and the scenarios each map to a different subpart.  That would be good separation of concerns, and the problem wasn’t a problem after all - it was just that the initial representation shown wasn’t detailed enough.  The remaining possibility is that the component really is mixing too many concern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031760" y="657360"/>
            <a:ext cx="4324320" cy="3240000"/>
          </a:xfrm>
          <a:prstGeom prst="rect">
            <a:avLst/>
          </a:prstGeom>
          <a:ln w="0">
            <a:noFill/>
          </a:ln>
        </p:spPr>
      </p:sp>
      <p:sp>
        <p:nvSpPr>
          <p:cNvPr id="1001" name="PlaceHolder 2"/>
          <p:cNvSpPr>
            <a:spLocks noGrp="1"/>
          </p:cNvSpPr>
          <p:nvPr>
            <p:ph type="body"/>
          </p:nvPr>
        </p:nvSpPr>
        <p:spPr>
          <a:xfrm>
            <a:off x="917640" y="4222440"/>
            <a:ext cx="48290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AM is a method that illuminates the management of change and support of different system stakeholders.  It relies a great deal on experience and understanding of people doing the analysis, and, as such, is not a simple “cookbook” approach.  A SAAM evaluation will be only as good as the information available to the evaluators.  SAAM relies on scenarios that are the explicit articulation of the stakeholders’ primary requirements that can be satisfied by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nce SAAM focuses on change management, the indirect scenarios appear to take a predominant role in the evaluation step.  What about direct scenarios?  First of all, direct scenarios serve as the first-order culling mechanism between competing architectures.  An architecture that is thoroughly modifiable to support all the envisioned uses is still less desirable than the architecture that supports those uses directly, and SAAM’s scoring will reflect that.  Second, direct scenarios turn out to be a good mechanism for eliciting and understanding the dynamics of an architecture or how the parts interact at runtime.  Third, the direct scenarios can serve as starting points for analysis of runtime qualities.  In SAAM, the cost of carrying out every indirect scenario is estimated.  So it can be with direct scenarios.  The cost of carrying out a direct scenario is measured in terms of resource utilization, where resources may include time or network traffic (for measuring performance), user effort (for measuring usability), failures consumed out of an allowable maximum (for measuring reliability), and so on.  SAAM does not provide any new techniques for assessing these aspects but instead provides a starting point for bringing standard estimation methods to bea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031760" y="657360"/>
            <a:ext cx="4324320" cy="3240000"/>
          </a:xfrm>
          <a:prstGeom prst="rect">
            <a:avLst/>
          </a:prstGeom>
          <a:ln w="0">
            <a:noFill/>
          </a:ln>
        </p:spPr>
      </p:sp>
      <p:sp>
        <p:nvSpPr>
          <p:cNvPr id="100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 evaluation provides results that are both technical and social.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chnically, the direct output of a SAAM analysis is insight into system capabilities that could not easily be achieved from inspections of code and design documents.  In a simple, straightforward, and cost-effective way, it exposes limitations of a system or design.  Not only does it allow an evaluation of differing architectures, but it does this in the context of specific scenarios rather than more general qual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defining an architecture necessary for SAAM analysis is itself useful for the social results.  All of the participants end up with a better understanding of the architecture under examination, and the organization ends up with an architectural description that has future utility.  Furthermore, from a consultant’s perspective, conversations with the “owners” of the architecture give insight into philosophies and mind sets that help generate deeper insights into the trade-offs that are implicit in an architecture.  Within an organization, SAAM can act as a communication vehicle.  This vehicle enables managers to understand how their business goals are being translated into reality and helps the developers to understand what business goals were important to management and how their design either helped or hindered the achievement of those goals.  The process of undertaking a SAAM evaluation forces the various stakeholders to communicate, and the scenarios serve as an ideal means for bridging the various views of the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031760" y="657360"/>
            <a:ext cx="4324320" cy="3240000"/>
          </a:xfrm>
          <a:prstGeom prst="rect">
            <a:avLst/>
          </a:prstGeom>
          <a:ln w="0">
            <a:noFill/>
          </a:ln>
        </p:spPr>
      </p:sp>
      <p:sp>
        <p:nvSpPr>
          <p:cNvPr id="1005"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t only are stakeholders crucial in the casting of scenarios, it is also vital to have them present at the presentations of the architectures.  They can tell the evaluators if a scenario that is technically supported by the system is done in too cumbersome a way to really be considered a direct scenario.  Or they may have insights into the cost or complexity of making a change that will be required to support an indirect scenario.  Finally, their presence tends to keep the presenters honest and on their toes because end users of a system are much harder to fool than consulting analysts.  Not all evaluations are adversarial, or course, but when two competing commercial vendors are presenting their architectures, candor is not always the watchwor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evaluation has an interesting relationship with the more traditional design notions of coupling and cohesion.  Good architectures exhibit low coupling and high cohesion in terms of some decompositions of functionality.  What does this mean in terms of a SAAM analysis?  </a:t>
            </a:r>
            <a:r>
              <a:rPr b="0" lang="en-US" sz="1000" spc="-1" strike="noStrike" u="sng">
                <a:solidFill>
                  <a:srgbClr val="000000"/>
                </a:solidFill>
                <a:uFillTx/>
                <a:latin typeface="Arial"/>
              </a:rPr>
              <a:t>Low coupling</a:t>
            </a:r>
            <a:r>
              <a:rPr b="0" lang="en-US" sz="1000" spc="-1" strike="noStrike">
                <a:solidFill>
                  <a:srgbClr val="000000"/>
                </a:solidFill>
                <a:latin typeface="Arial"/>
              </a:rPr>
              <a:t> means that a single scenario doesn’t affect large numbers of components.  </a:t>
            </a:r>
            <a:r>
              <a:rPr b="0" lang="en-US" sz="1000" spc="-1" strike="noStrike" u="sng">
                <a:solidFill>
                  <a:srgbClr val="000000"/>
                </a:solidFill>
                <a:uFillTx/>
                <a:latin typeface="Arial"/>
              </a:rPr>
              <a:t>High coupling</a:t>
            </a:r>
            <a:r>
              <a:rPr b="0" lang="en-US" sz="1000" spc="-1" strike="noStrike">
                <a:solidFill>
                  <a:srgbClr val="000000"/>
                </a:solidFill>
                <a:latin typeface="Arial"/>
              </a:rPr>
              <a:t> means that components are not host to scenario interactions.  The implication of this correspondence is that architectural analysis is a means of determining coupling and cohesion in a highly directed mann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etrics such as structural complexity, as well as metrics for coupling and cohesion, have been criticized as being crude instruments of measure.  SAAM improves on these metrics by allowing one to measure coupling and cohesion with respect to a particular scenario or set of scenarios.  In this way, the instruments of measure become sharper and hence, more meaningful.  For example, in the standard interpretation of coupling, if two components are coupled, they are coupled irrespective of whether they communicate once or repeatedly.  The use of scenarios teases out this informat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031760" y="657360"/>
            <a:ext cx="4324320" cy="3240000"/>
          </a:xfrm>
          <a:prstGeom prst="rect">
            <a:avLst/>
          </a:prstGeom>
          <a:ln w="0">
            <a:noFill/>
          </a:ln>
        </p:spPr>
      </p:sp>
      <p:sp>
        <p:nvSpPr>
          <p:cNvPr id="9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cquiring a large software system that will have a long lifetime within the acquiring organization, it is important that the organization develop an understanding of the underlying architecture of the candidates.  This makes possible an assessment of the suitability of the candidates with respect to qualities of importance, as well as providing a mechanism for understanding how the system is likely to evolv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031760" y="657360"/>
            <a:ext cx="4324320" cy="3240000"/>
          </a:xfrm>
          <a:prstGeom prst="rect">
            <a:avLst/>
          </a:prstGeom>
          <a:ln w="0">
            <a:noFill/>
          </a:ln>
        </p:spPr>
      </p:sp>
      <p:sp>
        <p:nvSpPr>
          <p:cNvPr id="100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 of the SAAM to analyze architectures is one portion of a systemati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process for architectures, which is a key step in architecture-ba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However, reviews include much more than just using a metho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s SAAM.  Other issues pertinent to the process of performing a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what is reviewed, who the reviewers are, when the review occur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s and benefits of such a review, and so 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portion of the lecture will discu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st/benefits of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erent architectural review techniqu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for an architectural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review activ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from an architectural review</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031760" y="657360"/>
            <a:ext cx="4324320" cy="3240000"/>
          </a:xfrm>
          <a:prstGeom prst="rect">
            <a:avLst/>
          </a:prstGeom>
          <a:ln w="0">
            <a:noFill/>
          </a:ln>
        </p:spPr>
      </p:sp>
      <p:sp>
        <p:nvSpPr>
          <p:cNvPr id="100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three types of costs of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rect staff co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overhea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taff cos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031760" y="657360"/>
            <a:ext cx="4324320" cy="3240000"/>
          </a:xfrm>
          <a:prstGeom prst="rect">
            <a:avLst/>
          </a:prstGeom>
          <a:ln w="0">
            <a:noFill/>
          </a:ln>
        </p:spPr>
      </p:sp>
      <p:sp>
        <p:nvSpPr>
          <p:cNvPr id="101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different organizations have provided cost data for holding regular architectural reviews.  They are as follow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T&amp;T</a:t>
            </a:r>
            <a:r>
              <a:rPr b="0" lang="en-US" sz="1000" spc="-1" strike="noStrike">
                <a:solidFill>
                  <a:srgbClr val="000000"/>
                </a:solidFill>
                <a:latin typeface="Arial"/>
              </a:rPr>
              <a:t>, having performed approximately 300 full-scale architecture reviews on projects requiring a minimum of 700 staff days, reported that the average cost of an architecture review was, based upon estimates from individual project managers, 70 staff day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ational Software</a:t>
            </a:r>
            <a:r>
              <a:rPr b="0" lang="en-US" sz="1000" spc="-1" strike="noStrike">
                <a:solidFill>
                  <a:srgbClr val="000000"/>
                </a:solidFill>
                <a:latin typeface="Arial"/>
              </a:rPr>
              <a:t> has performed around 30 reviews and charges an average cost of $50,000 for projects of at least 500,000 lines of code in size.</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031760" y="657360"/>
            <a:ext cx="4324320" cy="3240000"/>
          </a:xfrm>
          <a:prstGeom prst="rect">
            <a:avLst/>
          </a:prstGeom>
          <a:ln w="0">
            <a:noFill/>
          </a:ln>
        </p:spPr>
      </p:sp>
      <p:sp>
        <p:nvSpPr>
          <p:cNvPr id="1013" name="PlaceHolder 2"/>
          <p:cNvSpPr>
            <a:spLocks noGrp="1"/>
          </p:cNvSpPr>
          <p:nvPr>
            <p:ph type="body"/>
          </p:nvPr>
        </p:nvSpPr>
        <p:spPr>
          <a:xfrm>
            <a:off x="917280" y="4222440"/>
            <a:ext cx="476244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AM reviews described earlier in this lecture (plus others described in Chapter 9 of the course textbook) were done on projects ranging fro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00,000 lines of code to 1,000,000 lines of code.  The average cost per review was approximately 14 to 20 staff days.</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031760" y="657360"/>
            <a:ext cx="4324320" cy="3240000"/>
          </a:xfrm>
          <a:prstGeom prst="rect">
            <a:avLst/>
          </a:prstGeom>
          <a:ln w="0">
            <a:noFill/>
          </a:ln>
        </p:spPr>
      </p:sp>
      <p:sp>
        <p:nvSpPr>
          <p:cNvPr id="101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organizations have established corporate units that are responsible for defining and conducting architecture reviews, a policy that the textbook authors highly recommend.  One of the main reasons for this centralization is that each company is interested in maximizing the amount of corporate reuse at the architectural level.  These companies report that the individual start-up costs for such an organization were non-trivial.  The management overhead and the additional communication costs for other corporate units are a portion of these costs, as are the staffing of the unit, any relocation costs for moving personnel to a central location, and training costs.</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31760" y="657360"/>
            <a:ext cx="4324320" cy="3240000"/>
          </a:xfrm>
          <a:prstGeom prst="rect">
            <a:avLst/>
          </a:prstGeom>
          <a:ln w="0">
            <a:noFill/>
          </a:ln>
        </p:spPr>
      </p:sp>
      <p:sp>
        <p:nvSpPr>
          <p:cNvPr id="101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mong the indirect costs of reviews is the consumption of senior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review teams.  Architecture review teams should normally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clude members of the development project - that is, individuals wh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ted in building the system being examined.  Instead, individuals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selected from within the company to serve on architecture review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ased on their past performance and demonstrated skills with large-sca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organization and design.  The question of the membership of the revi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brings up two cost-related concerns.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there is the worry of reduced organization-wide development productivity because superior designers are removed from active involvement.  This cost can be mitigated by making membership on the architecture review board nonperma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cern stems from this temporary engagement on the architecture review team.  Each new evaluator needs to be trained in the review techniques and must gain experience in review before becoming a productive member of the review team. There is a cost associated with this learning curve for architecture evaluator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31760" y="657360"/>
            <a:ext cx="4324320" cy="3240000"/>
          </a:xfrm>
          <a:prstGeom prst="rect">
            <a:avLst/>
          </a:prstGeom>
          <a:ln w="0">
            <a:noFill/>
          </a:ln>
        </p:spPr>
      </p:sp>
      <p:sp>
        <p:nvSpPr>
          <p:cNvPr id="101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five types of benefits resulting fro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olding architectural revie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nci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d preparation for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y detection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lidation of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roved architectures</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31760" y="657360"/>
            <a:ext cx="4324320" cy="3240000"/>
          </a:xfrm>
          <a:prstGeom prst="rect">
            <a:avLst/>
          </a:prstGeom>
          <a:ln w="0">
            <a:noFill/>
          </a:ln>
        </p:spPr>
      </p:sp>
      <p:sp>
        <p:nvSpPr>
          <p:cNvPr id="102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AT&amp;T, each project manager reported perceived savings form an architecture review.  On average, over the past 8 years, projects receiving a full architecture review have reported a 10 percent reduction in project costs.  Given the cost estimate of 70 staff days, the reported 10 percent reduction illustrates that on projects of 700 staff days or longer, the review pays for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organizations have not publicized such strongly quantified data, but several consultants have reported that over 80 percent of their business was repeat business.  Their customers recognized sufficient value in architecture review to be willing to pay for additional review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31760" y="657360"/>
            <a:ext cx="4324320" cy="3240000"/>
          </a:xfrm>
          <a:prstGeom prst="rect">
            <a:avLst/>
          </a:prstGeom>
          <a:ln w="0">
            <a:noFill/>
          </a:ln>
        </p:spPr>
      </p:sp>
      <p:sp>
        <p:nvSpPr>
          <p:cNvPr id="10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one gives the reviewees an indication of the focus of the architecture review and the requirement for a representation of the architecture before the review is held, the reviewees are required to document the system’s architecture.  Many systems do not have an architecture that is understandable to all of the developers.  The existing description is either too brief or (more commonly) too long, perhaps thousands of pages.  Furthermore, there are often misunderstandings among developers about some of the assumptions for their components.  The process of preparing for the review will reveal many of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rthermore, the architecture review focuses on a few specific areas with specific questions to be answered.  Answering these questions usually involves giving an explanation of the design choices and their rationales.  Having a documented design rationale is important later in the life cycle so that the implications of modifications can be assessed.  Capturing design rationales after the fact is one of the more difficult tasks in software development.  By capturing the design rationale as presented in the architecture review (even by such low-cost methods are videotaping), invaluable information is available for later use.</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31760" y="657360"/>
            <a:ext cx="4324320" cy="3240000"/>
          </a:xfrm>
          <a:prstGeom prst="rect">
            <a:avLst/>
          </a:prstGeom>
          <a:ln w="0">
            <a:noFill/>
          </a:ln>
        </p:spPr>
      </p:sp>
      <p:sp>
        <p:nvSpPr>
          <p:cNvPr id="102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ier in the life cycle that problems are detected, the cheaper it is to fix them.  The problems that can be found by an architectural level inspection include unreasonable (or expensive to meet) requirements, performance problems, and problems associated with potential downstream modifications.  For example, an architecture review that exercises scenarios of typical system activity can manifest rough performance specifications.  Exercising system modification scenarios can reveal portability and extensibility problems that will be especially critical if the architecture is to support a product line rather than just a single product.  Architecture review, therefore, provides early insight into product capabilities and limitation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031760" y="657360"/>
            <a:ext cx="4324320" cy="3240000"/>
          </a:xfrm>
          <a:prstGeom prst="rect">
            <a:avLst/>
          </a:prstGeom>
          <a:ln w="0">
            <a:noFill/>
          </a:ln>
        </p:spPr>
      </p:sp>
      <p:sp>
        <p:nvSpPr>
          <p:cNvPr id="93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ople often want to analyze software architectures with respect to quality attributes expressed using words such as maintainability, security, performance, reliability, and so forth.  These words provide convenient ways for describing and communicating many common, recurring problems in software.  There are even IEEE standards that define many of these quality attributes.  However, most software quality attributes are too complex and amorphous to be evaluated on a simple scale, in spite of our persistence in describing them that wa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attributes do not exist in isolation, but rather have meaning only within a context.  Therefore, different techniques can be used for different properties, depending on the circumstances of the system’s properties and their interactions.  For example, a system’s modifiability can be analyzed without telling anything about performance.  Therefore, analysis is performed on artifacts of a system, and reveals something about the system’s properties and the interactions and/or trade-offs among them.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31760" y="657360"/>
            <a:ext cx="4324320" cy="3240000"/>
          </a:xfrm>
          <a:prstGeom prst="rect">
            <a:avLst/>
          </a:prstGeom>
          <a:ln w="0">
            <a:noFill/>
          </a:ln>
        </p:spPr>
      </p:sp>
      <p:sp>
        <p:nvSpPr>
          <p:cNvPr id="1027"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ussion and examination of how well an architecture meets requirements also opens requirements up for discussion.  What results is clearer understanding of the requirements and usually, prioritization of the requirements.  Requirements creation, when performed in isolation from early design, usually results in specification of conflicting system properties.  High performance, security, fault tolerance, and low cost are all easy to demand but difficult to achieve and are often impossible to achieve simultaneously.  Architecture review uncover the conflicts and trade-offs and provide a forum for negotiated resolution.</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31760" y="657360"/>
            <a:ext cx="4324320" cy="3240000"/>
          </a:xfrm>
          <a:prstGeom prst="rect">
            <a:avLst/>
          </a:prstGeom>
          <a:ln w="0">
            <a:noFill/>
          </a:ln>
        </p:spPr>
      </p:sp>
      <p:sp>
        <p:nvSpPr>
          <p:cNvPr id="1029" name="PlaceHolder 2"/>
          <p:cNvSpPr>
            <a:spLocks noGrp="1"/>
          </p:cNvSpPr>
          <p:nvPr>
            <p:ph type="body"/>
          </p:nvPr>
        </p:nvSpPr>
        <p:spPr>
          <a:xfrm>
            <a:off x="917280" y="4222440"/>
            <a:ext cx="480996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s that practice architecture review as a standard part of their development process report an improvement in the quality of the architectures that are reviewed.  As development organizations learn to anticipate the kinds of questions that will be asked, the kinds of issues that will be raised, and the kinds of documentation that will be required for reviews, they naturally position themselves to maximize their performance on the reviews.  Architecture reviews result not only in better architectures after the fact, but before the fact.  Over time, an organization develops a culture that promotes good architectural design.</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31760" y="657360"/>
            <a:ext cx="4324320" cy="3240000"/>
          </a:xfrm>
          <a:prstGeom prst="rect">
            <a:avLst/>
          </a:prstGeom>
          <a:ln w="0">
            <a:noFill/>
          </a:ln>
        </p:spPr>
      </p:sp>
      <p:sp>
        <p:nvSpPr>
          <p:cNvPr id="103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variety of techniques exist to perform an architecture review.  Each of the different techniques has a different cost and can be used to elicit different information.  There are two basic categories of these techniques:  those that generate qualitative questions to ask of an architecture, and those that suggest quantitative measurements to be made on a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ing techniques can be applied to evaluate an architecture for any given quality.  In fact, it is consideration of the quality that drives the development of questions (in the form of scenarios).  Questioning techniques, however, do not directly provide a means for answering those ques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asuring techniques, on the other hand, are used to answer specific questions.  In that sense, they address specific software qualities (for example, performance or scalability), but are not as broadly applicable as are questioning techniques.</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31760" y="657360"/>
            <a:ext cx="4324320" cy="3240000"/>
          </a:xfrm>
          <a:prstGeom prst="rect">
            <a:avLst/>
          </a:prstGeom>
          <a:ln w="0">
            <a:noFill/>
          </a:ln>
        </p:spPr>
      </p:sp>
      <p:sp>
        <p:nvSpPr>
          <p:cNvPr id="1033" name="PlaceHolder 2"/>
          <p:cNvSpPr>
            <a:spLocks noGrp="1"/>
          </p:cNvSpPr>
          <p:nvPr>
            <p:ph type="body"/>
          </p:nvPr>
        </p:nvSpPr>
        <p:spPr>
          <a:xfrm>
            <a:off x="917280" y="4222440"/>
            <a:ext cx="48006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begin by describing two questioning techniques:  scenarios and questionnaires.  These techniques differ from each other in applicability, but they are both used to elicit discussion about the architecture and to increase understanding of the architecture's fitness with respect to its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based techniques are techniques such as SAAM that describe a specific interaction between a stakeholder and a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estionnaire-based techniques use questionnaires, which are lists of general and relatively open questions that apply to all architectures.  Some questions might apply to the way the architecture was generated and documented (by asking if there is a designated project architect or if a standard description language was used).  Other questions focus on the details of the architecture description itself (by asking if all user-interface aspects of the system are separated from functional aspects).  The review team is looking for a favorable response and will probe a single question to a level of detail that is necessary to satisfy its concern.  The utility of a questionnaire is related to the ease with which the domain of interest can be characterized and circumscribed.</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31760" y="657360"/>
            <a:ext cx="4324320" cy="3240000"/>
          </a:xfrm>
          <a:prstGeom prst="rect">
            <a:avLst/>
          </a:prstGeom>
          <a:ln w="0">
            <a:noFill/>
          </a:ln>
        </p:spPr>
      </p:sp>
      <p:sp>
        <p:nvSpPr>
          <p:cNvPr id="103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natural relationship between these two questioning techniques.  Scenarios are intended to be system-specific questions.  Experience reviewing a family of related systems can result in generalizing a set of commonly used scenarios, turning them into items in a questionnaire.  Questionnaires reflect more mature review practices.  Scenarios can reflect less mature review practices.  Another difference is that scenarios, because they are system specific, are developed as part of the review process for an individual project.  Questionnaires are assumed to exist before a project begin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31760" y="657360"/>
            <a:ext cx="4324320" cy="3240000"/>
          </a:xfrm>
          <a:prstGeom prst="rect">
            <a:avLst/>
          </a:prstGeom>
          <a:ln w="0">
            <a:noFill/>
          </a:ln>
        </p:spPr>
      </p:sp>
      <p:sp>
        <p:nvSpPr>
          <p:cNvPr id="1037" name="PlaceHolder 2"/>
          <p:cNvSpPr>
            <a:spLocks noGrp="1"/>
          </p:cNvSpPr>
          <p:nvPr>
            <p:ph type="body"/>
          </p:nvPr>
        </p:nvSpPr>
        <p:spPr>
          <a:xfrm>
            <a:off x="917280" y="4222440"/>
            <a:ext cx="477180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rics are quantitative interpretations placed on particular observable measurements on the architecture, such as fan in and fan out of components.  The most well-researched measuring techniques provide answers on overall complexity, which can suggest places of likely change.  With measuring techniques, the review needs to focus not only on the results of the measurement-metric but also on the assumptions under which the technique was used.  For example, a calculation of performance characteristics makes assumptions about patterns of resource utilization.  How valid are those assumptions?  Coupling and cohesion metrics make assumptions about the types of functionalities embodied in the components being examined.  How valid are those assumptions?</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31760" y="657360"/>
            <a:ext cx="4324320" cy="3240000"/>
          </a:xfrm>
          <a:prstGeom prst="rect">
            <a:avLst/>
          </a:prstGeom>
          <a:ln w="0">
            <a:noFill/>
          </a:ln>
        </p:spPr>
      </p:sp>
      <p:sp>
        <p:nvSpPr>
          <p:cNvPr id="10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prototypes, and experiments are domain-specific models of an architecture or performance model.  Although they are expensive to create, they are often used as part of the development process anyway.  In this case, using these artifacts during a review or to answer questions that come up during the review becomes a normal and natural procedure.  An existing simulation or prototype may be an answer to an issue raised by a questioning technique  For example if the review team asks, “What evidence supports this assertion?” one valid answer would be the results of a simulation.</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31760" y="657360"/>
            <a:ext cx="4324320" cy="3240000"/>
          </a:xfrm>
          <a:prstGeom prst="rect">
            <a:avLst/>
          </a:prstGeom>
          <a:ln w="0">
            <a:noFill/>
          </a:ln>
        </p:spPr>
      </p:sp>
      <p:sp>
        <p:nvSpPr>
          <p:cNvPr id="1041" name="PlaceHolder 2"/>
          <p:cNvSpPr>
            <a:spLocks noGrp="1"/>
          </p:cNvSpPr>
          <p:nvPr>
            <p:ph type="body"/>
          </p:nvPr>
        </p:nvSpPr>
        <p:spPr>
          <a:xfrm>
            <a:off x="917640" y="4222440"/>
            <a:ext cx="52387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can further distinguish the various architecture review techniques we have discus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ross a number of different dimensions.  The table above shows a summar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fication of these review techniques.  The dimensions are described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Generality</a:t>
            </a:r>
            <a:r>
              <a:rPr b="0" lang="en-US" sz="1000" spc="-1" strike="noStrike">
                <a:solidFill>
                  <a:srgbClr val="000000"/>
                </a:solidFill>
                <a:latin typeface="Arial"/>
              </a:rPr>
              <a:t>.  Two entries are possible: general purpose and domain specific.  General purpose techniques focus on general purpose issues and can be applied to any architecture.  Domain-specific techniques focus on issues particular to a given domain.  Questionnaires are a general purpose approach.  Scenarios are system specific because they are defined for a particular review.  Metrics are mostly general purpose, although some may be domain-specific. Prototypes, simulations, and experimentation are primarily domain specific, although there are some general-purpose simulation generation too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evel of detail</a:t>
            </a:r>
            <a:r>
              <a:rPr b="0" lang="en-US" sz="1000" spc="-1" strike="noStrike">
                <a:solidFill>
                  <a:srgbClr val="000000"/>
                </a:solidFill>
                <a:latin typeface="Arial"/>
              </a:rPr>
              <a:t>.  Three entries are possible:  coarse, medium, and fine.  Level of detail indicates how much information on the architecture is required to perform the review.  Coarse-grained approaches can be applied early in the design process because they do not require much detailed information such as component specification or connection protocols.  Fine-grained approaches generally need more detail and must be applied later, when more decisions have been boun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hase</a:t>
            </a:r>
            <a:r>
              <a:rPr b="0" lang="en-US" sz="1000" spc="-1" strike="noStrike">
                <a:solidFill>
                  <a:srgbClr val="000000"/>
                </a:solidFill>
                <a:latin typeface="Arial"/>
              </a:rPr>
              <a:t>.  Three entries are possible:  early, middle, and post-deployment.  The entry in the table lists the earliest that a particular approach can be employed.  In general, the approach should be made as early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hat is reviewed</a:t>
            </a:r>
            <a:r>
              <a:rPr b="0" lang="en-US" sz="1000" spc="-1" strike="noStrike">
                <a:solidFill>
                  <a:srgbClr val="000000"/>
                </a:solidFill>
                <a:latin typeface="Arial"/>
              </a:rPr>
              <a:t>.  There are two different kinds of questions that could be answered in a review.  The first has to do with evaluating the architecture itself as an artifact.  Issues include assignment of functionality or achievement of quality goals.  This is the most common subject of a review.  Another review looks at the process of creating and using the architecture in the development.  Issues include how the responsibility for the architecture was allocated, how conformance is ensured, and how the architecture will be maintained.  Questionnaires can evaluate both the artifact and the process, depending on the questions asked.  Scenarios and prototypes by their nature are geared to evaluating only the artifact.  Metrics address either product or proces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31760" y="657360"/>
            <a:ext cx="4324320" cy="3240000"/>
          </a:xfrm>
          <a:prstGeom prst="rect">
            <a:avLst/>
          </a:prstGeom>
          <a:ln w="0">
            <a:noFill/>
          </a:ln>
        </p:spPr>
      </p:sp>
      <p:sp>
        <p:nvSpPr>
          <p:cNvPr id="104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ummarized the costs and benefits for architecture review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egorized different review techniques.  Next, we describe how to prep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ecute, and report the results of an architectural revi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the next section of the lecture, whi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amines the three major elements of an architectural review.</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the set of necessary assets and conditions that must be in place before a review can be performed successfully</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ivities of the review itself</a:t>
            </a:r>
            <a:endParaRPr b="0" lang="en-US" sz="1000" spc="-1" strike="noStrike">
              <a:solidFill>
                <a:srgbClr val="000000"/>
              </a:solidFill>
              <a:latin typeface="Arial"/>
            </a:endParaRPr>
          </a:p>
          <a:p>
            <a:pPr marL="114480" indent="-114480">
              <a:lnSpc>
                <a:spcPct val="10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puts:  the report of review resul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31760" y="657360"/>
            <a:ext cx="4324320" cy="3240000"/>
          </a:xfrm>
          <a:prstGeom prst="rect">
            <a:avLst/>
          </a:prstGeom>
          <a:ln w="0">
            <a:noFill/>
          </a:ln>
        </p:spPr>
      </p:sp>
      <p:sp>
        <p:nvSpPr>
          <p:cNvPr id="10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conditions are the set of necessary assets and conditions that must be in place before a successful review can proceed.  We identify five preconditions:  an understanding of the review context, involvement of the right people, creation of a review team, organizational expectations and support, and review preparation, including an appropriate representation of the architecture being examined.</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1760" y="657360"/>
            <a:ext cx="4324320" cy="3240000"/>
          </a:xfrm>
          <a:prstGeom prst="rect">
            <a:avLst/>
          </a:prstGeom>
          <a:ln w="0">
            <a:noFill/>
          </a:ln>
        </p:spPr>
      </p:sp>
      <p:sp>
        <p:nvSpPr>
          <p:cNvPr id="93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quality attributes are so complex and amorphous, they are too vague to be analyzed generically, that is, outside of a specific context.  Consider the following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a system can change the background color of the user interface through a change to a data file, but that same system requires a manual change to dozens of programs to accommodate a new data storage layout.  Would we say that the system is or is not modifi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reasonable answer is that the system is modifiable with respect to changing the background color, but not modifiable with respect to changing the file format.  Quality attributes do not exist in isolation but interact with each other, so without a context in which to place the quality being analyzed, it is difficult to tell how well an architecture supports (or conversely, does not support) a particular quality. </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31760" y="657360"/>
            <a:ext cx="4324320" cy="3240000"/>
          </a:xfrm>
          <a:prstGeom prst="rect">
            <a:avLst/>
          </a:prstGeom>
          <a:ln w="0">
            <a:noFill/>
          </a:ln>
        </p:spPr>
      </p:sp>
      <p:sp>
        <p:nvSpPr>
          <p:cNvPr id="1047" name="PlaceHolder 2"/>
          <p:cNvSpPr>
            <a:spLocks noGrp="1"/>
          </p:cNvSpPr>
          <p:nvPr>
            <p:ph type="body"/>
          </p:nvPr>
        </p:nvSpPr>
        <p:spPr>
          <a:xfrm>
            <a:off x="917280" y="4222440"/>
            <a:ext cx="5010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s can be planned or unplanned.  These two kinds of review are fundamentally different.  They have different goals and different agendas, are subject to different expectations, and produce different resul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lanned review, the review is considered a normal part of the project’s development cycle.  The review is scheduled well in advance, built into the project’s work plans and budget, and follow-up is expected.  The planned review is ideally considered an asset to the project; at worst, it is a distraction to the work of getting on with the project.  The review can be perceived not as a challenge to the technical authority of the project’s members but as a validation of the project’s initial direction.  Planned reviews are proactive and build tea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 unplanned review, the review is unexpected - usually the result of a project in serious trouble taking extreme measures to try to salvage previous efforts.  An unplanned review is more of an ordeal for project members.  It tends to be more adversarial than constructive.  It consumes project resources and schedule from a project already struggling with both factors.  It is used only when management perceives that a project has a substantial possibility of failure and needs to make a midcourse correction.  Unplanned reviews are reactiv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edless to say, we recommend planned reviews.</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31760" y="657360"/>
            <a:ext cx="4324320" cy="3240000"/>
          </a:xfrm>
          <a:prstGeom prst="rect">
            <a:avLst/>
          </a:prstGeom>
          <a:ln w="0">
            <a:noFill/>
          </a:ln>
        </p:spPr>
      </p:sp>
      <p:sp>
        <p:nvSpPr>
          <p:cNvPr id="104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contextual question is the timing of the review.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imes it is useful to hold an early, lightweight </a:t>
            </a:r>
            <a:r>
              <a:rPr b="0" lang="en-US" sz="1000" spc="-1" strike="noStrike" u="sng">
                <a:solidFill>
                  <a:srgbClr val="000000"/>
                </a:solidFill>
                <a:uFillTx/>
                <a:latin typeface="Arial"/>
              </a:rPr>
              <a:t>architecture discovery review</a:t>
            </a:r>
            <a:r>
              <a:rPr b="0" lang="en-US" sz="1000" spc="-1" strike="noStrike">
                <a:solidFill>
                  <a:srgbClr val="000000"/>
                </a:solidFill>
                <a:latin typeface="Arial"/>
              </a:rPr>
              <a:t> at a point during development after requirements have been set but before architectural decisions have become firm.  This is the ideal time to challenge requirements on the basis of their feasibility or cost of imple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iscovery review would be held in addition to (not in lieu of) the type of full architectural review that examines a set of architectural decisions against a presumably unbending set of behavioral and quality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two kinds of reviews are aimed at different kinds of decisions and can analyze for different kinds of qualities.  The discovery review should be times so that some architectural decisions have been made (otherwise there can be nothing to discuss) but the decisions have not been strongly bound and can be changed without great expense.  Discovery reviews are less costly, but because most architectural decisions have note been determined at the time of the review, the benefits are less.</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31760" y="657360"/>
            <a:ext cx="4324320" cy="3240000"/>
          </a:xfrm>
          <a:prstGeom prst="rect">
            <a:avLst/>
          </a:prstGeom>
          <a:ln w="0">
            <a:noFill/>
          </a:ln>
        </p:spPr>
      </p:sp>
      <p:sp>
        <p:nvSpPr>
          <p:cNvPr id="105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be represented by the system architect, the designers f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ajor component, and the system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imperative to secure the time of the architect or at least someone who can speak authoritatively about the system’s architecture and design.  This person (or these people) should be primarily able to communicate the facts of the architecture quickly and clearly, as well as the motivation behind the architectural decis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very large systems, the designers for each major component need to be involved to ensure that the architect’s notion of the system design is in fact reflected and manifested in the more detailed levels of the design.  These designers will also be able to speak to the behavioral and quality attributes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akeholders need to be identified and represented at the review because it is essential to identify the customer(s) for the review report and to elicit their values and expec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cond group of people whose participation is essential is the review tea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already discussed, software architecture teams are separate entities with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rporation.  The review team must be assembled so that it inclu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least one system domain expert - someone who has built systems in the area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rvices of support staff to assist in handling logistics and preparing the re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ibrarian responsible for organizing and making available the documentation about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pprentice” reviewer to propagate architecture review capability and provide reviewer turnover to avoid burnout</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31760" y="657360"/>
            <a:ext cx="4324320" cy="3240000"/>
          </a:xfrm>
          <a:prstGeom prst="rect">
            <a:avLst/>
          </a:prstGeom>
          <a:ln w="0">
            <a:noFill/>
          </a:ln>
        </p:spPr>
      </p:sp>
      <p:sp>
        <p:nvSpPr>
          <p:cNvPr id="105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must be assembled so that the following occu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perceived as impartial, objective, and respected.  The team must be seen as being composed of people who are appropriate to carry out the review so that the project personnel will not regard the review as a waste of time and so that the team’s conclusions will carry we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 members dedicate their work time to the review.  It is not possible for a review team member to continue normal responsibilities during the review.  Late-night planning sessions and off-the-record breakfast meetings with project personnel are the nor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ncludes people who are highly fluent in architecture and architectural issues and is led by someone with solid experience in designing and evaluating projects at the architectural leve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is located as close as possible to the source of the artifacts it will be examining.  Locality will simplify logistics and enhance communication with project personnel.</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31760" y="657360"/>
            <a:ext cx="4324320" cy="3240000"/>
          </a:xfrm>
          <a:prstGeom prst="rect">
            <a:avLst/>
          </a:prstGeom>
          <a:ln w="0">
            <a:noFill/>
          </a:ln>
        </p:spPr>
      </p:sp>
      <p:sp>
        <p:nvSpPr>
          <p:cNvPr id="105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must have access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le domain knowledge (perhaps via consultants to the team) in the subject domain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documents pertinent to the architecture being review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criteria as a basis for evaluat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taff to assist with logistics and help assemble the report</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31760" y="657360"/>
            <a:ext cx="4324320" cy="3240000"/>
          </a:xfrm>
          <a:prstGeom prst="rect">
            <a:avLst/>
          </a:prstGeom>
          <a:ln w="0">
            <a:noFill/>
          </a:ln>
        </p:spPr>
      </p:sp>
      <p:sp>
        <p:nvSpPr>
          <p:cNvPr id="105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ritical to review success is a clear, mutual understanding of the expectatio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sponsoring the review, as well as support for the review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ms of organizational resources.  Senior managers need to set expect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review for both the review team and the project personne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mechanism for this is a contract that determin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 will be told what upon completion of the revi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will be the review criteria (and, by implication, what will no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d who will be made available to the review te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follow-up is expected on the part of the review team and the proje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he expected maximum time is for the review to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negotiating the contract may be as important as the contra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The eye-to-eye communication necessary to forge a contract may b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st factor in setting realistic expectations.  It must be understood b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rs contracting for the review that analysis at the architectural level i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efinitive analysis.  All that can be determined at the architectural level i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feasible that the resulting system will have the desired qualitie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o guarantees.  A poor implementation of good design is likely to perfor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orly.  Thus, an important part of expectation setting is making sure th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view stakeholders understand the nature of the result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31760" y="657360"/>
            <a:ext cx="4324320" cy="3240000"/>
          </a:xfrm>
          <a:prstGeom prst="rect">
            <a:avLst/>
          </a:prstGeom>
          <a:ln w="0">
            <a:noFill/>
          </a:ln>
        </p:spPr>
      </p:sp>
      <p:sp>
        <p:nvSpPr>
          <p:cNvPr id="105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ganizational culture and support must be consid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reviews part of the standard project life cycle?  If so, planning is part of the process and reviews are expected during the software life cycle; things are more likely to go smoothly and produce positive results.  If reviews are not part of the organizational culture, then many of the factors already discussed as inherent to unplanned reviews generally come into pl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serving on a review team considered good for one’s career?  If so, people are more likely to be willing participants and do a good job.</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the organization allow its superior designers time off from their projects to serve on review teams?  As already mentioned, one problem with reviews is having a loss of productivity when senior designers serve full-time on review boards.  One way around this is to rotate time on boar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tanding review organization (even though members may rotate on and off)?  Having a separate organization promotes objectivity and allows for training “apprentice” reviewers who can step up to full membership as other members rotate off the board and return to their normal duties.</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31760" y="657360"/>
            <a:ext cx="4324320" cy="3240000"/>
          </a:xfrm>
          <a:prstGeom prst="rect">
            <a:avLst/>
          </a:prstGeom>
          <a:ln w="0">
            <a:noFill/>
          </a:ln>
        </p:spPr>
      </p:sp>
      <p:sp>
        <p:nvSpPr>
          <p:cNvPr id="1061" name="PlaceHolder 2"/>
          <p:cNvSpPr>
            <a:spLocks noGrp="1"/>
          </p:cNvSpPr>
          <p:nvPr>
            <p:ph type="body"/>
          </p:nvPr>
        </p:nvSpPr>
        <p:spPr>
          <a:xfrm>
            <a:off x="917640" y="4222440"/>
            <a:ext cx="48196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eparing for a review, any questionnaires that are going to be used in the review should be presented to the development group ahead of time.  In fact, if these questionnaires are organization-wide assets, they should be presented to the development group when the project is initiated.  If system-specific scenarios are going to be used, they will be crafted as part of the review process itself, in response to input from the various stakehold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ject should supply the review team with materials that describe the architecture and discuss the rationale behind the architectural decisions.  Expectations should be set beforehand about the level of detail of the material; 50 pages is preferable to 500 pages or to 1.  This assumes that the architecture and the requirements are concrete enough in form to have been unambiguously documented. Ideally, the project material will address the review questions.  (Passing this test because the questions were known in advance is not cheating, but good engineer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is architecture and the requirements have not been documented, elicitation of this information will be the first order of business in the review itself.</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31760" y="657360"/>
            <a:ext cx="4324320" cy="3240000"/>
          </a:xfrm>
          <a:prstGeom prst="rect">
            <a:avLst/>
          </a:prstGeom>
          <a:ln w="0">
            <a:noFill/>
          </a:ln>
        </p:spPr>
      </p:sp>
      <p:sp>
        <p:nvSpPr>
          <p:cNvPr id="106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view team should be given a ranking of the three to five top quality and behavioral requirements of the system that it will examine and review.  Such a ranking of requirements serves the project by preventing the architecture from being muddied by the lobbying from representatives of a large number of conflicting quality attributes.  If more desired quality attributes are expressed, they should be ranked as essential or desirable.  Essential attributes must be addressed by the architecture.  Desirable ones may be sacrificed due to their effect on deadlines, budgets, or software complex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ustrial reviewers say that no standard architectural representations (beyond box-and-line diagrams) have been used in formal architecture reviews.  However, this is not an impediment.  Reviews are primarily vehicles for focused discussion where there are usually no right answers, only compelling ones.  Any representation of the architecture that helps to facilitate the exchange of information will do.</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31760" y="657360"/>
            <a:ext cx="4324320" cy="3240000"/>
          </a:xfrm>
          <a:prstGeom prst="rect">
            <a:avLst/>
          </a:prstGeom>
          <a:ln w="0">
            <a:noFill/>
          </a:ln>
        </p:spPr>
      </p:sp>
      <p:sp>
        <p:nvSpPr>
          <p:cNvPr id="106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or questionnaires can reveal how vulnerable the architecture is to specific modifications.  Running the scenarios, asking the questions, answering checklist items, performing the experiments, or executing the prototypes or simulations should reveal the essential functions of the system that the review team must understand.  These methods help to ensure that a function is unambiguously defined in the architecture representation or succinctly described by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review, the review team should highlight critical issues that are raised in support of or (more important) against the architecture.  Each issue raised during the review is documented.  For example, a response to the question, “How is X done?” that takes the form, “I’m not sure,” or “X could be done either here or there,” indicates a potential problem that should be identified and recorded as an issue.  Issues could be written on index cards and pinned to a board, or stored in a widely accessible location (such as a corporate databa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031760" y="657360"/>
            <a:ext cx="4324320" cy="3240000"/>
          </a:xfrm>
          <a:prstGeom prst="rect">
            <a:avLst/>
          </a:prstGeom>
          <a:ln w="0">
            <a:noFill/>
          </a:ln>
        </p:spPr>
      </p:sp>
      <p:sp>
        <p:nvSpPr>
          <p:cNvPr id="94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have meaning only within a context.  This notion has led to the adoption of scenarios as the descriptive means of specifying and identifying quality attributes in the SAAM.  The method is most useful in evaluating non-runtime qualities, although information generated by a SAAM evaluation can be used for other qualities.</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31760" y="657360"/>
            <a:ext cx="4324320" cy="3240000"/>
          </a:xfrm>
          <a:prstGeom prst="rect">
            <a:avLst/>
          </a:prstGeom>
          <a:ln w="0">
            <a:noFill/>
          </a:ln>
        </p:spPr>
      </p:sp>
      <p:sp>
        <p:nvSpPr>
          <p:cNvPr id="1067"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convenient points during the review, the participants’ comments on critical issues are organized by theme.  The review team then rates the themes as </a:t>
            </a:r>
            <a:r>
              <a:rPr b="0" lang="en-US" sz="1000" spc="-1" strike="noStrike" u="sng">
                <a:solidFill>
                  <a:srgbClr val="000000"/>
                </a:solidFill>
                <a:uFillTx/>
                <a:latin typeface="Arial"/>
              </a:rPr>
              <a:t>project threatening</a:t>
            </a:r>
            <a:r>
              <a:rPr b="0" lang="en-US" sz="1000" spc="-1" strike="noStrike">
                <a:solidFill>
                  <a:srgbClr val="000000"/>
                </a:solidFill>
                <a:latin typeface="Arial"/>
              </a:rPr>
              <a:t>, </a:t>
            </a:r>
            <a:r>
              <a:rPr b="0" lang="en-US" sz="1000" spc="-1" strike="noStrike" u="sng">
                <a:solidFill>
                  <a:srgbClr val="000000"/>
                </a:solidFill>
                <a:uFillTx/>
                <a:latin typeface="Arial"/>
              </a:rPr>
              <a:t>major</a:t>
            </a:r>
            <a:r>
              <a:rPr b="0" lang="en-US" sz="1000" spc="-1" strike="noStrike">
                <a:solidFill>
                  <a:srgbClr val="000000"/>
                </a:solidFill>
                <a:latin typeface="Arial"/>
              </a:rPr>
              <a:t>, or </a:t>
            </a:r>
            <a:r>
              <a:rPr b="0" lang="en-US" sz="1000" spc="-1" strike="noStrike" u="sng">
                <a:solidFill>
                  <a:srgbClr val="000000"/>
                </a:solidFill>
                <a:uFillTx/>
                <a:latin typeface="Arial"/>
              </a:rPr>
              <a:t>minor</a:t>
            </a:r>
            <a:r>
              <a:rPr b="0" lang="en-US" sz="1000" spc="-1" strike="noStrike">
                <a:solidFill>
                  <a:srgbClr val="000000"/>
                </a:solidFill>
                <a:latin typeface="Arial"/>
              </a:rPr>
              <a:t>.  At the conclusion of the review, there is a prioritized list of issues that can be reported to higher management and used to determine follow-up activ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serious issue raised during the review needs to be examined from the points of view of changing the architecture and of modifying the requirement(s) that caused the issue to be raised.  For example, if there is a performance issue, the issue can be resolved either by increasing the performance of the system in some manner or by relaxing the performance requirements.  Sometimes requirements are set without careful examination of the system context, and the specific requirement that is driving an issue should be revisited.  There may also be a tendency to “gold plate” a system by requiring functionality and performance levels that are not really needed.  Sometimes this is justified by a business case, but other times this should be resisted.  An architecture review is an early opportunity to ferret out nonessential or conflicting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31760" y="657360"/>
            <a:ext cx="4324320" cy="3240000"/>
          </a:xfrm>
          <a:prstGeom prst="rect">
            <a:avLst/>
          </a:prstGeom>
          <a:ln w="0">
            <a:noFill/>
          </a:ln>
        </p:spPr>
      </p:sp>
      <p:sp>
        <p:nvSpPr>
          <p:cNvPr id="106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there should be a check for the following nine early warning sign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s forced to match the curr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p-level architecture components number more than 25.</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requirement drives the rest of the desig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depends on alternatives in the operating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hoice of software components is dictated by hardware personnel:  proprietary components are being used when standard components would d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redundancy that is not needed for reliability (e.g., two databases, two start-up routines, two error-lock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gn is exception driven; that is, the emphasis is on the extensibility and not core commonal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unit is unable to identify an architect for the system.</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Use the following as a transition to the next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nal review activity is to create and present a report in which all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ues, along with supporting data surfaced during the review, are describ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should be circulated in draft form to all of the review participant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tch and correct any misconceptions and biases and to correlate elem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fore it is finalized.</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31760" y="657360"/>
            <a:ext cx="4324320" cy="3240000"/>
          </a:xfrm>
          <a:prstGeom prst="rect">
            <a:avLst/>
          </a:prstGeom>
          <a:ln w="0">
            <a:noFill/>
          </a:ln>
        </p:spPr>
      </p:sp>
      <p:sp>
        <p:nvSpPr>
          <p:cNvPr id="1071" name="PlaceHolder 2"/>
          <p:cNvSpPr>
            <a:spLocks noGrp="1"/>
          </p:cNvSpPr>
          <p:nvPr>
            <p:ph type="body"/>
          </p:nvPr>
        </p:nvSpPr>
        <p:spPr>
          <a:xfrm>
            <a:off x="917640" y="4222440"/>
            <a:ext cx="50767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ategorized and ranked issues recorded during the review activities are formally documented, along with the data supporting the issue identification.  A formal report is delivered to the party or parties sponsoring the review, and to the review participants, as specified by the contra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port can also contain architectural descriptions and results of individual analyses if they are particularly illuminating or are produced as a result of the review and not located anywhere else in the system docum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scenarios that was used to exercise the architecture during the analysis becomes part of the system configuration and can be used to analyze an improved or related system, as well as to form as the basis of eventual test cases.  Also, as already discussed, scenarios developed for common systems will, over time, be used to formulate more generalized questionnai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ons about the eventual system that emerged during the review should be kept.  It is likely that the set of potentially reusable design structures that could be shared by multiple similar systems will be among these predi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bout the review process itself should also be collected.  The aggregated output from multiple reviews may lead to courses, training, and improvements to system development and the architecture review process.  Costs and benefits of the review should be collected.  Estimates of the benefits are best collected from the manager of the development.  The information about the review should be retained by the reviewing organization and used to improve future reviews and to provide cost-benefit summaries to the managers of the reviewing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31760" y="657360"/>
            <a:ext cx="4324320" cy="3240000"/>
          </a:xfrm>
          <a:prstGeom prst="rect">
            <a:avLst/>
          </a:prstGeom>
          <a:ln w="0">
            <a:noFill/>
          </a:ln>
        </p:spPr>
      </p:sp>
      <p:sp>
        <p:nvSpPr>
          <p:cNvPr id="107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31760" y="657360"/>
            <a:ext cx="4324320" cy="3240000"/>
          </a:xfrm>
          <a:prstGeom prst="rect">
            <a:avLst/>
          </a:prstGeom>
          <a:ln w="0">
            <a:noFill/>
          </a:ln>
        </p:spPr>
      </p:sp>
      <p:sp>
        <p:nvSpPr>
          <p:cNvPr id="107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31760" y="657360"/>
            <a:ext cx="4324320" cy="3240000"/>
          </a:xfrm>
          <a:prstGeom prst="rect">
            <a:avLst/>
          </a:prstGeom>
          <a:ln w="0">
            <a:noFill/>
          </a:ln>
        </p:spPr>
      </p:sp>
      <p:sp>
        <p:nvSpPr>
          <p:cNvPr id="1077"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31760" y="657360"/>
            <a:ext cx="4324320" cy="3240000"/>
          </a:xfrm>
          <a:prstGeom prst="rect">
            <a:avLst/>
          </a:prstGeom>
          <a:ln w="0">
            <a:noFill/>
          </a:ln>
        </p:spPr>
      </p:sp>
      <p:sp>
        <p:nvSpPr>
          <p:cNvPr id="1079"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31760" y="657360"/>
            <a:ext cx="4324320" cy="3240000"/>
          </a:xfrm>
          <a:prstGeom prst="rect">
            <a:avLst/>
          </a:prstGeom>
          <a:ln w="0">
            <a:noFill/>
          </a:ln>
        </p:spPr>
      </p:sp>
      <p:sp>
        <p:nvSpPr>
          <p:cNvPr id="1081"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031760" y="657360"/>
            <a:ext cx="4324320" cy="3240000"/>
          </a:xfrm>
          <a:prstGeom prst="rect">
            <a:avLst/>
          </a:prstGeom>
          <a:ln w="0">
            <a:noFill/>
          </a:ln>
        </p:spPr>
      </p:sp>
      <p:sp>
        <p:nvSpPr>
          <p:cNvPr id="943" name="PlaceHolder 2"/>
          <p:cNvSpPr>
            <a:spLocks noGrp="1"/>
          </p:cNvSpPr>
          <p:nvPr>
            <p:ph type="body"/>
          </p:nvPr>
        </p:nvSpPr>
        <p:spPr>
          <a:xfrm>
            <a:off x="917640" y="4222440"/>
            <a:ext cx="4790880" cy="3800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enario is a brief, concrete description of a single interaction of a stakehol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 a system.  It actually serves as a representative for an entire cla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enarios.  This class consists of all scenarios for which the system und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responds in exactly the same w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creating scenarios, we should consider all stakeholder roles, especiall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executing the software - the end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odifying the runtime functions of the system -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carrying out changes to the system - the maint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erson responsible for managing the data repositories used by the system - the system administr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 roles reflect the difference between runtime and develop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s, those qualities that are a function of the system’s execution (su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performance) and those that reflect operations performed off-line in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environment (such as modifiability).  Scenarios of the former varie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be performed by stakeholders such as the end user; scenarios of the lat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ety by developers and maintainers.  One method for discover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of a system is to consider the different business organiz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ociated with the system - the developers, the marketers, the acquir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1760" y="657360"/>
            <a:ext cx="4324320" cy="3240000"/>
          </a:xfrm>
          <a:prstGeom prst="rect">
            <a:avLst/>
          </a:prstGeom>
          <a:ln w="0">
            <a:noFill/>
          </a:ln>
        </p:spPr>
      </p:sp>
      <p:sp>
        <p:nvSpPr>
          <p:cNvPr id="945"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llowing section of this lecture, we define the steps of a SAAM evaluation and discuss the interactions among them.  It is important to note, however, that not every SAAM evaluation needs to go through all of these steps.  In fact, projects can benefit from performing almost any subse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2A010FD1-9202-44B2-8CC4-B163328D2CC9}"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54000" y="467532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0  - page </a:t>
            </a:r>
            <a:fld id="{2D55165C-A11D-4213-97E4-AB809D8B1FE5}"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3280" y="1854000"/>
            <a:ext cx="7924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0: Software Architecture Evaluation</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1</a:t>
            </a:r>
            <a:endParaRPr b="0" lang="en-US" sz="3600" spc="-1" strike="noStrike">
              <a:solidFill>
                <a:srgbClr val="ffffff"/>
              </a:solidFill>
              <a:latin typeface="Century Schoolbook"/>
            </a:endParaRPr>
          </a:p>
        </p:txBody>
      </p:sp>
      <p:sp>
        <p:nvSpPr>
          <p:cNvPr id="146" name="PlaceHolder 2"/>
          <p:cNvSpPr>
            <a:spLocks noGrp="1"/>
          </p:cNvSpPr>
          <p:nvPr>
            <p:ph/>
          </p:nvPr>
        </p:nvSpPr>
        <p:spPr>
          <a:xfrm>
            <a:off x="802800" y="1979640"/>
            <a:ext cx="7813800" cy="436392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ustomer</a:t>
            </a:r>
            <a:r>
              <a:rPr b="1" lang="en-US" sz="2400" spc="-1" strike="noStrike">
                <a:solidFill>
                  <a:srgbClr val="ffffff"/>
                </a:solidFill>
                <a:latin typeface="Arial"/>
              </a:rPr>
              <a:t>	</a:t>
            </a:r>
            <a:r>
              <a:rPr b="1" lang="en-US" sz="2400" spc="-1" strike="noStrike">
                <a:solidFill>
                  <a:srgbClr val="ffffff"/>
                </a:solidFill>
                <a:latin typeface="Arial"/>
              </a:rPr>
              <a:t>Schedule and budget; usefulness of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ystem; meeting customers’ (or</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rket’s) expectation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d user</a:t>
            </a:r>
            <a:r>
              <a:rPr b="1" lang="en-US" sz="2400" spc="-1" strike="noStrike">
                <a:solidFill>
                  <a:srgbClr val="ffffff"/>
                </a:solidFill>
                <a:latin typeface="Arial"/>
              </a:rPr>
              <a:t>	</a:t>
            </a:r>
            <a:r>
              <a:rPr b="1" lang="en-US" sz="2400" spc="-1" strike="noStrike">
                <a:solidFill>
                  <a:srgbClr val="ffffff"/>
                </a:solidFill>
                <a:latin typeface="Arial"/>
              </a:rPr>
              <a:t>Functionality, usability</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intainer</a:t>
            </a:r>
            <a:r>
              <a:rPr b="1" lang="en-US" sz="2400" spc="-1" strike="noStrike">
                <a:solidFill>
                  <a:srgbClr val="ffffff"/>
                </a:solidFill>
                <a:latin typeface="Arial"/>
              </a:rPr>
              <a:t>	</a:t>
            </a:r>
            <a:r>
              <a:rPr b="1" lang="en-US" sz="2400" spc="-1" strike="noStrike">
                <a:solidFill>
                  <a:srgbClr val="ffffff"/>
                </a:solidFill>
                <a:latin typeface="Arial"/>
              </a:rPr>
              <a:t>Maintainability; ability to locate </a:t>
            </a:r>
            <a:r>
              <a:rPr b="1" lang="en-US" sz="2400" spc="-1" strike="noStrike">
                <a:solidFill>
                  <a:srgbClr val="ffffff"/>
                </a:solidFill>
                <a:latin typeface="Arial"/>
              </a:rPr>
              <a:t>	</a:t>
            </a:r>
            <a:endParaRPr b="1" lang="en-US" sz="2400" spc="-1" strike="noStrike">
              <a:solidFill>
                <a:srgbClr val="ffffff"/>
              </a:solidFill>
              <a:latin typeface="Arial"/>
            </a:endParaRPr>
          </a:p>
          <a:p>
            <a:pPr indent="0">
              <a:lnSpc>
                <a:spcPct val="85000"/>
              </a:lnSpc>
              <a:buNone/>
              <a:tabLst>
                <a:tab algn="l" pos="0"/>
                <a:tab algn="l" pos="114480"/>
                <a:tab algn="l" pos="23493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laces of change</a:t>
            </a:r>
            <a:endParaRPr b="1" lang="en-US" sz="2400" spc="-1" strike="noStrike">
              <a:solidFill>
                <a:srgbClr val="ffffff"/>
              </a:solidFill>
              <a:latin typeface="Arial"/>
            </a:endParaRPr>
          </a:p>
        </p:txBody>
      </p:sp>
      <p:sp>
        <p:nvSpPr>
          <p:cNvPr id="147" name=""/>
          <p:cNvSpPr/>
          <p:nvPr/>
        </p:nvSpPr>
        <p:spPr>
          <a:xfrm>
            <a:off x="812880" y="2260440"/>
            <a:ext cx="779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073320" y="1968480"/>
            <a:ext cx="0" cy="4368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2</a:t>
            </a:r>
            <a:endParaRPr b="0" lang="en-US" sz="3600" spc="-1" strike="noStrike">
              <a:solidFill>
                <a:srgbClr val="ffffff"/>
              </a:solidFill>
              <a:latin typeface="Century Schoolbook"/>
            </a:endParaRPr>
          </a:p>
        </p:txBody>
      </p:sp>
      <p:sp>
        <p:nvSpPr>
          <p:cNvPr id="150" name="PlaceHolder 2"/>
          <p:cNvSpPr>
            <a:spLocks noGrp="1"/>
          </p:cNvSpPr>
          <p:nvPr>
            <p:ph/>
          </p:nvPr>
        </p:nvSpPr>
        <p:spPr>
          <a:xfrm>
            <a:off x="802800" y="2271600"/>
            <a:ext cx="7458120" cy="3919680"/>
          </a:xfrm>
          <a:prstGeom prst="rect">
            <a:avLst/>
          </a:prstGeom>
          <a:noFill/>
          <a:ln w="12600">
            <a:solidFill>
              <a:srgbClr val="ffffff"/>
            </a:solidFill>
            <a:miter/>
          </a:ln>
        </p:spPr>
        <p:txBody>
          <a:bodyPr lIns="0" rIns="0" tIns="0" bIns="0" anchor="t">
            <a:normAutofit/>
          </a:bodyPr>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a:t>
            </a:r>
            <a:r>
              <a:rPr b="1" lang="en-US" sz="2400" spc="-1" strike="noStrike">
                <a:solidFill>
                  <a:srgbClr val="ffffff"/>
                </a:solidFill>
                <a:latin typeface="Arial"/>
              </a:rPr>
              <a:t>	</a:t>
            </a:r>
            <a:r>
              <a:rPr b="1" lang="en-US" sz="2400" spc="-1" strike="noStrike">
                <a:solidFill>
                  <a:srgbClr val="ffffff"/>
                </a:solidFill>
                <a:latin typeface="Arial"/>
              </a:rPr>
              <a:t>Ease in finding sources of</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operational problems</a:t>
            </a:r>
            <a:endParaRPr b="1" lang="en-US" sz="2400" spc="-1" strike="noStrike">
              <a:solidFill>
                <a:srgbClr val="ffffff"/>
              </a:solidFill>
              <a:latin typeface="Arial"/>
            </a:endParaRPr>
          </a:p>
          <a:p>
            <a:pPr indent="0">
              <a:lnSpc>
                <a:spcPct val="90000"/>
              </a:lnSpc>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twork</a:t>
            </a:r>
            <a:r>
              <a:rPr b="1" lang="en-US" sz="2400" spc="-1" strike="noStrike">
                <a:solidFill>
                  <a:srgbClr val="ffffff"/>
                </a:solidFill>
                <a:latin typeface="Arial"/>
              </a:rPr>
              <a:t>	</a:t>
            </a:r>
            <a:r>
              <a:rPr b="1" lang="en-US" sz="2400" spc="-1" strike="noStrike">
                <a:solidFill>
                  <a:srgbClr val="ffffff"/>
                </a:solidFill>
                <a:latin typeface="Arial"/>
              </a:rPr>
              <a:t>Network performance,</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ministrator</a:t>
            </a:r>
            <a:r>
              <a:rPr b="1" lang="en-US" sz="2400" spc="-1" strike="noStrike">
                <a:solidFill>
                  <a:srgbClr val="ffffff"/>
                </a:solidFill>
                <a:latin typeface="Arial"/>
              </a:rPr>
              <a:t>	</a:t>
            </a:r>
            <a:r>
              <a:rPr b="1" lang="en-US" sz="2400" spc="-1" strike="noStrike">
                <a:solidFill>
                  <a:srgbClr val="ffffff"/>
                </a:solidFill>
                <a:latin typeface="Arial"/>
              </a:rPr>
              <a:t>predictability</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grator</a:t>
            </a:r>
            <a:r>
              <a:rPr b="1" lang="en-US" sz="2400" spc="-1" strike="noStrike">
                <a:solidFill>
                  <a:srgbClr val="ffffff"/>
                </a:solidFill>
                <a:latin typeface="Arial"/>
              </a:rPr>
              <a:t>	</a:t>
            </a:r>
            <a:r>
              <a:rPr b="1" lang="en-US" sz="2400" spc="-1" strike="noStrike">
                <a:solidFill>
                  <a:srgbClr val="ffffff"/>
                </a:solidFill>
                <a:latin typeface="Arial"/>
              </a:rPr>
              <a:t>Clarity and completeness of</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rchitecture; high cohesion and</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limited coupling of parts;</a:t>
            </a:r>
            <a:endParaRPr b="1" lang="en-US" sz="2400" spc="-1" strike="noStrike">
              <a:solidFill>
                <a:srgbClr val="ffffff"/>
              </a:solidFill>
              <a:latin typeface="Arial"/>
            </a:endParaRPr>
          </a:p>
          <a:p>
            <a:pPr indent="0">
              <a:lnSpc>
                <a:spcPct val="95000"/>
              </a:lnSpc>
              <a:buNone/>
              <a:tabLst>
                <a:tab algn="l" pos="0"/>
                <a:tab algn="l" pos="114480"/>
                <a:tab algn="l" pos="2629080"/>
                <a:tab algn="l" pos="42292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lear interaction mechanisms</a:t>
            </a:r>
            <a:endParaRPr b="1" lang="en-US" sz="2400" spc="-1" strike="noStrike">
              <a:solidFill>
                <a:srgbClr val="ffffff"/>
              </a:solidFill>
              <a:latin typeface="Arial"/>
            </a:endParaRPr>
          </a:p>
          <a:p>
            <a:pPr indent="0">
              <a:buNone/>
              <a:tabLst>
                <a:tab algn="l" pos="0"/>
                <a:tab algn="l" pos="114480"/>
                <a:tab algn="l" pos="2629080"/>
                <a:tab algn="l" pos="42292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
          <p:cNvSpPr/>
          <p:nvPr/>
        </p:nvSpPr>
        <p:spPr>
          <a:xfrm>
            <a:off x="809640" y="2565360"/>
            <a:ext cx="7458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174840" y="2273400"/>
            <a:ext cx="0" cy="3917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1: Identify and Assemble Stakeholders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802800" y="2216160"/>
            <a:ext cx="8016840" cy="4100400"/>
          </a:xfrm>
          <a:prstGeom prst="rect">
            <a:avLst/>
          </a:prstGeom>
          <a:noFill/>
          <a:ln w="12600">
            <a:solidFill>
              <a:srgbClr val="ffffff"/>
            </a:solidFill>
            <a:miter/>
          </a:ln>
        </p:spPr>
        <p:txBody>
          <a:bodyPr lIns="0" rIns="0" tIns="0" bIns="0" anchor="t">
            <a:normAutofit/>
          </a:bodyPr>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keholder</a:t>
            </a:r>
            <a:r>
              <a:rPr b="1" lang="en-US" sz="2400" spc="-1" strike="noStrike">
                <a:solidFill>
                  <a:srgbClr val="ffffff"/>
                </a:solidFill>
                <a:latin typeface="Arial"/>
              </a:rPr>
              <a:t>	</a:t>
            </a:r>
            <a:r>
              <a:rPr b="1" lang="en-US" sz="2400" spc="-1" strike="noStrike">
                <a:solidFill>
                  <a:srgbClr val="ffffff"/>
                </a:solidFill>
                <a:latin typeface="Arial"/>
              </a:rPr>
              <a:t>Interes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ster</a:t>
            </a:r>
            <a:r>
              <a:rPr b="1" lang="en-US" sz="2400" spc="-1" strike="noStrike">
                <a:solidFill>
                  <a:srgbClr val="ffffff"/>
                </a:solidFill>
                <a:latin typeface="Arial"/>
              </a:rPr>
              <a:t>	</a:t>
            </a:r>
            <a:r>
              <a:rPr b="1" lang="en-US" sz="2400" spc="-1" strike="noStrike">
                <a:solidFill>
                  <a:srgbClr val="ffffff"/>
                </a:solidFill>
                <a:latin typeface="Arial"/>
              </a:rPr>
              <a:t>Integrated, consistent error-</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ndling; limited component</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pling; high component </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hesion; conceptual integr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a:t>
            </a:r>
            <a:r>
              <a:rPr b="1" lang="en-US" sz="2400" spc="-1" strike="noStrike">
                <a:solidFill>
                  <a:srgbClr val="ffffff"/>
                </a:solidFill>
                <a:latin typeface="Arial"/>
              </a:rPr>
              <a:t>	</a:t>
            </a:r>
            <a:r>
              <a:rPr b="1" lang="en-US" sz="2400" spc="-1" strike="noStrike">
                <a:solidFill>
                  <a:srgbClr val="ffffff"/>
                </a:solidFill>
                <a:latin typeface="Arial"/>
              </a:rPr>
              <a:t>Architectural clarity, completenes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uilder (if</a:t>
            </a:r>
            <a:r>
              <a:rPr b="1" lang="en-US" sz="2400" spc="-1" strike="noStrike">
                <a:solidFill>
                  <a:srgbClr val="ffffff"/>
                </a:solidFill>
                <a:latin typeface="Arial"/>
              </a:rPr>
              <a:t>	</a:t>
            </a:r>
            <a:r>
              <a:rPr b="1" lang="en-US" sz="2400" spc="-1" strike="noStrike">
                <a:solidFill>
                  <a:srgbClr val="ffffff"/>
                </a:solidFill>
                <a:latin typeface="Arial"/>
              </a:rPr>
              <a:t>interaction mechanisms; simpl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line</a:t>
            </a:r>
            <a:r>
              <a:rPr b="1" lang="en-US" sz="2400" spc="-1" strike="noStrike">
                <a:solidFill>
                  <a:srgbClr val="ffffff"/>
                </a:solidFill>
                <a:latin typeface="Arial"/>
              </a:rPr>
              <a:t>	</a:t>
            </a:r>
            <a:r>
              <a:rPr b="1" lang="en-US" sz="2400" spc="-1" strike="noStrike">
                <a:solidFill>
                  <a:srgbClr val="ffffff"/>
                </a:solidFill>
                <a:latin typeface="Arial"/>
              </a:rPr>
              <a:t>tailoring mechanisms</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presentative</a:t>
            </a:r>
            <a:r>
              <a:rPr b="1" lang="en-US" sz="2400" spc="-1" strike="noStrike">
                <a:solidFill>
                  <a:srgbClr val="ffffff"/>
                </a:solidFill>
                <a:latin typeface="Arial"/>
              </a:rPr>
              <a:t>	</a:t>
            </a:r>
            <a:r>
              <a:rPr b="1" lang="en-US" sz="2400" spc="-1" strike="noStrike">
                <a:solidFill>
                  <a:srgbClr val="ffffff"/>
                </a:solidFill>
                <a:latin typeface="Arial"/>
              </a:rPr>
              <a:t>Interoperability</a:t>
            </a:r>
            <a:endParaRPr b="1" lang="en-US" sz="2400" spc="-1" strike="noStrike">
              <a:solidFill>
                <a:srgbClr val="ffffff"/>
              </a:solidFill>
              <a:latin typeface="Arial"/>
            </a:endParaRPr>
          </a:p>
          <a:p>
            <a:pPr indent="0">
              <a:lnSpc>
                <a:spcPct val="85000"/>
              </a:lnSpc>
              <a:buNone/>
              <a:tabLst>
                <a:tab algn="l" pos="0"/>
                <a:tab algn="l" pos="114480"/>
                <a:tab algn="l" pos="2743200"/>
                <a:tab algn="l" pos="377208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domain</a:t>
            </a:r>
            <a:endParaRPr b="1" lang="en-US" sz="2400" spc="-1" strike="noStrike">
              <a:solidFill>
                <a:srgbClr val="ffffff"/>
              </a:solidFill>
              <a:latin typeface="Arial"/>
            </a:endParaRPr>
          </a:p>
        </p:txBody>
      </p:sp>
      <p:sp>
        <p:nvSpPr>
          <p:cNvPr id="155" name=""/>
          <p:cNvSpPr/>
          <p:nvPr/>
        </p:nvSpPr>
        <p:spPr>
          <a:xfrm>
            <a:off x="800280" y="2505240"/>
            <a:ext cx="80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339720" y="2209680"/>
            <a:ext cx="3240" cy="411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2: Stakeholders Develop and Prioritize Scenario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400" y="218916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be typical of the kinds of activities that the system must suppor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lity</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activities</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tiviti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lso can be chosen to give insight into the system structur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should represent tasks relevant to all stakehold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of thumb: 10-20 scenario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1</a:t>
            </a:r>
            <a:endParaRPr b="0" lang="en-US" sz="3600" spc="-1" strike="noStrike">
              <a:solidFill>
                <a:srgbClr val="ffffff"/>
              </a:solidFill>
              <a:latin typeface="Century Schoolbook"/>
            </a:endParaRPr>
          </a:p>
        </p:txBody>
      </p:sp>
      <p:sp>
        <p:nvSpPr>
          <p:cNvPr id="160"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frequently necessary to elicit appropriate architectural descri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s chosen to describe the architecture will depend on the type of qualities to be evalu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c structures will be used to evaluate modification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structures will be used to evaluate runtime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3: Describe Candidate Architectures -2</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760" y="2222280"/>
            <a:ext cx="7801200" cy="404172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ically, the architect is asked to bring the following documentation to an evaluation, as a starting poi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logical or module structure, with a clear definition of the responsibilities of each component</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process stru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ata flow diagram showing how the modules interact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of the interconnection mechanism(s) used to distribute data and control among architectural components at run tim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escription, if needed, of the “uses” structure, showing how potential subsets will be realiz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4: Classify Scenarios</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808280"/>
            <a:ext cx="773748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wo classes of scenario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are those that can be executed by the system without modific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scenarios are those that require modifications to the 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depends upon both the scenario and the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assification should have gradation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How hard is the change? (SAAM elicits this information.)</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How hard is it to execute? (SAAM does not consider thi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769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5: Perform Scenario Evaluation</a:t>
            </a:r>
            <a:endParaRPr b="0" lang="en-US" sz="3600" spc="-1" strike="noStrike">
              <a:solidFill>
                <a:srgbClr val="ffffff"/>
              </a:solidFill>
              <a:latin typeface="Century Schoolbook"/>
            </a:endParaRPr>
          </a:p>
        </p:txBody>
      </p:sp>
      <p:sp>
        <p:nvSpPr>
          <p:cNvPr id="166"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indirect scenario</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the components, data connections, control connections, and interfaces that must be added, deleted, or modifi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 the difficulty of modification </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y of modification is elicited from the architect and is based on the number of components to be modified and the effect of the modifica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onolithic system will score well on this step, but not on next st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0240" y="84276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6: Reveal Scenario Interactions</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multiple indirect scenarios affect the same components, this could indicate a probl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good, if scenarios are variants of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gree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ld be bad, indicating a potentially poor separation of concer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background color to r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system to a different platfor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0240" y="842760"/>
            <a:ext cx="77947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 7: Generate Overall Evaluation</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scenarios are equ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rganization must determine which scenarios are most import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organization must decide as to whether the design is acceptable “as is” or if it must be modifi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760" y="1782720"/>
            <a:ext cx="76615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when and why to analyze softwar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and explain the steps of the SAAM evaluation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how SAAM works in practi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eciate costs and 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amples of review technique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good review practic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of SAAM Steps</a:t>
            </a:r>
            <a:endParaRPr b="0" lang="en-US" sz="3600" spc="-1" strike="noStrike">
              <a:solidFill>
                <a:srgbClr val="ffffff"/>
              </a:solidFill>
              <a:latin typeface="Century Schoolbook"/>
            </a:endParaRPr>
          </a:p>
        </p:txBody>
      </p:sp>
      <p:sp>
        <p:nvSpPr>
          <p:cNvPr id="172" name=""/>
          <p:cNvSpPr/>
          <p:nvPr/>
        </p:nvSpPr>
        <p:spPr>
          <a:xfrm>
            <a:off x="458640" y="1908000"/>
            <a:ext cx="8240760" cy="3017880"/>
          </a:xfrm>
          <a:custGeom>
            <a:avLst/>
            <a:gdLst/>
            <a:ahLst/>
            <a:rect l="l" t="t" r="r" b="b"/>
            <a:pathLst>
              <a:path w="5191" h="1901">
                <a:moveTo>
                  <a:pt x="479" y="455"/>
                </a:moveTo>
                <a:lnTo>
                  <a:pt x="0" y="1435"/>
                </a:lnTo>
                <a:lnTo>
                  <a:pt x="1145" y="1435"/>
                </a:lnTo>
                <a:lnTo>
                  <a:pt x="2291" y="1435"/>
                </a:lnTo>
                <a:lnTo>
                  <a:pt x="3437" y="1435"/>
                </a:lnTo>
                <a:lnTo>
                  <a:pt x="4585" y="1435"/>
                </a:lnTo>
                <a:lnTo>
                  <a:pt x="4425" y="1900"/>
                </a:lnTo>
                <a:lnTo>
                  <a:pt x="5190" y="1015"/>
                </a:lnTo>
                <a:lnTo>
                  <a:pt x="5125" y="0"/>
                </a:lnTo>
                <a:lnTo>
                  <a:pt x="4954" y="455"/>
                </a:lnTo>
                <a:lnTo>
                  <a:pt x="3835" y="455"/>
                </a:lnTo>
                <a:lnTo>
                  <a:pt x="2717" y="455"/>
                </a:lnTo>
                <a:lnTo>
                  <a:pt x="1597" y="455"/>
                </a:lnTo>
                <a:lnTo>
                  <a:pt x="479" y="45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727360" y="3070080"/>
            <a:ext cx="13878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classific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s</a:t>
            </a:r>
            <a:endParaRPr b="0" lang="en-US" sz="1600" spc="-1" strike="noStrike">
              <a:solidFill>
                <a:srgbClr val="ffffff"/>
              </a:solidFill>
              <a:latin typeface="Times New Roman"/>
            </a:endParaRPr>
          </a:p>
        </p:txBody>
      </p:sp>
      <p:sp>
        <p:nvSpPr>
          <p:cNvPr id="174" name=""/>
          <p:cNvSpPr/>
          <p:nvPr/>
        </p:nvSpPr>
        <p:spPr>
          <a:xfrm>
            <a:off x="4170240" y="3057480"/>
            <a:ext cx="1159200" cy="94140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dividua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indirec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s</a:t>
            </a:r>
            <a:endParaRPr b="0" lang="en-US" sz="1600" spc="-1" strike="noStrike">
              <a:solidFill>
                <a:srgbClr val="ffffff"/>
              </a:solidFill>
              <a:latin typeface="Times New Roman"/>
            </a:endParaRPr>
          </a:p>
        </p:txBody>
      </p:sp>
      <p:sp>
        <p:nvSpPr>
          <p:cNvPr id="175" name=""/>
          <p:cNvSpPr/>
          <p:nvPr/>
        </p:nvSpPr>
        <p:spPr>
          <a:xfrm>
            <a:off x="5538240" y="3057480"/>
            <a:ext cx="1317600" cy="73476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ssessment</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f scenario</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176" name=""/>
          <p:cNvSpPr/>
          <p:nvPr/>
        </p:nvSpPr>
        <p:spPr>
          <a:xfrm>
            <a:off x="7265880" y="3063960"/>
            <a:ext cx="1159200" cy="528120"/>
          </a:xfrm>
          <a:prstGeom prst="rect">
            <a:avLst/>
          </a:prstGeom>
          <a:noFill/>
          <a:ln w="0">
            <a:noFill/>
          </a:ln>
        </p:spPr>
        <p:style>
          <a:lnRef idx="0"/>
          <a:fillRef idx="0"/>
          <a:effectRef idx="0"/>
          <a:fontRef idx="minor"/>
        </p:style>
        <p:txBody>
          <a:bodyPr wrap="none" lIns="115920" rIns="115920" tIns="57240" bIns="57240" anchor="t">
            <a:spAutoFit/>
          </a:bodyPr>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overall</a:t>
            </a:r>
            <a:endParaRPr b="0" lang="en-US" sz="1600" spc="-1" strike="noStrike">
              <a:solidFill>
                <a:srgbClr val="ffffff"/>
              </a:solidFill>
              <a:latin typeface="Times New Roman"/>
            </a:endParaRPr>
          </a:p>
          <a:p>
            <a:pP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evaluation</a:t>
            </a:r>
            <a:endParaRPr b="0" lang="en-US" sz="1600" spc="-1" strike="noStrike">
              <a:solidFill>
                <a:srgbClr val="ffffff"/>
              </a:solidFill>
              <a:latin typeface="Times New Roman"/>
            </a:endParaRPr>
          </a:p>
        </p:txBody>
      </p:sp>
      <p:sp>
        <p:nvSpPr>
          <p:cNvPr id="177" name=""/>
          <p:cNvSpPr/>
          <p:nvPr/>
        </p:nvSpPr>
        <p:spPr>
          <a:xfrm>
            <a:off x="4784760" y="2757600"/>
            <a:ext cx="28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3403440" y="2757600"/>
            <a:ext cx="0" cy="3175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4651200" y="2755800"/>
            <a:ext cx="0" cy="29376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flipV="1">
            <a:off x="4784760" y="2755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flipV="1">
            <a:off x="7618320" y="2757240"/>
            <a:ext cx="0" cy="3301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3403440" y="3587760"/>
            <a:ext cx="0" cy="487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V="1">
            <a:off x="4649760" y="3892680"/>
            <a:ext cx="0" cy="19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998880" y="3218040"/>
            <a:ext cx="276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5189400" y="3218040"/>
            <a:ext cx="381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821640" y="3218040"/>
            <a:ext cx="380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120680" y="2948040"/>
            <a:ext cx="13953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cenario</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velopment</a:t>
            </a:r>
            <a:endParaRPr b="0" lang="en-US" sz="1600" spc="-1" strike="noStrike">
              <a:solidFill>
                <a:srgbClr val="ffffff"/>
              </a:solidFill>
              <a:latin typeface="Times New Roman"/>
            </a:endParaRPr>
          </a:p>
        </p:txBody>
      </p:sp>
      <p:sp>
        <p:nvSpPr>
          <p:cNvPr id="188" name=""/>
          <p:cNvSpPr/>
          <p:nvPr/>
        </p:nvSpPr>
        <p:spPr>
          <a:xfrm>
            <a:off x="1165680" y="3421080"/>
            <a:ext cx="129312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architecture</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description</a:t>
            </a:r>
            <a:endParaRPr b="0" lang="en-US" sz="1600" spc="-1" strike="noStrike">
              <a:solidFill>
                <a:srgbClr val="ffffff"/>
              </a:solidFill>
              <a:latin typeface="Times New Roman"/>
            </a:endParaRPr>
          </a:p>
        </p:txBody>
      </p:sp>
      <p:sp>
        <p:nvSpPr>
          <p:cNvPr id="189" name=""/>
          <p:cNvSpPr/>
          <p:nvPr/>
        </p:nvSpPr>
        <p:spPr>
          <a:xfrm>
            <a:off x="1797120" y="2757600"/>
            <a:ext cx="284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809720" y="4084560"/>
            <a:ext cx="283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V="1">
            <a:off x="1797120" y="3979800"/>
            <a:ext cx="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rot="19020000">
            <a:off x="1132200" y="2834640"/>
            <a:ext cx="1453320" cy="1479240"/>
          </a:xfrm>
          <a:custGeom>
            <a:avLst/>
            <a:gdLst/>
            <a:ahLst/>
            <a:rect l="l" t="t" r="r" b="b"/>
            <a:pathLst>
              <a:path stroke="0" w="21600" h="21600">
                <a:moveTo>
                  <a:pt x="10776" y="0"/>
                </a:moveTo>
                <a:arcTo wR="10800" hR="10800" stAng="-5407498" swAng="4806220"/>
                <a:lnTo>
                  <a:pt x="10800" y="10800"/>
                </a:lnTo>
                <a:close/>
              </a:path>
              <a:path fill="none" w="21600" h="21600">
                <a:moveTo>
                  <a:pt x="10776" y="0"/>
                </a:moveTo>
                <a:arcTo wR="10800" hR="10800" stAng="-5407498" swAng="4806220"/>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6860000">
            <a:off x="1102320" y="2615760"/>
            <a:ext cx="1479240" cy="1452960"/>
          </a:xfrm>
          <a:custGeom>
            <a:avLst/>
            <a:gdLst/>
            <a:ahLst/>
            <a:rect l="l" t="t" r="r" b="b"/>
            <a:pathLst>
              <a:path stroke="0" w="21600" h="21600">
                <a:moveTo>
                  <a:pt x="0" y="10776"/>
                </a:moveTo>
                <a:arcTo wR="10800" hR="10800" stAng="-10792486" swAng="5090472"/>
                <a:lnTo>
                  <a:pt x="10800" y="10800"/>
                </a:lnTo>
                <a:close/>
              </a:path>
              <a:path fill="none" w="21600" h="21600">
                <a:moveTo>
                  <a:pt x="0" y="10776"/>
                </a:moveTo>
                <a:arcTo wR="10800" hR="10800" stAng="-10792486" swAng="5090472"/>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4200000">
            <a:off x="1041120" y="2651760"/>
            <a:ext cx="1479240" cy="1449360"/>
          </a:xfrm>
          <a:custGeom>
            <a:avLst/>
            <a:gdLst/>
            <a:ahLst/>
            <a:rect l="l" t="t" r="r" b="b"/>
            <a:pathLst>
              <a:path stroke="0" w="21600" h="21600">
                <a:moveTo>
                  <a:pt x="12651" y="160"/>
                </a:moveTo>
                <a:arcTo wR="10800" hR="10800" stAng="-4807903" swAng="4807903"/>
                <a:lnTo>
                  <a:pt x="10800" y="10800"/>
                </a:lnTo>
                <a:close/>
              </a:path>
              <a:path fill="none" w="21600" h="21600">
                <a:moveTo>
                  <a:pt x="12651" y="160"/>
                </a:moveTo>
                <a:arcTo wR="10800" hR="10800" stAng="-4807903" swAng="4807903"/>
              </a:path>
            </a:pathLst>
          </a:custGeom>
          <a:noFill/>
          <a:ln cap="rnd" w="50760">
            <a:solidFill>
              <a:srgbClr val="b7b7b7"/>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1797120" y="27558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wo Examples of SAAM</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word in context (KW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from lecture on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overall demonstration of metho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s analysis meth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s use of SAAM in reengineering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1:  KWIC</a:t>
            </a:r>
            <a:endParaRPr b="0" lang="en-US" sz="3600" spc="-1" strike="noStrike">
              <a:solidFill>
                <a:srgbClr val="ffffff"/>
              </a:solidFill>
              <a:latin typeface="Century Schoolbook"/>
            </a:endParaRPr>
          </a:p>
        </p:txBody>
      </p:sp>
      <p:sp>
        <p:nvSpPr>
          <p:cNvPr id="199" name="PlaceHolder 2"/>
          <p:cNvSpPr>
            <a:spLocks noGrp="1"/>
          </p:cNvSpPr>
          <p:nvPr>
            <p:ph/>
          </p:nvPr>
        </p:nvSpPr>
        <p:spPr>
          <a:xfrm>
            <a:off x="923400" y="1808280"/>
            <a:ext cx="7712280" cy="4456080"/>
          </a:xfrm>
          <a:prstGeom prst="rect">
            <a:avLst/>
          </a:prstGeom>
          <a:noFill/>
          <a:ln w="0">
            <a:noFill/>
          </a:ln>
        </p:spPr>
        <p:txBody>
          <a:bodyPr lIns="0" rIns="0" tIns="0" bIns="0" anchor="t">
            <a:normAutofit/>
          </a:bodyPr>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Two architectures: shared memory and abstract data type (ADT)</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Four scenarios</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1. Operate in an incremental rather than a batc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fashion. Program to accept one sentence at a tim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2. Program to eliminate entries beginning with</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a:t>
            </a:r>
            <a:r>
              <a:rPr b="1" lang="en-US" sz="2300" spc="-1" strike="noStrike">
                <a:solidFill>
                  <a:srgbClr val="ffffff"/>
                </a:solidFill>
                <a:latin typeface="Arial"/>
              </a:rPr>
              <a:t>noise” words. </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3. Change the internal representation of sentences</a:t>
            </a:r>
            <a:br>
              <a:rPr sz="2300"/>
            </a:br>
            <a:r>
              <a:rPr b="1" lang="en-US" sz="2300" spc="-1" strike="noStrike">
                <a:solidFill>
                  <a:srgbClr val="ffffff"/>
                </a:solidFill>
                <a:latin typeface="Arial"/>
              </a:rPr>
              <a:t>	</a:t>
            </a:r>
            <a:r>
              <a:rPr b="1" lang="en-US" sz="2300" spc="-1" strike="noStrike">
                <a:solidFill>
                  <a:srgbClr val="ffffff"/>
                </a:solidFill>
                <a:latin typeface="Arial"/>
              </a:rPr>
              <a:t>(e.g., compressed or uncompress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4. Change the internal representation of the</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intermediate data structure (e.g., store shifted</a:t>
            </a:r>
            <a:endParaRPr b="1" lang="en-US" sz="2300" spc="-1" strike="noStrike">
              <a:solidFill>
                <a:srgbClr val="ffffff"/>
              </a:solidFill>
              <a:latin typeface="Arial"/>
            </a:endParaRPr>
          </a:p>
          <a:p>
            <a:pPr indent="0">
              <a:lnSpc>
                <a:spcPct val="95000"/>
              </a:lnSpc>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2300" spc="-1" strike="noStrike">
                <a:solidFill>
                  <a:srgbClr val="ffffff"/>
                </a:solidFill>
                <a:latin typeface="Arial"/>
              </a:rPr>
              <a:t>  </a:t>
            </a:r>
            <a:r>
              <a:rPr b="1" lang="en-US" sz="2300" spc="-1" strike="noStrike">
                <a:solidFill>
                  <a:srgbClr val="ffffff"/>
                </a:solidFill>
                <a:latin typeface="Arial"/>
              </a:rPr>
              <a:t>	</a:t>
            </a:r>
            <a:r>
              <a:rPr b="1" lang="en-US" sz="2300" spc="-1" strike="noStrike">
                <a:solidFill>
                  <a:srgbClr val="ffffff"/>
                </a:solidFill>
                <a:latin typeface="Arial"/>
              </a:rPr>
              <a:t>sentences or store pointers to them).</a:t>
            </a: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hared Memory KWIC</a:t>
            </a:r>
            <a:endParaRPr b="0" lang="en-US" sz="3600" spc="-1" strike="noStrike">
              <a:solidFill>
                <a:srgbClr val="ffffff"/>
              </a:solidFill>
              <a:latin typeface="Century Schoolbook"/>
            </a:endParaRPr>
          </a:p>
        </p:txBody>
      </p:sp>
      <p:grpSp>
        <p:nvGrpSpPr>
          <p:cNvPr id="201" name=""/>
          <p:cNvGrpSpPr/>
          <p:nvPr/>
        </p:nvGrpSpPr>
        <p:grpSpPr>
          <a:xfrm>
            <a:off x="1027080" y="2292480"/>
            <a:ext cx="7115040" cy="2320200"/>
            <a:chOff x="1027080" y="2292480"/>
            <a:chExt cx="7115040" cy="2320200"/>
          </a:xfrm>
        </p:grpSpPr>
        <p:sp>
          <p:nvSpPr>
            <p:cNvPr id="202" name=""/>
            <p:cNvSpPr/>
            <p:nvPr/>
          </p:nvSpPr>
          <p:spPr>
            <a:xfrm>
              <a:off x="1746360" y="2292480"/>
              <a:ext cx="572760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784520" y="233028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851280" y="230976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05" name=""/>
            <p:cNvSpPr/>
            <p:nvPr/>
          </p:nvSpPr>
          <p:spPr>
            <a:xfrm>
              <a:off x="159876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63656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994040" y="322884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08" name=""/>
            <p:cNvSpPr/>
            <p:nvPr/>
          </p:nvSpPr>
          <p:spPr>
            <a:xfrm>
              <a:off x="270360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a:t>
              </a:r>
              <a:endParaRPr b="0" lang="en-US" sz="1000" spc="-1" strike="noStrike">
                <a:solidFill>
                  <a:srgbClr val="ffffff"/>
                </a:solidFill>
                <a:latin typeface="Times New Roman"/>
              </a:endParaRPr>
            </a:p>
          </p:txBody>
        </p:sp>
        <p:sp>
          <p:nvSpPr>
            <p:cNvPr id="209" name=""/>
            <p:cNvSpPr/>
            <p:nvPr/>
          </p:nvSpPr>
          <p:spPr>
            <a:xfrm>
              <a:off x="3122640" y="3219480"/>
              <a:ext cx="146196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160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24108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 shift</a:t>
              </a:r>
              <a:endParaRPr b="0" lang="en-US" sz="1600" spc="-1" strike="noStrike">
                <a:solidFill>
                  <a:srgbClr val="ffffff"/>
                </a:solidFill>
                <a:latin typeface="Times New Roman"/>
              </a:endParaRPr>
            </a:p>
          </p:txBody>
        </p:sp>
        <p:sp>
          <p:nvSpPr>
            <p:cNvPr id="212" name=""/>
            <p:cNvSpPr/>
            <p:nvPr/>
          </p:nvSpPr>
          <p:spPr>
            <a:xfrm>
              <a:off x="415188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3,4</a:t>
              </a:r>
              <a:endParaRPr b="0" lang="en-US" sz="1000" spc="-1" strike="noStrike">
                <a:solidFill>
                  <a:srgbClr val="ffffff"/>
                </a:solidFill>
                <a:latin typeface="Times New Roman"/>
              </a:endParaRPr>
            </a:p>
          </p:txBody>
        </p:sp>
        <p:sp>
          <p:nvSpPr>
            <p:cNvPr id="213" name=""/>
            <p:cNvSpPr/>
            <p:nvPr/>
          </p:nvSpPr>
          <p:spPr>
            <a:xfrm>
              <a:off x="464652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68468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617720" y="3228840"/>
              <a:ext cx="1247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a:t>
              </a:r>
              <a:endParaRPr b="0" lang="en-US" sz="1600" spc="-1" strike="noStrike">
                <a:solidFill>
                  <a:srgbClr val="ffffff"/>
                </a:solidFill>
                <a:latin typeface="Times New Roman"/>
              </a:endParaRPr>
            </a:p>
          </p:txBody>
        </p:sp>
        <p:sp>
          <p:nvSpPr>
            <p:cNvPr id="216" name=""/>
            <p:cNvSpPr/>
            <p:nvPr/>
          </p:nvSpPr>
          <p:spPr>
            <a:xfrm>
              <a:off x="5675760" y="322596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4</a:t>
              </a:r>
              <a:endParaRPr b="0" lang="en-US" sz="1000" spc="-1" strike="noStrike">
                <a:solidFill>
                  <a:srgbClr val="ffffff"/>
                </a:solidFill>
                <a:latin typeface="Times New Roman"/>
              </a:endParaRPr>
            </a:p>
          </p:txBody>
        </p:sp>
        <p:sp>
          <p:nvSpPr>
            <p:cNvPr id="217" name=""/>
            <p:cNvSpPr/>
            <p:nvPr/>
          </p:nvSpPr>
          <p:spPr>
            <a:xfrm>
              <a:off x="6173640" y="3219480"/>
              <a:ext cx="1462320" cy="3427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6211800" y="32576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6292440" y="3228840"/>
              <a:ext cx="975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irc shift</a:t>
              </a:r>
              <a:endParaRPr b="0" lang="en-US" sz="1600" spc="-1" strike="noStrike">
                <a:solidFill>
                  <a:srgbClr val="ffffff"/>
                </a:solidFill>
                <a:latin typeface="Times New Roman"/>
              </a:endParaRPr>
            </a:p>
          </p:txBody>
        </p:sp>
        <p:sp>
          <p:nvSpPr>
            <p:cNvPr id="220" name=""/>
            <p:cNvSpPr/>
            <p:nvPr/>
          </p:nvSpPr>
          <p:spPr>
            <a:xfrm>
              <a:off x="7289640" y="3230640"/>
              <a:ext cx="360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ffffff"/>
                </a:solidFill>
                <a:latin typeface="Times New Roman"/>
              </a:endParaRPr>
            </a:p>
          </p:txBody>
        </p:sp>
        <p:sp>
          <p:nvSpPr>
            <p:cNvPr id="221" name=""/>
            <p:cNvSpPr/>
            <p:nvPr/>
          </p:nvSpPr>
          <p:spPr>
            <a:xfrm>
              <a:off x="5942160" y="4253040"/>
              <a:ext cx="2199960" cy="3427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151320" y="4262400"/>
              <a:ext cx="1789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lphabetize index</a:t>
              </a:r>
              <a:endParaRPr b="0" lang="en-US" sz="1600" spc="-1" strike="noStrike">
                <a:solidFill>
                  <a:srgbClr val="ffffff"/>
                </a:solidFill>
                <a:latin typeface="Times New Roman"/>
              </a:endParaRPr>
            </a:p>
          </p:txBody>
        </p:sp>
        <p:sp>
          <p:nvSpPr>
            <p:cNvPr id="223" name=""/>
            <p:cNvSpPr/>
            <p:nvPr/>
          </p:nvSpPr>
          <p:spPr>
            <a:xfrm>
              <a:off x="3479760" y="426240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231800" y="4276800"/>
              <a:ext cx="68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dex</a:t>
              </a:r>
              <a:endParaRPr b="0" lang="en-US" sz="1600" spc="-1" strike="noStrike">
                <a:solidFill>
                  <a:srgbClr val="ffffff"/>
                </a:solidFill>
                <a:latin typeface="Times New Roman"/>
              </a:endParaRPr>
            </a:p>
          </p:txBody>
        </p:sp>
        <p:sp>
          <p:nvSpPr>
            <p:cNvPr id="225" name=""/>
            <p:cNvSpPr/>
            <p:nvPr/>
          </p:nvSpPr>
          <p:spPr>
            <a:xfrm>
              <a:off x="1027080" y="4259160"/>
              <a:ext cx="2200320" cy="3430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546560" y="426888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haracters</a:t>
              </a:r>
              <a:endParaRPr b="0" lang="en-US" sz="1600" spc="-1" strike="noStrike">
                <a:solidFill>
                  <a:srgbClr val="ffffff"/>
                </a:solidFill>
                <a:latin typeface="Times New Roman"/>
              </a:endParaRPr>
            </a:p>
          </p:txBody>
        </p:sp>
        <p:grpSp>
          <p:nvGrpSpPr>
            <p:cNvPr id="227" name=""/>
            <p:cNvGrpSpPr/>
            <p:nvPr/>
          </p:nvGrpSpPr>
          <p:grpSpPr>
            <a:xfrm>
              <a:off x="2314440" y="2633760"/>
              <a:ext cx="95400" cy="574560"/>
              <a:chOff x="2314440" y="2633760"/>
              <a:chExt cx="95400" cy="574560"/>
            </a:xfrm>
          </p:grpSpPr>
          <p:sp>
            <p:nvSpPr>
              <p:cNvPr id="228" name=""/>
              <p:cNvSpPr/>
              <p:nvPr/>
            </p:nvSpPr>
            <p:spPr>
              <a:xfrm>
                <a:off x="23144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098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3824280" y="2633760"/>
              <a:ext cx="95400" cy="574560"/>
              <a:chOff x="3824280" y="2633760"/>
              <a:chExt cx="95400" cy="574560"/>
            </a:xfrm>
          </p:grpSpPr>
          <p:sp>
            <p:nvSpPr>
              <p:cNvPr id="231" name=""/>
              <p:cNvSpPr/>
              <p:nvPr/>
            </p:nvSpPr>
            <p:spPr>
              <a:xfrm>
                <a:off x="382428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91968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3" name=""/>
            <p:cNvGrpSpPr/>
            <p:nvPr/>
          </p:nvGrpSpPr>
          <p:grpSpPr>
            <a:xfrm>
              <a:off x="5300640" y="2633760"/>
              <a:ext cx="95400" cy="574560"/>
              <a:chOff x="5300640" y="2633760"/>
              <a:chExt cx="95400" cy="574560"/>
            </a:xfrm>
          </p:grpSpPr>
          <p:sp>
            <p:nvSpPr>
              <p:cNvPr id="234" name=""/>
              <p:cNvSpPr/>
              <p:nvPr/>
            </p:nvSpPr>
            <p:spPr>
              <a:xfrm>
                <a:off x="530064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9604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36" name=""/>
            <p:cNvGrpSpPr/>
            <p:nvPr/>
          </p:nvGrpSpPr>
          <p:grpSpPr>
            <a:xfrm>
              <a:off x="6797520" y="2633760"/>
              <a:ext cx="95400" cy="574560"/>
              <a:chOff x="6797520" y="2633760"/>
              <a:chExt cx="95400" cy="574560"/>
            </a:xfrm>
          </p:grpSpPr>
          <p:sp>
            <p:nvSpPr>
              <p:cNvPr id="237" name=""/>
              <p:cNvSpPr/>
              <p:nvPr/>
            </p:nvSpPr>
            <p:spPr>
              <a:xfrm>
                <a:off x="6797520" y="2633760"/>
                <a:ext cx="0" cy="5745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892920" y="2652840"/>
                <a:ext cx="0" cy="55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9" name=""/>
            <p:cNvSpPr/>
            <p:nvPr/>
          </p:nvSpPr>
          <p:spPr>
            <a:xfrm flipV="1">
              <a:off x="6286680" y="3590640"/>
              <a:ext cx="500040" cy="657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029200" y="3595680"/>
              <a:ext cx="1187280" cy="6080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V="1">
              <a:off x="3881520" y="3595680"/>
              <a:ext cx="1071360" cy="64296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833640" y="3571920"/>
              <a:ext cx="0" cy="65232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19320" y="3581280"/>
              <a:ext cx="0" cy="6526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2143080" y="3587760"/>
              <a:ext cx="841320" cy="66528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2152800" y="3605040"/>
              <a:ext cx="2252520" cy="6480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2195640" y="3609720"/>
              <a:ext cx="3700440" cy="647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245000" y="23036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T KWIC</a:t>
            </a:r>
            <a:endParaRPr b="0" lang="en-US" sz="3600" spc="-1" strike="noStrike">
              <a:solidFill>
                <a:srgbClr val="ffffff"/>
              </a:solidFill>
              <a:latin typeface="Century Schoolbook"/>
            </a:endParaRPr>
          </a:p>
        </p:txBody>
      </p:sp>
      <p:sp>
        <p:nvSpPr>
          <p:cNvPr id="249" name=""/>
          <p:cNvSpPr/>
          <p:nvPr/>
        </p:nvSpPr>
        <p:spPr>
          <a:xfrm>
            <a:off x="1650960" y="1908000"/>
            <a:ext cx="572760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689120" y="1946160"/>
            <a:ext cx="565776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55880" y="1925640"/>
            <a:ext cx="1471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aster control</a:t>
            </a:r>
            <a:endParaRPr b="0" lang="en-US" sz="1600" spc="-1" strike="noStrike">
              <a:solidFill>
                <a:srgbClr val="ffffff"/>
              </a:solidFill>
              <a:latin typeface="Times New Roman"/>
            </a:endParaRPr>
          </a:p>
        </p:txBody>
      </p:sp>
      <p:sp>
        <p:nvSpPr>
          <p:cNvPr id="252" name=""/>
          <p:cNvSpPr/>
          <p:nvPr/>
        </p:nvSpPr>
        <p:spPr>
          <a:xfrm>
            <a:off x="162720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66536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022480" y="2568600"/>
            <a:ext cx="63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a:t>
            </a:r>
            <a:endParaRPr b="0" lang="en-US" sz="1600" spc="-1" strike="noStrike">
              <a:solidFill>
                <a:srgbClr val="ffffff"/>
              </a:solidFill>
              <a:latin typeface="Times New Roman"/>
            </a:endParaRPr>
          </a:p>
        </p:txBody>
      </p:sp>
      <p:sp>
        <p:nvSpPr>
          <p:cNvPr id="255" name=""/>
          <p:cNvSpPr/>
          <p:nvPr/>
        </p:nvSpPr>
        <p:spPr>
          <a:xfrm>
            <a:off x="2855520" y="25700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256" name=""/>
          <p:cNvSpPr/>
          <p:nvPr/>
        </p:nvSpPr>
        <p:spPr>
          <a:xfrm>
            <a:off x="5951520" y="2558880"/>
            <a:ext cx="1461960" cy="3430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986440" y="2597040"/>
            <a:ext cx="1390680" cy="266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285240" y="25686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utput</a:t>
            </a:r>
            <a:endParaRPr b="0" lang="en-US" sz="1600" spc="-1" strike="noStrike">
              <a:solidFill>
                <a:srgbClr val="ffffff"/>
              </a:solidFill>
              <a:latin typeface="Times New Roman"/>
            </a:endParaRPr>
          </a:p>
        </p:txBody>
      </p:sp>
      <p:sp>
        <p:nvSpPr>
          <p:cNvPr id="259" name=""/>
          <p:cNvSpPr/>
          <p:nvPr/>
        </p:nvSpPr>
        <p:spPr>
          <a:xfrm>
            <a:off x="1444680" y="4289400"/>
            <a:ext cx="463320" cy="768240"/>
          </a:xfrm>
          <a:custGeom>
            <a:avLst/>
            <a:gdLst>
              <a:gd name="textAreaLeft" fmla="*/ 16920 w 463320"/>
              <a:gd name="textAreaRight" fmla="*/ 446400 w 463320"/>
              <a:gd name="textAreaTop" fmla="*/ 16920 h 768240"/>
              <a:gd name="textAreaBottom" fmla="*/ 751320 h 768240"/>
            </a:gdLst>
            <a:ahLst/>
            <a:rect l="textAreaLeft" t="textAreaTop" r="textAreaRight" b="textAreaBottom"/>
            <a:pathLst>
              <a:path w="21600" h="35804">
                <a:moveTo>
                  <a:pt x="2699" y="0"/>
                </a:moveTo>
                <a:arcTo wR="2699" hR="2699" stAng="16200000" swAng="-5400000"/>
                <a:lnTo>
                  <a:pt x="0" y="33105"/>
                </a:lnTo>
                <a:arcTo wR="2699" hR="2699" stAng="10800000" swAng="-5400000"/>
                <a:lnTo>
                  <a:pt x="18901" y="35804"/>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4731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5699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62" name=""/>
          <p:cNvSpPr/>
          <p:nvPr/>
        </p:nvSpPr>
        <p:spPr>
          <a:xfrm>
            <a:off x="1421640" y="44928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3" name=""/>
          <p:cNvSpPr/>
          <p:nvPr/>
        </p:nvSpPr>
        <p:spPr>
          <a:xfrm>
            <a:off x="194940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978200" y="4317840"/>
            <a:ext cx="406080" cy="711360"/>
          </a:xfrm>
          <a:custGeom>
            <a:avLst/>
            <a:gdLst>
              <a:gd name="textAreaLeft" fmla="*/ 14760 w 406080"/>
              <a:gd name="textAreaRight" fmla="*/ 391320 w 406080"/>
              <a:gd name="textAreaTop" fmla="*/ 14760 h 711360"/>
              <a:gd name="textAreaBottom" fmla="*/ 696600 h 711360"/>
            </a:gdLst>
            <a:ahLst/>
            <a:rect l="textAreaLeft" t="textAreaTop" r="textAreaRight" b="textAreaBottom"/>
            <a:pathLst>
              <a:path w="21600" h="37824">
                <a:moveTo>
                  <a:pt x="2699" y="0"/>
                </a:moveTo>
                <a:arcTo wR="2699" hR="2699" stAng="16200000" swAng="-5400000"/>
                <a:lnTo>
                  <a:pt x="0" y="35125"/>
                </a:lnTo>
                <a:arcTo wR="2699" hR="2699" stAng="10800000" swAng="-5400000"/>
                <a:lnTo>
                  <a:pt x="18901" y="37824"/>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926360" y="456876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66" name=""/>
          <p:cNvSpPr/>
          <p:nvPr/>
        </p:nvSpPr>
        <p:spPr>
          <a:xfrm>
            <a:off x="2454120" y="4289400"/>
            <a:ext cx="463680" cy="768240"/>
          </a:xfrm>
          <a:custGeom>
            <a:avLst/>
            <a:gdLst>
              <a:gd name="textAreaLeft" fmla="*/ 16920 w 463680"/>
              <a:gd name="textAreaRight" fmla="*/ 446760 w 463680"/>
              <a:gd name="textAreaTop" fmla="*/ 16920 h 768240"/>
              <a:gd name="textAreaBottom" fmla="*/ 751320 h 768240"/>
            </a:gdLst>
            <a:ahLst/>
            <a:rect l="textAreaLeft" t="textAreaTop" r="textAreaRight" b="textAreaBottom"/>
            <a:pathLst>
              <a:path w="21600" h="35777">
                <a:moveTo>
                  <a:pt x="2699" y="0"/>
                </a:moveTo>
                <a:arcTo wR="2699" hR="2699" stAng="16200000" swAng="-5400000"/>
                <a:lnTo>
                  <a:pt x="0" y="33078"/>
                </a:lnTo>
                <a:arcTo wR="2699" hR="2699" stAng="10800000" swAng="-5400000"/>
                <a:lnTo>
                  <a:pt x="18901" y="35777"/>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82920" y="4317840"/>
            <a:ext cx="406440" cy="711360"/>
          </a:xfrm>
          <a:custGeom>
            <a:avLst/>
            <a:gdLst>
              <a:gd name="textAreaLeft" fmla="*/ 14760 w 406440"/>
              <a:gd name="textAreaRight" fmla="*/ 391680 w 406440"/>
              <a:gd name="textAreaTop" fmla="*/ 14760 h 711360"/>
              <a:gd name="textAreaBottom" fmla="*/ 696600 h 711360"/>
            </a:gdLst>
            <a:ahLst/>
            <a:rect l="textAreaLeft" t="textAreaTop" r="textAreaRight" b="textAreaBottom"/>
            <a:pathLst>
              <a:path w="21600" h="37790">
                <a:moveTo>
                  <a:pt x="2699" y="0"/>
                </a:moveTo>
                <a:arcTo wR="2699" hR="2699" stAng="16200000" swAng="-5400000"/>
                <a:lnTo>
                  <a:pt x="0" y="35091"/>
                </a:lnTo>
                <a:arcTo wR="2699" hR="2699" stAng="10800000" swAng="-5400000"/>
                <a:lnTo>
                  <a:pt x="18901" y="37790"/>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409120" y="456876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69" name=""/>
          <p:cNvSpPr/>
          <p:nvPr/>
        </p:nvSpPr>
        <p:spPr>
          <a:xfrm>
            <a:off x="205884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70" name=""/>
          <p:cNvSpPr/>
          <p:nvPr/>
        </p:nvSpPr>
        <p:spPr>
          <a:xfrm>
            <a:off x="354024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686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76992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
        <p:nvSpPr>
          <p:cNvPr id="273" name=""/>
          <p:cNvSpPr/>
          <p:nvPr/>
        </p:nvSpPr>
        <p:spPr>
          <a:xfrm>
            <a:off x="3484800" y="4567320"/>
            <a:ext cx="585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up</a:t>
            </a:r>
            <a:endParaRPr b="0" lang="en-US" sz="1200" spc="-1" strike="noStrike">
              <a:solidFill>
                <a:srgbClr val="ffffff"/>
              </a:solidFill>
              <a:latin typeface="Times New Roman"/>
            </a:endParaRPr>
          </a:p>
        </p:txBody>
      </p:sp>
      <p:sp>
        <p:nvSpPr>
          <p:cNvPr id="274" name=""/>
          <p:cNvSpPr/>
          <p:nvPr/>
        </p:nvSpPr>
        <p:spPr>
          <a:xfrm>
            <a:off x="404496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07340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021920" y="4503600"/>
            <a:ext cx="482400" cy="4021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a:t>
            </a:r>
            <a:endParaRPr b="0" lang="en-US" sz="12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77" name=""/>
          <p:cNvSpPr/>
          <p:nvPr/>
        </p:nvSpPr>
        <p:spPr>
          <a:xfrm>
            <a:off x="4549680" y="429408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57848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523760" y="4567320"/>
            <a:ext cx="5158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t>
            </a:r>
            <a:endParaRPr b="0" lang="en-US" sz="1200" spc="-1" strike="noStrike">
              <a:solidFill>
                <a:srgbClr val="ffffff"/>
              </a:solidFill>
              <a:latin typeface="Times New Roman"/>
            </a:endParaRPr>
          </a:p>
        </p:txBody>
      </p:sp>
      <p:sp>
        <p:nvSpPr>
          <p:cNvPr id="280" name=""/>
          <p:cNvSpPr/>
          <p:nvPr/>
        </p:nvSpPr>
        <p:spPr>
          <a:xfrm>
            <a:off x="465948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 4</a:t>
            </a:r>
            <a:endParaRPr b="0" lang="en-US" sz="1000" spc="-1" strike="noStrike">
              <a:solidFill>
                <a:srgbClr val="ffffff"/>
              </a:solidFill>
              <a:latin typeface="Times New Roman"/>
            </a:endParaRPr>
          </a:p>
        </p:txBody>
      </p:sp>
      <p:sp>
        <p:nvSpPr>
          <p:cNvPr id="281" name=""/>
          <p:cNvSpPr/>
          <p:nvPr/>
        </p:nvSpPr>
        <p:spPr>
          <a:xfrm>
            <a:off x="5051520" y="4294080"/>
            <a:ext cx="463320" cy="768600"/>
          </a:xfrm>
          <a:custGeom>
            <a:avLst/>
            <a:gdLst>
              <a:gd name="textAreaLeft" fmla="*/ 16920 w 463320"/>
              <a:gd name="textAreaRight" fmla="*/ 446400 w 463320"/>
              <a:gd name="textAreaTop" fmla="*/ 16920 h 768600"/>
              <a:gd name="textAreaBottom" fmla="*/ 751680 h 768600"/>
            </a:gdLst>
            <a:ahLst/>
            <a:rect l="textAreaLeft" t="textAreaTop" r="textAreaRight" b="textAreaBottom"/>
            <a:pathLst>
              <a:path w="21600" h="35821">
                <a:moveTo>
                  <a:pt x="2699" y="0"/>
                </a:moveTo>
                <a:arcTo wR="2699" hR="2699" stAng="16200000" swAng="-5400000"/>
                <a:lnTo>
                  <a:pt x="0" y="33122"/>
                </a:lnTo>
                <a:arcTo wR="2699" hR="2699" stAng="10800000" swAng="-5400000"/>
                <a:lnTo>
                  <a:pt x="18901" y="35821"/>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079960" y="432288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019120" y="4560840"/>
            <a:ext cx="54936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a:t>
            </a:r>
            <a:endParaRPr b="0" lang="en-US" sz="1200" spc="-1" strike="noStrike">
              <a:solidFill>
                <a:srgbClr val="ffffff"/>
              </a:solidFill>
              <a:latin typeface="Times New Roman"/>
            </a:endParaRPr>
          </a:p>
        </p:txBody>
      </p:sp>
      <p:sp>
        <p:nvSpPr>
          <p:cNvPr id="284" name=""/>
          <p:cNvSpPr/>
          <p:nvPr/>
        </p:nvSpPr>
        <p:spPr>
          <a:xfrm>
            <a:off x="652464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553080" y="4324320"/>
            <a:ext cx="406440" cy="704880"/>
          </a:xfrm>
          <a:custGeom>
            <a:avLst/>
            <a:gdLst>
              <a:gd name="textAreaLeft" fmla="*/ 14760 w 406440"/>
              <a:gd name="textAreaRight" fmla="*/ 391680 w 406440"/>
              <a:gd name="textAreaTop" fmla="*/ 14760 h 704880"/>
              <a:gd name="textAreaBottom" fmla="*/ 690120 h 704880"/>
            </a:gdLst>
            <a:ahLst/>
            <a:rect l="textAreaLeft" t="textAreaTop" r="textAreaRight" b="textAreaBottom"/>
            <a:pathLst>
              <a:path w="21600" h="37446">
                <a:moveTo>
                  <a:pt x="2699" y="0"/>
                </a:moveTo>
                <a:arcTo wR="2699" hR="2699" stAng="16200000" swAng="-5400000"/>
                <a:lnTo>
                  <a:pt x="0" y="34747"/>
                </a:lnTo>
                <a:arcTo wR="2699" hR="2699" stAng="10800000" swAng="-5400000"/>
                <a:lnTo>
                  <a:pt x="18901" y="37446"/>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10960" y="4564080"/>
            <a:ext cx="49140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ph</a:t>
            </a:r>
            <a:endParaRPr b="0" lang="en-US" sz="1200" spc="-1" strike="noStrike">
              <a:solidFill>
                <a:srgbClr val="ffffff"/>
              </a:solidFill>
              <a:latin typeface="Times New Roman"/>
            </a:endParaRPr>
          </a:p>
        </p:txBody>
      </p:sp>
      <p:sp>
        <p:nvSpPr>
          <p:cNvPr id="287" name=""/>
          <p:cNvSpPr/>
          <p:nvPr/>
        </p:nvSpPr>
        <p:spPr>
          <a:xfrm>
            <a:off x="7026120" y="4290840"/>
            <a:ext cx="463680" cy="768600"/>
          </a:xfrm>
          <a:custGeom>
            <a:avLst/>
            <a:gdLst>
              <a:gd name="textAreaLeft" fmla="*/ 16920 w 463680"/>
              <a:gd name="textAreaRight" fmla="*/ 446760 w 463680"/>
              <a:gd name="textAreaTop" fmla="*/ 16920 h 768600"/>
              <a:gd name="textAreaBottom" fmla="*/ 751680 h 768600"/>
            </a:gdLst>
            <a:ahLst/>
            <a:rect l="textAreaLeft" t="textAreaTop" r="textAreaRight" b="textAreaBottom"/>
            <a:pathLst>
              <a:path w="21600" h="35793">
                <a:moveTo>
                  <a:pt x="2699" y="0"/>
                </a:moveTo>
                <a:arcTo wR="2699" hR="2699" stAng="16200000" swAng="-5400000"/>
                <a:lnTo>
                  <a:pt x="0" y="33094"/>
                </a:lnTo>
                <a:arcTo wR="2699" hR="2699" stAng="10800000" swAng="-5400000"/>
                <a:lnTo>
                  <a:pt x="18901" y="35793"/>
                </a:lnTo>
                <a:arcTo wR="2699" hR="2699" stAng="5400000" swAng="-5400000"/>
                <a:lnTo>
                  <a:pt x="21600" y="2699"/>
                </a:lnTo>
                <a:arcTo wR="2699" hR="2699" stAng="0" swAng="-5400000"/>
                <a:close/>
              </a:path>
            </a:pathLst>
          </a:cu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7054920" y="4319640"/>
            <a:ext cx="406440" cy="711000"/>
          </a:xfrm>
          <a:custGeom>
            <a:avLst/>
            <a:gdLst>
              <a:gd name="textAreaLeft" fmla="*/ 14760 w 406440"/>
              <a:gd name="textAreaRight" fmla="*/ 391680 w 406440"/>
              <a:gd name="textAreaTop" fmla="*/ 14760 h 711000"/>
              <a:gd name="textAreaBottom" fmla="*/ 696240 h 711000"/>
            </a:gdLst>
            <a:ahLst/>
            <a:rect l="textAreaLeft" t="textAreaTop" r="textAreaRight" b="textAreaBottom"/>
            <a:pathLst>
              <a:path w="21600" h="37771">
                <a:moveTo>
                  <a:pt x="2699" y="0"/>
                </a:moveTo>
                <a:arcTo wR="2699" hR="2699" stAng="16200000" swAng="-5400000"/>
                <a:lnTo>
                  <a:pt x="0" y="35072"/>
                </a:lnTo>
                <a:arcTo wR="2699" hR="2699" stAng="10800000" swAng="-5400000"/>
                <a:lnTo>
                  <a:pt x="18901" y="37771"/>
                </a:lnTo>
                <a:arcTo wR="2699" hR="2699" stAng="5400000" swAng="-5400000"/>
                <a:lnTo>
                  <a:pt x="21600" y="2699"/>
                </a:lnTo>
                <a:arcTo wR="2699" hR="2699" stAng="0" swAng="-5400000"/>
                <a:close/>
              </a:path>
            </a:pathLst>
          </a:cu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7082280" y="4557600"/>
            <a:ext cx="34668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h</a:t>
            </a:r>
            <a:endParaRPr b="0" lang="en-US" sz="1200" spc="-1" strike="noStrike">
              <a:solidFill>
                <a:srgbClr val="ffffff"/>
              </a:solidFill>
              <a:latin typeface="Times New Roman"/>
            </a:endParaRPr>
          </a:p>
        </p:txBody>
      </p:sp>
      <p:sp>
        <p:nvSpPr>
          <p:cNvPr id="290" name=""/>
          <p:cNvSpPr/>
          <p:nvPr/>
        </p:nvSpPr>
        <p:spPr>
          <a:xfrm>
            <a:off x="6070680" y="553572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250680" y="5511960"/>
            <a:ext cx="1564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phabetic shift</a:t>
            </a:r>
            <a:endParaRPr b="0" lang="en-US" sz="1600" spc="-1" strike="noStrike">
              <a:solidFill>
                <a:srgbClr val="ffffff"/>
              </a:solidFill>
              <a:latin typeface="Times New Roman"/>
            </a:endParaRPr>
          </a:p>
        </p:txBody>
      </p:sp>
      <p:sp>
        <p:nvSpPr>
          <p:cNvPr id="292" name=""/>
          <p:cNvSpPr/>
          <p:nvPr/>
        </p:nvSpPr>
        <p:spPr>
          <a:xfrm>
            <a:off x="3581280" y="553716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818880" y="5516640"/>
            <a:ext cx="1314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shift</a:t>
            </a:r>
            <a:endParaRPr b="0" lang="en-US" sz="1600" spc="-1" strike="noStrike">
              <a:solidFill>
                <a:srgbClr val="ffffff"/>
              </a:solidFill>
              <a:latin typeface="Times New Roman"/>
            </a:endParaRPr>
          </a:p>
        </p:txBody>
      </p:sp>
      <p:sp>
        <p:nvSpPr>
          <p:cNvPr id="294" name=""/>
          <p:cNvSpPr/>
          <p:nvPr/>
        </p:nvSpPr>
        <p:spPr>
          <a:xfrm>
            <a:off x="1219320" y="5543640"/>
            <a:ext cx="1879560" cy="279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622880" y="5522760"/>
            <a:ext cx="117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racters</a:t>
            </a:r>
            <a:endParaRPr b="0" lang="en-US" sz="1600" spc="-1" strike="noStrike">
              <a:solidFill>
                <a:srgbClr val="ffffff"/>
              </a:solidFill>
              <a:latin typeface="Times New Roman"/>
            </a:endParaRPr>
          </a:p>
        </p:txBody>
      </p:sp>
      <p:sp>
        <p:nvSpPr>
          <p:cNvPr id="296" name=""/>
          <p:cNvSpPr/>
          <p:nvPr/>
        </p:nvSpPr>
        <p:spPr>
          <a:xfrm flipH="1">
            <a:off x="3104640" y="2286000"/>
            <a:ext cx="1295640" cy="415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629240" y="2295360"/>
            <a:ext cx="1305000" cy="4636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3790440" y="2273400"/>
            <a:ext cx="723960" cy="1990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533840" y="2273400"/>
            <a:ext cx="2086200" cy="19810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666800" y="2916360"/>
            <a:ext cx="0" cy="1347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762200" y="2916360"/>
            <a:ext cx="0" cy="13478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162920" y="2916360"/>
            <a:ext cx="0" cy="1347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7257960" y="2916360"/>
            <a:ext cx="0" cy="13478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695600" y="506412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181240" y="5064120"/>
            <a:ext cx="0" cy="4856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676600" y="5073480"/>
            <a:ext cx="0" cy="48600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781520" y="5073480"/>
            <a:ext cx="0" cy="4622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5276880" y="5068800"/>
            <a:ext cx="0" cy="4669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81440" y="5064120"/>
            <a:ext cx="0" cy="471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276800" y="5059440"/>
            <a:ext cx="0" cy="48564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5068800"/>
            <a:ext cx="0" cy="46512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43880" y="5068800"/>
            <a:ext cx="0" cy="44316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171880" y="3768840"/>
            <a:ext cx="10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21765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2685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4784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4320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228760" y="3830760"/>
            <a:ext cx="1047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28140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286080" y="5659560"/>
            <a:ext cx="2714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2288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flipV="1">
            <a:off x="3228840" y="4702320"/>
            <a:ext cx="31464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323" name=""/>
          <p:cNvSpPr/>
          <p:nvPr/>
        </p:nvSpPr>
        <p:spPr>
          <a:xfrm>
            <a:off x="4286160" y="3768840"/>
            <a:ext cx="148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29084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809960" y="3770280"/>
            <a:ext cx="0" cy="488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324320" y="3844800"/>
            <a:ext cx="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4848120" y="3844800"/>
            <a:ext cx="0" cy="424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334040" y="3828960"/>
            <a:ext cx="1495440" cy="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29" name=""/>
          <p:cNvSpPr/>
          <p:nvPr/>
        </p:nvSpPr>
        <p:spPr>
          <a:xfrm>
            <a:off x="5829480" y="3840120"/>
            <a:ext cx="0" cy="182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29480" y="5659560"/>
            <a:ext cx="2188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772240" y="3770280"/>
            <a:ext cx="0" cy="9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5776920" y="4705200"/>
            <a:ext cx="728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120960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7467480" y="2733840"/>
            <a:ext cx="38124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28444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336" name=""/>
          <p:cNvSpPr/>
          <p:nvPr/>
        </p:nvSpPr>
        <p:spPr>
          <a:xfrm>
            <a:off x="6640560" y="4317840"/>
            <a:ext cx="395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4</a:t>
            </a:r>
            <a:endParaRPr b="0" lang="en-US" sz="1000" spc="-1" strike="noStrike">
              <a:solidFill>
                <a:srgbClr val="ffffff"/>
              </a:solidFill>
              <a:latin typeface="Times New Roman"/>
            </a:endParaRPr>
          </a:p>
        </p:txBody>
      </p:sp>
      <p:sp>
        <p:nvSpPr>
          <p:cNvPr id="337" name=""/>
          <p:cNvSpPr/>
          <p:nvPr/>
        </p:nvSpPr>
        <p:spPr>
          <a:xfrm>
            <a:off x="7239960" y="4317840"/>
            <a:ext cx="255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aluation of This Scenario Set</a:t>
            </a:r>
            <a:endParaRPr b="0" lang="en-US" sz="3600" spc="-1" strike="noStrike">
              <a:solidFill>
                <a:srgbClr val="ffffff"/>
              </a:solidFill>
              <a:latin typeface="Century Schoolbook"/>
            </a:endParaRPr>
          </a:p>
        </p:txBody>
      </p:sp>
      <p:sp>
        <p:nvSpPr>
          <p:cNvPr id="339" name="PlaceHolder 2"/>
          <p:cNvSpPr>
            <a:spLocks noGrp="1"/>
          </p:cNvSpPr>
          <p:nvPr>
            <p:ph/>
          </p:nvPr>
        </p:nvSpPr>
        <p:spPr>
          <a:xfrm>
            <a:off x="930240" y="1789200"/>
            <a:ext cx="6569280" cy="3728880"/>
          </a:xfrm>
          <a:prstGeom prst="rect">
            <a:avLst/>
          </a:prstGeom>
          <a:noFill/>
          <a:ln w="12600">
            <a:solidFill>
              <a:srgbClr val="ffffff"/>
            </a:solidFill>
            <a:miter/>
          </a:ln>
        </p:spPr>
        <p:txBody>
          <a:bodyPr lIns="0" rIns="0" tIns="0" bIns="0" anchor="t">
            <a:normAutofit/>
          </a:bodyPr>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hared</a:t>
            </a:r>
            <a:r>
              <a:rPr b="1" lang="en-US" sz="2000" spc="-1" strike="noStrike">
                <a:solidFill>
                  <a:srgbClr val="ffffff"/>
                </a:solidFill>
                <a:latin typeface="Arial"/>
              </a:rPr>
              <a:t>	</a:t>
            </a:r>
            <a:r>
              <a:rPr b="1" lang="en-US" sz="2000" spc="-1" strike="noStrike">
                <a:solidFill>
                  <a:srgbClr val="ffffff"/>
                </a:solidFill>
                <a:latin typeface="Arial"/>
              </a:rPr>
              <a:t>Abstract</a:t>
            </a:r>
            <a:endParaRPr b="1" lang="en-US" sz="2000" spc="-1" strike="noStrike">
              <a:solidFill>
                <a:srgbClr val="ffffff"/>
              </a:solidFill>
              <a:latin typeface="Arial"/>
            </a:endParaRPr>
          </a:p>
          <a:p>
            <a:pPr indent="0">
              <a:lnSpc>
                <a:spcPct val="95000"/>
              </a:lnSpc>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memory</a:t>
            </a:r>
            <a:r>
              <a:rPr b="1" lang="en-US" sz="2000" spc="-1" strike="noStrike">
                <a:solidFill>
                  <a:srgbClr val="ffffff"/>
                </a:solidFill>
                <a:latin typeface="Arial"/>
              </a:rPr>
              <a:t>	</a:t>
            </a:r>
            <a:r>
              <a:rPr b="1" lang="en-US" sz="2000" spc="-1" strike="noStrike">
                <a:solidFill>
                  <a:srgbClr val="ffffff"/>
                </a:solidFill>
                <a:latin typeface="Arial"/>
              </a:rPr>
              <a:t>data types</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1</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2</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0</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3</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cenario 4</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endParaRPr b="1" lang="en-US" sz="2000" spc="-1" strike="noStrike">
              <a:solidFill>
                <a:srgbClr val="ffffff"/>
              </a:solidFill>
              <a:latin typeface="Arial"/>
            </a:endParaRPr>
          </a:p>
          <a:p>
            <a:pPr indent="0">
              <a:buNone/>
              <a:tabLst>
                <a:tab algn="l" pos="0"/>
                <a:tab algn="l" pos="114480"/>
                <a:tab algn="l" pos="2743200"/>
                <a:tab algn="l" pos="3200400"/>
                <a:tab algn="l" pos="5029200"/>
                <a:tab algn="l" pos="560088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tention</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endParaRPr b="1" lang="en-US" sz="2000" spc="-1" strike="noStrike">
              <a:solidFill>
                <a:srgbClr val="ffffff"/>
              </a:solidFill>
              <a:latin typeface="Arial"/>
            </a:endParaRPr>
          </a:p>
        </p:txBody>
      </p:sp>
      <p:sp>
        <p:nvSpPr>
          <p:cNvPr id="340" name=""/>
          <p:cNvSpPr/>
          <p:nvPr/>
        </p:nvSpPr>
        <p:spPr>
          <a:xfrm>
            <a:off x="936720" y="2489040"/>
            <a:ext cx="656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997360" y="17906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473800" y="1778040"/>
            <a:ext cx="0" cy="373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29880" y="791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2:  SAAM Applied to Revision Control System</a:t>
            </a:r>
            <a:endParaRPr b="0" lang="en-US" sz="3600" spc="-1" strike="noStrike">
              <a:solidFill>
                <a:srgbClr val="ffffff"/>
              </a:solidFill>
              <a:latin typeface="Century Schoolbook"/>
            </a:endParaRPr>
          </a:p>
        </p:txBody>
      </p:sp>
      <p:sp>
        <p:nvSpPr>
          <p:cNvPr id="344" name="PlaceHolder 2"/>
          <p:cNvSpPr>
            <a:spLocks noGrp="1"/>
          </p:cNvSpPr>
          <p:nvPr>
            <p:ph/>
          </p:nvPr>
        </p:nvSpPr>
        <p:spPr>
          <a:xfrm>
            <a:off x="923400" y="2189160"/>
            <a:ext cx="7890120" cy="3906720"/>
          </a:xfrm>
          <a:prstGeom prst="rect">
            <a:avLst/>
          </a:prstGeom>
          <a:noFill/>
          <a:ln w="0">
            <a:noFill/>
          </a:ln>
        </p:spPr>
        <p:txBody>
          <a:bodyPr lIns="0" rIns="0" tIns="0" bIns="0" anchor="t">
            <a:normAutofit fontScale="96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RCS” is a large, commercially-available revision control system.</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ocumented system architecture existed prior to the evalu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urpose of the evaluation was to assess the impact of anticipated future change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iterations were required to develop a satisfactory representation, alternating between</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scenarios</a:t>
            </a:r>
            <a:endParaRPr b="1" lang="en-US" sz="2400" spc="-1" strike="noStrike">
              <a:solidFill>
                <a:srgbClr val="ffffff"/>
              </a:solidFill>
              <a:latin typeface="Arial"/>
            </a:endParaRPr>
          </a:p>
          <a:p>
            <a:pPr lvl="1" marL="324360" indent="-214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on of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al Representation of WRCS</a:t>
            </a:r>
            <a:endParaRPr b="0" lang="en-US" sz="3200" spc="-1" strike="noStrike">
              <a:solidFill>
                <a:srgbClr val="ffffff"/>
              </a:solidFill>
              <a:latin typeface="Century Schoolbook"/>
            </a:endParaRPr>
          </a:p>
        </p:txBody>
      </p:sp>
      <p:sp>
        <p:nvSpPr>
          <p:cNvPr id="346" name=""/>
          <p:cNvSpPr/>
          <p:nvPr/>
        </p:nvSpPr>
        <p:spPr>
          <a:xfrm>
            <a:off x="2116080" y="17542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170800" y="1789200"/>
            <a:ext cx="575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348" name=""/>
          <p:cNvSpPr/>
          <p:nvPr/>
        </p:nvSpPr>
        <p:spPr>
          <a:xfrm>
            <a:off x="2149560" y="179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037120" y="186840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157720" y="1903320"/>
            <a:ext cx="464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351" name=""/>
          <p:cNvSpPr/>
          <p:nvPr/>
        </p:nvSpPr>
        <p:spPr>
          <a:xfrm>
            <a:off x="5073480" y="190512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554880" y="16527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636600" y="168768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31</a:t>
            </a:r>
            <a:endParaRPr b="0" lang="en-US" sz="1200" spc="-1" strike="noStrike">
              <a:solidFill>
                <a:srgbClr val="ffffff"/>
              </a:solidFill>
              <a:latin typeface="Times New Roman"/>
            </a:endParaRPr>
          </a:p>
        </p:txBody>
      </p:sp>
      <p:sp>
        <p:nvSpPr>
          <p:cNvPr id="354" name=""/>
          <p:cNvSpPr/>
          <p:nvPr/>
        </p:nvSpPr>
        <p:spPr>
          <a:xfrm>
            <a:off x="6591240" y="16891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554880" y="26179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636960" y="2652840"/>
            <a:ext cx="53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WL</a:t>
            </a:r>
            <a:endParaRPr b="0" lang="en-US" sz="1200" spc="-1" strike="noStrike">
              <a:solidFill>
                <a:srgbClr val="ffffff"/>
              </a:solidFill>
              <a:latin typeface="Times New Roman"/>
            </a:endParaRPr>
          </a:p>
        </p:txBody>
      </p:sp>
      <p:sp>
        <p:nvSpPr>
          <p:cNvPr id="357" name=""/>
          <p:cNvSpPr/>
          <p:nvPr/>
        </p:nvSpPr>
        <p:spPr>
          <a:xfrm>
            <a:off x="6591240" y="26542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381640" y="26240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5415120" y="266076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444640" y="265572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mext</a:t>
            </a:r>
            <a:endParaRPr b="0" lang="en-US" sz="1200" spc="-1" strike="noStrike">
              <a:solidFill>
                <a:srgbClr val="ffffff"/>
              </a:solidFill>
              <a:latin typeface="Times New Roman"/>
            </a:endParaRPr>
          </a:p>
        </p:txBody>
      </p:sp>
      <p:sp>
        <p:nvSpPr>
          <p:cNvPr id="361" name=""/>
          <p:cNvSpPr/>
          <p:nvPr/>
        </p:nvSpPr>
        <p:spPr>
          <a:xfrm>
            <a:off x="5381640" y="30430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5443920" y="3084480"/>
            <a:ext cx="559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ntext</a:t>
            </a:r>
            <a:endParaRPr b="0" lang="en-US" sz="1200" spc="-1" strike="noStrike">
              <a:solidFill>
                <a:srgbClr val="ffffff"/>
              </a:solidFill>
              <a:latin typeface="Times New Roman"/>
            </a:endParaRPr>
          </a:p>
        </p:txBody>
      </p:sp>
      <p:sp>
        <p:nvSpPr>
          <p:cNvPr id="363" name=""/>
          <p:cNvSpPr/>
          <p:nvPr/>
        </p:nvSpPr>
        <p:spPr>
          <a:xfrm>
            <a:off x="5415120" y="3079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919680" y="282744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002840" y="2862360"/>
            <a:ext cx="515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a:t>
            </a:r>
            <a:endParaRPr b="0" lang="en-US" sz="1200" spc="-1" strike="noStrike">
              <a:solidFill>
                <a:srgbClr val="ffffff"/>
              </a:solidFill>
              <a:latin typeface="Times New Roman"/>
            </a:endParaRPr>
          </a:p>
        </p:txBody>
      </p:sp>
      <p:sp>
        <p:nvSpPr>
          <p:cNvPr id="366" name=""/>
          <p:cNvSpPr/>
          <p:nvPr/>
        </p:nvSpPr>
        <p:spPr>
          <a:xfrm>
            <a:off x="3952800" y="28638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281480" y="35002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338000" y="3535200"/>
            <a:ext cx="584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ort</a:t>
            </a:r>
            <a:endParaRPr b="0" lang="en-US" sz="1200" spc="-1" strike="noStrike">
              <a:solidFill>
                <a:srgbClr val="ffffff"/>
              </a:solidFill>
              <a:latin typeface="Times New Roman"/>
            </a:endParaRPr>
          </a:p>
        </p:txBody>
      </p:sp>
      <p:sp>
        <p:nvSpPr>
          <p:cNvPr id="369" name=""/>
          <p:cNvSpPr/>
          <p:nvPr/>
        </p:nvSpPr>
        <p:spPr>
          <a:xfrm>
            <a:off x="4321080" y="353700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19680" y="43768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012920" y="4411800"/>
            <a:ext cx="4975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cs</a:t>
            </a:r>
            <a:endParaRPr b="0" lang="en-US" sz="1200" spc="-1" strike="noStrike">
              <a:solidFill>
                <a:srgbClr val="ffffff"/>
              </a:solidFill>
              <a:latin typeface="Times New Roman"/>
            </a:endParaRPr>
          </a:p>
        </p:txBody>
      </p:sp>
      <p:sp>
        <p:nvSpPr>
          <p:cNvPr id="372" name=""/>
          <p:cNvSpPr/>
          <p:nvPr/>
        </p:nvSpPr>
        <p:spPr>
          <a:xfrm>
            <a:off x="3952800" y="44132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164200" y="436392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5247000" y="4398840"/>
            <a:ext cx="517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ok</a:t>
            </a:r>
            <a:endParaRPr b="0" lang="en-US" sz="1200" spc="-1" strike="noStrike">
              <a:solidFill>
                <a:srgbClr val="ffffff"/>
              </a:solidFill>
              <a:latin typeface="Times New Roman"/>
            </a:endParaRPr>
          </a:p>
        </p:txBody>
      </p:sp>
      <p:sp>
        <p:nvSpPr>
          <p:cNvPr id="375" name=""/>
          <p:cNvSpPr/>
          <p:nvPr/>
        </p:nvSpPr>
        <p:spPr>
          <a:xfrm>
            <a:off x="5197320" y="44006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551640" y="400860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618600" y="404352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ext</a:t>
            </a:r>
            <a:endParaRPr b="0" lang="en-US" sz="1200" spc="-1" strike="noStrike">
              <a:solidFill>
                <a:srgbClr val="ffffff"/>
              </a:solidFill>
              <a:latin typeface="Times New Roman"/>
            </a:endParaRPr>
          </a:p>
        </p:txBody>
      </p:sp>
      <p:sp>
        <p:nvSpPr>
          <p:cNvPr id="378" name=""/>
          <p:cNvSpPr/>
          <p:nvPr/>
        </p:nvSpPr>
        <p:spPr>
          <a:xfrm>
            <a:off x="6585120" y="4044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551640" y="4421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597000" y="4456080"/>
            <a:ext cx="591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ext</a:t>
            </a:r>
            <a:endParaRPr b="0" lang="en-US" sz="1200" spc="-1" strike="noStrike">
              <a:solidFill>
                <a:srgbClr val="ffffff"/>
              </a:solidFill>
              <a:latin typeface="Times New Roman"/>
            </a:endParaRPr>
          </a:p>
        </p:txBody>
      </p:sp>
      <p:sp>
        <p:nvSpPr>
          <p:cNvPr id="381" name=""/>
          <p:cNvSpPr/>
          <p:nvPr/>
        </p:nvSpPr>
        <p:spPr>
          <a:xfrm>
            <a:off x="6585120" y="4457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551640" y="483408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618600" y="4869000"/>
            <a:ext cx="550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bext</a:t>
            </a:r>
            <a:endParaRPr b="0" lang="en-US" sz="1200" spc="-1" strike="noStrike">
              <a:solidFill>
                <a:srgbClr val="ffffff"/>
              </a:solidFill>
              <a:latin typeface="Times New Roman"/>
            </a:endParaRPr>
          </a:p>
        </p:txBody>
      </p:sp>
      <p:sp>
        <p:nvSpPr>
          <p:cNvPr id="384" name=""/>
          <p:cNvSpPr/>
          <p:nvPr/>
        </p:nvSpPr>
        <p:spPr>
          <a:xfrm>
            <a:off x="6585120" y="487044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370240" y="36655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337840" y="3700440"/>
            <a:ext cx="786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vcs2rcs</a:t>
            </a:r>
            <a:endParaRPr b="0" lang="en-US" sz="1200" spc="-1" strike="noStrike">
              <a:solidFill>
                <a:srgbClr val="ffffff"/>
              </a:solidFill>
              <a:latin typeface="Times New Roman"/>
            </a:endParaRPr>
          </a:p>
        </p:txBody>
      </p:sp>
      <p:sp>
        <p:nvSpPr>
          <p:cNvPr id="387" name=""/>
          <p:cNvSpPr/>
          <p:nvPr/>
        </p:nvSpPr>
        <p:spPr>
          <a:xfrm>
            <a:off x="2406600" y="37018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2363760" y="406548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2305800" y="4100400"/>
            <a:ext cx="77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cs2rcs</a:t>
            </a:r>
            <a:endParaRPr b="0" lang="en-US" sz="1200" spc="-1" strike="noStrike">
              <a:solidFill>
                <a:srgbClr val="ffffff"/>
              </a:solidFill>
              <a:latin typeface="Times New Roman"/>
            </a:endParaRPr>
          </a:p>
        </p:txBody>
      </p:sp>
      <p:sp>
        <p:nvSpPr>
          <p:cNvPr id="390" name=""/>
          <p:cNvSpPr/>
          <p:nvPr/>
        </p:nvSpPr>
        <p:spPr>
          <a:xfrm>
            <a:off x="2400480" y="4102200"/>
            <a:ext cx="61560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2111400" y="282564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2159280" y="2862360"/>
            <a:ext cx="864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arn200</a:t>
            </a:r>
            <a:endParaRPr b="0" lang="en-US" sz="1200" spc="-1" strike="noStrike">
              <a:solidFill>
                <a:srgbClr val="ffffff"/>
              </a:solidFill>
              <a:latin typeface="Times New Roman"/>
            </a:endParaRPr>
          </a:p>
        </p:txBody>
      </p:sp>
      <p:sp>
        <p:nvSpPr>
          <p:cNvPr id="393" name=""/>
          <p:cNvSpPr/>
          <p:nvPr/>
        </p:nvSpPr>
        <p:spPr>
          <a:xfrm>
            <a:off x="2111400" y="3232080"/>
            <a:ext cx="958680" cy="35568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312640" y="3268800"/>
            <a:ext cx="558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a:t>
            </a:r>
            <a:endParaRPr b="0" lang="en-US" sz="1200" spc="-1" strike="noStrike">
              <a:solidFill>
                <a:srgbClr val="ffffff"/>
              </a:solidFill>
              <a:latin typeface="Times New Roman"/>
            </a:endParaRPr>
          </a:p>
        </p:txBody>
      </p:sp>
      <p:sp>
        <p:nvSpPr>
          <p:cNvPr id="395" name=""/>
          <p:cNvSpPr/>
          <p:nvPr/>
        </p:nvSpPr>
        <p:spPr>
          <a:xfrm>
            <a:off x="2109960" y="23385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274120" y="237348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397" name=""/>
          <p:cNvSpPr/>
          <p:nvPr/>
        </p:nvSpPr>
        <p:spPr>
          <a:xfrm>
            <a:off x="2146320" y="23749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363760" y="526572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510640" y="5300640"/>
            <a:ext cx="389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a:t>
            </a:r>
            <a:endParaRPr b="0" lang="en-US" sz="1200" spc="-1" strike="noStrike">
              <a:solidFill>
                <a:srgbClr val="ffffff"/>
              </a:solidFill>
              <a:latin typeface="Times New Roman"/>
            </a:endParaRPr>
          </a:p>
        </p:txBody>
      </p:sp>
      <p:sp>
        <p:nvSpPr>
          <p:cNvPr id="400" name=""/>
          <p:cNvSpPr/>
          <p:nvPr/>
        </p:nvSpPr>
        <p:spPr>
          <a:xfrm>
            <a:off x="2397240" y="530208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363760" y="5672160"/>
            <a:ext cx="68256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2408400" y="5707080"/>
            <a:ext cx="593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diff</a:t>
            </a:r>
            <a:endParaRPr b="0" lang="en-US" sz="1200" spc="-1" strike="noStrike">
              <a:solidFill>
                <a:srgbClr val="ffffff"/>
              </a:solidFill>
              <a:latin typeface="Times New Roman"/>
            </a:endParaRPr>
          </a:p>
        </p:txBody>
      </p:sp>
      <p:sp>
        <p:nvSpPr>
          <p:cNvPr id="403" name=""/>
          <p:cNvSpPr/>
          <p:nvPr/>
        </p:nvSpPr>
        <p:spPr>
          <a:xfrm>
            <a:off x="23972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195880" y="525924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5195520" y="5294160"/>
            <a:ext cx="685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calls</a:t>
            </a:r>
            <a:endParaRPr b="0" lang="en-US" sz="1200" spc="-1" strike="noStrike">
              <a:solidFill>
                <a:srgbClr val="ffffff"/>
              </a:solidFill>
              <a:latin typeface="Times New Roman"/>
            </a:endParaRPr>
          </a:p>
        </p:txBody>
      </p:sp>
      <p:sp>
        <p:nvSpPr>
          <p:cNvPr id="406" name=""/>
          <p:cNvSpPr/>
          <p:nvPr/>
        </p:nvSpPr>
        <p:spPr>
          <a:xfrm>
            <a:off x="5229360" y="529596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5170320" y="5672160"/>
            <a:ext cx="682920" cy="35388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5125320" y="5713560"/>
            <a:ext cx="812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spxipx</a:t>
            </a:r>
            <a:endParaRPr b="0" lang="en-US" sz="1200" spc="-1" strike="noStrike">
              <a:solidFill>
                <a:srgbClr val="ffffff"/>
              </a:solidFill>
              <a:latin typeface="Times New Roman"/>
            </a:endParaRPr>
          </a:p>
        </p:txBody>
      </p:sp>
      <p:sp>
        <p:nvSpPr>
          <p:cNvPr id="409" name=""/>
          <p:cNvSpPr/>
          <p:nvPr/>
        </p:nvSpPr>
        <p:spPr>
          <a:xfrm>
            <a:off x="5207040" y="5708520"/>
            <a:ext cx="615960" cy="285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6548400" y="5456160"/>
            <a:ext cx="682560" cy="3542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577920" y="5491080"/>
            <a:ext cx="6253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wnim</a:t>
            </a:r>
            <a:endParaRPr b="0" lang="en-US" sz="1200" spc="-1" strike="noStrike">
              <a:solidFill>
                <a:srgbClr val="ffffff"/>
              </a:solidFill>
              <a:latin typeface="Times New Roman"/>
            </a:endParaRPr>
          </a:p>
        </p:txBody>
      </p:sp>
      <p:sp>
        <p:nvSpPr>
          <p:cNvPr id="412" name=""/>
          <p:cNvSpPr/>
          <p:nvPr/>
        </p:nvSpPr>
        <p:spPr>
          <a:xfrm>
            <a:off x="6581880" y="5492880"/>
            <a:ext cx="615960" cy="2854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2152440" y="38289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152800" y="3828960"/>
            <a:ext cx="0" cy="19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158920" y="5823000"/>
            <a:ext cx="18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165400" y="5448240"/>
            <a:ext cx="183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V="1">
            <a:off x="2181240" y="38606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171880" y="5435640"/>
            <a:ext cx="107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181240" y="5800680"/>
            <a:ext cx="101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2165400" y="3835440"/>
            <a:ext cx="190440" cy="6480"/>
          </a:xfrm>
          <a:prstGeom prst="line">
            <a:avLst/>
          </a:prstGeom>
          <a:ln w="12600">
            <a:solidFill>
              <a:srgbClr val="ffffff"/>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21" name=""/>
          <p:cNvSpPr/>
          <p:nvPr/>
        </p:nvSpPr>
        <p:spPr>
          <a:xfrm>
            <a:off x="3073320" y="5448240"/>
            <a:ext cx="9273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flipV="1">
            <a:off x="4000680" y="4737240"/>
            <a:ext cx="0" cy="70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143160" y="5435640"/>
            <a:ext cx="831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3987720" y="4743000"/>
            <a:ext cx="0" cy="69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079800" y="5854680"/>
            <a:ext cx="104760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162240" y="5842080"/>
            <a:ext cx="952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V="1">
            <a:off x="4127400" y="4737240"/>
            <a:ext cx="0" cy="11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4114800" y="4730760"/>
            <a:ext cx="0" cy="1117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216320" y="474336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4216320" y="4774680"/>
            <a:ext cx="0" cy="1078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330800" y="4743360"/>
            <a:ext cx="0" cy="70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343400" y="4756320"/>
            <a:ext cx="0" cy="691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222800" y="5853240"/>
            <a:ext cx="939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4216320" y="5834160"/>
            <a:ext cx="882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229280" y="4749840"/>
            <a:ext cx="0" cy="1103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330800" y="5446800"/>
            <a:ext cx="831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4343400" y="5427720"/>
            <a:ext cx="730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5889600" y="5446800"/>
            <a:ext cx="206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5873760" y="585468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6102360" y="5708520"/>
            <a:ext cx="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102360" y="5708520"/>
            <a:ext cx="431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880240" y="5446800"/>
            <a:ext cx="22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102360" y="5446800"/>
            <a:ext cx="0" cy="1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095880" y="5600880"/>
            <a:ext cx="438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886360" y="5432400"/>
            <a:ext cx="222480" cy="324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46" name=""/>
          <p:cNvSpPr/>
          <p:nvPr/>
        </p:nvSpPr>
        <p:spPr>
          <a:xfrm>
            <a:off x="6114960" y="543564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114960" y="558792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861160" y="5867280"/>
            <a:ext cx="241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114960" y="5715000"/>
            <a:ext cx="0" cy="133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114960" y="5721480"/>
            <a:ext cx="3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H="1">
            <a:off x="6111720" y="4991040"/>
            <a:ext cx="4320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6118200" y="4679640"/>
            <a:ext cx="0" cy="3049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H="1">
            <a:off x="5873760" y="4683240"/>
            <a:ext cx="247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5965920" y="4670280"/>
            <a:ext cx="1648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130800" y="4667400"/>
            <a:ext cx="0" cy="32040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146640" y="4978440"/>
            <a:ext cx="374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5870520" y="4556160"/>
            <a:ext cx="6667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5940000" y="4543560"/>
            <a:ext cx="59076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877000" y="4425840"/>
            <a:ext cx="46332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6340320" y="4162320"/>
            <a:ext cx="0" cy="26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340320" y="4165560"/>
            <a:ext cx="20016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5962680" y="4413240"/>
            <a:ext cx="365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6327720" y="4146120"/>
            <a:ext cx="0" cy="27324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330960" y="4152960"/>
            <a:ext cx="2192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V="1">
            <a:off x="5508720" y="390816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05480" y="3905280"/>
            <a:ext cx="139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5521320" y="3920760"/>
            <a:ext cx="0" cy="431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5521320" y="3921120"/>
            <a:ext cx="1403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flipV="1">
            <a:off x="6896160" y="2984040"/>
            <a:ext cx="0" cy="917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6908760" y="3060720"/>
            <a:ext cx="0" cy="84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626000" y="3108240"/>
            <a:ext cx="749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699080" y="309564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619520" y="2898720"/>
            <a:ext cx="74952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4692600" y="2886120"/>
            <a:ext cx="59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4508640" y="238140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508640" y="238752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794640" y="2387520"/>
            <a:ext cx="0" cy="219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4495680" y="2371320"/>
            <a:ext cx="0" cy="4446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498920" y="2374920"/>
            <a:ext cx="2295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807240" y="2374920"/>
            <a:ext cx="0" cy="152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6997680" y="2022480"/>
            <a:ext cx="0" cy="58104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7010280" y="2111400"/>
            <a:ext cx="0" cy="495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V="1">
            <a:off x="4400640" y="2273040"/>
            <a:ext cx="0" cy="54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4403880" y="2282760"/>
            <a:ext cx="24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V="1">
            <a:off x="6807240" y="2013120"/>
            <a:ext cx="0" cy="266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V="1">
            <a:off x="4387680" y="2260080"/>
            <a:ext cx="0" cy="559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400640" y="2270160"/>
            <a:ext cx="2400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V="1">
            <a:off x="6794640" y="2101680"/>
            <a:ext cx="0" cy="174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4245120" y="2111040"/>
            <a:ext cx="0" cy="70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241880" y="2111400"/>
            <a:ext cx="78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4232160" y="2098440"/>
            <a:ext cx="0" cy="7110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235400" y="209880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219560" y="3191040"/>
            <a:ext cx="0" cy="11761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533840" y="3867120"/>
            <a:ext cx="0" cy="500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230720" y="3214800"/>
            <a:ext cx="0" cy="1095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545000" y="3191040"/>
            <a:ext cx="0" cy="242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548240" y="3890880"/>
            <a:ext cx="0" cy="409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533840" y="3191040"/>
            <a:ext cx="0" cy="299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133880" y="3191040"/>
            <a:ext cx="0" cy="10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a:off x="3067200" y="4253040"/>
            <a:ext cx="1071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a:off x="3081240" y="3833640"/>
            <a:ext cx="97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a:off x="3086280" y="3429000"/>
            <a:ext cx="914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3076560" y="3019320"/>
            <a:ext cx="8431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4061880" y="3181320"/>
            <a:ext cx="1800" cy="65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4000680" y="31878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3986280" y="3186000"/>
            <a:ext cx="0" cy="23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054320" y="3186000"/>
            <a:ext cx="0" cy="63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4122720" y="3191040"/>
            <a:ext cx="0" cy="10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3157560" y="3005280"/>
            <a:ext cx="762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3157560" y="3819600"/>
            <a:ext cx="900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3166920" y="3414600"/>
            <a:ext cx="824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157560" y="4238640"/>
            <a:ext cx="96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4114800" y="2048040"/>
            <a:ext cx="0" cy="77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0" y="2033640"/>
            <a:ext cx="0" cy="67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814480" y="1819440"/>
            <a:ext cx="3719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2814480" y="1805040"/>
            <a:ext cx="3643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a:off x="5715000" y="1943280"/>
            <a:ext cx="8143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734080" y="1928880"/>
            <a:ext cx="72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809800" y="1933560"/>
            <a:ext cx="2210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H="1">
            <a:off x="2819520" y="2038320"/>
            <a:ext cx="13046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813040" y="1917720"/>
            <a:ext cx="2133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a:off x="2908080" y="2025720"/>
            <a:ext cx="12063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432160" y="2114640"/>
            <a:ext cx="0" cy="215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444760" y="2117880"/>
            <a:ext cx="0" cy="145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610160" y="4552920"/>
            <a:ext cx="552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H="1">
            <a:off x="4692600" y="4540320"/>
            <a:ext cx="457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 Used in WRCS</a:t>
            </a:r>
            <a:endParaRPr b="0" lang="en-US" sz="3600" spc="-1" strike="noStrike">
              <a:solidFill>
                <a:srgbClr val="ffffff"/>
              </a:solidFill>
              <a:latin typeface="Century Schoolbook"/>
            </a:endParaRPr>
          </a:p>
        </p:txBody>
      </p:sp>
      <p:sp>
        <p:nvSpPr>
          <p:cNvPr id="5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Classification</a:t>
            </a:r>
            <a:endParaRPr b="0" lang="en-US" sz="3600" spc="-1" strike="noStrike">
              <a:solidFill>
                <a:srgbClr val="ffffff"/>
              </a:solidFill>
              <a:latin typeface="Century Schoolbook"/>
            </a:endParaRPr>
          </a:p>
        </p:txBody>
      </p:sp>
      <p:sp>
        <p:nvSpPr>
          <p:cNvPr id="530" name="PlaceHolder 2"/>
          <p:cNvSpPr>
            <a:spLocks noGrp="1"/>
          </p:cNvSpPr>
          <p:nvPr>
            <p:ph/>
          </p:nvPr>
        </p:nvSpPr>
        <p:spPr>
          <a:xfrm>
            <a:off x="923760" y="1782720"/>
            <a:ext cx="768672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scenario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 binary file representations: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the product’s toolbar: 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 to another operating system: in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minor modifications to the user interface: indirect</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nistrato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ccess permissions for a project: direc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with a new development environment: indir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2265480"/>
            <a:ext cx="7610400" cy="410976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system qualities early in the life cycle</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r a comparison of architectural option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build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s the earliest artifact where trade-offs are visibl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should be done when deciding on architectur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ality is that analysis is often done during damage control, later in the projec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s</a:t>
            </a:r>
            <a:endParaRPr b="0" lang="en-US" sz="3600" spc="-1" strike="noStrike">
              <a:solidFill>
                <a:srgbClr val="ffffff"/>
              </a:solidFill>
              <a:latin typeface="Century Schoolbook"/>
            </a:endParaRPr>
          </a:p>
        </p:txBody>
      </p:sp>
      <p:sp>
        <p:nvSpPr>
          <p:cNvPr id="5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ndirect scenario necessitated a change in some modules.  This can be represented either tabularly or visual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ber of scenarios that affected each module can be shown with a table or graphically, with a fish-eye 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ish-eye view uses size to represent areas of interes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 Interaction Table</a:t>
            </a:r>
            <a:endParaRPr b="0" lang="en-US" sz="3600" spc="-1" strike="noStrike">
              <a:solidFill>
                <a:srgbClr val="ffffff"/>
              </a:solidFill>
              <a:latin typeface="Century Schoolbook"/>
            </a:endParaRPr>
          </a:p>
        </p:txBody>
      </p:sp>
      <p:sp>
        <p:nvSpPr>
          <p:cNvPr id="534" name="PlaceHolder 2"/>
          <p:cNvSpPr>
            <a:spLocks noGrp="1"/>
          </p:cNvSpPr>
          <p:nvPr>
            <p:ph/>
          </p:nvPr>
        </p:nvSpPr>
        <p:spPr>
          <a:xfrm>
            <a:off x="923400" y="1731960"/>
            <a:ext cx="7301160" cy="4456080"/>
          </a:xfrm>
          <a:prstGeom prst="rect">
            <a:avLst/>
          </a:prstGeom>
          <a:noFill/>
          <a:ln w="0">
            <a:noFill/>
          </a:ln>
        </p:spPr>
        <p:txBody>
          <a:bodyPr lIns="0" rIns="0" tIns="0" bIns="0" anchor="t">
            <a:normAutofit fontScale="96000"/>
          </a:bodyPr>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ule</a:t>
            </a:r>
            <a:r>
              <a:rPr b="1" lang="en-US" sz="2400" spc="-1" strike="noStrike">
                <a:solidFill>
                  <a:srgbClr val="ffffff"/>
                </a:solidFill>
                <a:latin typeface="Arial"/>
              </a:rPr>
              <a:t>	</a:t>
            </a:r>
            <a:r>
              <a:rPr b="1" lang="en-US" sz="2400" spc="-1" strike="noStrike">
                <a:solidFill>
                  <a:srgbClr val="ffffff"/>
                </a:solidFill>
                <a:latin typeface="Arial"/>
              </a:rPr>
              <a:t>No. changes</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7</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n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cs2rc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cal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spxipx</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wnl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ok</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dif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a:t>
            </a:r>
            <a:endParaRPr b="1" lang="en-US" sz="2400" spc="-1" strike="noStrike">
              <a:solidFill>
                <a:srgbClr val="ffffff"/>
              </a:solidFill>
              <a:latin typeface="Arial"/>
            </a:endParaRPr>
          </a:p>
          <a:p>
            <a:pPr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rl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a:t>
            </a:r>
            <a:endParaRPr b="1" lang="en-US" sz="2400" spc="-1" strike="noStrike">
              <a:solidFill>
                <a:srgbClr val="ffffff"/>
              </a:solidFill>
              <a:latin typeface="Arial"/>
            </a:endParaRPr>
          </a:p>
        </p:txBody>
      </p:sp>
      <p:sp>
        <p:nvSpPr>
          <p:cNvPr id="535" name=""/>
          <p:cNvSpPr/>
          <p:nvPr/>
        </p:nvSpPr>
        <p:spPr>
          <a:xfrm>
            <a:off x="952560" y="2035080"/>
            <a:ext cx="10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572000" y="2035080"/>
            <a:ext cx="184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cenario Interaction Fish-Eye</a:t>
            </a:r>
            <a:endParaRPr b="0" lang="en-US" sz="3200" spc="-1" strike="noStrike">
              <a:solidFill>
                <a:srgbClr val="ffffff"/>
              </a:solidFill>
              <a:latin typeface="Century Schoolbook"/>
            </a:endParaRPr>
          </a:p>
        </p:txBody>
      </p:sp>
      <p:grpSp>
        <p:nvGrpSpPr>
          <p:cNvPr id="538" name=""/>
          <p:cNvGrpSpPr/>
          <p:nvPr/>
        </p:nvGrpSpPr>
        <p:grpSpPr>
          <a:xfrm>
            <a:off x="1066680" y="1676520"/>
            <a:ext cx="1057320" cy="490320"/>
            <a:chOff x="1066680" y="1676520"/>
            <a:chExt cx="1057320" cy="490320"/>
          </a:xfrm>
        </p:grpSpPr>
        <p:sp>
          <p:nvSpPr>
            <p:cNvPr id="539" name=""/>
            <p:cNvSpPr/>
            <p:nvPr/>
          </p:nvSpPr>
          <p:spPr>
            <a:xfrm>
              <a:off x="1066680" y="1676520"/>
              <a:ext cx="1057320" cy="4903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148400" y="1774800"/>
              <a:ext cx="762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visdiff</a:t>
              </a:r>
              <a:endParaRPr b="0" lang="en-US" sz="1200" spc="-1" strike="noStrike">
                <a:solidFill>
                  <a:srgbClr val="ffffff"/>
                </a:solidFill>
                <a:latin typeface="Times New Roman"/>
              </a:endParaRPr>
            </a:p>
          </p:txBody>
        </p:sp>
        <p:sp>
          <p:nvSpPr>
            <p:cNvPr id="541" name=""/>
            <p:cNvSpPr/>
            <p:nvPr/>
          </p:nvSpPr>
          <p:spPr>
            <a:xfrm>
              <a:off x="1112760" y="1719360"/>
              <a:ext cx="963720" cy="401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2" name=""/>
          <p:cNvGrpSpPr/>
          <p:nvPr/>
        </p:nvGrpSpPr>
        <p:grpSpPr>
          <a:xfrm>
            <a:off x="4648320" y="1854360"/>
            <a:ext cx="844560" cy="365040"/>
            <a:chOff x="4648320" y="1854360"/>
            <a:chExt cx="844560" cy="365040"/>
          </a:xfrm>
        </p:grpSpPr>
        <p:sp>
          <p:nvSpPr>
            <p:cNvPr id="543" name=""/>
            <p:cNvSpPr/>
            <p:nvPr/>
          </p:nvSpPr>
          <p:spPr>
            <a:xfrm>
              <a:off x="4648320" y="1854360"/>
              <a:ext cx="844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4761720" y="1895400"/>
              <a:ext cx="507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trls</a:t>
              </a:r>
              <a:endParaRPr b="0" lang="en-US" sz="1200" spc="-1" strike="noStrike">
                <a:solidFill>
                  <a:srgbClr val="ffffff"/>
                </a:solidFill>
                <a:latin typeface="Times New Roman"/>
              </a:endParaRPr>
            </a:p>
          </p:txBody>
        </p:sp>
        <p:sp>
          <p:nvSpPr>
            <p:cNvPr id="545" name=""/>
            <p:cNvSpPr/>
            <p:nvPr/>
          </p:nvSpPr>
          <p:spPr>
            <a:xfrm>
              <a:off x="4694400" y="1892160"/>
              <a:ext cx="76032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5057640" y="2631960"/>
            <a:ext cx="581040" cy="797040"/>
            <a:chOff x="5057640" y="2631960"/>
            <a:chExt cx="581040" cy="797040"/>
          </a:xfrm>
        </p:grpSpPr>
        <p:grpSp>
          <p:nvGrpSpPr>
            <p:cNvPr id="547" name=""/>
            <p:cNvGrpSpPr/>
            <p:nvPr/>
          </p:nvGrpSpPr>
          <p:grpSpPr>
            <a:xfrm>
              <a:off x="5057640" y="2631960"/>
              <a:ext cx="578160" cy="365400"/>
              <a:chOff x="5057640" y="2631960"/>
              <a:chExt cx="578160" cy="365400"/>
            </a:xfrm>
          </p:grpSpPr>
          <p:sp>
            <p:nvSpPr>
              <p:cNvPr id="548" name=""/>
              <p:cNvSpPr/>
              <p:nvPr/>
            </p:nvSpPr>
            <p:spPr>
              <a:xfrm>
                <a:off x="5057640" y="2631960"/>
                <a:ext cx="5781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089680" y="2670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132880" y="268920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mext</a:t>
                </a:r>
                <a:endParaRPr b="0" lang="en-US" sz="1000" spc="-1" strike="noStrike">
                  <a:solidFill>
                    <a:srgbClr val="ffffff"/>
                  </a:solidFill>
                  <a:latin typeface="Times New Roman"/>
                </a:endParaRPr>
              </a:p>
            </p:txBody>
          </p:sp>
        </p:grpSp>
        <p:grpSp>
          <p:nvGrpSpPr>
            <p:cNvPr id="551" name=""/>
            <p:cNvGrpSpPr/>
            <p:nvPr/>
          </p:nvGrpSpPr>
          <p:grpSpPr>
            <a:xfrm>
              <a:off x="5059440" y="3063960"/>
              <a:ext cx="579240" cy="365040"/>
              <a:chOff x="5059440" y="3063960"/>
              <a:chExt cx="579240" cy="365040"/>
            </a:xfrm>
          </p:grpSpPr>
          <p:sp>
            <p:nvSpPr>
              <p:cNvPr id="552" name=""/>
              <p:cNvSpPr/>
              <p:nvPr/>
            </p:nvSpPr>
            <p:spPr>
              <a:xfrm>
                <a:off x="5059440" y="3063960"/>
                <a:ext cx="57924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134320" y="3130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ntext</a:t>
                </a:r>
                <a:endParaRPr b="0" lang="en-US" sz="1000" spc="-1" strike="noStrike">
                  <a:solidFill>
                    <a:srgbClr val="ffffff"/>
                  </a:solidFill>
                  <a:latin typeface="Times New Roman"/>
                </a:endParaRPr>
              </a:p>
            </p:txBody>
          </p:sp>
          <p:sp>
            <p:nvSpPr>
              <p:cNvPr id="554" name=""/>
              <p:cNvSpPr/>
              <p:nvPr/>
            </p:nvSpPr>
            <p:spPr>
              <a:xfrm>
                <a:off x="5091120" y="3102120"/>
                <a:ext cx="52056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590920" y="4438800"/>
            <a:ext cx="1677960" cy="907920"/>
            <a:chOff x="2590920" y="4438800"/>
            <a:chExt cx="1677960" cy="907920"/>
          </a:xfrm>
        </p:grpSpPr>
        <p:sp>
          <p:nvSpPr>
            <p:cNvPr id="556" name=""/>
            <p:cNvSpPr/>
            <p:nvPr/>
          </p:nvSpPr>
          <p:spPr>
            <a:xfrm>
              <a:off x="2590920" y="4438800"/>
              <a:ext cx="1677960" cy="9079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2845080" y="4651200"/>
              <a:ext cx="1050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Black"/>
                </a:rPr>
                <a:t>  </a:t>
              </a:r>
              <a:r>
                <a:rPr b="1" lang="en-US" sz="2400" spc="-1" strike="noStrike">
                  <a:solidFill>
                    <a:srgbClr val="eaeaea"/>
                  </a:solidFill>
                  <a:latin typeface="Arial Black"/>
                </a:rPr>
                <a:t>wrcs</a:t>
              </a:r>
              <a:endParaRPr b="0" lang="en-US" sz="2400" spc="-1" strike="noStrike">
                <a:solidFill>
                  <a:srgbClr val="ffffff"/>
                </a:solidFill>
                <a:latin typeface="Times New Roman"/>
              </a:endParaRPr>
            </a:p>
          </p:txBody>
        </p:sp>
        <p:sp>
          <p:nvSpPr>
            <p:cNvPr id="558" name=""/>
            <p:cNvSpPr/>
            <p:nvPr/>
          </p:nvSpPr>
          <p:spPr>
            <a:xfrm>
              <a:off x="2649600" y="4475160"/>
              <a:ext cx="1579680" cy="8269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9" name=""/>
          <p:cNvGrpSpPr/>
          <p:nvPr/>
        </p:nvGrpSpPr>
        <p:grpSpPr>
          <a:xfrm>
            <a:off x="4572000" y="4424400"/>
            <a:ext cx="1143000" cy="627120"/>
            <a:chOff x="4572000" y="4424400"/>
            <a:chExt cx="1143000" cy="627120"/>
          </a:xfrm>
        </p:grpSpPr>
        <p:sp>
          <p:nvSpPr>
            <p:cNvPr id="560" name=""/>
            <p:cNvSpPr/>
            <p:nvPr/>
          </p:nvSpPr>
          <p:spPr>
            <a:xfrm>
              <a:off x="4572000" y="4424400"/>
              <a:ext cx="1143000" cy="627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723560" y="4568760"/>
              <a:ext cx="780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hook</a:t>
              </a:r>
              <a:endParaRPr b="0" lang="en-US" sz="1600" spc="-1" strike="noStrike">
                <a:solidFill>
                  <a:srgbClr val="ffffff"/>
                </a:solidFill>
                <a:latin typeface="Times New Roman"/>
              </a:endParaRPr>
            </a:p>
          </p:txBody>
        </p:sp>
        <p:sp>
          <p:nvSpPr>
            <p:cNvPr id="562" name=""/>
            <p:cNvSpPr/>
            <p:nvPr/>
          </p:nvSpPr>
          <p:spPr>
            <a:xfrm>
              <a:off x="4621320" y="4462560"/>
              <a:ext cx="1057320" cy="5490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1521360" y="3705120"/>
            <a:ext cx="687960" cy="365400"/>
            <a:chOff x="1521360" y="3705120"/>
            <a:chExt cx="687960" cy="365400"/>
          </a:xfrm>
        </p:grpSpPr>
        <p:sp>
          <p:nvSpPr>
            <p:cNvPr id="564" name=""/>
            <p:cNvSpPr/>
            <p:nvPr/>
          </p:nvSpPr>
          <p:spPr>
            <a:xfrm>
              <a:off x="1527120" y="3705120"/>
              <a:ext cx="62856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1521360" y="3763800"/>
              <a:ext cx="6879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vcs2rcs</a:t>
              </a:r>
              <a:endParaRPr b="0" lang="en-US" sz="1000" spc="-1" strike="noStrike">
                <a:solidFill>
                  <a:srgbClr val="ffffff"/>
                </a:solidFill>
                <a:latin typeface="Times New Roman"/>
              </a:endParaRPr>
            </a:p>
          </p:txBody>
        </p:sp>
        <p:sp>
          <p:nvSpPr>
            <p:cNvPr id="566" name=""/>
            <p:cNvSpPr/>
            <p:nvPr/>
          </p:nvSpPr>
          <p:spPr>
            <a:xfrm>
              <a:off x="1560600" y="3743280"/>
              <a:ext cx="56808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1522440" y="4118040"/>
            <a:ext cx="689400" cy="365040"/>
            <a:chOff x="1522440" y="4118040"/>
            <a:chExt cx="689400" cy="365040"/>
          </a:xfrm>
        </p:grpSpPr>
        <p:sp>
          <p:nvSpPr>
            <p:cNvPr id="568" name=""/>
            <p:cNvSpPr/>
            <p:nvPr/>
          </p:nvSpPr>
          <p:spPr>
            <a:xfrm>
              <a:off x="1522440" y="41180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1530000" y="4176720"/>
              <a:ext cx="6818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ccs2rcs</a:t>
              </a:r>
              <a:endParaRPr b="0" lang="en-US" sz="1000" spc="-1" strike="noStrike">
                <a:solidFill>
                  <a:srgbClr val="ffffff"/>
                </a:solidFill>
                <a:latin typeface="Times New Roman"/>
              </a:endParaRPr>
            </a:p>
          </p:txBody>
        </p:sp>
        <p:sp>
          <p:nvSpPr>
            <p:cNvPr id="570" name=""/>
            <p:cNvSpPr/>
            <p:nvPr/>
          </p:nvSpPr>
          <p:spPr>
            <a:xfrm>
              <a:off x="1555920" y="415440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1251000" y="2840040"/>
            <a:ext cx="882720" cy="366840"/>
            <a:chOff x="1251000" y="2840040"/>
            <a:chExt cx="882720" cy="366840"/>
          </a:xfrm>
        </p:grpSpPr>
        <p:sp>
          <p:nvSpPr>
            <p:cNvPr id="572" name=""/>
            <p:cNvSpPr/>
            <p:nvPr/>
          </p:nvSpPr>
          <p:spPr>
            <a:xfrm>
              <a:off x="1251000" y="284004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1353240" y="2900520"/>
              <a:ext cx="747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sarn200</a:t>
              </a:r>
              <a:endParaRPr b="0" lang="en-US" sz="1000" spc="-1" strike="noStrike">
                <a:solidFill>
                  <a:srgbClr val="ffffff"/>
                </a:solidFill>
                <a:latin typeface="Times New Roman"/>
              </a:endParaRPr>
            </a:p>
          </p:txBody>
        </p:sp>
      </p:grpSp>
      <p:grpSp>
        <p:nvGrpSpPr>
          <p:cNvPr id="574" name=""/>
          <p:cNvGrpSpPr/>
          <p:nvPr/>
        </p:nvGrpSpPr>
        <p:grpSpPr>
          <a:xfrm>
            <a:off x="1251000" y="3259080"/>
            <a:ext cx="882720" cy="366840"/>
            <a:chOff x="1251000" y="3259080"/>
            <a:chExt cx="882720" cy="366840"/>
          </a:xfrm>
        </p:grpSpPr>
        <p:sp>
          <p:nvSpPr>
            <p:cNvPr id="575" name=""/>
            <p:cNvSpPr/>
            <p:nvPr/>
          </p:nvSpPr>
          <p:spPr>
            <a:xfrm>
              <a:off x="1251000" y="3259080"/>
              <a:ext cx="882720" cy="36684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457640" y="3319560"/>
              <a:ext cx="494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ke</a:t>
              </a:r>
              <a:endParaRPr b="0" lang="en-US" sz="1000" spc="-1" strike="noStrike">
                <a:solidFill>
                  <a:srgbClr val="ffffff"/>
                </a:solidFill>
                <a:latin typeface="Times New Roman"/>
              </a:endParaRPr>
            </a:p>
          </p:txBody>
        </p:sp>
      </p:grpSp>
      <p:grpSp>
        <p:nvGrpSpPr>
          <p:cNvPr id="577" name=""/>
          <p:cNvGrpSpPr/>
          <p:nvPr/>
        </p:nvGrpSpPr>
        <p:grpSpPr>
          <a:xfrm>
            <a:off x="1209600" y="2368440"/>
            <a:ext cx="630360" cy="363600"/>
            <a:chOff x="1209600" y="2368440"/>
            <a:chExt cx="630360" cy="363600"/>
          </a:xfrm>
        </p:grpSpPr>
        <p:sp>
          <p:nvSpPr>
            <p:cNvPr id="578" name=""/>
            <p:cNvSpPr/>
            <p:nvPr/>
          </p:nvSpPr>
          <p:spPr>
            <a:xfrm>
              <a:off x="1209600" y="2368440"/>
              <a:ext cx="630360" cy="3636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362600" y="24271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0" name=""/>
            <p:cNvSpPr/>
            <p:nvPr/>
          </p:nvSpPr>
          <p:spPr>
            <a:xfrm>
              <a:off x="1243080" y="2405160"/>
              <a:ext cx="56808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1" name=""/>
          <p:cNvGrpSpPr/>
          <p:nvPr/>
        </p:nvGrpSpPr>
        <p:grpSpPr>
          <a:xfrm>
            <a:off x="1522440" y="5353200"/>
            <a:ext cx="628560" cy="365040"/>
            <a:chOff x="1522440" y="5353200"/>
            <a:chExt cx="628560" cy="365040"/>
          </a:xfrm>
        </p:grpSpPr>
        <p:sp>
          <p:nvSpPr>
            <p:cNvPr id="582" name=""/>
            <p:cNvSpPr/>
            <p:nvPr/>
          </p:nvSpPr>
          <p:spPr>
            <a:xfrm>
              <a:off x="1522440" y="535320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1668960" y="5413320"/>
              <a:ext cx="3528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ff</a:t>
              </a:r>
              <a:endParaRPr b="0" lang="en-US" sz="1000" spc="-1" strike="noStrike">
                <a:solidFill>
                  <a:srgbClr val="ffffff"/>
                </a:solidFill>
                <a:latin typeface="Times New Roman"/>
              </a:endParaRPr>
            </a:p>
          </p:txBody>
        </p:sp>
        <p:sp>
          <p:nvSpPr>
            <p:cNvPr id="584" name=""/>
            <p:cNvSpPr/>
            <p:nvPr/>
          </p:nvSpPr>
          <p:spPr>
            <a:xfrm>
              <a:off x="1555920" y="5391000"/>
              <a:ext cx="568080" cy="2955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5" name=""/>
          <p:cNvGrpSpPr/>
          <p:nvPr/>
        </p:nvGrpSpPr>
        <p:grpSpPr>
          <a:xfrm>
            <a:off x="1522440" y="5772240"/>
            <a:ext cx="628560" cy="365040"/>
            <a:chOff x="1522440" y="5772240"/>
            <a:chExt cx="628560" cy="365040"/>
          </a:xfrm>
        </p:grpSpPr>
        <p:sp>
          <p:nvSpPr>
            <p:cNvPr id="586" name=""/>
            <p:cNvSpPr/>
            <p:nvPr/>
          </p:nvSpPr>
          <p:spPr>
            <a:xfrm>
              <a:off x="1522440" y="5772240"/>
              <a:ext cx="62856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1598040" y="5830920"/>
              <a:ext cx="52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ff</a:t>
              </a:r>
              <a:endParaRPr b="0" lang="en-US" sz="1000" spc="-1" strike="noStrike">
                <a:solidFill>
                  <a:srgbClr val="ffffff"/>
                </a:solidFill>
                <a:latin typeface="Times New Roman"/>
              </a:endParaRPr>
            </a:p>
          </p:txBody>
        </p:sp>
        <p:sp>
          <p:nvSpPr>
            <p:cNvPr id="588" name=""/>
            <p:cNvSpPr/>
            <p:nvPr/>
          </p:nvSpPr>
          <p:spPr>
            <a:xfrm>
              <a:off x="1555920" y="5810400"/>
              <a:ext cx="56808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9" name=""/>
          <p:cNvSpPr/>
          <p:nvPr/>
        </p:nvSpPr>
        <p:spPr>
          <a:xfrm>
            <a:off x="4809960" y="534672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4800960" y="5405400"/>
            <a:ext cx="599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calls</a:t>
            </a:r>
            <a:endParaRPr b="0" lang="en-US" sz="1000" spc="-1" strike="noStrike">
              <a:solidFill>
                <a:srgbClr val="ffffff"/>
              </a:solidFill>
              <a:latin typeface="Times New Roman"/>
            </a:endParaRPr>
          </a:p>
        </p:txBody>
      </p:sp>
      <p:sp>
        <p:nvSpPr>
          <p:cNvPr id="591" name=""/>
          <p:cNvSpPr/>
          <p:nvPr/>
        </p:nvSpPr>
        <p:spPr>
          <a:xfrm>
            <a:off x="4842000" y="5384880"/>
            <a:ext cx="539640" cy="2952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805280" y="5772240"/>
            <a:ext cx="600120" cy="3650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4762440" y="5837400"/>
            <a:ext cx="706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spxipx</a:t>
            </a:r>
            <a:endParaRPr b="0" lang="en-US" sz="1000" spc="-1" strike="noStrike">
              <a:solidFill>
                <a:srgbClr val="ffffff"/>
              </a:solidFill>
              <a:latin typeface="Times New Roman"/>
            </a:endParaRPr>
          </a:p>
        </p:txBody>
      </p:sp>
      <p:sp>
        <p:nvSpPr>
          <p:cNvPr id="594" name=""/>
          <p:cNvSpPr/>
          <p:nvPr/>
        </p:nvSpPr>
        <p:spPr>
          <a:xfrm>
            <a:off x="4836960" y="5810400"/>
            <a:ext cx="540000" cy="29340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5" name=""/>
          <p:cNvGrpSpPr/>
          <p:nvPr/>
        </p:nvGrpSpPr>
        <p:grpSpPr>
          <a:xfrm>
            <a:off x="6481800" y="1628640"/>
            <a:ext cx="604800" cy="362160"/>
            <a:chOff x="6481800" y="1628640"/>
            <a:chExt cx="604800" cy="362160"/>
          </a:xfrm>
        </p:grpSpPr>
        <p:sp>
          <p:nvSpPr>
            <p:cNvPr id="596" name=""/>
            <p:cNvSpPr/>
            <p:nvPr/>
          </p:nvSpPr>
          <p:spPr>
            <a:xfrm>
              <a:off x="6481800" y="162864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558840" y="1687680"/>
              <a:ext cx="514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1</a:t>
              </a:r>
              <a:endParaRPr b="0" lang="en-US" sz="1000" spc="-1" strike="noStrike">
                <a:solidFill>
                  <a:srgbClr val="ffffff"/>
                </a:solidFill>
                <a:latin typeface="Times New Roman"/>
              </a:endParaRPr>
            </a:p>
          </p:txBody>
        </p:sp>
        <p:sp>
          <p:nvSpPr>
            <p:cNvPr id="598" name=""/>
            <p:cNvSpPr/>
            <p:nvPr/>
          </p:nvSpPr>
          <p:spPr>
            <a:xfrm>
              <a:off x="6513480" y="166680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6481800" y="2622600"/>
            <a:ext cx="604800" cy="360360"/>
            <a:chOff x="6481800" y="2622600"/>
            <a:chExt cx="604800" cy="360360"/>
          </a:xfrm>
        </p:grpSpPr>
        <p:sp>
          <p:nvSpPr>
            <p:cNvPr id="600" name=""/>
            <p:cNvSpPr/>
            <p:nvPr/>
          </p:nvSpPr>
          <p:spPr>
            <a:xfrm>
              <a:off x="6481800" y="262260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558120" y="2682720"/>
              <a:ext cx="4730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WL</a:t>
              </a:r>
              <a:endParaRPr b="0" lang="en-US" sz="1000" spc="-1" strike="noStrike">
                <a:solidFill>
                  <a:srgbClr val="ffffff"/>
                </a:solidFill>
                <a:latin typeface="Times New Roman"/>
              </a:endParaRPr>
            </a:p>
          </p:txBody>
        </p:sp>
        <p:sp>
          <p:nvSpPr>
            <p:cNvPr id="602" name=""/>
            <p:cNvSpPr/>
            <p:nvPr/>
          </p:nvSpPr>
          <p:spPr>
            <a:xfrm>
              <a:off x="6513480" y="266076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3" name=""/>
          <p:cNvGrpSpPr/>
          <p:nvPr/>
        </p:nvGrpSpPr>
        <p:grpSpPr>
          <a:xfrm>
            <a:off x="6500880" y="4078440"/>
            <a:ext cx="604800" cy="361800"/>
            <a:chOff x="6500880" y="4078440"/>
            <a:chExt cx="604800" cy="361800"/>
          </a:xfrm>
        </p:grpSpPr>
        <p:sp>
          <p:nvSpPr>
            <p:cNvPr id="604" name=""/>
            <p:cNvSpPr/>
            <p:nvPr/>
          </p:nvSpPr>
          <p:spPr>
            <a:xfrm>
              <a:off x="6500880" y="407844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87640" y="413712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cext</a:t>
              </a:r>
              <a:endParaRPr b="0" lang="en-US" sz="1000" spc="-1" strike="noStrike">
                <a:solidFill>
                  <a:srgbClr val="ffffff"/>
                </a:solidFill>
                <a:latin typeface="Times New Roman"/>
              </a:endParaRPr>
            </a:p>
          </p:txBody>
        </p:sp>
        <p:sp>
          <p:nvSpPr>
            <p:cNvPr id="606" name=""/>
            <p:cNvSpPr/>
            <p:nvPr/>
          </p:nvSpPr>
          <p:spPr>
            <a:xfrm>
              <a:off x="6532560" y="411480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496200" y="4497480"/>
            <a:ext cx="604800" cy="361800"/>
            <a:chOff x="6496200" y="4497480"/>
            <a:chExt cx="604800" cy="361800"/>
          </a:xfrm>
        </p:grpSpPr>
        <p:sp>
          <p:nvSpPr>
            <p:cNvPr id="608" name=""/>
            <p:cNvSpPr/>
            <p:nvPr/>
          </p:nvSpPr>
          <p:spPr>
            <a:xfrm>
              <a:off x="6496200" y="4497480"/>
              <a:ext cx="604800" cy="3618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568560" y="4557600"/>
              <a:ext cx="523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cext</a:t>
              </a:r>
              <a:endParaRPr b="0" lang="en-US" sz="1000" spc="-1" strike="noStrike">
                <a:solidFill>
                  <a:srgbClr val="ffffff"/>
                </a:solidFill>
                <a:latin typeface="Times New Roman"/>
              </a:endParaRPr>
            </a:p>
          </p:txBody>
        </p:sp>
        <p:sp>
          <p:nvSpPr>
            <p:cNvPr id="610" name=""/>
            <p:cNvSpPr/>
            <p:nvPr/>
          </p:nvSpPr>
          <p:spPr>
            <a:xfrm>
              <a:off x="6527880" y="4535640"/>
              <a:ext cx="546120" cy="2919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1" name=""/>
          <p:cNvGrpSpPr/>
          <p:nvPr/>
        </p:nvGrpSpPr>
        <p:grpSpPr>
          <a:xfrm>
            <a:off x="6496200" y="4919760"/>
            <a:ext cx="604800" cy="360360"/>
            <a:chOff x="6496200" y="4919760"/>
            <a:chExt cx="604800" cy="360360"/>
          </a:xfrm>
        </p:grpSpPr>
        <p:sp>
          <p:nvSpPr>
            <p:cNvPr id="612" name=""/>
            <p:cNvSpPr/>
            <p:nvPr/>
          </p:nvSpPr>
          <p:spPr>
            <a:xfrm>
              <a:off x="6496200" y="4919760"/>
              <a:ext cx="604800" cy="3603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579720" y="497988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bext</a:t>
              </a:r>
              <a:endParaRPr b="0" lang="en-US" sz="1000" spc="-1" strike="noStrike">
                <a:solidFill>
                  <a:srgbClr val="ffffff"/>
                </a:solidFill>
                <a:latin typeface="Times New Roman"/>
              </a:endParaRPr>
            </a:p>
          </p:txBody>
        </p:sp>
        <p:sp>
          <p:nvSpPr>
            <p:cNvPr id="614" name=""/>
            <p:cNvSpPr/>
            <p:nvPr/>
          </p:nvSpPr>
          <p:spPr>
            <a:xfrm>
              <a:off x="6527880" y="4957920"/>
              <a:ext cx="5461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6496200" y="5553000"/>
            <a:ext cx="606960" cy="362160"/>
            <a:chOff x="6496200" y="5553000"/>
            <a:chExt cx="606960" cy="362160"/>
          </a:xfrm>
        </p:grpSpPr>
        <p:sp>
          <p:nvSpPr>
            <p:cNvPr id="616" name=""/>
            <p:cNvSpPr/>
            <p:nvPr/>
          </p:nvSpPr>
          <p:spPr>
            <a:xfrm>
              <a:off x="6496200" y="5553000"/>
              <a:ext cx="604800" cy="36216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553800" y="5611680"/>
              <a:ext cx="5493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wnim</a:t>
              </a:r>
              <a:endParaRPr b="0" lang="en-US" sz="1000" spc="-1" strike="noStrike">
                <a:solidFill>
                  <a:srgbClr val="ffffff"/>
                </a:solidFill>
                <a:latin typeface="Times New Roman"/>
              </a:endParaRPr>
            </a:p>
          </p:txBody>
        </p:sp>
        <p:sp>
          <p:nvSpPr>
            <p:cNvPr id="618" name=""/>
            <p:cNvSpPr/>
            <p:nvPr/>
          </p:nvSpPr>
          <p:spPr>
            <a:xfrm>
              <a:off x="6527880" y="5591160"/>
              <a:ext cx="544320" cy="2905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9" name=""/>
          <p:cNvSpPr/>
          <p:nvPr/>
        </p:nvSpPr>
        <p:spPr>
          <a:xfrm>
            <a:off x="1511280" y="2174760"/>
            <a:ext cx="0" cy="184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0" name=""/>
          <p:cNvGrpSpPr/>
          <p:nvPr/>
        </p:nvGrpSpPr>
        <p:grpSpPr>
          <a:xfrm>
            <a:off x="3738600" y="3535200"/>
            <a:ext cx="836640" cy="365400"/>
            <a:chOff x="3738600" y="3535200"/>
            <a:chExt cx="836640" cy="365400"/>
          </a:xfrm>
        </p:grpSpPr>
        <p:sp>
          <p:nvSpPr>
            <p:cNvPr id="621" name=""/>
            <p:cNvSpPr/>
            <p:nvPr/>
          </p:nvSpPr>
          <p:spPr>
            <a:xfrm>
              <a:off x="3738600" y="3535200"/>
              <a:ext cx="836640" cy="36540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3840120" y="3594240"/>
              <a:ext cx="515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port</a:t>
              </a:r>
              <a:endParaRPr b="0" lang="en-US" sz="1000" spc="-1" strike="noStrike">
                <a:solidFill>
                  <a:srgbClr val="ffffff"/>
                </a:solidFill>
                <a:latin typeface="Times New Roman"/>
              </a:endParaRPr>
            </a:p>
          </p:txBody>
        </p:sp>
        <p:sp>
          <p:nvSpPr>
            <p:cNvPr id="623" name=""/>
            <p:cNvSpPr/>
            <p:nvPr/>
          </p:nvSpPr>
          <p:spPr>
            <a:xfrm>
              <a:off x="3782880" y="3573360"/>
              <a:ext cx="754200" cy="29376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24" name=""/>
          <p:cNvSpPr/>
          <p:nvPr/>
        </p:nvSpPr>
        <p:spPr>
          <a:xfrm flipH="1">
            <a:off x="1305000" y="3867120"/>
            <a:ext cx="21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1301760" y="3868560"/>
            <a:ext cx="0" cy="2071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1303200" y="5946840"/>
            <a:ext cx="223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1309680" y="5541840"/>
            <a:ext cx="2253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flipV="1">
            <a:off x="1319040" y="3887640"/>
            <a:ext cx="0" cy="204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1320840" y="5529240"/>
            <a:ext cx="127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1320840" y="5934240"/>
            <a:ext cx="120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flipV="1">
            <a:off x="1324080" y="3889080"/>
            <a:ext cx="225360" cy="6120"/>
          </a:xfrm>
          <a:prstGeom prst="line">
            <a:avLst/>
          </a:prstGeom>
          <a:ln w="12600">
            <a:solidFill>
              <a:srgbClr val="ffffff"/>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632" name=""/>
          <p:cNvSpPr/>
          <p:nvPr/>
        </p:nvSpPr>
        <p:spPr>
          <a:xfrm>
            <a:off x="3800520" y="534348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3817800" y="5343480"/>
            <a:ext cx="0" cy="198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668760" y="5959440"/>
            <a:ext cx="114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3662280" y="5938920"/>
            <a:ext cx="1074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3801960" y="5540400"/>
            <a:ext cx="10130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819600" y="5521320"/>
            <a:ext cx="885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5411880" y="5540400"/>
            <a:ext cx="36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5430960" y="5961240"/>
            <a:ext cx="350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5792760" y="5810400"/>
            <a:ext cx="0" cy="14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94200" y="5810400"/>
            <a:ext cx="682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5443560" y="5540400"/>
            <a:ext cx="34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5792760" y="5541840"/>
            <a:ext cx="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5791320" y="5695920"/>
            <a:ext cx="685800" cy="3240"/>
          </a:xfrm>
          <a:prstGeom prst="line">
            <a:avLst/>
          </a:prstGeom>
          <a:ln w="1260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45" name=""/>
          <p:cNvSpPr/>
          <p:nvPr/>
        </p:nvSpPr>
        <p:spPr>
          <a:xfrm>
            <a:off x="5419800" y="5529240"/>
            <a:ext cx="385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813280" y="5530680"/>
            <a:ext cx="0" cy="155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815080" y="568656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5411880" y="5973840"/>
            <a:ext cx="3808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flipV="1">
            <a:off x="5813280" y="5816160"/>
            <a:ext cx="0" cy="136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815080" y="5823000"/>
            <a:ext cx="53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H="1" flipV="1">
            <a:off x="5981400" y="5067000"/>
            <a:ext cx="507960" cy="3240"/>
          </a:xfrm>
          <a:prstGeom prst="line">
            <a:avLst/>
          </a:prstGeom>
          <a:ln w="12600">
            <a:solidFill>
              <a:srgbClr val="eaeaea"/>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2" name=""/>
          <p:cNvSpPr/>
          <p:nvPr/>
        </p:nvSpPr>
        <p:spPr>
          <a:xfrm flipV="1">
            <a:off x="5979960" y="4750920"/>
            <a:ext cx="0" cy="31284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flipH="1">
            <a:off x="5683320" y="4753080"/>
            <a:ext cx="301680" cy="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5796000" y="4740120"/>
            <a:ext cx="2016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5997600" y="4738680"/>
            <a:ext cx="0" cy="32868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016680" y="5048280"/>
            <a:ext cx="45540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flipV="1">
            <a:off x="5678640" y="4628880"/>
            <a:ext cx="807840" cy="3240"/>
          </a:xfrm>
          <a:prstGeom prst="line">
            <a:avLst/>
          </a:prstGeom>
          <a:ln w="12600">
            <a:solidFill>
              <a:srgbClr val="eaeaea"/>
            </a:solidFill>
            <a:miter/>
            <a:headEnd len="med" type="stealth"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58" name=""/>
          <p:cNvSpPr/>
          <p:nvPr/>
        </p:nvSpPr>
        <p:spPr>
          <a:xfrm flipH="1">
            <a:off x="5765400" y="4610160"/>
            <a:ext cx="71748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688000" y="4489560"/>
            <a:ext cx="561960" cy="0"/>
          </a:xfrm>
          <a:prstGeom prst="line">
            <a:avLst/>
          </a:prstGeom>
          <a:ln w="12600">
            <a:solidFill>
              <a:srgbClr val="eaeaea"/>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flipV="1">
            <a:off x="6249960" y="4217760"/>
            <a:ext cx="0" cy="26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251400" y="4221000"/>
            <a:ext cx="2448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5791320" y="4475160"/>
            <a:ext cx="44604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flipV="1">
            <a:off x="6237360" y="4200480"/>
            <a:ext cx="0" cy="27936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6242040" y="4206960"/>
            <a:ext cx="263520" cy="0"/>
          </a:xfrm>
          <a:prstGeom prst="line">
            <a:avLst/>
          </a:prstGeom>
          <a:ln w="1260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5237280" y="39481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5234040" y="3952800"/>
            <a:ext cx="169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V="1">
            <a:off x="5253120" y="3970440"/>
            <a:ext cx="0" cy="442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254560" y="3968640"/>
            <a:ext cx="1709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6931080" y="3004920"/>
            <a:ext cx="0" cy="944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6945480" y="3084480"/>
            <a:ext cx="0" cy="868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162320" y="3132000"/>
            <a:ext cx="911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4249800" y="3117960"/>
            <a:ext cx="72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4152960" y="2916360"/>
            <a:ext cx="91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4243320" y="290196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4016520" y="2389320"/>
            <a:ext cx="278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805440" y="2390760"/>
            <a:ext cx="0" cy="2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7" name=""/>
          <p:cNvGrpSpPr/>
          <p:nvPr/>
        </p:nvGrpSpPr>
        <p:grpSpPr>
          <a:xfrm>
            <a:off x="2895480" y="2373480"/>
            <a:ext cx="1236960" cy="833400"/>
            <a:chOff x="2895480" y="2373480"/>
            <a:chExt cx="1236960" cy="833400"/>
          </a:xfrm>
        </p:grpSpPr>
        <p:sp>
          <p:nvSpPr>
            <p:cNvPr id="678" name=""/>
            <p:cNvSpPr/>
            <p:nvPr/>
          </p:nvSpPr>
          <p:spPr>
            <a:xfrm>
              <a:off x="2895480" y="2498760"/>
              <a:ext cx="1236960" cy="70812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3087720" y="2685960"/>
              <a:ext cx="71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ain</a:t>
              </a:r>
              <a:endParaRPr b="0" lang="en-US" sz="1600" spc="-1" strike="noStrike">
                <a:solidFill>
                  <a:srgbClr val="ffffff"/>
                </a:solidFill>
                <a:latin typeface="Times New Roman"/>
              </a:endParaRPr>
            </a:p>
          </p:txBody>
        </p:sp>
        <p:sp>
          <p:nvSpPr>
            <p:cNvPr id="680" name=""/>
            <p:cNvSpPr/>
            <p:nvPr/>
          </p:nvSpPr>
          <p:spPr>
            <a:xfrm>
              <a:off x="2936880" y="2522520"/>
              <a:ext cx="1155600" cy="6523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4008600" y="2382840"/>
              <a:ext cx="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3992400" y="2373480"/>
              <a:ext cx="0" cy="117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3" name=""/>
          <p:cNvSpPr/>
          <p:nvPr/>
        </p:nvSpPr>
        <p:spPr>
          <a:xfrm>
            <a:off x="4006800" y="2376360"/>
            <a:ext cx="2798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6823080" y="2378160"/>
            <a:ext cx="0" cy="155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958080" y="2014560"/>
            <a:ext cx="0" cy="596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973920" y="2106720"/>
            <a:ext cx="0" cy="507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3882960" y="2271240"/>
            <a:ext cx="0" cy="21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3890880" y="2281320"/>
            <a:ext cx="293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832440" y="2003040"/>
            <a:ext cx="0" cy="273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3868560" y="2260080"/>
            <a:ext cx="0" cy="236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884760" y="2268360"/>
            <a:ext cx="2930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805440" y="2095560"/>
            <a:ext cx="0" cy="177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3693960" y="2104560"/>
            <a:ext cx="0" cy="3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3692520" y="2104920"/>
            <a:ext cx="955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3681360" y="2091960"/>
            <a:ext cx="0" cy="412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3686040" y="2092320"/>
            <a:ext cx="87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664080" y="3218040"/>
            <a:ext cx="0" cy="1209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4046400" y="3914640"/>
            <a:ext cx="0" cy="513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678120" y="3243240"/>
            <a:ext cx="0" cy="11257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4060800" y="3218040"/>
            <a:ext cx="0" cy="249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4064040" y="3938760"/>
            <a:ext cx="0" cy="420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4046400" y="3218040"/>
            <a:ext cx="0" cy="307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141640" y="5541840"/>
            <a:ext cx="12301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3371760" y="5346360"/>
            <a:ext cx="0" cy="19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235240" y="5529240"/>
            <a:ext cx="11034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3355920" y="5346360"/>
            <a:ext cx="0" cy="181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151000" y="5961240"/>
            <a:ext cx="13892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2260440" y="5946840"/>
            <a:ext cx="12621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3540240" y="5359320"/>
            <a:ext cx="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3522600" y="5359320"/>
            <a:ext cx="0" cy="595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3657600" y="5351040"/>
            <a:ext cx="0" cy="60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676680" y="5359320"/>
            <a:ext cx="0" cy="604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556080" y="3206880"/>
            <a:ext cx="0" cy="11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a:off x="2134800" y="4309920"/>
            <a:ext cx="1420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flipH="1">
            <a:off x="2152800" y="3878280"/>
            <a:ext cx="1293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flipH="1">
            <a:off x="2158560" y="3462480"/>
            <a:ext cx="1212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a:off x="2147760" y="3040200"/>
            <a:ext cx="758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3454560" y="3209760"/>
            <a:ext cx="0" cy="66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3371760" y="32130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54480" y="3213000"/>
            <a:ext cx="0" cy="244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3435480" y="3213000"/>
            <a:ext cx="1440" cy="668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535200" y="3218040"/>
            <a:ext cx="0" cy="1087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254320" y="3025800"/>
            <a:ext cx="646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254320" y="3863880"/>
            <a:ext cx="1192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266920" y="3446640"/>
            <a:ext cx="1092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254320" y="4295880"/>
            <a:ext cx="12826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535200" y="2041560"/>
            <a:ext cx="0" cy="455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3552840" y="2025720"/>
            <a:ext cx="0" cy="471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2131920" y="1803240"/>
            <a:ext cx="4354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2131920" y="1789200"/>
            <a:ext cx="4260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flipH="1">
            <a:off x="5489640" y="1932120"/>
            <a:ext cx="9921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5511960" y="1916280"/>
            <a:ext cx="8809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2131920" y="1920960"/>
            <a:ext cx="2506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a:off x="2142720" y="2028960"/>
            <a:ext cx="140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2138400" y="1905120"/>
            <a:ext cx="24145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a:off x="2212560" y="2016000"/>
            <a:ext cx="1322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496880" y="2170080"/>
            <a:ext cx="0" cy="11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38" name=""/>
          <p:cNvGrpSpPr/>
          <p:nvPr/>
        </p:nvGrpSpPr>
        <p:grpSpPr>
          <a:xfrm>
            <a:off x="4243320" y="4788000"/>
            <a:ext cx="404640" cy="12600"/>
            <a:chOff x="4243320" y="4788000"/>
            <a:chExt cx="404640" cy="12600"/>
          </a:xfrm>
        </p:grpSpPr>
        <p:sp>
          <p:nvSpPr>
            <p:cNvPr id="739" name=""/>
            <p:cNvSpPr/>
            <p:nvPr/>
          </p:nvSpPr>
          <p:spPr>
            <a:xfrm>
              <a:off x="4243320" y="4800600"/>
              <a:ext cx="39996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a:off x="4344480" y="4788000"/>
              <a:ext cx="3034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Learned from WRCS</a:t>
            </a:r>
            <a:endParaRPr b="0" lang="en-US" sz="3600" spc="-1" strike="noStrike">
              <a:solidFill>
                <a:srgbClr val="ffffff"/>
              </a:solidFill>
              <a:latin typeface="Century Schoolbook"/>
            </a:endParaRPr>
          </a:p>
        </p:txBody>
      </p:sp>
      <p:sp>
        <p:nvSpPr>
          <p:cNvPr id="74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of architectural descrip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retation of scenario interactions</a:t>
            </a:r>
            <a:endParaRPr b="1" lang="en-US" sz="2400" spc="-1" strike="noStrike">
              <a:solidFill>
                <a:srgbClr val="ffffff"/>
              </a:solidFill>
              <a:latin typeface="Arial"/>
            </a:endParaRPr>
          </a:p>
        </p:txBody>
      </p:sp>
      <p:graphicFrame>
        <p:nvGraphicFramePr>
          <p:cNvPr id="743" name=""/>
          <p:cNvGraphicFramePr/>
          <p:nvPr/>
        </p:nvGraphicFramePr>
        <p:xfrm>
          <a:off x="7856640" y="380880"/>
          <a:ext cx="993600" cy="1098720"/>
        </p:xfrm>
        <a:graphic>
          <a:graphicData uri="http://schemas.openxmlformats.org/presentationml/2006/ole">
            <p:oleObj r:id="rId1" spid="">
              <p:embed/>
              <p:pic>
                <p:nvPicPr>
                  <p:cNvPr id="744" name="" descr=""/>
                  <p:cNvPicPr/>
                  <p:nvPr/>
                </p:nvPicPr>
                <p:blipFill>
                  <a:blip r:embed="rId2"/>
                  <a:stretch/>
                </p:blipFill>
                <p:spPr>
                  <a:xfrm>
                    <a:off x="7856640" y="38088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 Granularity of Architectural Description</a:t>
            </a:r>
            <a:endParaRPr b="0" lang="en-US" sz="3600" spc="-1" strike="noStrike">
              <a:solidFill>
                <a:srgbClr val="ffffff"/>
              </a:solidFill>
              <a:latin typeface="Century Schoolbook"/>
            </a:endParaRPr>
          </a:p>
        </p:txBody>
      </p:sp>
      <p:sp>
        <p:nvSpPr>
          <p:cNvPr id="746" name="PlaceHolder 2"/>
          <p:cNvSpPr>
            <a:spLocks noGrp="1"/>
          </p:cNvSpPr>
          <p:nvPr>
            <p:ph/>
          </p:nvPr>
        </p:nvSpPr>
        <p:spPr>
          <a:xfrm>
            <a:off x="923400" y="2201760"/>
            <a:ext cx="7301160" cy="3780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level of detail of architectural description is determined by the scenarios chosen.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xt slide shows what an architect thought was an appropriate level of detail.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annotated with the numbers of indirect scenarios that affect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iginal Representation of WRCS</a:t>
            </a:r>
            <a:endParaRPr b="0" lang="en-US" sz="3600" spc="-1" strike="noStrike">
              <a:solidFill>
                <a:srgbClr val="ffffff"/>
              </a:solidFill>
              <a:latin typeface="Century Schoolbook"/>
            </a:endParaRPr>
          </a:p>
        </p:txBody>
      </p:sp>
      <p:grpSp>
        <p:nvGrpSpPr>
          <p:cNvPr id="748" name=""/>
          <p:cNvGrpSpPr/>
          <p:nvPr/>
        </p:nvGrpSpPr>
        <p:grpSpPr>
          <a:xfrm>
            <a:off x="1200240" y="2031840"/>
            <a:ext cx="6292800" cy="3673800"/>
            <a:chOff x="1200240" y="2031840"/>
            <a:chExt cx="6292800" cy="3673800"/>
          </a:xfrm>
        </p:grpSpPr>
        <p:sp>
          <p:nvSpPr>
            <p:cNvPr id="749" name=""/>
            <p:cNvSpPr/>
            <p:nvPr/>
          </p:nvSpPr>
          <p:spPr>
            <a:xfrm flipV="1">
              <a:off x="4695840" y="245412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4695840" y="2444760"/>
              <a:ext cx="457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4630680" y="4562640"/>
              <a:ext cx="0" cy="520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1714680" y="2666880"/>
              <a:ext cx="0" cy="304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3" name=""/>
            <p:cNvGrpSpPr/>
            <p:nvPr/>
          </p:nvGrpSpPr>
          <p:grpSpPr>
            <a:xfrm>
              <a:off x="1203120" y="2038320"/>
              <a:ext cx="1057320" cy="596880"/>
              <a:chOff x="1203120" y="2038320"/>
              <a:chExt cx="1057320" cy="596880"/>
            </a:xfrm>
          </p:grpSpPr>
          <p:sp>
            <p:nvSpPr>
              <p:cNvPr id="754" name=""/>
              <p:cNvSpPr/>
              <p:nvPr/>
            </p:nvSpPr>
            <p:spPr>
              <a:xfrm>
                <a:off x="1329120" y="2227320"/>
                <a:ext cx="835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diff</a:t>
                </a:r>
                <a:endParaRPr b="0" lang="en-US" sz="2000" spc="-1" strike="noStrike">
                  <a:solidFill>
                    <a:srgbClr val="ffffff"/>
                  </a:solidFill>
                  <a:latin typeface="Times New Roman"/>
                </a:endParaRPr>
              </a:p>
            </p:txBody>
          </p:sp>
          <p:sp>
            <p:nvSpPr>
              <p:cNvPr id="755" name=""/>
              <p:cNvSpPr/>
              <p:nvPr/>
            </p:nvSpPr>
            <p:spPr>
              <a:xfrm>
                <a:off x="1203120" y="2046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grpSp>
            <p:nvGrpSpPr>
              <p:cNvPr id="756" name=""/>
              <p:cNvGrpSpPr/>
              <p:nvPr/>
            </p:nvGrpSpPr>
            <p:grpSpPr>
              <a:xfrm>
                <a:off x="1219320" y="2038320"/>
                <a:ext cx="1041120" cy="596880"/>
                <a:chOff x="1219320" y="2038320"/>
                <a:chExt cx="1041120" cy="596880"/>
              </a:xfrm>
            </p:grpSpPr>
            <p:sp>
              <p:nvSpPr>
                <p:cNvPr id="757" name=""/>
                <p:cNvSpPr/>
                <p:nvPr/>
              </p:nvSpPr>
              <p:spPr>
                <a:xfrm>
                  <a:off x="1219320" y="2038320"/>
                  <a:ext cx="104112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12574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59" name=""/>
            <p:cNvSpPr/>
            <p:nvPr/>
          </p:nvSpPr>
          <p:spPr>
            <a:xfrm>
              <a:off x="1752480" y="2679840"/>
              <a:ext cx="0" cy="253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60" name=""/>
            <p:cNvGrpSpPr/>
            <p:nvPr/>
          </p:nvGrpSpPr>
          <p:grpSpPr>
            <a:xfrm>
              <a:off x="1209600" y="2990880"/>
              <a:ext cx="1041480" cy="611640"/>
              <a:chOff x="1209600" y="2990880"/>
              <a:chExt cx="1041480" cy="611640"/>
            </a:xfrm>
          </p:grpSpPr>
          <p:sp>
            <p:nvSpPr>
              <p:cNvPr id="761" name=""/>
              <p:cNvSpPr/>
              <p:nvPr/>
            </p:nvSpPr>
            <p:spPr>
              <a:xfrm>
                <a:off x="1209600" y="3000240"/>
                <a:ext cx="486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sp>
            <p:nvSpPr>
              <p:cNvPr id="762" name=""/>
              <p:cNvSpPr/>
              <p:nvPr/>
            </p:nvSpPr>
            <p:spPr>
              <a:xfrm>
                <a:off x="1469520" y="3205080"/>
                <a:ext cx="523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a:t>
                </a:r>
                <a:endParaRPr b="0" lang="en-US" sz="2000" spc="-1" strike="noStrike">
                  <a:solidFill>
                    <a:srgbClr val="ffffff"/>
                  </a:solidFill>
                  <a:latin typeface="Times New Roman"/>
                </a:endParaRPr>
              </a:p>
            </p:txBody>
          </p:sp>
          <p:grpSp>
            <p:nvGrpSpPr>
              <p:cNvPr id="763" name=""/>
              <p:cNvGrpSpPr/>
              <p:nvPr/>
            </p:nvGrpSpPr>
            <p:grpSpPr>
              <a:xfrm>
                <a:off x="1209600" y="2990880"/>
                <a:ext cx="1041480" cy="596880"/>
                <a:chOff x="1209600" y="2990880"/>
                <a:chExt cx="1041480" cy="596880"/>
              </a:xfrm>
            </p:grpSpPr>
            <p:sp>
              <p:nvSpPr>
                <p:cNvPr id="764" name=""/>
                <p:cNvSpPr/>
                <p:nvPr/>
              </p:nvSpPr>
              <p:spPr>
                <a:xfrm>
                  <a:off x="1209600" y="29908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247760" y="302904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66" name=""/>
            <p:cNvGrpSpPr/>
            <p:nvPr/>
          </p:nvGrpSpPr>
          <p:grpSpPr>
            <a:xfrm>
              <a:off x="1200240" y="3862440"/>
              <a:ext cx="1319040" cy="578520"/>
              <a:chOff x="1200240" y="3862440"/>
              <a:chExt cx="1319040" cy="578520"/>
            </a:xfrm>
          </p:grpSpPr>
          <p:sp>
            <p:nvSpPr>
              <p:cNvPr id="767" name=""/>
              <p:cNvSpPr/>
              <p:nvPr/>
            </p:nvSpPr>
            <p:spPr>
              <a:xfrm>
                <a:off x="1211400" y="3892680"/>
                <a:ext cx="129528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a:off x="1200240" y="4043520"/>
                <a:ext cx="1319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arn200</a:t>
                </a:r>
                <a:endParaRPr b="0" lang="en-US" sz="2000" spc="-1" strike="noStrike">
                  <a:solidFill>
                    <a:srgbClr val="ffffff"/>
                  </a:solidFill>
                  <a:latin typeface="Times New Roman"/>
                </a:endParaRPr>
              </a:p>
            </p:txBody>
          </p:sp>
          <p:sp>
            <p:nvSpPr>
              <p:cNvPr id="769" name=""/>
              <p:cNvSpPr/>
              <p:nvPr/>
            </p:nvSpPr>
            <p:spPr>
              <a:xfrm>
                <a:off x="1266840" y="3862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0" name=""/>
            <p:cNvGrpSpPr/>
            <p:nvPr/>
          </p:nvGrpSpPr>
          <p:grpSpPr>
            <a:xfrm>
              <a:off x="1209600" y="4713120"/>
              <a:ext cx="1295640" cy="578520"/>
              <a:chOff x="1209600" y="4713120"/>
              <a:chExt cx="1295640" cy="578520"/>
            </a:xfrm>
          </p:grpSpPr>
          <p:sp>
            <p:nvSpPr>
              <p:cNvPr id="771" name=""/>
              <p:cNvSpPr/>
              <p:nvPr/>
            </p:nvSpPr>
            <p:spPr>
              <a:xfrm>
                <a:off x="1209600" y="4743360"/>
                <a:ext cx="1295640" cy="546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1454040" y="4894200"/>
                <a:ext cx="808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a:t>
                </a:r>
                <a:endParaRPr b="0" lang="en-US" sz="2000" spc="-1" strike="noStrike">
                  <a:solidFill>
                    <a:srgbClr val="ffffff"/>
                  </a:solidFill>
                  <a:latin typeface="Times New Roman"/>
                </a:endParaRPr>
              </a:p>
            </p:txBody>
          </p:sp>
          <p:sp>
            <p:nvSpPr>
              <p:cNvPr id="773" name=""/>
              <p:cNvSpPr/>
              <p:nvPr/>
            </p:nvSpPr>
            <p:spPr>
              <a:xfrm>
                <a:off x="1279440" y="4713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ffffff"/>
                  </a:solidFill>
                  <a:latin typeface="Times New Roman"/>
                </a:endParaRPr>
              </a:p>
            </p:txBody>
          </p:sp>
        </p:grpSp>
        <p:grpSp>
          <p:nvGrpSpPr>
            <p:cNvPr id="774" name=""/>
            <p:cNvGrpSpPr/>
            <p:nvPr/>
          </p:nvGrpSpPr>
          <p:grpSpPr>
            <a:xfrm>
              <a:off x="5172120" y="2031840"/>
              <a:ext cx="1041480" cy="645120"/>
              <a:chOff x="5172120" y="2031840"/>
              <a:chExt cx="1041480" cy="645120"/>
            </a:xfrm>
          </p:grpSpPr>
          <p:sp>
            <p:nvSpPr>
              <p:cNvPr id="775" name=""/>
              <p:cNvSpPr/>
              <p:nvPr/>
            </p:nvSpPr>
            <p:spPr>
              <a:xfrm>
                <a:off x="5173560" y="2031840"/>
                <a:ext cx="666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a:t>
                </a:r>
                <a:endParaRPr b="0" lang="en-US" sz="1400" spc="-1" strike="noStrike">
                  <a:solidFill>
                    <a:srgbClr val="ffffff"/>
                  </a:solidFill>
                  <a:latin typeface="Times New Roman"/>
                </a:endParaRPr>
              </a:p>
            </p:txBody>
          </p:sp>
          <p:sp>
            <p:nvSpPr>
              <p:cNvPr id="776" name=""/>
              <p:cNvSpPr/>
              <p:nvPr/>
            </p:nvSpPr>
            <p:spPr>
              <a:xfrm>
                <a:off x="5367240" y="227952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s</a:t>
                </a:r>
                <a:endParaRPr b="0" lang="en-US" sz="2000" spc="-1" strike="noStrike">
                  <a:solidFill>
                    <a:srgbClr val="ffffff"/>
                  </a:solidFill>
                  <a:latin typeface="Times New Roman"/>
                </a:endParaRPr>
              </a:p>
            </p:txBody>
          </p:sp>
          <p:grpSp>
            <p:nvGrpSpPr>
              <p:cNvPr id="777" name=""/>
              <p:cNvGrpSpPr/>
              <p:nvPr/>
            </p:nvGrpSpPr>
            <p:grpSpPr>
              <a:xfrm>
                <a:off x="5172120" y="2038320"/>
                <a:ext cx="1041480" cy="596880"/>
                <a:chOff x="5172120" y="2038320"/>
                <a:chExt cx="1041480" cy="596880"/>
              </a:xfrm>
            </p:grpSpPr>
            <p:sp>
              <p:nvSpPr>
                <p:cNvPr id="778" name=""/>
                <p:cNvSpPr/>
                <p:nvPr/>
              </p:nvSpPr>
              <p:spPr>
                <a:xfrm>
                  <a:off x="5172120" y="203832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5210280" y="207648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0" name=""/>
            <p:cNvGrpSpPr/>
            <p:nvPr/>
          </p:nvGrpSpPr>
          <p:grpSpPr>
            <a:xfrm>
              <a:off x="4093920" y="3943440"/>
              <a:ext cx="1065600" cy="627480"/>
              <a:chOff x="4093920" y="3943440"/>
              <a:chExt cx="1065600" cy="627480"/>
            </a:xfrm>
          </p:grpSpPr>
          <p:sp>
            <p:nvSpPr>
              <p:cNvPr id="781" name=""/>
              <p:cNvSpPr/>
              <p:nvPr/>
            </p:nvSpPr>
            <p:spPr>
              <a:xfrm>
                <a:off x="4271400" y="4173480"/>
                <a:ext cx="736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a:t>
                </a:r>
                <a:endParaRPr b="0" lang="en-US" sz="2000" spc="-1" strike="noStrike">
                  <a:solidFill>
                    <a:srgbClr val="ffffff"/>
                  </a:solidFill>
                  <a:latin typeface="Times New Roman"/>
                </a:endParaRPr>
              </a:p>
            </p:txBody>
          </p:sp>
          <p:sp>
            <p:nvSpPr>
              <p:cNvPr id="782" name=""/>
              <p:cNvSpPr/>
              <p:nvPr/>
            </p:nvSpPr>
            <p:spPr>
              <a:xfrm>
                <a:off x="4093920" y="39434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12,13</a:t>
                </a:r>
                <a:endParaRPr b="0" lang="en-US" sz="1400" spc="-1" strike="noStrike">
                  <a:solidFill>
                    <a:srgbClr val="ffffff"/>
                  </a:solidFill>
                  <a:latin typeface="Times New Roman"/>
                </a:endParaRPr>
              </a:p>
            </p:txBody>
          </p:sp>
          <p:grpSp>
            <p:nvGrpSpPr>
              <p:cNvPr id="783" name=""/>
              <p:cNvGrpSpPr/>
              <p:nvPr/>
            </p:nvGrpSpPr>
            <p:grpSpPr>
              <a:xfrm>
                <a:off x="4118040" y="3952800"/>
                <a:ext cx="1041480" cy="596880"/>
                <a:chOff x="4118040" y="3952800"/>
                <a:chExt cx="1041480" cy="596880"/>
              </a:xfrm>
            </p:grpSpPr>
            <p:sp>
              <p:nvSpPr>
                <p:cNvPr id="784" name=""/>
                <p:cNvSpPr/>
                <p:nvPr/>
              </p:nvSpPr>
              <p:spPr>
                <a:xfrm>
                  <a:off x="4118040" y="395280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4156200" y="399096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6" name=""/>
            <p:cNvGrpSpPr/>
            <p:nvPr/>
          </p:nvGrpSpPr>
          <p:grpSpPr>
            <a:xfrm>
              <a:off x="4095720" y="5108400"/>
              <a:ext cx="1063800" cy="597240"/>
              <a:chOff x="4095720" y="5108400"/>
              <a:chExt cx="1063800" cy="597240"/>
            </a:xfrm>
          </p:grpSpPr>
          <p:sp>
            <p:nvSpPr>
              <p:cNvPr id="787" name=""/>
              <p:cNvSpPr/>
              <p:nvPr/>
            </p:nvSpPr>
            <p:spPr>
              <a:xfrm>
                <a:off x="4291200" y="5302080"/>
                <a:ext cx="851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a:t>
                </a:r>
                <a:endParaRPr b="0" lang="en-US" sz="2000" spc="-1" strike="noStrike">
                  <a:solidFill>
                    <a:srgbClr val="ffffff"/>
                  </a:solidFill>
                  <a:latin typeface="Times New Roman"/>
                </a:endParaRPr>
              </a:p>
            </p:txBody>
          </p:sp>
          <p:sp>
            <p:nvSpPr>
              <p:cNvPr id="788" name=""/>
              <p:cNvSpPr/>
              <p:nvPr/>
            </p:nvSpPr>
            <p:spPr>
              <a:xfrm>
                <a:off x="4095720" y="51116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89" name=""/>
              <p:cNvGrpSpPr/>
              <p:nvPr/>
            </p:nvGrpSpPr>
            <p:grpSpPr>
              <a:xfrm>
                <a:off x="4118040" y="5108400"/>
                <a:ext cx="1041480" cy="597240"/>
                <a:chOff x="4118040" y="5108400"/>
                <a:chExt cx="1041480" cy="597240"/>
              </a:xfrm>
            </p:grpSpPr>
            <p:sp>
              <p:nvSpPr>
                <p:cNvPr id="790" name=""/>
                <p:cNvSpPr/>
                <p:nvPr/>
              </p:nvSpPr>
              <p:spPr>
                <a:xfrm>
                  <a:off x="4118040" y="5108400"/>
                  <a:ext cx="1041480" cy="59724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4156200" y="514656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2" name=""/>
            <p:cNvGrpSpPr/>
            <p:nvPr/>
          </p:nvGrpSpPr>
          <p:grpSpPr>
            <a:xfrm>
              <a:off x="6424560" y="3664080"/>
              <a:ext cx="1068480" cy="627480"/>
              <a:chOff x="6424560" y="3664080"/>
              <a:chExt cx="1068480" cy="627480"/>
            </a:xfrm>
          </p:grpSpPr>
          <p:sp>
            <p:nvSpPr>
              <p:cNvPr id="793" name=""/>
              <p:cNvSpPr/>
              <p:nvPr/>
            </p:nvSpPr>
            <p:spPr>
              <a:xfrm>
                <a:off x="6570000" y="389412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mext</a:t>
                </a:r>
                <a:endParaRPr b="0" lang="en-US" sz="2000" spc="-1" strike="noStrike">
                  <a:solidFill>
                    <a:srgbClr val="ffffff"/>
                  </a:solidFill>
                  <a:latin typeface="Times New Roman"/>
                </a:endParaRPr>
              </a:p>
            </p:txBody>
          </p:sp>
          <p:sp>
            <p:nvSpPr>
              <p:cNvPr id="794" name=""/>
              <p:cNvSpPr/>
              <p:nvPr/>
            </p:nvSpPr>
            <p:spPr>
              <a:xfrm>
                <a:off x="6424560" y="3672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795" name=""/>
              <p:cNvGrpSpPr/>
              <p:nvPr/>
            </p:nvGrpSpPr>
            <p:grpSpPr>
              <a:xfrm>
                <a:off x="6451560" y="3664080"/>
                <a:ext cx="1041480" cy="596880"/>
                <a:chOff x="6451560" y="3664080"/>
                <a:chExt cx="1041480" cy="596880"/>
              </a:xfrm>
            </p:grpSpPr>
            <p:sp>
              <p:nvSpPr>
                <p:cNvPr id="796" name=""/>
                <p:cNvSpPr/>
                <p:nvPr/>
              </p:nvSpPr>
              <p:spPr>
                <a:xfrm>
                  <a:off x="6451560" y="366408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489720" y="3701880"/>
                  <a:ext cx="965160" cy="52416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98" name=""/>
            <p:cNvGrpSpPr/>
            <p:nvPr/>
          </p:nvGrpSpPr>
          <p:grpSpPr>
            <a:xfrm>
              <a:off x="6424560" y="4359240"/>
              <a:ext cx="1068480" cy="629280"/>
              <a:chOff x="6424560" y="4359240"/>
              <a:chExt cx="1068480" cy="629280"/>
            </a:xfrm>
          </p:grpSpPr>
          <p:sp>
            <p:nvSpPr>
              <p:cNvPr id="799" name=""/>
              <p:cNvSpPr/>
              <p:nvPr/>
            </p:nvSpPr>
            <p:spPr>
              <a:xfrm>
                <a:off x="6570000" y="4591080"/>
                <a:ext cx="80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ntext</a:t>
                </a:r>
                <a:endParaRPr b="0" lang="en-US" sz="2000" spc="-1" strike="noStrike">
                  <a:solidFill>
                    <a:srgbClr val="ffffff"/>
                  </a:solidFill>
                  <a:latin typeface="Times New Roman"/>
                </a:endParaRPr>
              </a:p>
            </p:txBody>
          </p:sp>
          <p:sp>
            <p:nvSpPr>
              <p:cNvPr id="800" name=""/>
              <p:cNvSpPr/>
              <p:nvPr/>
            </p:nvSpPr>
            <p:spPr>
              <a:xfrm>
                <a:off x="6424560" y="4362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a:t>
                </a:r>
                <a:endParaRPr b="0" lang="en-US" sz="1400" spc="-1" strike="noStrike">
                  <a:solidFill>
                    <a:srgbClr val="ffffff"/>
                  </a:solidFill>
                  <a:latin typeface="Times New Roman"/>
                </a:endParaRPr>
              </a:p>
            </p:txBody>
          </p:sp>
          <p:grpSp>
            <p:nvGrpSpPr>
              <p:cNvPr id="801" name=""/>
              <p:cNvGrpSpPr/>
              <p:nvPr/>
            </p:nvGrpSpPr>
            <p:grpSpPr>
              <a:xfrm>
                <a:off x="6451560" y="4359240"/>
                <a:ext cx="1041480" cy="596880"/>
                <a:chOff x="6451560" y="4359240"/>
                <a:chExt cx="1041480" cy="596880"/>
              </a:xfrm>
            </p:grpSpPr>
            <p:sp>
              <p:nvSpPr>
                <p:cNvPr id="802" name=""/>
                <p:cNvSpPr/>
                <p:nvPr/>
              </p:nvSpPr>
              <p:spPr>
                <a:xfrm>
                  <a:off x="6451560" y="4359240"/>
                  <a:ext cx="1041480" cy="59688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6489720" y="4397400"/>
                  <a:ext cx="965160" cy="5238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04" name=""/>
            <p:cNvSpPr/>
            <p:nvPr/>
          </p:nvSpPr>
          <p:spPr>
            <a:xfrm flipV="1">
              <a:off x="4562640" y="2400120"/>
              <a:ext cx="0" cy="153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2276640" y="2390760"/>
              <a:ext cx="228600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2276640" y="2247840"/>
              <a:ext cx="28857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V="1">
              <a:off x="2286000" y="2209320"/>
              <a:ext cx="2733840" cy="9720"/>
            </a:xfrm>
            <a:prstGeom prst="line">
              <a:avLst/>
            </a:prstGeom>
            <a:ln w="12600">
              <a:solidFill>
                <a:srgbClr val="ffffff"/>
              </a:solidFill>
              <a:prstDash val="sysDot"/>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808" name=""/>
            <p:cNvSpPr/>
            <p:nvPr/>
          </p:nvSpPr>
          <p:spPr>
            <a:xfrm>
              <a:off x="2457360" y="2371680"/>
              <a:ext cx="21430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4591080" y="2371680"/>
              <a:ext cx="0" cy="1571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191200" y="40863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5191200" y="4448160"/>
              <a:ext cx="124776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flipH="1">
              <a:off x="4647960" y="4562640"/>
              <a:ext cx="11160" cy="43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533680" y="4172040"/>
              <a:ext cx="157176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523960" y="5019840"/>
              <a:ext cx="1714680" cy="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flipV="1">
              <a:off x="4248000" y="45626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2685960" y="4143240"/>
              <a:ext cx="14288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2666880" y="4991040"/>
              <a:ext cx="1543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V="1">
              <a:off x="4219560" y="4562640"/>
              <a:ext cx="0" cy="428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5353200" y="441972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5353200" y="4057560"/>
              <a:ext cx="952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4667400" y="2419200"/>
              <a:ext cx="0" cy="15242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4686480" y="2416320"/>
              <a:ext cx="342720" cy="12600"/>
            </a:xfrm>
            <a:prstGeom prst="line">
              <a:avLst/>
            </a:prstGeom>
            <a:ln w="12600">
              <a:solidFill>
                <a:srgbClr val="ffffff"/>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To Make of “Main” Scenario Interactions</a:t>
            </a:r>
            <a:endParaRPr b="0" lang="en-US" sz="3600" spc="-1" strike="noStrike">
              <a:solidFill>
                <a:srgbClr val="ffffff"/>
              </a:solidFill>
              <a:latin typeface="Century Schoolbook"/>
            </a:endParaRPr>
          </a:p>
        </p:txBody>
      </p:sp>
      <p:sp>
        <p:nvSpPr>
          <p:cNvPr id="824" name="PlaceHolder 2"/>
          <p:cNvSpPr>
            <a:spLocks noGrp="1"/>
          </p:cNvSpPr>
          <p:nvPr>
            <p:ph/>
          </p:nvPr>
        </p:nvSpPr>
        <p:spPr>
          <a:xfrm>
            <a:off x="923400" y="2201400"/>
            <a:ext cx="7458120" cy="40086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ibi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all of the same cla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 be subdi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are of different classes and “main” cannot easily be subdivi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differentiate between the last two options, see whether it is possible to divide the main module based on the three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1</a:t>
            </a:r>
            <a:endParaRPr b="0" lang="en-US" sz="3600" spc="-1" strike="noStrike">
              <a:solidFill>
                <a:srgbClr val="ffffff"/>
              </a:solidFill>
              <a:latin typeface="Century Schoolbook"/>
            </a:endParaRPr>
          </a:p>
        </p:txBody>
      </p:sp>
      <p:sp>
        <p:nvSpPr>
          <p:cNvPr id="826" name="PlaceHolder 2"/>
          <p:cNvSpPr>
            <a:spLocks noGrp="1"/>
          </p:cNvSpPr>
          <p:nvPr>
            <p:ph/>
          </p:nvPr>
        </p:nvSpPr>
        <p:spPr>
          <a:xfrm>
            <a:off x="936720" y="173196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 scenarios provide a</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order differentiation mechanism for competing archite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chanism for eliciting and understanding structures of architectures (both static and dynam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2</a:t>
            </a:r>
            <a:endParaRPr b="0" lang="en-US" sz="3600" spc="-1" strike="noStrike">
              <a:solidFill>
                <a:srgbClr val="ffffff"/>
              </a:solidFill>
              <a:latin typeface="Century Schoolbook"/>
            </a:endParaRPr>
          </a:p>
        </p:txBody>
      </p:sp>
      <p:sp>
        <p:nvSpPr>
          <p:cNvPr id="8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AAM evaluation produc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results: provides insight into system capabiliti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ial result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some documentation of architecture</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s as communication vehicle among stakehol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ssons from SAAM -3</a:t>
            </a:r>
            <a:endParaRPr b="0" lang="en-US" sz="3600" spc="-1" strike="noStrike">
              <a:solidFill>
                <a:srgbClr val="ffffff"/>
              </a:solidFill>
              <a:latin typeface="Century Schoolbook"/>
            </a:endParaRPr>
          </a:p>
        </p:txBody>
      </p:sp>
      <p:sp>
        <p:nvSpPr>
          <p:cNvPr id="830" name="PlaceHolder 2"/>
          <p:cNvSpPr>
            <a:spLocks noGrp="1"/>
          </p:cNvSpPr>
          <p:nvPr>
            <p:ph/>
          </p:nvPr>
        </p:nvSpPr>
        <p:spPr>
          <a:xfrm>
            <a:off x="936720" y="1744560"/>
            <a:ext cx="8029440" cy="4456080"/>
          </a:xfrm>
          <a:prstGeom prst="rect">
            <a:avLst/>
          </a:prstGeom>
          <a:noFill/>
          <a:ln w="0">
            <a:noFill/>
          </a:ln>
        </p:spPr>
        <p:txBody>
          <a:bodyPr lIns="0" rIns="0" tIns="0" bIns="0" anchor="t">
            <a:normAutofit fontScale="97000"/>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important to have stakeholders present at evaluation meeting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find it to be educational.</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evaluators may not have the experience to keep presenters “honest.”</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and traditional architectural metrics</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pling and cohesion metrics do not represent different patterns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cenario interaction shows low cohesion.</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with widespread hits shows high coupling.</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are tied to the context of use.</a:t>
            </a:r>
            <a:endParaRPr b="1" lang="en-US" sz="2400" spc="-1" strike="noStrike">
              <a:solidFill>
                <a:srgbClr val="ffffff"/>
              </a:solidFill>
              <a:latin typeface="Arial"/>
            </a:endParaRPr>
          </a:p>
          <a:p>
            <a:pPr lvl="1" marL="327600" indent="-21672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provides a means of sharpening the use of coupling and cohesion metric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en and Why To Analyze Architecture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22525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acquiring a system</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analysis is useful if the system will have a long lifetime within organization.</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rovides a mechanism for understanding how the system will evolve.</a:t>
            </a:r>
            <a:endParaRPr b="1" lang="en-US" sz="2400" spc="-1" strike="noStrike">
              <a:solidFill>
                <a:srgbClr val="ffffff"/>
              </a:solidFill>
              <a:latin typeface="Arial"/>
            </a:endParaRPr>
          </a:p>
          <a:p>
            <a:pPr lvl="1" marL="338040" indent="-223560">
              <a:lnSpc>
                <a:spcPct val="8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can also provide insight into other visual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Reviews</a:t>
            </a:r>
            <a:endParaRPr b="0" lang="en-US" sz="3600" spc="-1" strike="noStrike">
              <a:solidFill>
                <a:srgbClr val="ffffff"/>
              </a:solidFill>
              <a:latin typeface="Century Schoolbook"/>
            </a:endParaRPr>
          </a:p>
        </p:txBody>
      </p:sp>
      <p:sp>
        <p:nvSpPr>
          <p:cNvPr id="8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s are a key step in architecture-based development.  They include a method (such as SAAM), but the full practice includes more than th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benefits of architectural review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rchitectural review techniq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conditions for an architectural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review activ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s from an architectural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sts of Architectural Reviews</a:t>
            </a:r>
            <a:endParaRPr b="0" lang="en-US" sz="3600" spc="-1" strike="noStrike">
              <a:solidFill>
                <a:srgbClr val="ffffff"/>
              </a:solidFill>
              <a:latin typeface="Century Schoolbook"/>
            </a:endParaRPr>
          </a:p>
        </p:txBody>
      </p:sp>
      <p:sp>
        <p:nvSpPr>
          <p:cNvPr id="8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three different types of costs of holding regular architectural review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direct staff cos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organizational overhead</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ndirect staff costs</a:t>
            </a:r>
            <a:endParaRPr b="1" lang="en-US" sz="2400" spc="-1" strike="noStrike">
              <a:solidFill>
                <a:srgbClr val="ffffff"/>
              </a:solidFill>
              <a:latin typeface="Arial"/>
            </a:endParaRPr>
          </a:p>
        </p:txBody>
      </p:sp>
      <p:graphicFrame>
        <p:nvGraphicFramePr>
          <p:cNvPr id="835" name=""/>
          <p:cNvGraphicFramePr/>
          <p:nvPr/>
        </p:nvGraphicFramePr>
        <p:xfrm>
          <a:off x="8097840" y="50760"/>
          <a:ext cx="993600" cy="1098720"/>
        </p:xfrm>
        <a:graphic>
          <a:graphicData uri="http://schemas.openxmlformats.org/presentationml/2006/ole">
            <p:oleObj r:id="rId1" spid="">
              <p:embed/>
              <p:pic>
                <p:nvPicPr>
                  <p:cNvPr id="836"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1</a:t>
            </a:r>
            <a:endParaRPr b="0" lang="en-US" sz="3600" spc="-1" strike="noStrike">
              <a:solidFill>
                <a:srgbClr val="ffffff"/>
              </a:solidFill>
              <a:latin typeface="Century Schoolbook"/>
            </a:endParaRPr>
          </a:p>
        </p:txBody>
      </p:sp>
      <p:sp>
        <p:nvSpPr>
          <p:cNvPr id="838" name="PlaceHolder 2"/>
          <p:cNvSpPr>
            <a:spLocks noGrp="1"/>
          </p:cNvSpPr>
          <p:nvPr>
            <p:ph/>
          </p:nvPr>
        </p:nvSpPr>
        <p:spPr>
          <a:xfrm>
            <a:off x="936720" y="1782720"/>
            <a:ext cx="7889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 full-scale reviews done on projects of 700 </a:t>
            </a:r>
            <a:r>
              <a:rPr b="1" lang="en-US" sz="2400" spc="-1" strike="noStrike">
                <a:solidFill>
                  <a:srgbClr val="ffffff"/>
                </a:solidFill>
                <a:latin typeface="Arial"/>
              </a:rPr>
              <a:t>	</a:t>
            </a:r>
            <a:r>
              <a:rPr b="1" lang="en-US" sz="2400" spc="-1" strike="noStrike">
                <a:solidFill>
                  <a:srgbClr val="ffffff"/>
                </a:solidFill>
                <a:latin typeface="Arial"/>
              </a:rPr>
              <a:t>staff-days or long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70 staff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 reviews done on projects with at least 500  </a:t>
            </a:r>
            <a:br>
              <a:rPr sz="2400"/>
            </a:br>
            <a:r>
              <a:rPr b="1" lang="en-US" sz="2400" spc="-1" strike="noStrike">
                <a:solidFill>
                  <a:srgbClr val="ffffff"/>
                </a:solidFill>
                <a:latin typeface="Arial"/>
              </a:rPr>
              <a:t>KSLOC each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50,00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s of Direct Staff Costs -2</a:t>
            </a:r>
            <a:endParaRPr b="0" lang="en-US" sz="3600" spc="-1" strike="noStrike">
              <a:solidFill>
                <a:srgbClr val="ffffff"/>
              </a:solidFill>
              <a:latin typeface="Century Schoolbook"/>
            </a:endParaRPr>
          </a:p>
        </p:txBody>
      </p:sp>
      <p:sp>
        <p:nvSpPr>
          <p:cNvPr id="8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evalu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12 reviews done on projects ranging from 100 KSLOC to 1,00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cost per review: 14 to 20 staff-day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Organizational Overhead </a:t>
            </a:r>
            <a:endParaRPr b="0" lang="en-US" sz="3600" spc="-1" strike="noStrike">
              <a:solidFill>
                <a:srgbClr val="ffffff"/>
              </a:solidFill>
              <a:latin typeface="Century Schoolbook"/>
            </a:endParaRPr>
          </a:p>
        </p:txBody>
      </p:sp>
      <p:sp>
        <p:nvSpPr>
          <p:cNvPr id="842" name="PlaceHolder 2"/>
          <p:cNvSpPr>
            <a:spLocks noGrp="1"/>
          </p:cNvSpPr>
          <p:nvPr>
            <p:ph/>
          </p:nvPr>
        </p:nvSpPr>
        <p:spPr>
          <a:xfrm>
            <a:off x="923400" y="2214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s of establishing a corporate review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verhea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expen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 th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ocating personnel to a central lo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of Indirect Staff Costs</a:t>
            </a:r>
            <a:endParaRPr b="0" lang="en-US" sz="3600" spc="-1" strike="noStrike">
              <a:solidFill>
                <a:srgbClr val="ffffff"/>
              </a:solidFill>
              <a:latin typeface="Century Schoolbook"/>
            </a:endParaRPr>
          </a:p>
        </p:txBody>
      </p:sp>
      <p:sp>
        <p:nvSpPr>
          <p:cNvPr id="84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senior designers for evaluations instead of desig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productivity (due to reassignment of superior desig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spent training staff in review techniq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enefits of Architectural Reviews</a:t>
            </a:r>
            <a:endParaRPr b="0" lang="en-US" sz="3600" spc="-1" strike="noStrike">
              <a:solidFill>
                <a:srgbClr val="ffffff"/>
              </a:solidFill>
              <a:latin typeface="Century Schoolbook"/>
            </a:endParaRPr>
          </a:p>
        </p:txBody>
      </p:sp>
      <p:sp>
        <p:nvSpPr>
          <p:cNvPr id="84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different types of benefits result from holding architectural review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financial</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forces preparation for review</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early detection of problem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validation of requirements</a:t>
            </a:r>
            <a:endParaRPr b="1" lang="en-US" sz="2400" spc="-1" strike="noStrike">
              <a:solidFill>
                <a:srgbClr val="ffffff"/>
              </a:solidFill>
              <a:latin typeface="Arial"/>
            </a:endParaRPr>
          </a:p>
          <a:p>
            <a:pPr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improved architectures</a:t>
            </a:r>
            <a:endParaRPr b="1" lang="en-US" sz="2400" spc="-1" strike="noStrike">
              <a:solidFill>
                <a:srgbClr val="ffffff"/>
              </a:solidFill>
              <a:latin typeface="Arial"/>
            </a:endParaRPr>
          </a:p>
        </p:txBody>
      </p:sp>
      <p:graphicFrame>
        <p:nvGraphicFramePr>
          <p:cNvPr id="847" name=""/>
          <p:cNvGraphicFramePr/>
          <p:nvPr/>
        </p:nvGraphicFramePr>
        <p:xfrm>
          <a:off x="8097840" y="50760"/>
          <a:ext cx="993600" cy="1098720"/>
        </p:xfrm>
        <a:graphic>
          <a:graphicData uri="http://schemas.openxmlformats.org/presentationml/2006/ole">
            <p:oleObj r:id="rId1" spid="">
              <p:embed/>
              <p:pic>
                <p:nvPicPr>
                  <p:cNvPr id="848"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inancial Benefits of Reviews</a:t>
            </a:r>
            <a:endParaRPr b="0" lang="en-US" sz="3600" spc="-1" strike="noStrike">
              <a:solidFill>
                <a:srgbClr val="ffffff"/>
              </a:solidFill>
              <a:latin typeface="Century Schoolbook"/>
            </a:endParaRPr>
          </a:p>
        </p:txBody>
      </p:sp>
      <p:sp>
        <p:nvSpPr>
          <p:cNvPr id="85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amp;T estimated that each reviewed project saves 10% of total cost as a result of the review. Thus, a 70-staff-day review of projects of 700 staff-days pays for itself.</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ltants who perform architecture evaluations report 80% repeat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orces Preparation for Review</a:t>
            </a:r>
            <a:endParaRPr b="0" lang="en-US" sz="3600" spc="-1" strike="noStrike">
              <a:solidFill>
                <a:srgbClr val="ffffff"/>
              </a:solidFill>
              <a:latin typeface="Century Schoolbook"/>
            </a:endParaRPr>
          </a:p>
        </p:txBody>
      </p:sp>
      <p:sp>
        <p:nvSpPr>
          <p:cNvPr id="852" name="PlaceHolder 2"/>
          <p:cNvSpPr>
            <a:spLocks noGrp="1"/>
          </p:cNvSpPr>
          <p:nvPr>
            <p:ph/>
          </p:nvPr>
        </p:nvSpPr>
        <p:spPr>
          <a:xfrm>
            <a:off x="926640" y="1778040"/>
            <a:ext cx="72392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specifications must be provided, hence they must exist or be cre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reviews use standard questions, and the architect can prepare ahead to ensure that the architecture scores wel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make the criteria for evaluation explicit by prioritizing requirements or quality goa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arly Detection of Problems</a:t>
            </a:r>
            <a:endParaRPr b="0" lang="en-US" sz="3600" spc="-1" strike="noStrike">
              <a:solidFill>
                <a:srgbClr val="ffffff"/>
              </a:solidFill>
              <a:latin typeface="Century Schoolbook"/>
            </a:endParaRPr>
          </a:p>
        </p:txBody>
      </p:sp>
      <p:sp>
        <p:nvSpPr>
          <p:cNvPr id="85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s that can be found by an architectural level inspection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reasonable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s associated with potential future modif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arlier in the life cycle that problems are found, the easier it is to fix th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Can Be Analyzed in Isolation</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2214360"/>
            <a:ext cx="7301160" cy="4351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techniques can be used for different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ing for modifiability does not affect analyzing for performanc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is performed on an artifact and reveals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sign method must take into account trade-offs and interactions between propert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Validation of Requirements</a:t>
            </a:r>
            <a:endParaRPr b="0" lang="en-US" sz="3600" spc="-1" strike="noStrike">
              <a:solidFill>
                <a:srgbClr val="ffffff"/>
              </a:solidFill>
              <a:latin typeface="Century Schoolbook"/>
            </a:endParaRPr>
          </a:p>
        </p:txBody>
      </p:sp>
      <p:sp>
        <p:nvSpPr>
          <p:cNvPr id="85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put stakeholders in the same room with each other, often for the firs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s conflicts and tradeoff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forum for negotiated resolution of probl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often results in the generation of new requirements or the clarification of existing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mproved Architectures</a:t>
            </a:r>
            <a:endParaRPr b="0" lang="en-US" sz="3600" spc="-1" strike="noStrike">
              <a:solidFill>
                <a:srgbClr val="ffffff"/>
              </a:solidFill>
              <a:latin typeface="Century Schoolbook"/>
            </a:endParaRPr>
          </a:p>
        </p:txBody>
      </p:sp>
      <p:sp>
        <p:nvSpPr>
          <p:cNvPr id="85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s anticipate types of questions raised at reviews 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architectures with questions in mi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documentation of the type needed at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 explicit consideration to qualities to be review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Techniques</a:t>
            </a:r>
            <a:endParaRPr b="0" lang="en-US" sz="3600" spc="-1" strike="noStrike">
              <a:solidFill>
                <a:srgbClr val="ffffff"/>
              </a:solidFill>
              <a:latin typeface="Century Schoolbook"/>
            </a:endParaRPr>
          </a:p>
        </p:txBody>
      </p:sp>
      <p:sp>
        <p:nvSpPr>
          <p:cNvPr id="86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a variety of techniques for performing architectural reviews; each has a different cost and provides different informati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se techniques fall into one of two basic categorie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questioning techniques: applied to evaluate  </a:t>
            </a:r>
            <a:r>
              <a:rPr b="1" lang="en-US" sz="2400" spc="-1" strike="noStrike">
                <a:solidFill>
                  <a:srgbClr val="ffffff"/>
                </a:solidFill>
                <a:latin typeface="Arial"/>
              </a:rPr>
              <a:t>	</a:t>
            </a:r>
            <a:r>
              <a:rPr b="1" lang="en-US" sz="2400" spc="-1" strike="noStrike">
                <a:solidFill>
                  <a:srgbClr val="ffffff"/>
                </a:solidFill>
                <a:latin typeface="Arial"/>
              </a:rPr>
              <a:t>any aspect of an architecture for any given  </a:t>
            </a:r>
            <a:r>
              <a:rPr b="1" lang="en-US" sz="2400" spc="-1" strike="noStrike">
                <a:solidFill>
                  <a:srgbClr val="ffffff"/>
                </a:solidFill>
                <a:latin typeface="Arial"/>
              </a:rPr>
              <a:t>	</a:t>
            </a:r>
            <a:r>
              <a:rPr b="1" lang="en-US" sz="2400" spc="-1" strike="noStrike">
                <a:solidFill>
                  <a:srgbClr val="ffffff"/>
                </a:solidFill>
                <a:latin typeface="Arial"/>
              </a:rPr>
              <a:t>reason</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measuring techniques: applied to answer </a:t>
            </a:r>
            <a:r>
              <a:rPr b="1" lang="en-US" sz="2400" spc="-1" strike="noStrike">
                <a:solidFill>
                  <a:srgbClr val="ffffff"/>
                </a:solidFill>
                <a:latin typeface="Arial"/>
              </a:rPr>
              <a:t>	</a:t>
            </a:r>
            <a:r>
              <a:rPr b="1" lang="en-US" sz="2400" spc="-1" strike="noStrike">
                <a:solidFill>
                  <a:srgbClr val="ffffff"/>
                </a:solidFill>
                <a:latin typeface="Arial"/>
              </a:rPr>
              <a:t>questions about a specific qua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1</a:t>
            </a:r>
            <a:endParaRPr b="0" lang="en-US" sz="3600" spc="-1" strike="noStrike">
              <a:solidFill>
                <a:srgbClr val="ffffff"/>
              </a:solidFill>
              <a:latin typeface="Century Schoolbook"/>
            </a:endParaRPr>
          </a:p>
        </p:txBody>
      </p:sp>
      <p:sp>
        <p:nvSpPr>
          <p:cNvPr id="862" name="PlaceHolder 2"/>
          <p:cNvSpPr>
            <a:spLocks noGrp="1"/>
          </p:cNvSpPr>
          <p:nvPr>
            <p:ph/>
          </p:nvPr>
        </p:nvSpPr>
        <p:spPr>
          <a:xfrm>
            <a:off x="923400" y="17953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s a specific interaction between stakeholders and a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SAAM</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based techniqu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pply to all architectures (especially those in a single domai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questions ask about details of a specific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ask about the development process.</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Is there a single architect?”</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How do you ensure conform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Questioning Techniques -2</a:t>
            </a:r>
            <a:endParaRPr b="0" lang="en-US" sz="3600" spc="-1" strike="noStrike">
              <a:solidFill>
                <a:srgbClr val="ffffff"/>
              </a:solidFill>
              <a:latin typeface="Century Schoolbook"/>
            </a:endParaRPr>
          </a:p>
        </p:txBody>
      </p:sp>
      <p:sp>
        <p:nvSpPr>
          <p:cNvPr id="86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 are reused; they reflect more maturity or experience within a domain.  Scenarios must be developed anew for each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1</a:t>
            </a:r>
            <a:endParaRPr b="0" lang="en-US" sz="3600" spc="-1" strike="noStrike">
              <a:solidFill>
                <a:srgbClr val="ffffff"/>
              </a:solidFill>
              <a:latin typeface="Century Schoolbook"/>
            </a:endParaRPr>
          </a:p>
        </p:txBody>
      </p:sp>
      <p:sp>
        <p:nvSpPr>
          <p:cNvPr id="86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rics: quantitative interpretations of observable meas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xity metrics identify areas where modifications may be difficul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metrics suggest areas where bottlenecks may occu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 tend to focus 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of metric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underlying the interpretation of the metrics (e.g., assumed event distrib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asuring Techniques -2</a:t>
            </a:r>
            <a:endParaRPr b="0" lang="en-US" sz="3600" spc="-1" strike="noStrike">
              <a:solidFill>
                <a:srgbClr val="ffffff"/>
              </a:solidFill>
              <a:latin typeface="Century Schoolbook"/>
            </a:endParaRPr>
          </a:p>
        </p:txBody>
      </p:sp>
      <p:sp>
        <p:nvSpPr>
          <p:cNvPr id="8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prototypes, experiments: domain-specific models of an architecture or performance mod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expensive to cre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exist as part of development anywa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answer issues raised by questioning technique (e.g., “What evidence do you have that performance is adequat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perties of Review Techniques</a:t>
            </a:r>
            <a:endParaRPr b="0" lang="en-US" sz="3600" spc="-1" strike="noStrike">
              <a:solidFill>
                <a:srgbClr val="ffffff"/>
              </a:solidFill>
              <a:latin typeface="Century Schoolbook"/>
            </a:endParaRPr>
          </a:p>
        </p:txBody>
      </p:sp>
      <p:sp>
        <p:nvSpPr>
          <p:cNvPr id="870" name=""/>
          <p:cNvSpPr/>
          <p:nvPr/>
        </p:nvSpPr>
        <p:spPr>
          <a:xfrm>
            <a:off x="987480" y="1731960"/>
            <a:ext cx="7640640" cy="203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eview Technique</a:t>
            </a:r>
            <a:r>
              <a:rPr b="1" lang="en-US" sz="1400" spc="-1" strike="noStrike">
                <a:solidFill>
                  <a:srgbClr val="ffffff"/>
                </a:solidFill>
                <a:latin typeface="Arial"/>
              </a:rPr>
              <a:t>	</a:t>
            </a:r>
            <a:r>
              <a:rPr b="1" lang="en-US" sz="1400" spc="-1" strike="noStrike">
                <a:solidFill>
                  <a:srgbClr val="ffffff"/>
                </a:solidFill>
                <a:latin typeface="Arial"/>
              </a:rPr>
              <a:t>Generality</a:t>
            </a:r>
            <a:r>
              <a:rPr b="1" lang="en-US" sz="1400" spc="-1" strike="noStrike">
                <a:solidFill>
                  <a:srgbClr val="ffffff"/>
                </a:solidFill>
                <a:latin typeface="Arial"/>
              </a:rPr>
              <a:t>	</a:t>
            </a:r>
            <a:r>
              <a:rPr b="1" lang="en-US" sz="1400" spc="-1" strike="noStrike">
                <a:solidFill>
                  <a:srgbClr val="ffffff"/>
                </a:solidFill>
                <a:latin typeface="Arial"/>
              </a:rPr>
              <a:t>Level of Detail</a:t>
            </a:r>
            <a:r>
              <a:rPr b="1" lang="en-US" sz="1400" spc="-1" strike="noStrike">
                <a:solidFill>
                  <a:srgbClr val="ffffff"/>
                </a:solidFill>
                <a:latin typeface="Arial"/>
              </a:rPr>
              <a:t>	</a:t>
            </a:r>
            <a:r>
              <a:rPr b="1" lang="en-US" sz="1400" spc="-1" strike="noStrike">
                <a:solidFill>
                  <a:srgbClr val="ffffff"/>
                </a:solidFill>
                <a:latin typeface="Arial"/>
              </a:rPr>
              <a:t>Phase</a:t>
            </a:r>
            <a:r>
              <a:rPr b="1" lang="en-US" sz="1400" spc="-1" strike="noStrike">
                <a:solidFill>
                  <a:srgbClr val="ffffff"/>
                </a:solidFill>
                <a:latin typeface="Arial"/>
              </a:rPr>
              <a:t>	</a:t>
            </a:r>
            <a:r>
              <a:rPr b="1" lang="en-US" sz="1400" spc="-1" strike="noStrike">
                <a:solidFill>
                  <a:srgbClr val="ffffff"/>
                </a:solidFill>
                <a:latin typeface="Arial"/>
              </a:rPr>
              <a:t>What i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Reviewed</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Questioning   Questionnaire</a:t>
            </a:r>
            <a:r>
              <a:rPr b="1" lang="en-US" sz="1400" spc="-1" strike="noStrike">
                <a:solidFill>
                  <a:srgbClr val="ffffff"/>
                </a:solidFill>
                <a:latin typeface="Arial"/>
              </a:rPr>
              <a:t>	</a:t>
            </a:r>
            <a:r>
              <a:rPr b="1" lang="en-US" sz="1400" spc="-1" strike="noStrike">
                <a:solidFill>
                  <a:srgbClr val="ffffff"/>
                </a:solidFill>
                <a:latin typeface="Arial"/>
              </a:rPr>
              <a:t>general</a:t>
            </a:r>
            <a:r>
              <a:rPr b="1" lang="en-US" sz="1400" spc="-1" strike="noStrike">
                <a:solidFill>
                  <a:srgbClr val="ffffff"/>
                </a:solidFill>
                <a:latin typeface="Arial"/>
              </a:rPr>
              <a:t>	</a:t>
            </a:r>
            <a:r>
              <a:rPr b="1" lang="en-US" sz="1400" spc="-1" strike="noStrike">
                <a:solidFill>
                  <a:srgbClr val="ffffff"/>
                </a:solidFill>
                <a:latin typeface="Arial"/>
              </a:rPr>
              <a:t>coars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process</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cenarios</a:t>
            </a:r>
            <a:r>
              <a:rPr b="1" lang="en-US" sz="1400" spc="-1" strike="noStrike">
                <a:solidFill>
                  <a:srgbClr val="ffffff"/>
                </a:solidFill>
                <a:latin typeface="Arial"/>
              </a:rPr>
              <a:t>	</a:t>
            </a:r>
            <a:r>
              <a:rPr b="1" lang="en-US" sz="1400" spc="-1" strike="noStrike">
                <a:solidFill>
                  <a:srgbClr val="ffffff"/>
                </a:solidFill>
                <a:latin typeface="Arial"/>
              </a:rPr>
              <a:t>system-</a:t>
            </a:r>
            <a:r>
              <a:rPr b="1" lang="en-US" sz="1400" spc="-1" strike="noStrike">
                <a:solidFill>
                  <a:srgbClr val="ffffff"/>
                </a:solidFill>
                <a:latin typeface="Arial"/>
              </a:rPr>
              <a:t>	</a:t>
            </a:r>
            <a:r>
              <a:rPr b="1" lang="en-US" sz="1400" spc="-1" strike="noStrike">
                <a:solidFill>
                  <a:srgbClr val="ffffff"/>
                </a:solidFill>
                <a:latin typeface="Arial"/>
              </a:rPr>
              <a:t>medium</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Measuring</a:t>
            </a:r>
            <a:r>
              <a:rPr b="1" lang="en-US" sz="1400" spc="-1" strike="noStrike">
                <a:solidFill>
                  <a:srgbClr val="ffffff"/>
                </a:solidFill>
                <a:latin typeface="Arial"/>
              </a:rPr>
              <a:t>	</a:t>
            </a:r>
            <a:r>
              <a:rPr b="1" lang="en-US" sz="1400" spc="-1" strike="noStrike">
                <a:solidFill>
                  <a:srgbClr val="ffffff"/>
                </a:solidFill>
                <a:latin typeface="Arial"/>
              </a:rPr>
              <a:t>Metrics</a:t>
            </a:r>
            <a:r>
              <a:rPr b="1" lang="en-US" sz="1400" spc="-1" strike="noStrike">
                <a:solidFill>
                  <a:srgbClr val="ffffff"/>
                </a:solidFill>
                <a:latin typeface="Arial"/>
              </a:rPr>
              <a:t>	</a:t>
            </a:r>
            <a:r>
              <a:rPr b="1" lang="en-US" sz="1400" spc="-1" strike="noStrike">
                <a:solidFill>
                  <a:srgbClr val="ffffff"/>
                </a:solidFill>
                <a:latin typeface="Arial"/>
              </a:rPr>
              <a:t>general or</a:t>
            </a:r>
            <a:r>
              <a:rPr b="1" lang="en-US" sz="1400" spc="-1" strike="noStrike">
                <a:solidFill>
                  <a:srgbClr val="ffffff"/>
                </a:solidFill>
                <a:latin typeface="Arial"/>
              </a:rPr>
              <a:t>	</a:t>
            </a:r>
            <a:r>
              <a:rPr b="1" lang="en-US" sz="1400" spc="-1" strike="noStrike">
                <a:solidFill>
                  <a:srgbClr val="ffffff"/>
                </a:solidFill>
                <a:latin typeface="Arial"/>
              </a:rPr>
              <a:t>fine</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middle</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techniqu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domain-</a:t>
            </a:r>
            <a:br>
              <a:rPr sz="1400"/>
            </a:b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pecific</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totype</a:t>
            </a:r>
            <a:r>
              <a:rPr b="1" lang="en-US" sz="1400" spc="-1" strike="noStrike">
                <a:solidFill>
                  <a:srgbClr val="ffffff"/>
                </a:solidFill>
                <a:latin typeface="Arial"/>
              </a:rPr>
              <a:t>	</a:t>
            </a:r>
            <a:r>
              <a:rPr b="1" lang="en-US" sz="1400" spc="-1" strike="noStrike">
                <a:solidFill>
                  <a:srgbClr val="ffffff"/>
                </a:solidFill>
                <a:latin typeface="Arial"/>
              </a:rPr>
              <a:t>domain-</a:t>
            </a:r>
            <a:r>
              <a:rPr b="1" lang="en-US" sz="1400" spc="-1" strike="noStrike">
                <a:solidFill>
                  <a:srgbClr val="ffffff"/>
                </a:solidFill>
                <a:latin typeface="Arial"/>
              </a:rPr>
              <a:t>	</a:t>
            </a:r>
            <a:r>
              <a:rPr b="1" lang="en-US" sz="1400" spc="-1" strike="noStrike">
                <a:solidFill>
                  <a:srgbClr val="ffffff"/>
                </a:solidFill>
                <a:latin typeface="Arial"/>
              </a:rPr>
              <a:t>varies</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early</a:t>
            </a:r>
            <a:r>
              <a:rPr b="1" lang="en-US" sz="1400" spc="-1" strike="noStrike">
                <a:solidFill>
                  <a:srgbClr val="ffffff"/>
                </a:solidFill>
                <a:latin typeface="Arial"/>
              </a:rPr>
              <a:t>	</a:t>
            </a:r>
            <a:r>
              <a:rPr b="1" lang="en-US" sz="1400" spc="-1" strike="noStrike">
                <a:solidFill>
                  <a:srgbClr val="ffffff"/>
                </a:solidFill>
                <a:latin typeface="Arial"/>
              </a:rPr>
              <a:t>artifact</a:t>
            </a:r>
            <a:br>
              <a:rPr sz="1400"/>
            </a:br>
            <a:r>
              <a:rPr b="1" lang="en-US" sz="1400" spc="-1" strike="noStrike">
                <a:solidFill>
                  <a:srgbClr val="ffffff"/>
                </a:solidFill>
                <a:latin typeface="Arial"/>
              </a:rPr>
              <a:t>	</a:t>
            </a:r>
            <a:r>
              <a:rPr b="1" lang="en-US" sz="1400" spc="-1" strike="noStrike">
                <a:solidFill>
                  <a:srgbClr val="ffffff"/>
                </a:solidFill>
                <a:latin typeface="Arial"/>
              </a:rPr>
              <a:t>Simulation</a:t>
            </a:r>
            <a:r>
              <a:rPr b="1" lang="en-US" sz="1400" spc="-1" strike="noStrike">
                <a:solidFill>
                  <a:srgbClr val="ffffff"/>
                </a:solidFill>
                <a:latin typeface="Arial"/>
              </a:rPr>
              <a:t>	</a:t>
            </a:r>
            <a:r>
              <a:rPr b="1" lang="en-US" sz="1400" spc="-1" strike="noStrike">
                <a:solidFill>
                  <a:srgbClr val="ffffff"/>
                </a:solidFill>
                <a:latin typeface="Arial"/>
              </a:rPr>
              <a:t>specific</a:t>
            </a:r>
            <a:br>
              <a:rPr sz="1400"/>
            </a:br>
            <a:r>
              <a:rPr b="1" lang="en-US" sz="1400" spc="-1" strike="noStrike">
                <a:solidFill>
                  <a:srgbClr val="ffffff"/>
                </a:solidFill>
                <a:latin typeface="Arial"/>
              </a:rPr>
              <a:t>	</a:t>
            </a:r>
            <a:r>
              <a:rPr b="1" lang="en-US" sz="1400" spc="-1" strike="noStrike">
                <a:solidFill>
                  <a:srgbClr val="ffffff"/>
                </a:solidFill>
                <a:latin typeface="Arial"/>
              </a:rPr>
              <a:t>Experiment</a:t>
            </a:r>
            <a:endParaRPr b="0" lang="en-US" sz="1400" spc="-1" strike="noStrike">
              <a:solidFill>
                <a:srgbClr val="ffffff"/>
              </a:solidFill>
              <a:latin typeface="Times New Roman"/>
            </a:endParaRPr>
          </a:p>
          <a:p>
            <a:pPr>
              <a:lnSpc>
                <a:spcPct val="100000"/>
              </a:lnSpc>
              <a:tabLst>
                <a:tab algn="l" pos="0"/>
                <a:tab algn="l" pos="1206360"/>
                <a:tab algn="l" pos="2692440"/>
                <a:tab algn="l" pos="3946680"/>
                <a:tab algn="l" pos="4800600"/>
                <a:tab algn="l" pos="543564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1" name=""/>
          <p:cNvSpPr/>
          <p:nvPr/>
        </p:nvSpPr>
        <p:spPr>
          <a:xfrm>
            <a:off x="927000" y="2247840"/>
            <a:ext cx="733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2152800" y="28861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914400" y="3525840"/>
            <a:ext cx="7367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74" name=""/>
          <p:cNvSpPr/>
          <p:nvPr/>
        </p:nvSpPr>
        <p:spPr>
          <a:xfrm>
            <a:off x="2147760" y="4324320"/>
            <a:ext cx="612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14400" y="1582560"/>
            <a:ext cx="736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34941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4703760" y="1581120"/>
            <a:ext cx="0" cy="361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H="1">
            <a:off x="6254280" y="1581120"/>
            <a:ext cx="3240" cy="361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209000" y="1593720"/>
            <a:ext cx="1440" cy="360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8278920" y="1592280"/>
            <a:ext cx="0" cy="360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H="1">
            <a:off x="2141640" y="2257560"/>
            <a:ext cx="1440" cy="293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flipH="1">
            <a:off x="914400" y="1581120"/>
            <a:ext cx="1440" cy="361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11160" y="5200560"/>
            <a:ext cx="735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ocess</a:t>
            </a:r>
            <a:endParaRPr b="0" lang="en-US" sz="3600" spc="-1" strike="noStrike">
              <a:solidFill>
                <a:srgbClr val="ffffff"/>
              </a:solidFill>
              <a:latin typeface="Century Schoolbook"/>
            </a:endParaRPr>
          </a:p>
        </p:txBody>
      </p:sp>
      <p:sp>
        <p:nvSpPr>
          <p:cNvPr id="88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al review has three major elements.</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preconditions: the set of necessary assets and </a:t>
            </a:r>
            <a:r>
              <a:rPr b="1" lang="en-US" sz="2400" spc="-1" strike="noStrike">
                <a:solidFill>
                  <a:srgbClr val="ffffff"/>
                </a:solidFill>
                <a:latin typeface="Arial"/>
              </a:rPr>
              <a:t>	</a:t>
            </a:r>
            <a:r>
              <a:rPr b="1" lang="en-US" sz="2400" spc="-1" strike="noStrike">
                <a:solidFill>
                  <a:srgbClr val="ffffff"/>
                </a:solidFill>
                <a:latin typeface="Arial"/>
              </a:rPr>
              <a:t>conditions that must be in place before a </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can be performed successfully</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ctivities of the review itself</a:t>
            </a:r>
            <a:endParaRPr b="1" lang="en-US" sz="2400" spc="-1" strike="noStrike">
              <a:solidFill>
                <a:srgbClr val="ffffff"/>
              </a:solidFill>
              <a:latin typeface="Arial"/>
            </a:endParaRPr>
          </a:p>
          <a:p>
            <a:pPr indent="0">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outputs: the report of review results</a:t>
            </a:r>
            <a:endParaRPr b="1" lang="en-US" sz="2400" spc="-1" strike="noStrike">
              <a:solidFill>
                <a:srgbClr val="ffffff"/>
              </a:solidFill>
              <a:latin typeface="Arial"/>
            </a:endParaRPr>
          </a:p>
        </p:txBody>
      </p:sp>
      <p:graphicFrame>
        <p:nvGraphicFramePr>
          <p:cNvPr id="886" name=""/>
          <p:cNvGraphicFramePr/>
          <p:nvPr/>
        </p:nvGraphicFramePr>
        <p:xfrm>
          <a:off x="8097840" y="50760"/>
          <a:ext cx="993600" cy="1098720"/>
        </p:xfrm>
        <a:graphic>
          <a:graphicData uri="http://schemas.openxmlformats.org/presentationml/2006/ole">
            <p:oleObj r:id="rId1" spid="">
              <p:embed/>
              <p:pic>
                <p:nvPicPr>
                  <p:cNvPr id="887"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Preconditions</a:t>
            </a:r>
            <a:endParaRPr b="0" lang="en-US" sz="3600" spc="-1" strike="noStrike">
              <a:solidFill>
                <a:srgbClr val="ffffff"/>
              </a:solidFill>
              <a:latin typeface="Century Schoolbook"/>
            </a:endParaRPr>
          </a:p>
        </p:txBody>
      </p:sp>
      <p:sp>
        <p:nvSpPr>
          <p:cNvPr id="88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context of the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the right peop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rganizational expectations and suppor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are for revie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tain representation of the architecture</a:t>
            </a:r>
            <a:endParaRPr b="1" lang="en-US" sz="2400" spc="-1" strike="noStrike">
              <a:solidFill>
                <a:srgbClr val="ffffff"/>
              </a:solidFill>
              <a:latin typeface="Arial"/>
            </a:endParaRPr>
          </a:p>
        </p:txBody>
      </p:sp>
      <p:graphicFrame>
        <p:nvGraphicFramePr>
          <p:cNvPr id="890" name=""/>
          <p:cNvGraphicFramePr/>
          <p:nvPr/>
        </p:nvGraphicFramePr>
        <p:xfrm>
          <a:off x="8097840" y="50760"/>
          <a:ext cx="993600" cy="1098720"/>
        </p:xfrm>
        <a:graphic>
          <a:graphicData uri="http://schemas.openxmlformats.org/presentationml/2006/ole">
            <p:oleObj r:id="rId1" spid="">
              <p:embed/>
              <p:pic>
                <p:nvPicPr>
                  <p:cNvPr id="891" name="" descr=""/>
                  <p:cNvPicPr/>
                  <p:nvPr/>
                </p:nvPicPr>
                <p:blipFill>
                  <a:blip r:embed="rId2"/>
                  <a:stretch/>
                </p:blipFill>
                <p:spPr>
                  <a:xfrm>
                    <a:off x="8097840" y="5076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7640" y="893520"/>
            <a:ext cx="7718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1</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following system modif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color of the user interface is changed merely by modifying a resource fi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of components must be changed to accommodate a new data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reasonable answer i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yes” with respect to changing background col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no” with respect to changing file forma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1</a:t>
            </a:r>
            <a:endParaRPr b="0" lang="en-US" sz="3600" spc="-1" strike="noStrike">
              <a:solidFill>
                <a:srgbClr val="ffffff"/>
              </a:solidFill>
              <a:latin typeface="Century Schoolbook"/>
            </a:endParaRPr>
          </a:p>
        </p:txBody>
      </p:sp>
      <p:sp>
        <p:nvSpPr>
          <p:cNvPr id="89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ed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t of normal development activ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adversari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d well in adva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t into project’s schedule and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ly occurs when project is in trou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devolves into finger-poin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painful for project already strugglin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ss which one we recomme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Context -2</a:t>
            </a:r>
            <a:endParaRPr b="0" lang="en-US" sz="3600" spc="-1" strike="noStrike">
              <a:solidFill>
                <a:srgbClr val="ffffff"/>
              </a:solidFill>
              <a:latin typeface="Century Schoolbook"/>
            </a:endParaRPr>
          </a:p>
        </p:txBody>
      </p:sp>
      <p:sp>
        <p:nvSpPr>
          <p:cNvPr id="895" name="PlaceHolder 2"/>
          <p:cNvSpPr>
            <a:spLocks noGrp="1"/>
          </p:cNvSpPr>
          <p:nvPr>
            <p:ph/>
          </p:nvPr>
        </p:nvSpPr>
        <p:spPr>
          <a:xfrm>
            <a:off x="923400" y="1808280"/>
            <a:ext cx="778860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 of the review</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y “architecture discovery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after requirements are set, but before the architecture is firm</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understand implications of requirements on architectur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ecks for requirements feasibility</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izes architectural goa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architectural review</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ne when architectural documentation is available</a:t>
            </a:r>
            <a:endParaRPr b="1" lang="en-US" sz="2400" spc="-1" strike="noStrike">
              <a:solidFill>
                <a:srgbClr val="ffffff"/>
              </a:solidFill>
              <a:latin typeface="Arial"/>
            </a:endParaRPr>
          </a:p>
          <a:p>
            <a:pPr lvl="2" marL="679680" indent="-2361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used to evaluate qualities of proposed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People</a:t>
            </a:r>
            <a:endParaRPr b="0" lang="en-US" sz="3600" spc="-1" strike="noStrike">
              <a:solidFill>
                <a:srgbClr val="ffffff"/>
              </a:solidFill>
              <a:latin typeface="Century Schoolbook"/>
            </a:endParaRPr>
          </a:p>
        </p:txBody>
      </p:sp>
      <p:sp>
        <p:nvSpPr>
          <p:cNvPr id="8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ves of proj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ers of major mod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representativ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team members (ideally, a separate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least one domain expert inclu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one to handle logistics (e.g., meeting rooms, suppl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ibrarian to organiz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pprentice reviewer” for growt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1</a:t>
            </a:r>
            <a:endParaRPr b="0" lang="en-US" sz="3600" spc="-1" strike="noStrike">
              <a:solidFill>
                <a:srgbClr val="ffffff"/>
              </a:solidFill>
              <a:latin typeface="Century Schoolbook"/>
            </a:endParaRPr>
          </a:p>
        </p:txBody>
      </p:sp>
      <p:sp>
        <p:nvSpPr>
          <p:cNvPr id="89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must be assembled so th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perceived as impartial, objective, </a:t>
            </a:r>
            <a:br>
              <a:rPr sz="2400"/>
            </a:br>
            <a:r>
              <a:rPr b="1" lang="en-US" sz="2400" spc="-1" strike="noStrike">
                <a:solidFill>
                  <a:srgbClr val="ffffff"/>
                </a:solidFill>
                <a:latin typeface="Arial"/>
              </a:rPr>
              <a:t>and res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devote their full-time effort to the review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are fluent in architecture and </a:t>
            </a:r>
            <a:br>
              <a:rPr sz="2400"/>
            </a:br>
            <a:r>
              <a:rPr b="1" lang="en-US" sz="2400" spc="-1" strike="noStrike">
                <a:solidFill>
                  <a:srgbClr val="ffffff"/>
                </a:solidFill>
                <a:latin typeface="Arial"/>
              </a:rPr>
              <a:t>architectural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located close to artifacts being examin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eview Team -2</a:t>
            </a:r>
            <a:endParaRPr b="0" lang="en-US" sz="3600" spc="-1" strike="noStrike">
              <a:solidFill>
                <a:srgbClr val="ffffff"/>
              </a:solidFill>
              <a:latin typeface="Century Schoolbook"/>
            </a:endParaRPr>
          </a:p>
        </p:txBody>
      </p:sp>
      <p:sp>
        <p:nvSpPr>
          <p:cNvPr id="90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eam must have acces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ble domain knowledge (perhaps via consultants to the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ocu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sta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1</a:t>
            </a:r>
            <a:endParaRPr b="0" lang="en-US" sz="3600" spc="-1" strike="noStrike">
              <a:solidFill>
                <a:srgbClr val="ffffff"/>
              </a:solidFill>
              <a:latin typeface="Century Schoolbook"/>
            </a:endParaRPr>
          </a:p>
        </p:txBody>
      </p:sp>
      <p:sp>
        <p:nvSpPr>
          <p:cNvPr id="903" name="PlaceHolder 2"/>
          <p:cNvSpPr>
            <a:spLocks noGrp="1"/>
          </p:cNvSpPr>
          <p:nvPr>
            <p:ph/>
          </p:nvPr>
        </p:nvSpPr>
        <p:spPr>
          <a:xfrm>
            <a:off x="923400" y="2214720"/>
            <a:ext cx="7301160" cy="39830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ctations must be 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i="1" lang="en-US" sz="2400" spc="-1" strike="noStrike">
                <a:solidFill>
                  <a:srgbClr val="ffffff"/>
                </a:solidFill>
                <a:latin typeface="Arial"/>
              </a:rPr>
              <a:t> contract</a:t>
            </a:r>
            <a:r>
              <a:rPr b="1" lang="en-US" sz="2400" spc="-1" strike="noStrike">
                <a:solidFill>
                  <a:srgbClr val="ffffff"/>
                </a:solidFill>
                <a:latin typeface="Arial"/>
              </a:rPr>
              <a:t> between the review team and the sponsor of the review must be establish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will be told what upon comple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ill (not) be the review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who will be made available to tea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follow-up is expec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will the review tak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Organizational Expectations -2</a:t>
            </a:r>
            <a:endParaRPr b="0" lang="en-US" sz="3600" spc="-1" strike="noStrike">
              <a:solidFill>
                <a:srgbClr val="ffffff"/>
              </a:solidFill>
              <a:latin typeface="Century Schoolbook"/>
            </a:endParaRPr>
          </a:p>
        </p:txBody>
      </p:sp>
      <p:sp>
        <p:nvSpPr>
          <p:cNvPr id="905" name="PlaceHolder 2"/>
          <p:cNvSpPr>
            <a:spLocks noGrp="1"/>
          </p:cNvSpPr>
          <p:nvPr>
            <p:ph/>
          </p:nvPr>
        </p:nvSpPr>
        <p:spPr>
          <a:xfrm>
            <a:off x="923760" y="2265480"/>
            <a:ext cx="7839360" cy="4008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culture and support must be consid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reviews part of the standard project life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serving on a review team considered good for one’s care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l the organization allow its superior designers time off from their projects to serve on review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tanding review organization (even though members may rotate on and off)?</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Preconditions: </a:t>
            </a:r>
            <a:r>
              <a:rPr b="0" lang="en-US" sz="3200" spc="-1" strike="noStrike">
                <a:solidFill>
                  <a:srgbClr val="ffffff"/>
                </a:solidFill>
                <a:latin typeface="Century Schoolbook"/>
              </a:rPr>
              <a:t>Read-Ahead Material</a:t>
            </a:r>
            <a:r>
              <a:rPr b="1" lang="en-US" sz="3200" spc="-1" strike="noStrike">
                <a:solidFill>
                  <a:srgbClr val="ffffff"/>
                </a:solidFill>
                <a:latin typeface="Arial"/>
              </a:rPr>
              <a:t> </a:t>
            </a:r>
            <a:endParaRPr b="0" lang="en-US" sz="3200" spc="-1" strike="noStrike">
              <a:solidFill>
                <a:srgbClr val="ffffff"/>
              </a:solidFill>
              <a:latin typeface="Century Schoolbook"/>
            </a:endParaRPr>
          </a:p>
        </p:txBody>
      </p:sp>
      <p:sp>
        <p:nvSpPr>
          <p:cNvPr id="907" name="PlaceHolder 2"/>
          <p:cNvSpPr>
            <a:spLocks noGrp="1"/>
          </p:cNvSpPr>
          <p:nvPr>
            <p:ph/>
          </p:nvPr>
        </p:nvSpPr>
        <p:spPr>
          <a:xfrm>
            <a:off x="923760" y="1795320"/>
            <a:ext cx="78393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roject being reviewe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nair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These are created as part of the review, but time should be allowed for project members to digest the information.)</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review tea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ption of architectur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 for architectur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material will address the review questions.  (Passing this test because the questions were known in advance is not cheating, but good engineer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econditions:  Ranked Quality and Behavioral Requirements</a:t>
            </a:r>
            <a:endParaRPr b="0" lang="en-US" sz="3600" spc="-1" strike="noStrike">
              <a:solidFill>
                <a:srgbClr val="ffffff"/>
              </a:solidFill>
              <a:latin typeface="Century Schoolbook"/>
            </a:endParaRPr>
          </a:p>
        </p:txBody>
      </p:sp>
      <p:sp>
        <p:nvSpPr>
          <p:cNvPr id="909" name="PlaceHolder 2"/>
          <p:cNvSpPr>
            <a:spLocks noGrp="1"/>
          </p:cNvSpPr>
          <p:nvPr>
            <p:ph/>
          </p:nvPr>
        </p:nvSpPr>
        <p:spPr>
          <a:xfrm>
            <a:off x="923400" y="2188800"/>
            <a:ext cx="7712280" cy="38178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 to examine three to five quality and behavioral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rticular representation medium (language) for the architecture is not necessary.  As long as the information can be extracted (using project members as necessary), the form of the representation is not importa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1</a:t>
            </a:r>
            <a:endParaRPr b="0" lang="en-US" sz="3600" spc="-1" strike="noStrike">
              <a:solidFill>
                <a:srgbClr val="ffffff"/>
              </a:solidFill>
              <a:latin typeface="Century Schoolbook"/>
            </a:endParaRPr>
          </a:p>
        </p:txBody>
      </p:sp>
      <p:sp>
        <p:nvSpPr>
          <p:cNvPr id="911" name="PlaceHolder 2"/>
          <p:cNvSpPr>
            <a:spLocks noGrp="1"/>
          </p:cNvSpPr>
          <p:nvPr>
            <p:ph/>
          </p:nvPr>
        </p:nvSpPr>
        <p:spPr>
          <a:xfrm>
            <a:off x="923760" y="1795320"/>
            <a:ext cx="75218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un” the scenarios and ask the questions, or answer the items in the checkli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the experi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e the prototypes or simul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issues highlighted in the revi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ts of project members on these issu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0800" y="891720"/>
            <a:ext cx="7667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Qualities Are Too Vague for Analysis -2</a:t>
            </a:r>
            <a:endParaRPr b="0" lang="en-US" sz="32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ies only have meaning within a contex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specifies context through scenario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AM is most useful in evaluating non-runtime qualities, although information generated can be used for other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2</a:t>
            </a:r>
            <a:endParaRPr b="0" lang="en-US" sz="3600" spc="-1" strike="noStrike">
              <a:solidFill>
                <a:srgbClr val="ffffff"/>
              </a:solidFill>
              <a:latin typeface="Century Schoolbook"/>
            </a:endParaRPr>
          </a:p>
        </p:txBody>
      </p:sp>
      <p:sp>
        <p:nvSpPr>
          <p:cNvPr id="913" name="PlaceHolder 2"/>
          <p:cNvSpPr>
            <a:spLocks noGrp="1"/>
          </p:cNvSpPr>
          <p:nvPr>
            <p:ph/>
          </p:nvPr>
        </p:nvSpPr>
        <p:spPr>
          <a:xfrm>
            <a:off x="923760" y="183348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nk th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threate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o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issue raised should be addressed in terms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axing the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iew Activities -3</a:t>
            </a:r>
            <a:endParaRPr b="0" lang="en-US" sz="3600" spc="-1" strike="noStrike">
              <a:solidFill>
                <a:srgbClr val="ffffff"/>
              </a:solidFill>
              <a:latin typeface="Century Schoolbook"/>
            </a:endParaRPr>
          </a:p>
        </p:txBody>
      </p:sp>
      <p:sp>
        <p:nvSpPr>
          <p:cNvPr id="915"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ning 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ced to match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level components number over 25</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requirement drives entire desig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pends on alternatives in the 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ice of software components is dictated by hardware personne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ndancy not needed for rel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is exception driv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identifiable archit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utput from Review</a:t>
            </a:r>
            <a:endParaRPr b="0" lang="en-US" sz="3600" spc="-1" strike="noStrike">
              <a:solidFill>
                <a:srgbClr val="ffffff"/>
              </a:solidFill>
              <a:latin typeface="Century Schoolbook"/>
            </a:endParaRPr>
          </a:p>
        </p:txBody>
      </p:sp>
      <p:sp>
        <p:nvSpPr>
          <p:cNvPr id="91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ranked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at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ed in formal re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back to projec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system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of scenarios for future 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cation of potentially reus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on of costs and benefi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919"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formal review with external review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he review to best advantag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ld a planned (rather than unplanned) review.</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the appropriate review techniqu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review contra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 the number of qualities to be review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ist on having a system architect pres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921" name="PlaceHolder 2"/>
          <p:cNvSpPr>
            <a:spLocks noGrp="1"/>
          </p:cNvSpPr>
          <p:nvPr>
            <p:ph/>
          </p:nvPr>
        </p:nvSpPr>
        <p:spPr>
          <a:xfrm>
            <a:off x="923400" y="1782720"/>
            <a:ext cx="785196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are architectures currently reviewed in your</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  What are the good points of t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actice?  What are ways in which it could b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roved?</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T&amp;T’s data suggest that an architecture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s a typical project about 10 percent.  This is a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that builds systems in a fairly ma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using questionnaires that the architect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ave access to beforehand.  Why would a review</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ve anything (after all, every project knows wha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s going to be asked of it)?  Discuss this apparent</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aradox.</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9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How much do you think institution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reviews would save in you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	</a:t>
            </a:r>
            <a:r>
              <a:rPr b="1" lang="en-US" sz="2400" spc="-1" strike="noStrike">
                <a:solidFill>
                  <a:srgbClr val="ffffff"/>
                </a:solidFill>
                <a:latin typeface="Arial"/>
              </a:rPr>
              <a:t>Try to write a checklist for an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view for a system in your organization’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  Write one for artifact review and on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 process review.</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3</a:t>
            </a:r>
            <a:endParaRPr b="0" lang="en-US" sz="3600" spc="-1" strike="noStrike">
              <a:solidFill>
                <a:srgbClr val="ffffff"/>
              </a:solidFill>
              <a:latin typeface="Century Schoolbook"/>
            </a:endParaRPr>
          </a:p>
        </p:txBody>
      </p:sp>
      <p:sp>
        <p:nvSpPr>
          <p:cNvPr id="925"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The distinction between direct and indir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s is a coarse way to meas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upport for a feature.  As we ha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en, a direct scenario may be so cumbersome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o be effectively indirect.  On the other hand,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direct scenario may be trivially supported b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hanging a parameter and recompiling.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finer-grained way to categorize scenarios tha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akes these considerations into accou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r>
              <a:rPr b="1" lang="en-US" sz="2400" spc="-1" strike="noStrike">
                <a:solidFill>
                  <a:srgbClr val="ffffff"/>
                </a:solidFill>
                <a:latin typeface="Arial"/>
              </a:rPr>
              <a:t>	</a:t>
            </a:r>
            <a:r>
              <a:rPr b="1" lang="en-US" sz="2400" spc="-1" strike="noStrike">
                <a:solidFill>
                  <a:srgbClr val="ffffff"/>
                </a:solidFill>
                <a:latin typeface="Arial"/>
              </a:rPr>
              <a:t>Produce a set of scenarios for an architecture i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your organiz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4</a:t>
            </a:r>
            <a:endParaRPr b="0" lang="en-US" sz="3600" spc="-1" strike="noStrike">
              <a:solidFill>
                <a:srgbClr val="ffffff"/>
              </a:solidFill>
              <a:latin typeface="Century Schoolbook"/>
            </a:endParaRPr>
          </a:p>
        </p:txBody>
      </p:sp>
      <p:sp>
        <p:nvSpPr>
          <p:cNvPr id="927"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r>
              <a:rPr b="1" lang="en-US" sz="2400" spc="-1" strike="noStrike">
                <a:solidFill>
                  <a:srgbClr val="ffffff"/>
                </a:solidFill>
                <a:latin typeface="Arial"/>
              </a:rPr>
              <a:t>	</a:t>
            </a:r>
            <a:r>
              <a:rPr b="1" lang="en-US" sz="2400" spc="-1" strike="noStrike">
                <a:solidFill>
                  <a:srgbClr val="ffffff"/>
                </a:solidFill>
                <a:latin typeface="Arial"/>
              </a:rPr>
              <a:t>Attendees at an architecture review naturally br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ir own agendas to the table, and these agend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ten show up in the scenarios they pro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nsider this actual scenario from a rec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evaluation using SAAM:  Produc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ystem for the least cost and shortest ti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ossible.  What quality attribute of the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re they trying to measure?  What else were the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ying to address?  How would you handle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cenario if you were running the evalu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cenarios</a:t>
            </a:r>
            <a:endParaRPr b="0" lang="en-US" sz="3600" spc="-1" strike="noStrike">
              <a:solidFill>
                <a:srgbClr val="ffffff"/>
              </a:solidFill>
              <a:latin typeface="Century Schoolbook"/>
            </a:endParaRPr>
          </a:p>
        </p:txBody>
      </p:sp>
      <p:sp>
        <p:nvSpPr>
          <p:cNvPr id="14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enario is a brief description of a stakeholder’s  interaction with a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creating scenarios, it is important to consider all stakeholders, especi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eps of a SAAM Evaluation</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nd assemble stakeholder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 and prioritize scenario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cribe candidate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ify scenarios as direct or indirec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 scenario evalu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al scenario interac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e overall evaluation</a:t>
            </a:r>
            <a:endParaRPr b="1" lang="en-US" sz="2400" spc="-1" strike="noStrike">
              <a:solidFill>
                <a:srgbClr val="ffffff"/>
              </a:solidFill>
              <a:latin typeface="Arial"/>
            </a:endParaRPr>
          </a:p>
        </p:txBody>
      </p:sp>
      <p:graphicFrame>
        <p:nvGraphicFramePr>
          <p:cNvPr id="143" name=""/>
          <p:cNvGraphicFramePr/>
          <p:nvPr/>
        </p:nvGraphicFramePr>
        <p:xfrm>
          <a:off x="8085240" y="101520"/>
          <a:ext cx="993600" cy="1098720"/>
        </p:xfrm>
        <a:graphic>
          <a:graphicData uri="http://schemas.openxmlformats.org/presentationml/2006/ole">
            <p:oleObj r:id="rId1" spid="">
              <p:embed/>
              <p:pic>
                <p:nvPicPr>
                  <p:cNvPr id="144" name="" descr=""/>
                  <p:cNvPicPr/>
                  <p:nvPr/>
                </p:nvPicPr>
                <p:blipFill>
                  <a:blip r:embed="rId2"/>
                  <a:stretch/>
                </p:blipFill>
                <p:spPr>
                  <a:xfrm>
                    <a:off x="8085240" y="101520"/>
                    <a:ext cx="993600" cy="10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20:45Z</cp:lastPrinted>
  <dcterms:modified xsi:type="dcterms:W3CDTF">1998-10-20T14:03:54Z</dcterms:modified>
  <cp:revision>428</cp:revision>
  <dc:subject/>
  <dc:title>Cover Slide Example</dc:title>
</cp:coreProperties>
</file>