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A9CF2DC7-6D16-422F-9C4A-59262BCDD858}"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32FA43DA-3359-4298-BDD3-819FFD0A623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F4F2A1DB-B614-4D47-BD90-7E1435FAD56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7: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3:03:33Z</dcterms:modified>
  <cp:revision>276</cp:revision>
  <dc:subject/>
  <dc:title>Cover Slide Example</dc:title>
</cp:coreProperties>
</file>