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387A9B44-FE2C-4B64-B8A3-09E90D6369B3}"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27000" y="4213080"/>
            <a:ext cx="4686480" cy="38102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033560" y="657360"/>
            <a:ext cx="4321080" cy="3240000"/>
          </a:xfrm>
          <a:prstGeom prst="rect">
            <a:avLst/>
          </a:prstGeom>
          <a:ln w="0">
            <a:noFill/>
          </a:ln>
        </p:spPr>
      </p:sp>
      <p:sp>
        <p:nvSpPr>
          <p:cNvPr id="160" name="PlaceHolder 2"/>
          <p:cNvSpPr>
            <a:spLocks noGrp="1"/>
          </p:cNvSpPr>
          <p:nvPr>
            <p:ph type="body"/>
          </p:nvPr>
        </p:nvSpPr>
        <p:spPr>
          <a:xfrm>
            <a:off x="92700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45 minut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031760" y="657360"/>
            <a:ext cx="4324320" cy="3240000"/>
          </a:xfrm>
          <a:prstGeom prst="rect">
            <a:avLst/>
          </a:prstGeom>
          <a:ln w="0">
            <a:noFill/>
          </a:ln>
        </p:spPr>
      </p:sp>
      <p:sp>
        <p:nvSpPr>
          <p:cNvPr id="178"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The final section of this lecture is a summary of the important concepts that the students should take away from this course.</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031760" y="657360"/>
            <a:ext cx="4324320" cy="3240000"/>
          </a:xfrm>
          <a:prstGeom prst="rect">
            <a:avLst/>
          </a:prstGeom>
          <a:ln w="0">
            <a:noFill/>
          </a:ln>
        </p:spPr>
      </p:sp>
      <p:sp>
        <p:nvSpPr>
          <p:cNvPr id="180" name="PlaceHolder 2"/>
          <p:cNvSpPr>
            <a:spLocks noGrp="1"/>
          </p:cNvSpPr>
          <p:nvPr>
            <p:ph type="body"/>
          </p:nvPr>
        </p:nvSpPr>
        <p:spPr>
          <a:xfrm>
            <a:off x="927000" y="4213080"/>
            <a:ext cx="49723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is a crucial design asset at three levels:  for the project, for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poration, and for the software communit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is an important design asset for the projec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a vehicle for stakeholder communication.  Software architecture represents a common high-level abstraction of a system that most (if not all) of the system’s stakeholders can use as a basis for creating mutual understanding, forming consensus, and communicating with each oth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the key to achieving system qualities.  The components’ functionality, behavior, and interactions determine what qualities can (or, equally important, cannot) be achieved by a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the basis for the development project structure; architecture permits a separation of concerns that allows management decisions of how to make best use of personnel and computational capacity.  Work breakdown structures are often based on some architectural aspect, such as module stru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is an important corporate asse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are the basis for different types of reuse.  Components developed to conform to a particular architecture can be reused, as can the architecture itself.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forms a basis for product lines.  In a product line, an architecture is used as the basis for building a related set of products that share a managed set of features that together address a particular market segment, providing a foundation for new market entry or for strengthening a foothold in an existing marke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is an important community asset.  In mature domains, the archite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especially the set of components) becomes standard, the result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ensus.  This standardization forms a basis for component markets.</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031760" y="657360"/>
            <a:ext cx="4324320" cy="3240000"/>
          </a:xfrm>
          <a:prstGeom prst="rect">
            <a:avLst/>
          </a:prstGeom>
          <a:ln w="0">
            <a:noFill/>
          </a:ln>
        </p:spPr>
      </p:sp>
      <p:sp>
        <p:nvSpPr>
          <p:cNvPr id="182" name="PlaceHolder 2"/>
          <p:cNvSpPr>
            <a:spLocks noGrp="1"/>
          </p:cNvSpPr>
          <p:nvPr>
            <p:ph type="body"/>
          </p:nvPr>
        </p:nvSpPr>
        <p:spPr>
          <a:xfrm>
            <a:off x="927000" y="4213080"/>
            <a:ext cx="46864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based development differs from conventional developm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entral authority is a must - someone must “own” the architecture in order to maintain configuration control of the documentation as the architecture evolves, and to ensure that the system as built conforms to the system as design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representation and communication become important.  If the system is to be built as designed (and thus achieve the desired qualities), then all stakeholders (e.g., designers, coders, testers, etc.) must understand what the required qualities are, what the components are, and how the components interact to achieve the expected behavior or functiona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evaluation provides an early opportunity for prediction and correction.  Problems, mismatches, and bottlenecks can be found early in design and corrected more easily, usually at less cost than if these were found later in the system development lifecyc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map to teams.  Once the modules or other component structures and interfaces have been identified, the work breakdown structure can be determined and appropriate personnel with the needed expertise can be assigned to the appropriate work group.</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031760" y="657360"/>
            <a:ext cx="4324320" cy="3240000"/>
          </a:xfrm>
          <a:prstGeom prst="rect">
            <a:avLst/>
          </a:prstGeom>
          <a:ln w="0">
            <a:noFill/>
          </a:ln>
        </p:spPr>
      </p:sp>
      <p:sp>
        <p:nvSpPr>
          <p:cNvPr id="184" name="PlaceHolder 2"/>
          <p:cNvSpPr>
            <a:spLocks noGrp="1"/>
          </p:cNvSpPr>
          <p:nvPr>
            <p:ph type="body"/>
          </p:nvPr>
        </p:nvSpPr>
        <p:spPr>
          <a:xfrm>
            <a:off x="927000" y="4213080"/>
            <a:ext cx="46864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is the key to achieving quality attribut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A-7E aircraft, architecture allowed the system to achieve modifiabi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air traffic control case, availability was achieved by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USAF flight simulators case, scalability was made possible through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 CelsiusTech, architecture enabled reusability (and the subsequent development of a product lin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Business Cycle shows how architectures and thei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vironments affect each other.  The relationship between the developme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rganization and the architecture it produces is a two-way stree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031760" y="657360"/>
            <a:ext cx="4324320" cy="3240000"/>
          </a:xfrm>
          <a:prstGeom prst="rect">
            <a:avLst/>
          </a:prstGeom>
          <a:ln w="0">
            <a:noFill/>
          </a:ln>
        </p:spPr>
      </p:sp>
      <p:sp>
        <p:nvSpPr>
          <p:cNvPr id="186" name="PlaceHolder 2"/>
          <p:cNvSpPr>
            <a:spLocks noGrp="1"/>
          </p:cNvSpPr>
          <p:nvPr>
            <p:ph type="body"/>
          </p:nvPr>
        </p:nvSpPr>
        <p:spPr>
          <a:xfrm>
            <a:off x="92700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Use these quotes to sum up the importance of and the need for architecture in software development efforts.</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031760" y="657360"/>
            <a:ext cx="4324320" cy="3240000"/>
          </a:xfrm>
          <a:prstGeom prst="rect">
            <a:avLst/>
          </a:prstGeom>
          <a:ln w="0">
            <a:noFill/>
          </a:ln>
        </p:spPr>
      </p:sp>
      <p:sp>
        <p:nvSpPr>
          <p:cNvPr id="162" name="PlaceHolder 2"/>
          <p:cNvSpPr>
            <a:spLocks noGrp="1"/>
          </p:cNvSpPr>
          <p:nvPr>
            <p:ph type="body"/>
          </p:nvPr>
        </p:nvSpPr>
        <p:spPr>
          <a:xfrm>
            <a:off x="92700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031760" y="657360"/>
            <a:ext cx="4324320" cy="3240000"/>
          </a:xfrm>
          <a:prstGeom prst="rect">
            <a:avLst/>
          </a:prstGeom>
          <a:ln w="0">
            <a:noFill/>
          </a:ln>
        </p:spPr>
      </p:sp>
      <p:sp>
        <p:nvSpPr>
          <p:cNvPr id="164" name="PlaceHolder 2"/>
          <p:cNvSpPr>
            <a:spLocks noGrp="1"/>
          </p:cNvSpPr>
          <p:nvPr>
            <p:ph type="body"/>
          </p:nvPr>
        </p:nvSpPr>
        <p:spPr>
          <a:xfrm>
            <a:off x="907920" y="4203720"/>
            <a:ext cx="4686480" cy="381960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The first portion of the lecture discusses the open issues listed on the slide.</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031760" y="657360"/>
            <a:ext cx="4324320" cy="3240000"/>
          </a:xfrm>
          <a:prstGeom prst="rect">
            <a:avLst/>
          </a:prstGeom>
          <a:ln w="0">
            <a:noFill/>
          </a:ln>
        </p:spPr>
      </p:sp>
      <p:sp>
        <p:nvSpPr>
          <p:cNvPr id="166" name="PlaceHolder 2"/>
          <p:cNvSpPr>
            <a:spLocks noGrp="1"/>
          </p:cNvSpPr>
          <p:nvPr>
            <p:ph type="body"/>
          </p:nvPr>
        </p:nvSpPr>
        <p:spPr>
          <a:xfrm>
            <a:off x="927000" y="4213080"/>
            <a:ext cx="47721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based development is different from other development methods.  More effort is put in up-front towards crafting, designing, defining, refining, testing, and evaluating the architecture and its components, interfaces, scenarios, and other associated entities.  The benefits are that such up-front effort pays off with reduced implementation effort, opportunities for reuse, and lower modification cos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blem is that existing cost models do not reflect this front-loaded process, which changes the cost distribution for lifecycle phases.  There is a particular need for new cost models for product-line development based on architecture.  These new cost models must reflect the fact that architecture-based development involves higher up-front costs, but has lower back-end costs.   At the moment, there is no empirical method for figuring costs of a particular development effort, only anecdotal evidence that architecture-based development does pay off in the end.  Data is being collected that may one day be used to generate new lifecycle cost models for architecture-based development, but no such models yet exist.  The lack of hard data and a defined cost model can make it difficult to sell the idea for the need for (and benefits of) architecture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031760" y="657360"/>
            <a:ext cx="4324320" cy="3240000"/>
          </a:xfrm>
          <a:prstGeom prst="rect">
            <a:avLst/>
          </a:prstGeom>
          <a:ln w="0">
            <a:noFill/>
          </a:ln>
        </p:spPr>
      </p:sp>
      <p:sp>
        <p:nvSpPr>
          <p:cNvPr id="168" name="PlaceHolder 2"/>
          <p:cNvSpPr>
            <a:spLocks noGrp="1"/>
          </p:cNvSpPr>
          <p:nvPr>
            <p:ph type="body"/>
          </p:nvPr>
        </p:nvSpPr>
        <p:spPr>
          <a:xfrm>
            <a:off x="927000" y="4213080"/>
            <a:ext cx="46864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egacy systems must often be repackaged for use in subsequent softw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velopment efforts.  To do this, we need to know about the architecture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egacy system.  However, documentation does not always exist, or, if it does, n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e may understand it, or it may be out of date.  How can we extrac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elements from the available sources of data - which is often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de itself?</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is a visualization problem.  We need an automated tool to visualize simple patterns within a system architecture.  At the moment, such tools (i.e., the Software Engineering Institute’s Dali) are in the experimental stages.  For example, Dali can extract structures from source code, based on theories about the likely structure.  Engineers input their ideas and ask for identification of particular structures (e.g., calls) and Dali can extract these.  Subsequent refinements are possible by narrowing the search for a particular type of call, until the desired structure is found.  However, Dali is highly dependent on the human engineer to define and then refine the walk-through and extraction of desired element.  Automated tools need to be develop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wareness of different architectural structures must also become more widespread (both for humans and automated tools) in order to better extract architectural elements from existing source code.</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031760" y="657360"/>
            <a:ext cx="4324320" cy="3240000"/>
          </a:xfrm>
          <a:prstGeom prst="rect">
            <a:avLst/>
          </a:prstGeom>
          <a:ln w="0">
            <a:noFill/>
          </a:ln>
        </p:spPr>
      </p:sp>
      <p:sp>
        <p:nvSpPr>
          <p:cNvPr id="170" name="PlaceHolder 2"/>
          <p:cNvSpPr>
            <a:spLocks noGrp="1"/>
          </p:cNvSpPr>
          <p:nvPr>
            <p:ph type="body"/>
          </p:nvPr>
        </p:nvSpPr>
        <p:spPr>
          <a:xfrm>
            <a:off x="926640" y="4213080"/>
            <a:ext cx="47530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ck of defined models and methods may make it difficult for systems to be engineered so that they achieve their desired quality attrib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example, performance can be measured because an analytic model exists that allows repeatable prediction techniqu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ever, there is no analytic model or quantifiable parameters for defining modifiability.  At the moment, measurement of modifiability depends on generation and testing of case-specific scenario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need a principled method for determining decision points about tradeoffs among quality attributes, including cost and schedule.  As we have seen in this course, there is usually a tension among requirements, many of which are in conflict with each other; generally, the best that we can do is to achieve three to five of the desired qualities, but frequently at the cost of other qualities.  A highly modifiable system may not perform well; secure systems may not be easily modifiable.  There is a need for a model which will help us to quantify architectural design decision so that we can measure how changing a design in a particular way will affect the various desired qualities and thus have a way to identify critical design decision points.  Research is underway on developing such a model, but none currently exis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031760" y="657360"/>
            <a:ext cx="4324320" cy="3240000"/>
          </a:xfrm>
          <a:prstGeom prst="rect">
            <a:avLst/>
          </a:prstGeom>
          <a:ln w="0">
            <a:noFill/>
          </a:ln>
        </p:spPr>
      </p:sp>
      <p:sp>
        <p:nvSpPr>
          <p:cNvPr id="172" name="PlaceHolder 2"/>
          <p:cNvSpPr>
            <a:spLocks noGrp="1"/>
          </p:cNvSpPr>
          <p:nvPr>
            <p:ph type="body"/>
          </p:nvPr>
        </p:nvSpPr>
        <p:spPr>
          <a:xfrm>
            <a:off x="92700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need prescriptive design techniques that specify a proven effective method for achieving desired qualities.  The closest we come to this now is the use of architectural styles.  Although style-based development may help us come close to achieving qualities, we also need an attribute tradeoff analysis method.  Such a method will enable us to understand the interaction of different attributes and make choices based on those interactions.  For example:  “jitter” (variance of arrival times) can affect performance, security, and reliability.  A method needs to be developed to help prescribe a way to achieve qualities while minimizing the effects of quality interactions (or at least to enable us to make informed choices about the tradeoffs that might be necessary).</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031760" y="657360"/>
            <a:ext cx="4324320" cy="3240000"/>
          </a:xfrm>
          <a:prstGeom prst="rect">
            <a:avLst/>
          </a:prstGeom>
          <a:ln w="0">
            <a:noFill/>
          </a:ln>
        </p:spPr>
      </p:sp>
      <p:sp>
        <p:nvSpPr>
          <p:cNvPr id="174" name="PlaceHolder 2"/>
          <p:cNvSpPr>
            <a:spLocks noGrp="1"/>
          </p:cNvSpPr>
          <p:nvPr>
            <p:ph type="body"/>
          </p:nvPr>
        </p:nvSpPr>
        <p:spPr>
          <a:xfrm>
            <a:off x="92700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jury is still out on architecture description languages.  They are useful because they give designers a choice of what structures to represent, what notation to use, and the analyses and verifications that are possib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ever, there needs to be a better and more mature infrastructure for ADLs, in addition to more experience with industrial (versus research-based) application of ADLs before they can become more useful.  For instance, ADLs must integrate with other development tools.   Why use an ADL if later, you must switch to CASE tools - the translation effort is not worth the time and effort required.  The need for translation, and the need for additional application in “real life” development efforts requires community effort.</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031760" y="657360"/>
            <a:ext cx="4324320" cy="3240000"/>
          </a:xfrm>
          <a:prstGeom prst="rect">
            <a:avLst/>
          </a:prstGeom>
          <a:ln w="0">
            <a:noFill/>
          </a:ln>
        </p:spPr>
      </p:sp>
      <p:sp>
        <p:nvSpPr>
          <p:cNvPr id="176" name="PlaceHolder 2"/>
          <p:cNvSpPr>
            <a:spLocks noGrp="1"/>
          </p:cNvSpPr>
          <p:nvPr>
            <p:ph type="body"/>
          </p:nvPr>
        </p:nvSpPr>
        <p:spPr>
          <a:xfrm>
            <a:off x="927000" y="4213080"/>
            <a:ext cx="46864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for a product line emphasize the quality of modifiability.  Howev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re work is required to other area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need to understand the characteristics of product line produc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need to devise technical solutions to technical probl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endency for slow initial development means we need to work on ways of increasing time to marke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need to work on an automated way to achieve synchronization of product line architecture and product architectur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need more information on how to recommend organizational solutions f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n-technical problems that go hand-in-hand with architecture-bas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velopm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 can we help an organization to choose a structure that is right for the effort it is undertak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 can we get more information to develop a meaningful business cas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9  - page </a:t>
            </a:r>
            <a:fld id="{70CF3FB1-1C2C-48E5-9DEE-35720C02BD87}"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36720" y="4640400"/>
            <a:ext cx="7313400" cy="2082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27960" y="6553080"/>
            <a:ext cx="192852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9  - page </a:t>
            </a:r>
            <a:fld id="{82A6AEAF-3F3C-476B-A5EC-4673D4B58EAF}"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1144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452520" algn="ct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1904760"/>
            <a:ext cx="77979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19: Open Issues and </a:t>
            </a:r>
            <a:br>
              <a:rPr sz="3200"/>
            </a:br>
            <a:r>
              <a:rPr b="0" lang="en-US" sz="3200" spc="-1" strike="noStrike">
                <a:solidFill>
                  <a:srgbClr val="ffffff"/>
                </a:solidFill>
                <a:latin typeface="Century Schoolbook"/>
              </a:rPr>
              <a:t>Course Summary</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opics</a:t>
            </a:r>
            <a:endParaRPr b="0" lang="en-US" sz="3600" spc="-1" strike="noStrike">
              <a:solidFill>
                <a:srgbClr val="ffffff"/>
              </a:solidFill>
              <a:latin typeface="Century Schoolbook"/>
            </a:endParaRPr>
          </a:p>
        </p:txBody>
      </p:sp>
      <p:sp>
        <p:nvSpPr>
          <p:cNvPr id="14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n iss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fe-cycle cost model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ting legacy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hieving quality attribut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criptive design techniq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description languag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 line practice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urse summary</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8" name=""/>
          <p:cNvSpPr/>
          <p:nvPr/>
        </p:nvSpPr>
        <p:spPr>
          <a:xfrm>
            <a:off x="457200" y="4826160"/>
            <a:ext cx="3430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49" name=""/>
          <p:cNvGraphicFramePr/>
          <p:nvPr/>
        </p:nvGraphicFramePr>
        <p:xfrm>
          <a:off x="7628040" y="254160"/>
          <a:ext cx="1323720" cy="1465200"/>
        </p:xfrm>
        <a:graphic>
          <a:graphicData uri="http://schemas.openxmlformats.org/presentationml/2006/ole">
            <p:oleObj r:id="rId1" spid="">
              <p:embed/>
              <p:pic>
                <p:nvPicPr>
                  <p:cNvPr id="150" name="" descr=""/>
                  <p:cNvPicPr/>
                  <p:nvPr/>
                </p:nvPicPr>
                <p:blipFill>
                  <a:blip r:embed="rId2"/>
                  <a:stretch/>
                </p:blipFill>
                <p:spPr>
                  <a:xfrm>
                    <a:off x="7628040" y="254160"/>
                    <a:ext cx="1323720" cy="146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urse Summary -1</a:t>
            </a:r>
            <a:endParaRPr b="0" lang="en-US" sz="3600" spc="-1" strike="noStrike">
              <a:solidFill>
                <a:srgbClr val="ffffff"/>
              </a:solidFill>
              <a:latin typeface="Century Schoolbook"/>
            </a:endParaRPr>
          </a:p>
        </p:txBody>
      </p:sp>
      <p:sp>
        <p:nvSpPr>
          <p:cNvPr id="15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s a crucial design asset.</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hicle for stakeholder communication</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y to achieving system qualiti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is for development project structur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s an important corporate asset.</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be reused from project to project</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ms a basis for product lin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a foundation for new market entry</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s an important community asset.</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ndard models emerge for mature domain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a basis for component marke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urse Summary -2</a:t>
            </a:r>
            <a:endParaRPr b="0" lang="en-US" sz="3600" spc="-1" strike="noStrike">
              <a:solidFill>
                <a:srgbClr val="ffffff"/>
              </a:solidFill>
              <a:latin typeface="Century Schoolbook"/>
            </a:endParaRPr>
          </a:p>
        </p:txBody>
      </p:sp>
      <p:sp>
        <p:nvSpPr>
          <p:cNvPr id="15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based development differs from conventional develop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ntral authority is a mus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representation and communication become importa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evaluation provides an early opportunity for prediction and correc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map to tea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urse Summary -3</a:t>
            </a:r>
            <a:endParaRPr b="0" lang="en-US" sz="3600" spc="-1" strike="noStrike">
              <a:solidFill>
                <a:srgbClr val="ffffff"/>
              </a:solidFill>
              <a:latin typeface="Century Schoolbook"/>
            </a:endParaRPr>
          </a:p>
        </p:txBody>
      </p:sp>
      <p:sp>
        <p:nvSpPr>
          <p:cNvPr id="156" name="PlaceHolder 2"/>
          <p:cNvSpPr>
            <a:spLocks noGrp="1"/>
          </p:cNvSpPr>
          <p:nvPr>
            <p:ph/>
          </p:nvPr>
        </p:nvSpPr>
        <p:spPr>
          <a:xfrm>
            <a:off x="923400" y="1782720"/>
            <a:ext cx="77886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s the key to achieving quality attribut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7E: modifi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r traffic control: avail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AF flight simulators: scal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lsiusTech: reus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OC: short time to deploy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e Business Cycle shows how architectures and their environments affect each oth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ast Words</a:t>
            </a:r>
            <a:endParaRPr b="0" lang="en-US" sz="3600" spc="-1" strike="noStrike">
              <a:solidFill>
                <a:srgbClr val="ffffff"/>
              </a:solidFill>
              <a:latin typeface="Century Schoolbook"/>
            </a:endParaRPr>
          </a:p>
        </p:txBody>
      </p:sp>
      <p:sp>
        <p:nvSpPr>
          <p:cNvPr id="158" name="PlaceHolder 2"/>
          <p:cNvSpPr>
            <a:spLocks noGrp="1"/>
          </p:cNvSpPr>
          <p:nvPr>
            <p:ph/>
          </p:nvPr>
        </p:nvSpPr>
        <p:spPr>
          <a:xfrm>
            <a:off x="923400" y="182088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If a project has not achieved a system architecture, including its rationale, the project should not proceed to full-scale system development. Specifying the architecture as a deliverable enables its use throughout the development and maintenance process.</a:t>
            </a: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 Barry Boehm, 1995</a:t>
            </a: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I am more convinced than ever. Conceptual integrity is central to product quality. Having a system architect is the most important single step toward conceptual integrity... After teaching a software engineering laboratory more than 20 times, I came to insist that student teams as small as four people choose a manager, and a separate</a:t>
            </a:r>
            <a:r>
              <a:rPr b="1" lang="en-US" sz="2000" spc="-1" strike="noStrike">
                <a:solidFill>
                  <a:srgbClr val="ffffff"/>
                </a:solidFill>
                <a:latin typeface="Arial"/>
              </a:rPr>
              <a:t> </a:t>
            </a:r>
            <a:r>
              <a:rPr b="1" i="1" lang="en-US" sz="2000" spc="-1" strike="noStrike">
                <a:solidFill>
                  <a:srgbClr val="ffffff"/>
                </a:solidFill>
                <a:latin typeface="Arial"/>
              </a:rPr>
              <a:t>architect</a:t>
            </a:r>
            <a:r>
              <a:rPr b="1" lang="en-US" sz="2000" spc="-1" strike="noStrike">
                <a:solidFill>
                  <a:srgbClr val="ffffff"/>
                </a:solidFill>
                <a:latin typeface="Arial"/>
              </a:rPr>
              <a:t>. </a:t>
            </a: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Fred Brooks, 1995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able students to identify open issues in software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mmarize the cours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opics</a:t>
            </a:r>
            <a:endParaRPr b="0" lang="en-US" sz="3600" spc="-1" strike="noStrike">
              <a:solidFill>
                <a:srgbClr val="ffffff"/>
              </a:solidFill>
              <a:latin typeface="Century Schoolbook"/>
            </a:endParaRPr>
          </a:p>
        </p:txBody>
      </p:sp>
      <p:sp>
        <p:nvSpPr>
          <p:cNvPr id="13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Open iss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fe-cycle cost model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ting legacy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hieving quality attribut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criptive design techniq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description languag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 line practic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urse summary</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1" name=""/>
          <p:cNvSpPr/>
          <p:nvPr/>
        </p:nvSpPr>
        <p:spPr>
          <a:xfrm>
            <a:off x="419040" y="1930320"/>
            <a:ext cx="3430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32" name=""/>
          <p:cNvGraphicFramePr/>
          <p:nvPr/>
        </p:nvGraphicFramePr>
        <p:xfrm>
          <a:off x="7628040" y="254160"/>
          <a:ext cx="1323720" cy="1465200"/>
        </p:xfrm>
        <a:graphic>
          <a:graphicData uri="http://schemas.openxmlformats.org/presentationml/2006/ole">
            <p:oleObj r:id="rId1" spid="">
              <p:embed/>
              <p:pic>
                <p:nvPicPr>
                  <p:cNvPr id="133" name="" descr=""/>
                  <p:cNvPicPr/>
                  <p:nvPr/>
                </p:nvPicPr>
                <p:blipFill>
                  <a:blip r:embed="rId2"/>
                  <a:stretch/>
                </p:blipFill>
                <p:spPr>
                  <a:xfrm>
                    <a:off x="7628040" y="254160"/>
                    <a:ext cx="1323720" cy="146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ife-Cycle Cost Models</a:t>
            </a:r>
            <a:endParaRPr b="0" lang="en-US" sz="3600" spc="-1" strike="noStrike">
              <a:solidFill>
                <a:srgbClr val="ffffff"/>
              </a:solidFill>
              <a:latin typeface="Century Schoolbook"/>
            </a:endParaRPr>
          </a:p>
        </p:txBody>
      </p:sp>
      <p:sp>
        <p:nvSpPr>
          <p:cNvPr id="135" name="PlaceHolder 2"/>
          <p:cNvSpPr>
            <a:spLocks noGrp="1"/>
          </p:cNvSpPr>
          <p:nvPr>
            <p:ph/>
          </p:nvPr>
        </p:nvSpPr>
        <p:spPr>
          <a:xfrm>
            <a:off x="96156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s an up-front development effor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work up front to design and evaluat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ys off in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ed implementation effort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use opportuniti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er modification cos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t models need to be modified to reflect different life-cycle cos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er up-front cos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er back-end cos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tegrating Legacy Systems</a:t>
            </a:r>
            <a:endParaRPr b="0" lang="en-US" sz="3600" spc="-1" strike="noStrike">
              <a:solidFill>
                <a:srgbClr val="ffffff"/>
              </a:solidFill>
              <a:latin typeface="Century Schoolbook"/>
            </a:endParaRPr>
          </a:p>
        </p:txBody>
      </p:sp>
      <p:sp>
        <p:nvSpPr>
          <p:cNvPr id="13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ed to repackage legacy systems for use in subsequent software develop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ed to extract architectural elements from available sourc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sualization problem: need tool to visualize simple patterns within a system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wareness of different architectural structur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chieving Quality Attributes</a:t>
            </a:r>
            <a:endParaRPr b="0" lang="en-US" sz="3600" spc="-1" strike="noStrike">
              <a:solidFill>
                <a:srgbClr val="ffffff"/>
              </a:solidFill>
              <a:latin typeface="Century Schoolbook"/>
            </a:endParaRPr>
          </a:p>
        </p:txBody>
      </p:sp>
      <p:sp>
        <p:nvSpPr>
          <p:cNvPr id="13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analytic model exists which allows repeatable prediction techniqu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ifiability: no analytic model exists, which</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ces reliance on case-specific scenarios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ed a principled method for tradeoffs among quality attributes, including cost and schedul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escriptive Design Techniques</a:t>
            </a:r>
            <a:endParaRPr b="0" lang="en-US" sz="3600" spc="-1" strike="noStrike">
              <a:solidFill>
                <a:srgbClr val="ffffff"/>
              </a:solidFill>
              <a:latin typeface="Century Schoolbook"/>
            </a:endParaRPr>
          </a:p>
        </p:txBody>
      </p:sp>
      <p:sp>
        <p:nvSpPr>
          <p:cNvPr id="14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ed a method to produce from desired qualities a method that achieves them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tribute tradeoff</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interaction of different attribut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jitter” (variance of arrival times) can affect performance, security, and reliabi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e Description Languages</a:t>
            </a:r>
            <a:endParaRPr b="0" lang="en-US" sz="3600" spc="-1" strike="noStrike">
              <a:solidFill>
                <a:srgbClr val="ffffff"/>
              </a:solidFill>
              <a:latin typeface="Century Schoolbook"/>
            </a:endParaRPr>
          </a:p>
        </p:txBody>
      </p:sp>
      <p:sp>
        <p:nvSpPr>
          <p:cNvPr id="143" name="PlaceHolder 2"/>
          <p:cNvSpPr>
            <a:spLocks noGrp="1"/>
          </p:cNvSpPr>
          <p:nvPr>
            <p:ph/>
          </p:nvPr>
        </p:nvSpPr>
        <p:spPr>
          <a:xfrm>
            <a:off x="923400" y="2209320"/>
            <a:ext cx="7610760" cy="409284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jury is still out on architecture description language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description languages give designers a choice of</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uctures to represent</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ation to use</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es and verifications that are possible</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rastructure for ADL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st integrate with other development tool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s community effor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duct Line Practices</a:t>
            </a:r>
            <a:endParaRPr b="0" lang="en-US" sz="3600" spc="-1" strike="noStrike">
              <a:solidFill>
                <a:srgbClr val="ffffff"/>
              </a:solidFill>
              <a:latin typeface="Century Schoolbook"/>
            </a:endParaRPr>
          </a:p>
        </p:txBody>
      </p:sp>
      <p:sp>
        <p:nvSpPr>
          <p:cNvPr id="145" name="PlaceHolder 2"/>
          <p:cNvSpPr>
            <a:spLocks noGrp="1"/>
          </p:cNvSpPr>
          <p:nvPr>
            <p:ph/>
          </p:nvPr>
        </p:nvSpPr>
        <p:spPr>
          <a:xfrm>
            <a:off x="936720" y="1808280"/>
            <a:ext cx="7953120" cy="4456080"/>
          </a:xfrm>
          <a:prstGeom prst="rect">
            <a:avLst/>
          </a:prstGeom>
          <a:noFill/>
          <a:ln w="0">
            <a:noFill/>
          </a:ln>
        </p:spPr>
        <p:txBody>
          <a:bodyPr lIns="0" rIns="0" tIns="0" bIns="0" anchor="t">
            <a:normAutofit fontScale="98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s for a product line emphasize the quality of modifiability.</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work is required to </a:t>
            </a:r>
            <a:endParaRPr b="1" lang="en-US" sz="2400" spc="-1" strike="noStrike">
              <a:solidFill>
                <a:srgbClr val="ffffff"/>
              </a:solidFill>
              <a:latin typeface="Arial"/>
            </a:endParaRPr>
          </a:p>
          <a:p>
            <a:pPr lvl="1" marL="331200" indent="-218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characteristics of product line production</a:t>
            </a:r>
            <a:endParaRPr b="1" lang="en-US" sz="2400" spc="-1" strike="noStrike">
              <a:solidFill>
                <a:srgbClr val="ffffff"/>
              </a:solidFill>
              <a:latin typeface="Arial"/>
            </a:endParaRPr>
          </a:p>
          <a:p>
            <a:pPr lvl="1" marL="331200" indent="-218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ise technical solutions to technical problems</a:t>
            </a:r>
            <a:endParaRPr b="1" lang="en-US" sz="2400" spc="-1" strike="noStrike">
              <a:solidFill>
                <a:srgbClr val="ffffff"/>
              </a:solidFill>
              <a:latin typeface="Arial"/>
            </a:endParaRPr>
          </a:p>
          <a:p>
            <a:pPr lvl="2" marL="679680" indent="-236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ndency for slow initial development</a:t>
            </a:r>
            <a:endParaRPr b="1" lang="en-US" sz="2400" spc="-1" strike="noStrike">
              <a:solidFill>
                <a:srgbClr val="ffffff"/>
              </a:solidFill>
              <a:latin typeface="Arial"/>
            </a:endParaRPr>
          </a:p>
          <a:p>
            <a:pPr lvl="2" marL="679680" indent="-236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nchronization of product line architecture and product architectures</a:t>
            </a:r>
            <a:endParaRPr b="1" lang="en-US" sz="2400" spc="-1" strike="noStrike">
              <a:solidFill>
                <a:srgbClr val="ffffff"/>
              </a:solidFill>
              <a:latin typeface="Arial"/>
            </a:endParaRPr>
          </a:p>
          <a:p>
            <a:pPr lvl="1" marL="331200" indent="-218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ommend organizational solutions for non-technical problems</a:t>
            </a:r>
            <a:endParaRPr b="1" lang="en-US" sz="2400" spc="-1" strike="noStrike">
              <a:solidFill>
                <a:srgbClr val="ffffff"/>
              </a:solidFill>
              <a:latin typeface="Arial"/>
            </a:endParaRPr>
          </a:p>
          <a:p>
            <a:pPr lvl="2" marL="679680" indent="-236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ganization structure</a:t>
            </a:r>
            <a:endParaRPr b="1" lang="en-US" sz="2400" spc="-1" strike="noStrike">
              <a:solidFill>
                <a:srgbClr val="ffffff"/>
              </a:solidFill>
              <a:latin typeface="Arial"/>
            </a:endParaRPr>
          </a:p>
          <a:p>
            <a:pPr lvl="2" marL="679680" indent="-236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cas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8-24T19:02:59Z</cp:lastPrinted>
  <dcterms:modified xsi:type="dcterms:W3CDTF">1998-10-20T13:02:19Z</dcterms:modified>
  <cp:revision>116</cp:revision>
  <dc:subject/>
  <dc:title>Cover Slide Example</dc:title>
</cp:coreProperties>
</file>