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3185E09C-4D56-4B79-9BE0-48D31DAFCF38}"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9E386E7B-54E8-4948-8779-521329F68F7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E6091E4C-2CC4-4807-9380-F236D9B1BFE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7: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3:03:33Z</dcterms:modified>
  <cp:revision>276</cp:revision>
  <dc:subject/>
  <dc:title>Cover Slide Example</dc:title>
</cp:coreProperties>
</file>