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4E7803FE-2A97-427C-B797-C6E3D9890DB0}"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DCBA9BE2-4B71-45F4-B090-1C9BDB6045E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CBD76DC4-4F69-4FC4-93A2-482E94FB700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7: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3:03:33Z</dcterms:modified>
  <cp:revision>276</cp:revision>
  <dc:subject/>
  <dc:title>Cover Slide Example</dc:title>
</cp:coreProperties>
</file>