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A48CE7F8-6D4E-4D29-9B8B-B0051CD0D87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068480" y="685800"/>
            <a:ext cx="4321080" cy="3240000"/>
          </a:xfrm>
          <a:prstGeom prst="rect">
            <a:avLst/>
          </a:prstGeom>
          <a:ln w="0">
            <a:noFill/>
          </a:ln>
        </p:spPr>
      </p:sp>
      <p:sp>
        <p:nvSpPr>
          <p:cNvPr id="378"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provides a blueprint for a system, but the system must still be constructed from this blueprint.  The process of moving from an architecture to an executable system deals with the creation of  the work breakdown structure and its relationship to the architecture, the use of the architecture as a basis for creating a limited version of the system, the use of patterns within an architectural structure, this incorporation of reused components into the system, and the conformance of the final system to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31760" y="657360"/>
            <a:ext cx="4324320" cy="3240000"/>
          </a:xfrm>
          <a:prstGeom prst="rect">
            <a:avLst/>
          </a:prstGeom>
          <a:ln w="0">
            <a:noFill/>
          </a:ln>
        </p:spPr>
      </p:sp>
      <p:sp>
        <p:nvSpPr>
          <p:cNvPr id="396"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building the coordination and communication infrastructure first we ha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hing an early version of the deliverable that we can demonstrate; we do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to wait until everything works to be able to show something to the custom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to manage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eletal system that first results from this approach serves as an integ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n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of the benefits of creating a skeletal system first and then populating it with parts is that individual implementation teams can create parts of the system which can be filled out or have functions added as the development cycles continu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y creation of a working skeletal version of the system and the ability to iteratively refine that version into successively more comprehensive or higher fidelity versions allows incremental integration of new components as they are develop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llows early concentration on those aspects of the system expected to be most troublesome to implement or about which  the most uncertainty exi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ids the testing and review process because a testable system always exists. Thus, testing and review can be done incrementally, as each subsystem cones on-line.  As an example, performance measures can be taken frequently and performance problems recognized and addressed early.  Compared to what frequently occurs - the entire system is built and turned on, and the whole staff holds their breath and crosses their fingers to see if the performance goals are met - this approach yields a big advantage.  Further, the stubs can generate synthetic loads, providing a high-fidelity and early look into performance:  the system is essentially its own simu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31760" y="657360"/>
            <a:ext cx="4324320" cy="3240000"/>
          </a:xfrm>
          <a:prstGeom prst="rect">
            <a:avLst/>
          </a:prstGeom>
          <a:ln w="0">
            <a:noFill/>
          </a:ln>
        </p:spPr>
      </p:sp>
      <p:sp>
        <p:nvSpPr>
          <p:cNvPr id="39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o build?  It depends on the type of system.  Exampl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  infrastructure was in subset of extended computer that called programs and scheduled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system:  infrastructure is provided by the programming langu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t-based system:  infrastructure is the event signaling/detection mechanism, plus the process schedul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31760" y="657360"/>
            <a:ext cx="4324320" cy="3240000"/>
          </a:xfrm>
          <a:prstGeom prst="rect">
            <a:avLst/>
          </a:prstGeom>
          <a:ln w="0">
            <a:noFill/>
          </a:ln>
        </p:spPr>
      </p:sp>
      <p:sp>
        <p:nvSpPr>
          <p:cNvPr id="4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the software that deals with the execution and interaction of architectural components has been implemented, you can use the “uses” structure to reveal what mechanisms must be present to run a minimal sub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ou can then choose which of the stubbed components should be implemented with more fidelity.  The choice may be based on lowering risk by addressing the most problematic areas first, or based on levels and type of staffing available, on deadlines for demonstrating system subsets,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31760" y="657360"/>
            <a:ext cx="4324320" cy="3240000"/>
          </a:xfrm>
          <a:prstGeom prst="rect">
            <a:avLst/>
          </a:prstGeom>
          <a:ln w="0">
            <a:noFill/>
          </a:ln>
        </p:spPr>
      </p:sp>
      <p:sp>
        <p:nvSpPr>
          <p:cNvPr id="40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We will now discuss the use of design patter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31760" y="657360"/>
            <a:ext cx="4324320" cy="3240000"/>
          </a:xfrm>
          <a:prstGeom prst="rect">
            <a:avLst/>
          </a:prstGeom>
          <a:ln w="0">
            <a:noFill/>
          </a:ln>
        </p:spPr>
      </p:sp>
      <p:sp>
        <p:nvSpPr>
          <p:cNvPr id="404" name="PlaceHolder 2"/>
          <p:cNvSpPr>
            <a:spLocks noGrp="1"/>
          </p:cNvSpPr>
          <p:nvPr>
            <p:ph type="body"/>
          </p:nvPr>
        </p:nvSpPr>
        <p:spPr>
          <a:xfrm>
            <a:off x="907920" y="4212720"/>
            <a:ext cx="4848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a:t>
            </a:r>
            <a:r>
              <a:rPr b="0" i="1" lang="en-US" sz="1000" spc="-1" strike="noStrike">
                <a:solidFill>
                  <a:srgbClr val="000000"/>
                </a:solidFill>
                <a:latin typeface="Arial"/>
              </a:rPr>
              <a:t> </a:t>
            </a:r>
            <a:r>
              <a:rPr b="0" lang="en-US" sz="1000" spc="-1" strike="noStrike" u="sng">
                <a:solidFill>
                  <a:srgbClr val="000000"/>
                </a:solidFill>
                <a:uFillTx/>
                <a:latin typeface="Arial"/>
              </a:rPr>
              <a:t>pattern</a:t>
            </a:r>
            <a:r>
              <a:rPr b="0" lang="en-US" sz="1000" spc="-1" strike="noStrike">
                <a:solidFill>
                  <a:srgbClr val="000000"/>
                </a:solidFill>
                <a:latin typeface="Arial"/>
              </a:rPr>
              <a:t> is a small collection of atomic units and a description of their relationships. Patterns are ubiquitous throughout software development and are regularly used subconsciously by experienced programmers.  There are three levels where patterns are used:  design-in-the large (architectural styles, or just “patterns”), design-in-the-small (the component level, where we use things like templates or proven fault-handling mechanisms to determine how the components will interact), and in cod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patterns where the atomic units are components and the relationships are data and control mechanisms.  In this section, we will concentrate on design patterns because they are of most importance during the architecture-to-system phase of development that is the subject of this l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s are patterns where atomic units are classes and the relationships are inheritance and method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31760" y="657360"/>
            <a:ext cx="4324320" cy="3240000"/>
          </a:xfrm>
          <a:prstGeom prst="rect">
            <a:avLst/>
          </a:prstGeom>
          <a:ln w="0">
            <a:noFill/>
          </a:ln>
        </p:spPr>
      </p:sp>
      <p:sp>
        <p:nvSpPr>
          <p:cNvPr id="406"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patterns can and do operate at different levels of scope,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es of patterns share many features.  They all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 as exemplars or a “catalog” of solutions for programmers, designers, and architects, which can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solutions:  discovering patterns that were applied in previous situations, rather than inventing th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codified, distilled wisdom:  solutions to recurring problems, if those solutions have well-understood proper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d in communication among designers, between designers and  programmers, and between a project’s technical team members and nontechnical member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31760" y="657360"/>
            <a:ext cx="4324320" cy="3240000"/>
          </a:xfrm>
          <a:prstGeom prst="rect">
            <a:avLst/>
          </a:prstGeom>
          <a:ln w="0">
            <a:noFill/>
          </a:ln>
        </p:spPr>
      </p:sp>
      <p:sp>
        <p:nvSpPr>
          <p:cNvPr id="4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can be partially realized via coding templates. This has sever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rs, designers, and architects can find documented, existing examples of templates which can be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represent codified, distilled wisdom - a documented, reusable base of experience which would otherwise be learned only through an informal oral tradition or through trial and err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allow programmers and designers to program and design, and coders to code, using bigger chunks.  This also eases those aspects that involve understanding and architecture:  architectural reviews, reverse engineering, maintenance, and system restructur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elp understanding and communicatio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31760" y="657360"/>
            <a:ext cx="4324320" cy="3240000"/>
          </a:xfrm>
          <a:prstGeom prst="rect">
            <a:avLst/>
          </a:prstGeom>
          <a:ln w="0">
            <a:noFill/>
          </a:ln>
        </p:spPr>
      </p:sp>
      <p:sp>
        <p:nvSpPr>
          <p:cNvPr id="4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two examples of design patterns, abstract factory and strateg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31760" y="657360"/>
            <a:ext cx="4324320" cy="3240000"/>
          </a:xfrm>
          <a:prstGeom prst="rect">
            <a:avLst/>
          </a:prstGeom>
          <a:ln w="0">
            <a:noFill/>
          </a:ln>
        </p:spPr>
      </p:sp>
      <p:sp>
        <p:nvSpPr>
          <p:cNvPr id="412"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pattern is used to create an abstract interface that hides the details of families of related interfaces.  This pattern is used for portability:  to create instances of some appropriate resource at runtime without the developer needing to worry about how that resource is going to be bound.  In this case, two different user-interface toolkits are presented to a programmer as a single abstraction (WindowKit), which contains methods that the programmer can use.  The methods are bound to different instantiations, however, depending in what toolkit the implementation platform actually uses.  Each toolkit has a different look and feel standar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31760" y="657360"/>
            <a:ext cx="4324320" cy="3240000"/>
          </a:xfrm>
          <a:prstGeom prst="rect">
            <a:avLst/>
          </a:prstGeom>
          <a:ln w="0">
            <a:noFill/>
          </a:ln>
        </p:spPr>
      </p:sp>
      <p:sp>
        <p:nvSpPr>
          <p:cNvPr id="4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slide explains the diagram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031760" y="657360"/>
            <a:ext cx="4324320" cy="3240000"/>
          </a:xfrm>
          <a:prstGeom prst="rect">
            <a:avLst/>
          </a:prstGeom>
          <a:ln w="0">
            <a:noFill/>
          </a:ln>
        </p:spPr>
      </p:sp>
      <p:sp>
        <p:nvSpPr>
          <p:cNvPr id="3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031760" y="657360"/>
            <a:ext cx="4324320" cy="3240000"/>
          </a:xfrm>
          <a:prstGeom prst="rect">
            <a:avLst/>
          </a:prstGeom>
          <a:ln w="0">
            <a:noFill/>
          </a:ln>
        </p:spPr>
      </p:sp>
      <p:sp>
        <p:nvSpPr>
          <p:cNvPr id="4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toolkits with the same method but two different look and feel standa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WindowKit” class is created with abstract methods “CreateScrollBar” and “CreateWindo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ndowKit has two subclasses:  MotifWindowKit and OpenLook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r accesses both subclasses through the single abstract interface that is (statically) defined in 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is the static use of a virtual machine, whose function was determined at compile tim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31760" y="657360"/>
            <a:ext cx="4324320" cy="3240000"/>
          </a:xfrm>
          <a:prstGeom prst="rect">
            <a:avLst/>
          </a:prstGeom>
          <a:ln w="0">
            <a:noFill/>
          </a:ln>
        </p:spPr>
      </p:sp>
      <p:sp>
        <p:nvSpPr>
          <p:cNvPr id="41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used to define and encapsulate a set of algorithms and allow them to be used interchangeably by a client.  In this case, the decisions are made at runtime.  This is compared to the bind time decisions of the previous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031760" y="657360"/>
            <a:ext cx="4324320" cy="3240000"/>
          </a:xfrm>
          <a:prstGeom prst="rect">
            <a:avLst/>
          </a:prstGeom>
          <a:ln w="0">
            <a:noFill/>
          </a:ln>
        </p:spPr>
      </p:sp>
      <p:sp>
        <p:nvSpPr>
          <p:cNvPr id="420"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text explains the diagram on the next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a dynamic method which is meant to be used when a single task might be implemented in a variety of ways, depending on the nature of the input.  In this case, a text editor needs to handle different kinds of composition strategies, and the choice must be made at runtime.  It might choose one kind of strategy for line breaking in formatted text to produce text that is both left and right justified (TeXCompsitor), a different kind of strategy for breaking regular tables of information (ArrayCompositor), and a simple, efficient compositor for breaking lines when the right-hand margin does not need to be justified (SimpleCompositor).  In each case, the client using the composition class’s repair method is not bound to a single strategy.  The client can choose which compose method will be applied.  Invocation of the compose method results in the invocation of one of three subclasses of composition, as appropriate to the contex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033560" y="658800"/>
            <a:ext cx="4321080" cy="3238560"/>
          </a:xfrm>
          <a:prstGeom prst="rect">
            <a:avLst/>
          </a:prstGeom>
          <a:ln w="0">
            <a:noFill/>
          </a:ln>
        </p:spPr>
      </p:sp>
      <p:sp>
        <p:nvSpPr>
          <p:cNvPr id="422" name="PlaceHolder 2"/>
          <p:cNvSpPr>
            <a:spLocks noGrp="1"/>
          </p:cNvSpPr>
          <p:nvPr>
            <p:ph type="body"/>
          </p:nvPr>
        </p:nvSpPr>
        <p:spPr>
          <a:xfrm>
            <a:off x="917280" y="4203720"/>
            <a:ext cx="4686120" cy="381960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is diagram illustrates the idea just explained on slide 23.</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 is a dynamic way of using a virtual machine (as opposed to the static way shown in the abstract factory example), whose function is determined at runtime (as opposed to at compile time, in the abstract factory exampl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31760" y="657360"/>
            <a:ext cx="4324320" cy="3240000"/>
          </a:xfrm>
          <a:prstGeom prst="rect">
            <a:avLst/>
          </a:prstGeom>
          <a:ln w="0">
            <a:noFill/>
          </a:ln>
        </p:spPr>
      </p:sp>
      <p:sp>
        <p:nvSpPr>
          <p:cNvPr id="4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esign pattern has some obvious implications for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we concern ourselves with an architecture’s fitness with respect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inds of qualities that they sup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design supports portability because it creates instances of specific resources without revealing details of underlying resource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supports flexibility and reuse of components because the algorithms are encapsulated and can be used interchangeably. </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allow a choice of design alternatives to support a system’s desired qua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patterns aid in the voyage from quality requirements to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system by providing prepackaged </a:t>
            </a:r>
            <a:r>
              <a:rPr b="0" lang="en-US" sz="1000" spc="-1" strike="noStrike" u="sng">
                <a:solidFill>
                  <a:srgbClr val="000000"/>
                </a:solidFill>
                <a:uFillTx/>
                <a:latin typeface="Arial"/>
              </a:rPr>
              <a:t>pockets</a:t>
            </a:r>
            <a:r>
              <a:rPr b="0" lang="en-US" sz="1000" spc="-1" strike="noStrike">
                <a:solidFill>
                  <a:srgbClr val="000000"/>
                </a:solidFill>
                <a:latin typeface="Arial"/>
              </a:rPr>
              <a:t> of focused design expertise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a relatively inexperienced programmer can use.  The novice does this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ching functional and quality requirements to the database of patter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031760" y="657360"/>
            <a:ext cx="4324320" cy="3240000"/>
          </a:xfrm>
          <a:prstGeom prst="rect">
            <a:avLst/>
          </a:prstGeom>
          <a:ln w="0">
            <a:noFill/>
          </a:ln>
        </p:spPr>
      </p:sp>
      <p:sp>
        <p:nvSpPr>
          <p:cNvPr id="4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discuss how architectures can be used to check whether the system that was produced conforms to the intended architectural desig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031760" y="657360"/>
            <a:ext cx="4324320" cy="3240000"/>
          </a:xfrm>
          <a:prstGeom prst="rect">
            <a:avLst/>
          </a:prstGeom>
          <a:ln w="0">
            <a:noFill/>
          </a:ln>
        </p:spPr>
      </p:sp>
      <p:sp>
        <p:nvSpPr>
          <p:cNvPr id="42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requirements for a system have been analyzed, its patterns develop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skeletal system created and fleshed out, and its testing and integration don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become a product.  Once the system has become a product, we still ne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concerned about its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be able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ze the architecture of the system as it exists to ensure that the system “as built” is the same as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document architectures so that changes are recorded as they are made to the system; or, in the case of legacy systems, there may be no documentation or that documentation that does exist does not match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entify dependencies and areas of high complexity within the system to facilitate reengineering of the syste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31760" y="657360"/>
            <a:ext cx="4324320" cy="3240000"/>
          </a:xfrm>
          <a:prstGeom prst="rect">
            <a:avLst/>
          </a:prstGeom>
          <a:ln w="0">
            <a:noFill/>
          </a:ln>
        </p:spPr>
      </p:sp>
      <p:sp>
        <p:nvSpPr>
          <p:cNvPr id="430"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 architecture still meaningful once the system has been implemented?  Of course.  The system still has an architecture, although it may well be different from the architecture that it started out with.  The issue, then, is how to keep the description of the architecture and the actual architecture in conformance with each other. It is sadly true that this important piece of documentation is seldom given the maintenance attention that it deserves:  architectures drift away from the documents that describe them, and nothing kills a document so quickly as being unreliable.  Hence, documentation that is not valid will not  be used, and who wants to spend time updating a document that isn’t used anyway?  This vicious spiral continues until the code is the only authoritative source of what the system does and what its architecture is.  It doesn’t take a very large system for this situation to become unten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you’ve just inherited a system with the documentation still in its (dusty) shrink-wrap cover, dated sometime around the invention of dirt.  What are your options?  One option is to attempt to reverse engineer the system to determine its conformance to the published architecture and to act on areas of variation, by changing either the system or the architectural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reverse engineering tools (such as Dali) to support this process.  Dali is a tool under development at Carnegie Mellon University’s Software Engineering Institute.  It is designed to help in reverse engineering by looking for code patterns and identifying areas of varian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31760" y="657360"/>
            <a:ext cx="4324320" cy="3240000"/>
          </a:xfrm>
          <a:prstGeom prst="rect">
            <a:avLst/>
          </a:prstGeom>
          <a:ln w="0">
            <a:noFill/>
          </a:ln>
        </p:spPr>
      </p:sp>
      <p:sp>
        <p:nvSpPr>
          <p:cNvPr id="4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is an illustration of what Dali found in conformance testing.  The diagram on the left shows the way the components were supposed to interact in the architectural design.  The diagram on the left is what Dali found to be actually the case:  there is layer bridging where dialogue went directly to the functional core or the presentation, rather than through the functional core adaptor or the logical interac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31760" y="657360"/>
            <a:ext cx="4324320" cy="3240000"/>
          </a:xfrm>
          <a:prstGeom prst="rect">
            <a:avLst/>
          </a:prstGeom>
          <a:ln w="0">
            <a:noFill/>
          </a:ln>
        </p:spPr>
      </p:sp>
      <p:sp>
        <p:nvSpPr>
          <p:cNvPr id="4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reverse engineering in detail in a later lecture.  For now, suffi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to say that from an architectural point of view, reverse engineering is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empt to understand architecture through recover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you are engaged in reverse engineering, you must use all possi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artifacts that might help you to recover information.  These inclu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 architectural documentation, and users guid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ools available to aid in the extraction of information.  However, the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inconsistent.  For example, a fuzzy logic tool may find things that weren’t really there.  (This is called a false posi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provide too much information.  In a large system, there is so much information there that unless it is filtered for the appropriate level of granularity, it may not be possible to identify problems or features.  For example, if every “call” in a call-and-return style system is earmarked, the sheer number of them appears no more meaningful than white noi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31760" y="657360"/>
            <a:ext cx="4324320" cy="3240000"/>
          </a:xfrm>
          <a:prstGeom prst="rect">
            <a:avLst/>
          </a:prstGeom>
          <a:ln w="0">
            <a:noFill/>
          </a:ln>
        </p:spPr>
      </p:sp>
      <p:sp>
        <p:nvSpPr>
          <p:cNvPr id="3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concerned with the creation, document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of an architecture.  We now turn our attention to the process of cre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from an architecture.  That is, after all, the whole point.  The mo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architecture, if it impedes implementation, is worthless.  Here, we wi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those aspects of the creation process that specifically relat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architecture-specific portions of the creation proces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ing the team structure and its relationship to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he architecture to create a skeletal version of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design and coding patterns within an architectural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ecking the conformance of the final system to the architectur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31760" y="657360"/>
            <a:ext cx="4324320" cy="3240000"/>
          </a:xfrm>
          <a:prstGeom prst="rect">
            <a:avLst/>
          </a:prstGeom>
          <a:ln w="0">
            <a:noFill/>
          </a:ln>
        </p:spPr>
      </p:sp>
      <p:sp>
        <p:nvSpPr>
          <p:cNvPr id="4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1760" y="657360"/>
            <a:ext cx="4324320" cy="3240000"/>
          </a:xfrm>
          <a:prstGeom prst="rect">
            <a:avLst/>
          </a:prstGeom>
          <a:ln w="0">
            <a:noFill/>
          </a:ln>
        </p:spPr>
      </p:sp>
      <p:sp>
        <p:nvSpPr>
          <p:cNvPr id="4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031760" y="657360"/>
            <a:ext cx="4324320" cy="3240000"/>
          </a:xfrm>
          <a:prstGeom prst="rect">
            <a:avLst/>
          </a:prstGeom>
          <a:ln w="0">
            <a:noFill/>
          </a:ln>
        </p:spPr>
      </p:sp>
      <p:sp>
        <p:nvSpPr>
          <p:cNvPr id="3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for the system under construction has been agreed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s are allocated to work on the major components and a work breakdow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created that reflects those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 does the team structure mirror? The best bet i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Information-hiding, the design principle behi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of systems, holds that modules should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hide, changeable details by putting up an interface that abstracts awa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eable aspects and presents a common, unified set of services to its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in this case, the software in other modules in the system).  This impli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odule constitutes its own small domain; we use</a:t>
            </a:r>
            <a:r>
              <a:rPr b="0" i="1" lang="en-US" sz="1000" spc="-1" strike="noStrike">
                <a:solidFill>
                  <a:srgbClr val="000000"/>
                </a:solidFill>
                <a:latin typeface="Arial"/>
              </a:rPr>
              <a:t> domain </a:t>
            </a:r>
            <a:r>
              <a:rPr b="0" lang="en-US" sz="1000" spc="-1" strike="noStrike">
                <a:solidFill>
                  <a:srgbClr val="000000"/>
                </a:solidFill>
                <a:latin typeface="Arial"/>
              </a:rPr>
              <a:t>her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domain analysis:  in an area of specialized knowledge or expert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decomposition of function into a module structure determines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rastructure of the architecture often results in the formation of teams composed of people with expertise in that particular domain of the system.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031760" y="657360"/>
            <a:ext cx="4324320" cy="3240000"/>
          </a:xfrm>
          <a:prstGeom prst="rect">
            <a:avLst/>
          </a:prstGeom>
          <a:ln w="0">
            <a:noFill/>
          </a:ln>
        </p:spPr>
      </p:sp>
      <p:sp>
        <p:nvSpPr>
          <p:cNvPr id="386" name="PlaceHolder 2"/>
          <p:cNvSpPr>
            <a:spLocks noGrp="1"/>
          </p:cNvSpPr>
          <p:nvPr>
            <p:ph type="body"/>
          </p:nvPr>
        </p:nvSpPr>
        <p:spPr>
          <a:xfrm>
            <a:off x="917280" y="4212720"/>
            <a:ext cx="47718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established, a project organizational structure is difficult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the team, there needs to be high-bandwidth communications:  lots of information in the form of detailed design decisions is being shared constantly.  Between teams, low-bandwidth communications are sufficient (and, in fact, crucial.  Brooks contends that the overhead of interteam communication, if not carefully managed, will swamp a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f course, assuming  that the system has been designed with appropriate separation of concerns.  Highly complex systems result when these design criteria are not met.  In fact,  team structure and control of team interactions often turn out to be the factors affecting a large project’s success.  If interactions between the teams need to be complex, it means either that the interactions between the components that they are creating are needlessly complex or that the requirements for those components were not sufficiently “hardened” before development commenced.  In this case, there is a need for high-bandwidth connections </a:t>
            </a:r>
            <a:r>
              <a:rPr b="0" lang="en-US" sz="1000" spc="-1" strike="noStrike" u="sng">
                <a:solidFill>
                  <a:srgbClr val="000000"/>
                </a:solidFill>
                <a:uFillTx/>
                <a:latin typeface="Arial"/>
              </a:rPr>
              <a:t>between</a:t>
            </a:r>
            <a:r>
              <a:rPr b="0" lang="en-US" sz="1000" spc="-1" strike="noStrike">
                <a:solidFill>
                  <a:srgbClr val="000000"/>
                </a:solidFill>
                <a:latin typeface="Arial"/>
              </a:rPr>
              <a:t> teams, not just within teams, requiring substantial negotiations, and often rework of components and their interfaces.  Teams, like software systems, should strive for loose coupling and high cohes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031760" y="657360"/>
            <a:ext cx="4324320" cy="3240000"/>
          </a:xfrm>
          <a:prstGeom prst="rect">
            <a:avLst/>
          </a:prstGeom>
          <a:ln w="0">
            <a:noFill/>
          </a:ln>
        </p:spPr>
      </p:sp>
      <p:sp>
        <p:nvSpPr>
          <p:cNvPr id="388"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act of an organization on an architecture is more subtle but equally strong as the impact of architecture on the organization (of the group that builds the system described by the architecture).  Suppose you are a member of a group that builds database applications and you are assigned to work on a team designing an architecture for some application.  Your inclination is probably to view the current problem as a database problem, to worry about what database system should be used or whether a home-grown one should be constructed, to assume data retrievals are constructed as queries, and so on.  You will therefore press for an architecture that has distinct subsystems for data storage and management, query formulation and implementation, and so on.  A person from the telecommunications group, on the other hand, will view the system in telecommunication terms, and for this person, the database is a single (possibly  uninteresting) sub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ier in the course, we discussed how the organizational infrastructure and a  desire to employ or develop certain sets of skills will have an effect on the architecture.  Therefore, it is wise to pay attention to infrastructure early in the software life cycle.  This means that as an organization continues to work in a particular domain, it develops particular artifacts to use as a means of obtaining  work, and it also has organizational groups whose purpose is the maintenance of these artifacts, facilitating  reuse.  This infrastructure also lends stability to the architecture of systems developed by the organization and provides a skeleton for developme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031760" y="657360"/>
            <a:ext cx="4324320" cy="3240000"/>
          </a:xfrm>
          <a:prstGeom prst="rect">
            <a:avLst/>
          </a:prstGeom>
          <a:ln w="0">
            <a:noFill/>
          </a:ln>
        </p:spPr>
      </p:sp>
      <p:sp>
        <p:nvSpPr>
          <p:cNvPr id="3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s structure reflects the way it does business.  Projects also reflect the organization’s structure.  Independent business units make reuse difficult across independent projects from different business units.  Projects that cross business units tend to have a duplication of central functions, such as database functions.  The lesson should be that the system architect should take the organizational structure (and its associated consequences) into account when structuring the system’s archite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031760" y="657360"/>
            <a:ext cx="4324320" cy="3240000"/>
          </a:xfrm>
          <a:prstGeom prst="rect">
            <a:avLst/>
          </a:prstGeom>
          <a:ln w="0">
            <a:noFill/>
          </a:ln>
        </p:spPr>
      </p:sp>
      <p:sp>
        <p:nvSpPr>
          <p:cNvPr id="39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tate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of the lecture, we describe the benefits not only of defining a software architecture early in a system’s life cycle, but also of using that architecture in the first implementation task:  the creation of a </a:t>
            </a:r>
            <a:r>
              <a:rPr b="0" i="1" lang="en-US" sz="1000" spc="-1" strike="noStrike">
                <a:solidFill>
                  <a:srgbClr val="000000"/>
                </a:solidFill>
                <a:latin typeface="Arial"/>
              </a:rPr>
              <a:t>skeletal</a:t>
            </a:r>
            <a:r>
              <a:rPr b="0" lang="en-US" sz="1000" spc="-1" strike="noStrike">
                <a:solidFill>
                  <a:srgbClr val="000000"/>
                </a:solidFill>
                <a:latin typeface="Arial"/>
              </a:rPr>
              <a:t> </a:t>
            </a:r>
            <a:r>
              <a:rPr b="0" i="1" lang="en-US" sz="1000" spc="-1" strike="noStrike">
                <a:solidFill>
                  <a:srgbClr val="000000"/>
                </a:solidFill>
                <a:latin typeface="Arial"/>
              </a:rPr>
              <a:t>system</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31760" y="657360"/>
            <a:ext cx="4324320" cy="3240000"/>
          </a:xfrm>
          <a:prstGeom prst="rect">
            <a:avLst/>
          </a:prstGeom>
          <a:ln w="0">
            <a:noFill/>
          </a:ln>
        </p:spPr>
      </p:sp>
      <p:sp>
        <p:nvSpPr>
          <p:cNvPr id="394" name="PlaceHolder 2"/>
          <p:cNvSpPr>
            <a:spLocks noGrp="1"/>
          </p:cNvSpPr>
          <p:nvPr>
            <p:ph type="body"/>
          </p:nvPr>
        </p:nvSpPr>
        <p:spPr>
          <a:xfrm>
            <a:off x="917280" y="4212720"/>
            <a:ext cx="48862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alogy of the architecture as a skeletal system is meant to give the idea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forms the bare bones of the system.  Coordinating piec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nd components, fleshes out the design, but the basic shap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hip of the parts is already determined:  “The knee bone’s connected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in bone...” and so on.  The coordination and communication among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component types was prescribed by the system’s architectural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keletal system provides a way to implement the major behavio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pects of the architecture.  Each of the components described in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mplemented to the extent that it demonstrates the behavior of that sub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at behavior is only a “canned” sequences of 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cal software engineering practice recommends “stubbing out” sections of code so that portions of the system can be tested independently.  The classic practice, however, gives no guidance about which portions should be stubbed.  By using the architecture as a guide, a sequence of implementation becomes clear.  First, implement the software that deals with the execution and interaction of architectural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choose which of the stubbed components should be implemented with more fidelity.  Employ the “uses structure” to add function incrementally and deploy subse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DE9A4D6F-BA91-483D-84A4-53BA07EE59C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8800" y="46530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711C8197-DD2B-4C2A-AA1F-7D6651B1654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4840" y="1904760"/>
            <a:ext cx="76230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3: Architecture-Based Development</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1</a:t>
            </a:r>
            <a:endParaRPr b="0" lang="en-US" sz="3600" spc="-1" strike="noStrike">
              <a:solidFill>
                <a:srgbClr val="ffffff"/>
              </a:solidFill>
              <a:latin typeface="Century Schoolbook"/>
            </a:endParaRPr>
          </a:p>
        </p:txBody>
      </p:sp>
      <p:sp>
        <p:nvSpPr>
          <p:cNvPr id="150" name="PlaceHolder 2"/>
          <p:cNvSpPr>
            <a:spLocks noGrp="1"/>
          </p:cNvSpPr>
          <p:nvPr>
            <p:ph/>
          </p:nvPr>
        </p:nvSpPr>
        <p:spPr>
          <a:xfrm>
            <a:off x="936720" y="2227320"/>
            <a:ext cx="7300800" cy="4300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executable system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s “nothing works until everything wor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early, useful deliverab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n integration harness. Allow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development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focus on troublesome functional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components to test loading and load balancing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2</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2222280"/>
            <a:ext cx="7775640" cy="392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build?  It depends on the type of system.  Examp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infrastructure was in subset of extended computer that called programs and scheduled process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and-return system: infrastructure is provided by the programming languag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based system: infrastructure is the event signaling/detection mechanism, plus the process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2222280"/>
            <a:ext cx="7301160" cy="414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will reveal what mechanisms must be present to run a minimal sub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that, add functionality based on risk, subset demonstration deadlines,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57" name=""/>
          <p:cNvGraphicFramePr/>
          <p:nvPr/>
        </p:nvGraphicFramePr>
        <p:xfrm>
          <a:off x="7905600" y="50760"/>
          <a:ext cx="1159200" cy="1282680"/>
        </p:xfrm>
        <a:graphic>
          <a:graphicData uri="http://schemas.openxmlformats.org/presentationml/2006/ole">
            <p:oleObj r:id="rId1" spid="">
              <p:embed/>
              <p:pic>
                <p:nvPicPr>
                  <p:cNvPr id="158" name="" descr=""/>
                  <p:cNvPicPr/>
                  <p:nvPr/>
                </p:nvPicPr>
                <p:blipFill>
                  <a:blip r:embed="rId2"/>
                  <a:stretch/>
                </p:blipFill>
                <p:spPr>
                  <a:xfrm>
                    <a:off x="7905600" y="50760"/>
                    <a:ext cx="1159200" cy="1282680"/>
                  </a:xfrm>
                  <a:prstGeom prst="rect">
                    <a:avLst/>
                  </a:prstGeom>
                  <a:ln w="0">
                    <a:noFill/>
                  </a:ln>
                </p:spPr>
              </p:pic>
            </p:oleObj>
          </a:graphicData>
        </a:graphic>
      </p:graphicFrame>
      <p:sp>
        <p:nvSpPr>
          <p:cNvPr id="159" name=""/>
          <p:cNvSpPr/>
          <p:nvPr/>
        </p:nvSpPr>
        <p:spPr>
          <a:xfrm>
            <a:off x="596880" y="383544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tern is a small collection of atomic units and a description of their relationsh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patterns where the atomic units are components and the relationships are data and control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s are patterns where atomic units are classes and the relationships are inheritance and method invo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tility of Pattern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 as exempl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 solu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 codified solutions with understood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 in communication and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s for Pattern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partially realized via coding templates. This has several advant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exemplars to programmers, designers, and architects, which can be quickly adapted for use in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s codified, distilled wisdom; solutions to recurring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coders to code using bigger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understanding and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Design Patterns</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p:txBody>
      </p:sp>
      <p:graphicFrame>
        <p:nvGraphicFramePr>
          <p:cNvPr id="168" name=""/>
          <p:cNvGraphicFramePr/>
          <p:nvPr/>
        </p:nvGraphicFramePr>
        <p:xfrm>
          <a:off x="7905600" y="50760"/>
          <a:ext cx="1159200" cy="1282680"/>
        </p:xfrm>
        <a:graphic>
          <a:graphicData uri="http://schemas.openxmlformats.org/presentationml/2006/ole">
            <p:oleObj r:id="rId1" spid="">
              <p:embed/>
              <p:pic>
                <p:nvPicPr>
                  <p:cNvPr id="169" name="" descr=""/>
                  <p:cNvPicPr/>
                  <p:nvPr/>
                </p:nvPicPr>
                <p:blipFill>
                  <a:blip r:embed="rId2"/>
                  <a:stretch/>
                </p:blipFill>
                <p:spPr>
                  <a:xfrm>
                    <a:off x="7905600" y="50760"/>
                    <a:ext cx="115920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1</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create an abstract interface that hides the details of families of related interfac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s in creating instances of specific resources via their abstract interfaces, avoiding knowledge of the underlying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illustrate with user interface toolkits that have two different look and feel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2</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bstract “WindowKit” class with abstract methods “CreateScrollBar” and “CreateWindo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Kit is sub-classed to MotifWindowKit and OpenLook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accesses both sub-classes through the single abstract interface defined in 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discuss how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he development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s organizatio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gests new ways of designing and realizing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he new activity of architecture conformance che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3</a:t>
            </a:r>
            <a:endParaRPr b="0" lang="en-US" sz="3600" spc="-1" strike="noStrike">
              <a:solidFill>
                <a:srgbClr val="ffffff"/>
              </a:solidFill>
              <a:latin typeface="Century Schoolbook"/>
            </a:endParaRPr>
          </a:p>
        </p:txBody>
      </p:sp>
      <p:grpSp>
        <p:nvGrpSpPr>
          <p:cNvPr id="175" name=""/>
          <p:cNvGrpSpPr/>
          <p:nvPr/>
        </p:nvGrpSpPr>
        <p:grpSpPr>
          <a:xfrm>
            <a:off x="374760" y="1808280"/>
            <a:ext cx="8375400" cy="4484520"/>
            <a:chOff x="374760" y="1808280"/>
            <a:chExt cx="8375400" cy="4484520"/>
          </a:xfrm>
        </p:grpSpPr>
        <p:sp>
          <p:nvSpPr>
            <p:cNvPr id="176" name=""/>
            <p:cNvSpPr/>
            <p:nvPr/>
          </p:nvSpPr>
          <p:spPr>
            <a:xfrm>
              <a:off x="2583000" y="18082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59840" y="1843200"/>
              <a:ext cx="119232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400" spc="-1" strike="noStrike">
                  <a:solidFill>
                    <a:srgbClr val="eaeaea"/>
                  </a:solidFill>
                  <a:latin typeface="Arial"/>
                </a:rPr>
                <a:t>Window Kit</a:t>
              </a:r>
              <a:endParaRPr b="0" lang="en-US" sz="1400" spc="-1" strike="noStrike">
                <a:solidFill>
                  <a:srgbClr val="ffffff"/>
                </a:solidFill>
                <a:latin typeface="Times New Roman"/>
              </a:endParaRPr>
            </a:p>
          </p:txBody>
        </p:sp>
        <p:sp>
          <p:nvSpPr>
            <p:cNvPr id="178" name=""/>
            <p:cNvSpPr/>
            <p:nvPr/>
          </p:nvSpPr>
          <p:spPr>
            <a:xfrm>
              <a:off x="1735200" y="2173320"/>
              <a:ext cx="1682640" cy="28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65440" y="2211480"/>
              <a:ext cx="162072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63280" y="2195640"/>
              <a:ext cx="15217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Scroll Bar()</a:t>
              </a:r>
              <a:endParaRPr b="0" lang="en-US" sz="1200" spc="-1" strike="noStrike">
                <a:solidFill>
                  <a:srgbClr val="ffffff"/>
                </a:solidFill>
                <a:latin typeface="Times New Roman"/>
              </a:endParaRPr>
            </a:p>
          </p:txBody>
        </p:sp>
        <p:sp>
          <p:nvSpPr>
            <p:cNvPr id="181" name=""/>
            <p:cNvSpPr/>
            <p:nvPr/>
          </p:nvSpPr>
          <p:spPr>
            <a:xfrm>
              <a:off x="1730520" y="2503440"/>
              <a:ext cx="16840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62200" y="2541600"/>
              <a:ext cx="1619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760400" y="2523960"/>
              <a:ext cx="1383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84" name=""/>
            <p:cNvSpPr/>
            <p:nvPr/>
          </p:nvSpPr>
          <p:spPr>
            <a:xfrm>
              <a:off x="1674720" y="3220920"/>
              <a:ext cx="259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673280" y="3228840"/>
              <a:ext cx="0" cy="95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671480" y="4175280"/>
              <a:ext cx="0" cy="11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4272120" y="3219480"/>
              <a:ext cx="1440" cy="1035000"/>
              <a:chOff x="4272120" y="3219480"/>
              <a:chExt cx="1440" cy="1035000"/>
            </a:xfrm>
          </p:grpSpPr>
          <p:sp>
            <p:nvSpPr>
              <p:cNvPr id="188" name=""/>
              <p:cNvSpPr/>
              <p:nvPr/>
            </p:nvSpPr>
            <p:spPr>
              <a:xfrm>
                <a:off x="4273560" y="3219480"/>
                <a:ext cx="0" cy="938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72120" y="4138560"/>
                <a:ext cx="0" cy="115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706320" y="42940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82440" y="4329000"/>
              <a:ext cx="1500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ModifWindowKit</a:t>
              </a:r>
              <a:endParaRPr b="0" lang="en-US" sz="1400" spc="-1" strike="noStrike">
                <a:solidFill>
                  <a:srgbClr val="ffffff"/>
                </a:solidFill>
                <a:latin typeface="Times New Roman"/>
              </a:endParaRPr>
            </a:p>
          </p:txBody>
        </p:sp>
        <p:sp>
          <p:nvSpPr>
            <p:cNvPr id="192" name=""/>
            <p:cNvSpPr/>
            <p:nvPr/>
          </p:nvSpPr>
          <p:spPr>
            <a:xfrm>
              <a:off x="374760" y="464184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9040" y="4680000"/>
              <a:ext cx="1565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23520" y="466416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195" name=""/>
            <p:cNvSpPr/>
            <p:nvPr/>
          </p:nvSpPr>
          <p:spPr>
            <a:xfrm>
              <a:off x="374760" y="497196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1120" y="5010120"/>
              <a:ext cx="157320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20280" y="499284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98" name=""/>
            <p:cNvSpPr/>
            <p:nvPr/>
          </p:nvSpPr>
          <p:spPr>
            <a:xfrm>
              <a:off x="1866960" y="5257800"/>
              <a:ext cx="4680" cy="60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870200" y="5869080"/>
              <a:ext cx="44193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402000" y="429732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411000" y="4334040"/>
              <a:ext cx="1887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OpenLookWindowKit</a:t>
              </a:r>
              <a:endParaRPr b="0" lang="en-US" sz="1400" spc="-1" strike="noStrike">
                <a:solidFill>
                  <a:srgbClr val="ffffff"/>
                </a:solidFill>
                <a:latin typeface="Times New Roman"/>
              </a:endParaRPr>
            </a:p>
          </p:txBody>
        </p:sp>
        <p:sp>
          <p:nvSpPr>
            <p:cNvPr id="202" name=""/>
            <p:cNvSpPr/>
            <p:nvPr/>
          </p:nvSpPr>
          <p:spPr>
            <a:xfrm>
              <a:off x="3070080" y="464652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14720" y="4684680"/>
              <a:ext cx="1566720" cy="211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1800" y="465444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205" name=""/>
            <p:cNvSpPr/>
            <p:nvPr/>
          </p:nvSpPr>
          <p:spPr>
            <a:xfrm>
              <a:off x="3070080" y="497520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06800" y="5013360"/>
              <a:ext cx="157464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22080" y="498168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208" name=""/>
            <p:cNvSpPr/>
            <p:nvPr/>
          </p:nvSpPr>
          <p:spPr>
            <a:xfrm>
              <a:off x="4659480" y="5114880"/>
              <a:ext cx="16002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281640" y="435924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337440" y="4411800"/>
              <a:ext cx="2338200" cy="79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300720" y="539100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356520" y="5445000"/>
              <a:ext cx="2338200" cy="79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35000" y="4440240"/>
              <a:ext cx="205056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OpenLookWindow</a:t>
              </a:r>
              <a:endParaRPr b="0" lang="en-US" sz="1600" spc="-1" strike="noStrike">
                <a:solidFill>
                  <a:srgbClr val="ffffff"/>
                </a:solidFill>
                <a:latin typeface="Times New Roman"/>
              </a:endParaRPr>
            </a:p>
          </p:txBody>
        </p:sp>
        <p:sp>
          <p:nvSpPr>
            <p:cNvPr id="214" name=""/>
            <p:cNvSpPr/>
            <p:nvPr/>
          </p:nvSpPr>
          <p:spPr>
            <a:xfrm>
              <a:off x="6459120" y="5472000"/>
              <a:ext cx="155520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MotifWindow</a:t>
              </a:r>
              <a:endParaRPr b="0" lang="en-US" sz="1600" spc="-1" strike="noStrike">
                <a:solidFill>
                  <a:srgbClr val="ffffff"/>
                </a:solidFill>
                <a:latin typeface="Times New Roman"/>
              </a:endParaRPr>
            </a:p>
          </p:txBody>
        </p:sp>
        <p:sp>
          <p:nvSpPr>
            <p:cNvPr id="215" name=""/>
            <p:cNvSpPr/>
            <p:nvPr/>
          </p:nvSpPr>
          <p:spPr>
            <a:xfrm>
              <a:off x="3552840" y="2905200"/>
              <a:ext cx="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define and encapsulate a set of algorithms and allow them to be used interchangeably by a client. </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text editor line breaking algorithm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rategy for lines with full left and right justification</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strategy for fixed width table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strategy for lines with only left justifi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or class contains a Composition strategy clas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the compose method results in the invocation of one of three subclasses of Composition, as appropriate to the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3</a:t>
            </a:r>
            <a:endParaRPr b="0" lang="en-US" sz="3600" spc="-1" strike="noStrike">
              <a:solidFill>
                <a:srgbClr val="ffffff"/>
              </a:solidFill>
              <a:latin typeface="Century Schoolbook"/>
            </a:endParaRPr>
          </a:p>
        </p:txBody>
      </p:sp>
      <p:sp>
        <p:nvSpPr>
          <p:cNvPr id="221" name=""/>
          <p:cNvSpPr/>
          <p:nvPr/>
        </p:nvSpPr>
        <p:spPr>
          <a:xfrm>
            <a:off x="1755720" y="1755720"/>
            <a:ext cx="1803600" cy="99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114640" y="1749600"/>
            <a:ext cx="12416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Compositor</a:t>
            </a:r>
            <a:endParaRPr b="0" lang="en-US" sz="1600" spc="-1" strike="noStrike">
              <a:solidFill>
                <a:srgbClr val="ffffff"/>
              </a:solidFill>
              <a:latin typeface="Times New Roman"/>
            </a:endParaRPr>
          </a:p>
        </p:txBody>
      </p:sp>
      <p:sp>
        <p:nvSpPr>
          <p:cNvPr id="223" name=""/>
          <p:cNvSpPr/>
          <p:nvPr/>
        </p:nvSpPr>
        <p:spPr>
          <a:xfrm>
            <a:off x="1452600" y="2075040"/>
            <a:ext cx="1508040" cy="257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492200" y="2109960"/>
            <a:ext cx="143532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81360" y="2082960"/>
            <a:ext cx="7538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Repair()</a:t>
            </a:r>
            <a:endParaRPr b="0" lang="en-US" sz="1200" spc="-1" strike="noStrike">
              <a:solidFill>
                <a:srgbClr val="ffffff"/>
              </a:solidFill>
              <a:latin typeface="Times New Roman"/>
            </a:endParaRPr>
          </a:p>
        </p:txBody>
      </p:sp>
      <p:sp>
        <p:nvSpPr>
          <p:cNvPr id="226" name=""/>
          <p:cNvSpPr/>
          <p:nvPr/>
        </p:nvSpPr>
        <p:spPr>
          <a:xfrm>
            <a:off x="1452600" y="2378160"/>
            <a:ext cx="150480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486080" y="2413080"/>
            <a:ext cx="1441440" cy="19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941480" y="2384280"/>
            <a:ext cx="5925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Pick()</a:t>
            </a:r>
            <a:endParaRPr b="0" lang="en-US" sz="1200" spc="-1" strike="noStrike">
              <a:solidFill>
                <a:srgbClr val="ffffff"/>
              </a:solidFill>
              <a:latin typeface="Times New Roman"/>
            </a:endParaRPr>
          </a:p>
        </p:txBody>
      </p:sp>
      <p:sp>
        <p:nvSpPr>
          <p:cNvPr id="229" name=""/>
          <p:cNvSpPr/>
          <p:nvPr/>
        </p:nvSpPr>
        <p:spPr>
          <a:xfrm>
            <a:off x="3503520" y="2368440"/>
            <a:ext cx="104760" cy="96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0" name=""/>
          <p:cNvSpPr/>
          <p:nvPr/>
        </p:nvSpPr>
        <p:spPr>
          <a:xfrm>
            <a:off x="3795840" y="3370320"/>
            <a:ext cx="1577880" cy="718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74840" y="3732120"/>
            <a:ext cx="1320840" cy="257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206880" y="3767040"/>
            <a:ext cx="125100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0360" y="3730680"/>
            <a:ext cx="9993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eaeaea"/>
                </a:solidFill>
                <a:latin typeface="Arial"/>
              </a:rPr>
              <a:t>Compose()</a:t>
            </a:r>
            <a:endParaRPr b="0" lang="en-US" sz="1200" spc="-1" strike="noStrike">
              <a:solidFill>
                <a:srgbClr val="ffffff"/>
              </a:solidFill>
              <a:latin typeface="Times New Roman"/>
            </a:endParaRPr>
          </a:p>
        </p:txBody>
      </p:sp>
      <p:sp>
        <p:nvSpPr>
          <p:cNvPr id="234" name=""/>
          <p:cNvSpPr/>
          <p:nvPr/>
        </p:nvSpPr>
        <p:spPr>
          <a:xfrm>
            <a:off x="3837960" y="3403440"/>
            <a:ext cx="14000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400" spc="-1" strike="noStrike">
                <a:solidFill>
                  <a:srgbClr val="eaeaea"/>
                </a:solidFill>
                <a:latin typeface="Arial"/>
              </a:rPr>
              <a:t>Composition</a:t>
            </a:r>
            <a:r>
              <a:rPr b="1" i="1" lang="en-US" sz="1300" spc="-1" strike="noStrike">
                <a:solidFill>
                  <a:srgbClr val="eaeaea"/>
                </a:solidFill>
                <a:latin typeface="Arial"/>
              </a:rPr>
              <a:t>()</a:t>
            </a:r>
            <a:endParaRPr b="0" lang="en-US" sz="1300" spc="-1" strike="noStrike">
              <a:solidFill>
                <a:srgbClr val="ffffff"/>
              </a:solidFill>
              <a:latin typeface="Times New Roman"/>
            </a:endParaRPr>
          </a:p>
        </p:txBody>
      </p:sp>
      <p:sp>
        <p:nvSpPr>
          <p:cNvPr id="235" name=""/>
          <p:cNvSpPr/>
          <p:nvPr/>
        </p:nvSpPr>
        <p:spPr>
          <a:xfrm>
            <a:off x="5472000" y="1862280"/>
            <a:ext cx="2451240" cy="70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513400" y="1909800"/>
            <a:ext cx="2363760" cy="619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33120" y="2062080"/>
            <a:ext cx="254628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mposition</a:t>
            </a:r>
            <a:r>
              <a:rPr b="0" lang="en-US" sz="1500" spc="-1" strike="noStrike">
                <a:solidFill>
                  <a:srgbClr val="ffffff"/>
                </a:solidFill>
                <a:latin typeface="Arial"/>
              </a:rPr>
              <a:t>     Compose()</a:t>
            </a:r>
            <a:endParaRPr b="0" lang="en-US" sz="1500" spc="-1" strike="noStrike">
              <a:solidFill>
                <a:srgbClr val="ffffff"/>
              </a:solidFill>
              <a:latin typeface="Times New Roman"/>
            </a:endParaRPr>
          </a:p>
        </p:txBody>
      </p:sp>
      <p:sp>
        <p:nvSpPr>
          <p:cNvPr id="238" name=""/>
          <p:cNvSpPr/>
          <p:nvPr/>
        </p:nvSpPr>
        <p:spPr>
          <a:xfrm>
            <a:off x="6723000" y="2233440"/>
            <a:ext cx="160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00720" y="557676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969160" y="5929200"/>
            <a:ext cx="1344600" cy="241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002280" y="5962680"/>
            <a:ext cx="128736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325920" y="5618160"/>
            <a:ext cx="16592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impleCompositor</a:t>
            </a:r>
            <a:endParaRPr b="0" lang="en-US" sz="1400" spc="-1" strike="noStrike">
              <a:solidFill>
                <a:srgbClr val="ffffff"/>
              </a:solidFill>
              <a:latin typeface="Times New Roman"/>
            </a:endParaRPr>
          </a:p>
        </p:txBody>
      </p:sp>
      <p:sp>
        <p:nvSpPr>
          <p:cNvPr id="243" name=""/>
          <p:cNvSpPr/>
          <p:nvPr/>
        </p:nvSpPr>
        <p:spPr>
          <a:xfrm>
            <a:off x="6271920" y="592452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4" name=""/>
          <p:cNvSpPr/>
          <p:nvPr/>
        </p:nvSpPr>
        <p:spPr>
          <a:xfrm>
            <a:off x="1452600" y="558000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120680" y="5932440"/>
            <a:ext cx="1344600" cy="243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154160" y="596592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00840" y="5621400"/>
            <a:ext cx="15418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rrayCompositor</a:t>
            </a:r>
            <a:endParaRPr b="0" lang="en-US" sz="1400" spc="-1" strike="noStrike">
              <a:solidFill>
                <a:srgbClr val="ffffff"/>
              </a:solidFill>
              <a:latin typeface="Times New Roman"/>
            </a:endParaRPr>
          </a:p>
        </p:txBody>
      </p:sp>
      <p:sp>
        <p:nvSpPr>
          <p:cNvPr id="248" name=""/>
          <p:cNvSpPr/>
          <p:nvPr/>
        </p:nvSpPr>
        <p:spPr>
          <a:xfrm>
            <a:off x="1423800" y="592776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9" name=""/>
          <p:cNvSpPr/>
          <p:nvPr/>
        </p:nvSpPr>
        <p:spPr>
          <a:xfrm>
            <a:off x="3794040" y="5575320"/>
            <a:ext cx="1622520" cy="7412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462480" y="5927760"/>
            <a:ext cx="1344600" cy="241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495600" y="596124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05640" y="5616720"/>
            <a:ext cx="14410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eXCompositor</a:t>
            </a:r>
            <a:endParaRPr b="0" lang="en-US" sz="1400" spc="-1" strike="noStrike">
              <a:solidFill>
                <a:srgbClr val="ffffff"/>
              </a:solidFill>
              <a:latin typeface="Times New Roman"/>
            </a:endParaRPr>
          </a:p>
        </p:txBody>
      </p:sp>
      <p:sp>
        <p:nvSpPr>
          <p:cNvPr id="253" name=""/>
          <p:cNvSpPr/>
          <p:nvPr/>
        </p:nvSpPr>
        <p:spPr>
          <a:xfrm>
            <a:off x="3765240" y="592308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54" name=""/>
          <p:cNvSpPr/>
          <p:nvPr/>
        </p:nvSpPr>
        <p:spPr>
          <a:xfrm>
            <a:off x="2100240" y="4807080"/>
            <a:ext cx="49150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0937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024680" y="480996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02324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4608360" y="4815000"/>
            <a:ext cx="3240" cy="755640"/>
            <a:chOff x="4608360" y="4815000"/>
            <a:chExt cx="3240" cy="755640"/>
          </a:xfrm>
        </p:grpSpPr>
        <p:sp>
          <p:nvSpPr>
            <p:cNvPr id="259" name=""/>
            <p:cNvSpPr/>
            <p:nvPr/>
          </p:nvSpPr>
          <p:spPr>
            <a:xfrm>
              <a:off x="4610160" y="481500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083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flipV="1">
            <a:off x="4610160" y="4087800"/>
            <a:ext cx="0" cy="7207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579840" y="2416320"/>
            <a:ext cx="101772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06920" y="2416320"/>
            <a:ext cx="0" cy="9414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2959200" y="2206800"/>
            <a:ext cx="2506680" cy="2880"/>
          </a:xfrm>
          <a:prstGeom prst="line">
            <a:avLst/>
          </a:prstGeom>
          <a:ln w="12600">
            <a:solidFill>
              <a:srgbClr val="eaeaea"/>
            </a:solidFill>
            <a:miter/>
            <a:tailEnd len="med" type="stealth"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65" name=""/>
          <p:cNvSpPr/>
          <p:nvPr/>
        </p:nvSpPr>
        <p:spPr>
          <a:xfrm>
            <a:off x="2093760" y="4813200"/>
            <a:ext cx="0" cy="6476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 and Software Qualities</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analyzed with respect to different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 design pattern is intended to support 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pattern is intended to support flexibility and reuse of existing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llow a choice of design alternatives to support a system’s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270" name=""/>
          <p:cNvGraphicFramePr/>
          <p:nvPr/>
        </p:nvGraphicFramePr>
        <p:xfrm>
          <a:off x="7905600" y="50760"/>
          <a:ext cx="1159200" cy="1282680"/>
        </p:xfrm>
        <a:graphic>
          <a:graphicData uri="http://schemas.openxmlformats.org/presentationml/2006/ole">
            <p:oleObj r:id="rId1" spid="">
              <p:embed/>
              <p:pic>
                <p:nvPicPr>
                  <p:cNvPr id="271" name="" descr=""/>
                  <p:cNvPicPr/>
                  <p:nvPr/>
                </p:nvPicPr>
                <p:blipFill>
                  <a:blip r:embed="rId2"/>
                  <a:stretch/>
                </p:blipFill>
                <p:spPr>
                  <a:xfrm>
                    <a:off x="7905600" y="50760"/>
                    <a:ext cx="1159200" cy="1282680"/>
                  </a:xfrm>
                  <a:prstGeom prst="rect">
                    <a:avLst/>
                  </a:prstGeom>
                  <a:ln w="0">
                    <a:noFill/>
                  </a:ln>
                </p:spPr>
              </p:pic>
            </p:oleObj>
          </a:graphicData>
        </a:graphic>
      </p:graphicFrame>
      <p:sp>
        <p:nvSpPr>
          <p:cNvPr id="272" name=""/>
          <p:cNvSpPr/>
          <p:nvPr/>
        </p:nvSpPr>
        <p:spPr>
          <a:xfrm>
            <a:off x="596880" y="421632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Conformance</a:t>
            </a:r>
            <a:endParaRPr b="0" lang="en-US" sz="3600" spc="-1" strike="noStrike">
              <a:solidFill>
                <a:srgbClr val="ffffff"/>
              </a:solidFill>
              <a:latin typeface="Century Schoolbook"/>
            </a:endParaRPr>
          </a:p>
        </p:txBody>
      </p:sp>
      <p:sp>
        <p:nvSpPr>
          <p:cNvPr id="2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requently need to reason architecturally about </a:t>
            </a:r>
            <a:r>
              <a:rPr b="1" i="1" lang="en-US" sz="2400" spc="-1" strike="noStrike">
                <a:solidFill>
                  <a:srgbClr val="ffffff"/>
                </a:solidFill>
                <a:latin typeface="Arial"/>
              </a:rPr>
              <a:t>existing</a:t>
            </a:r>
            <a:r>
              <a:rPr b="1" lang="en-US" sz="2400" spc="-1" strike="noStrike">
                <a:solidFill>
                  <a:srgbClr val="ffffff"/>
                </a:solidFill>
                <a:latin typeface="Arial"/>
              </a:rPr>
              <a:t>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ocument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chitectural dependencies</a:t>
            </a:r>
            <a:br>
              <a:rPr sz="2400"/>
            </a:b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Conformance?</a:t>
            </a:r>
            <a:endParaRPr b="0" lang="en-US" sz="3600" spc="-1" strike="noStrike">
              <a:solidFill>
                <a:srgbClr val="ffffff"/>
              </a:solidFill>
              <a:latin typeface="Century Schoolbook"/>
            </a:endParaRPr>
          </a:p>
        </p:txBody>
      </p:sp>
      <p:sp>
        <p:nvSpPr>
          <p:cNvPr id="2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of the implemented system must </a:t>
            </a:r>
            <a:r>
              <a:rPr b="1" i="1" lang="en-US" sz="2400" spc="-1" strike="noStrike">
                <a:solidFill>
                  <a:srgbClr val="ffffff"/>
                </a:solidFill>
                <a:latin typeface="Arial"/>
              </a:rPr>
              <a:t>conform</a:t>
            </a:r>
            <a:r>
              <a:rPr b="1" lang="en-US" sz="2400" spc="-1" strike="noStrike">
                <a:solidFill>
                  <a:srgbClr val="ffffff"/>
                </a:solidFill>
                <a:latin typeface="Arial"/>
              </a:rPr>
              <a:t> to the architectural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architectural drift and erosion are inevit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onformance (by hand) is a dreary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reverse engineering tools to support this process (e.g. Dal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nformance Testing</a:t>
            </a:r>
            <a:endParaRPr b="0" lang="en-US" sz="3600" spc="-1" strike="noStrike">
              <a:solidFill>
                <a:srgbClr val="ffffff"/>
              </a:solidFill>
              <a:latin typeface="Century Schoolbook"/>
            </a:endParaRPr>
          </a:p>
        </p:txBody>
      </p:sp>
      <p:sp>
        <p:nvSpPr>
          <p:cNvPr id="278" name=""/>
          <p:cNvSpPr/>
          <p:nvPr/>
        </p:nvSpPr>
        <p:spPr>
          <a:xfrm>
            <a:off x="504000" y="195588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designed:</a:t>
            </a:r>
            <a:endParaRPr b="0" lang="en-US" sz="1800" spc="-1" strike="noStrike">
              <a:solidFill>
                <a:srgbClr val="ffffff"/>
              </a:solidFill>
              <a:latin typeface="Times New Roman"/>
            </a:endParaRPr>
          </a:p>
        </p:txBody>
      </p:sp>
      <p:sp>
        <p:nvSpPr>
          <p:cNvPr id="279" name=""/>
          <p:cNvSpPr/>
          <p:nvPr/>
        </p:nvSpPr>
        <p:spPr>
          <a:xfrm>
            <a:off x="4441680" y="1955880"/>
            <a:ext cx="202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implemented:</a:t>
            </a:r>
            <a:endParaRPr b="0" lang="en-US" sz="1800" spc="-1" strike="noStrike">
              <a:solidFill>
                <a:srgbClr val="ffffff"/>
              </a:solidFill>
              <a:latin typeface="Times New Roman"/>
            </a:endParaRPr>
          </a:p>
        </p:txBody>
      </p:sp>
      <p:grpSp>
        <p:nvGrpSpPr>
          <p:cNvPr id="280" name=""/>
          <p:cNvGrpSpPr/>
          <p:nvPr/>
        </p:nvGrpSpPr>
        <p:grpSpPr>
          <a:xfrm>
            <a:off x="334800" y="2320920"/>
            <a:ext cx="3834000" cy="3600360"/>
            <a:chOff x="334800" y="2320920"/>
            <a:chExt cx="3834000" cy="3600360"/>
          </a:xfrm>
        </p:grpSpPr>
        <p:grpSp>
          <p:nvGrpSpPr>
            <p:cNvPr id="281" name=""/>
            <p:cNvGrpSpPr/>
            <p:nvPr/>
          </p:nvGrpSpPr>
          <p:grpSpPr>
            <a:xfrm>
              <a:off x="658800" y="5324400"/>
              <a:ext cx="1122480" cy="596880"/>
              <a:chOff x="658800" y="5324400"/>
              <a:chExt cx="1122480" cy="596880"/>
            </a:xfrm>
          </p:grpSpPr>
          <p:sp>
            <p:nvSpPr>
              <p:cNvPr id="282" name=""/>
              <p:cNvSpPr/>
              <p:nvPr/>
            </p:nvSpPr>
            <p:spPr>
              <a:xfrm>
                <a:off x="6588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283" name=""/>
              <p:cNvSpPr/>
              <p:nvPr/>
            </p:nvSpPr>
            <p:spPr>
              <a:xfrm>
                <a:off x="896760" y="558468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18316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285" name=""/>
            <p:cNvGrpSpPr/>
            <p:nvPr/>
          </p:nvGrpSpPr>
          <p:grpSpPr>
            <a:xfrm>
              <a:off x="334800" y="3067200"/>
              <a:ext cx="1438920" cy="615960"/>
              <a:chOff x="334800" y="3067200"/>
              <a:chExt cx="1438920" cy="615960"/>
            </a:xfrm>
          </p:grpSpPr>
          <p:sp>
            <p:nvSpPr>
              <p:cNvPr id="286" name=""/>
              <p:cNvSpPr/>
              <p:nvPr/>
            </p:nvSpPr>
            <p:spPr>
              <a:xfrm>
                <a:off x="4503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287" name=""/>
              <p:cNvSpPr/>
              <p:nvPr/>
            </p:nvSpPr>
            <p:spPr>
              <a:xfrm>
                <a:off x="334800" y="334656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2916360" y="3067200"/>
              <a:ext cx="1252440" cy="615960"/>
              <a:chOff x="2916360" y="3067200"/>
              <a:chExt cx="1252440" cy="615960"/>
            </a:xfrm>
          </p:grpSpPr>
          <p:sp>
            <p:nvSpPr>
              <p:cNvPr id="289" name=""/>
              <p:cNvSpPr/>
              <p:nvPr/>
            </p:nvSpPr>
            <p:spPr>
              <a:xfrm>
                <a:off x="304632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290" name=""/>
              <p:cNvSpPr/>
              <p:nvPr/>
            </p:nvSpPr>
            <p:spPr>
              <a:xfrm>
                <a:off x="29163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27100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292" name=""/>
            <p:cNvGrpSpPr/>
            <p:nvPr/>
          </p:nvGrpSpPr>
          <p:grpSpPr>
            <a:xfrm>
              <a:off x="1454040" y="2638440"/>
              <a:ext cx="1739880" cy="466560"/>
              <a:chOff x="1454040" y="2638440"/>
              <a:chExt cx="1739880" cy="466560"/>
            </a:xfrm>
          </p:grpSpPr>
          <p:sp>
            <p:nvSpPr>
              <p:cNvPr id="293" name=""/>
              <p:cNvSpPr/>
              <p:nvPr/>
            </p:nvSpPr>
            <p:spPr>
              <a:xfrm>
                <a:off x="145404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0480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552600" y="3701880"/>
              <a:ext cx="1333440" cy="1594080"/>
              <a:chOff x="552600" y="3701880"/>
              <a:chExt cx="1333440" cy="1594080"/>
            </a:xfrm>
          </p:grpSpPr>
          <p:grpSp>
            <p:nvGrpSpPr>
              <p:cNvPr id="296" name=""/>
              <p:cNvGrpSpPr/>
              <p:nvPr/>
            </p:nvGrpSpPr>
            <p:grpSpPr>
              <a:xfrm>
                <a:off x="552600" y="3701880"/>
                <a:ext cx="1333440" cy="1594080"/>
                <a:chOff x="552600" y="3701880"/>
                <a:chExt cx="1333440" cy="1594080"/>
              </a:xfrm>
            </p:grpSpPr>
            <p:grpSp>
              <p:nvGrpSpPr>
                <p:cNvPr id="297" name=""/>
                <p:cNvGrpSpPr/>
                <p:nvPr/>
              </p:nvGrpSpPr>
              <p:grpSpPr>
                <a:xfrm>
                  <a:off x="552600" y="3701880"/>
                  <a:ext cx="1333440" cy="466920"/>
                  <a:chOff x="552600" y="3701880"/>
                  <a:chExt cx="1333440" cy="466920"/>
                </a:xfrm>
              </p:grpSpPr>
              <p:sp>
                <p:nvSpPr>
                  <p:cNvPr id="298" name=""/>
                  <p:cNvSpPr/>
                  <p:nvPr/>
                </p:nvSpPr>
                <p:spPr>
                  <a:xfrm>
                    <a:off x="5526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922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552600" y="4829040"/>
                  <a:ext cx="1333440" cy="466920"/>
                  <a:chOff x="552600" y="4829040"/>
                  <a:chExt cx="1333440" cy="466920"/>
                </a:xfrm>
              </p:grpSpPr>
              <p:sp>
                <p:nvSpPr>
                  <p:cNvPr id="301" name=""/>
                  <p:cNvSpPr/>
                  <p:nvPr/>
                </p:nvSpPr>
                <p:spPr>
                  <a:xfrm>
                    <a:off x="5526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22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3" name=""/>
              <p:cNvGrpSpPr/>
              <p:nvPr/>
            </p:nvGrpSpPr>
            <p:grpSpPr>
              <a:xfrm>
                <a:off x="1208160" y="4183200"/>
                <a:ext cx="22320" cy="620640"/>
                <a:chOff x="1208160" y="4183200"/>
                <a:chExt cx="22320" cy="620640"/>
              </a:xfrm>
            </p:grpSpPr>
            <p:sp>
              <p:nvSpPr>
                <p:cNvPr id="304" name=""/>
                <p:cNvSpPr/>
                <p:nvPr/>
              </p:nvSpPr>
              <p:spPr>
                <a:xfrm>
                  <a:off x="12081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2304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
            <p:cNvGrpSpPr/>
            <p:nvPr/>
          </p:nvGrpSpPr>
          <p:grpSpPr>
            <a:xfrm>
              <a:off x="1639440" y="3171960"/>
              <a:ext cx="390600" cy="482400"/>
              <a:chOff x="1639440" y="3171960"/>
              <a:chExt cx="390600" cy="482400"/>
            </a:xfrm>
          </p:grpSpPr>
          <p:sp>
            <p:nvSpPr>
              <p:cNvPr id="307" name=""/>
              <p:cNvSpPr/>
              <p:nvPr/>
            </p:nvSpPr>
            <p:spPr>
              <a:xfrm flipH="1">
                <a:off x="163944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17082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2754360" y="3171960"/>
              <a:ext cx="390600" cy="482400"/>
              <a:chOff x="2754360" y="3171960"/>
              <a:chExt cx="390600" cy="482400"/>
            </a:xfrm>
          </p:grpSpPr>
          <p:sp>
            <p:nvSpPr>
              <p:cNvPr id="310" name=""/>
              <p:cNvSpPr/>
              <p:nvPr/>
            </p:nvSpPr>
            <p:spPr>
              <a:xfrm>
                <a:off x="27543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813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2705040" y="3701880"/>
              <a:ext cx="1333440" cy="1594080"/>
              <a:chOff x="2705040" y="3701880"/>
              <a:chExt cx="1333440" cy="1594080"/>
            </a:xfrm>
          </p:grpSpPr>
          <p:grpSp>
            <p:nvGrpSpPr>
              <p:cNvPr id="313" name=""/>
              <p:cNvGrpSpPr/>
              <p:nvPr/>
            </p:nvGrpSpPr>
            <p:grpSpPr>
              <a:xfrm>
                <a:off x="2705040" y="3701880"/>
                <a:ext cx="1333440" cy="1594080"/>
                <a:chOff x="2705040" y="3701880"/>
                <a:chExt cx="1333440" cy="1594080"/>
              </a:xfrm>
            </p:grpSpPr>
            <p:grpSp>
              <p:nvGrpSpPr>
                <p:cNvPr id="314" name=""/>
                <p:cNvGrpSpPr/>
                <p:nvPr/>
              </p:nvGrpSpPr>
              <p:grpSpPr>
                <a:xfrm>
                  <a:off x="2705040" y="3701880"/>
                  <a:ext cx="1333440" cy="466920"/>
                  <a:chOff x="2705040" y="3701880"/>
                  <a:chExt cx="1333440" cy="466920"/>
                </a:xfrm>
              </p:grpSpPr>
              <p:sp>
                <p:nvSpPr>
                  <p:cNvPr id="315" name=""/>
                  <p:cNvSpPr/>
                  <p:nvPr/>
                </p:nvSpPr>
                <p:spPr>
                  <a:xfrm>
                    <a:off x="270504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74464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 name=""/>
                <p:cNvGrpSpPr/>
                <p:nvPr/>
              </p:nvGrpSpPr>
              <p:grpSpPr>
                <a:xfrm>
                  <a:off x="2705040" y="4829040"/>
                  <a:ext cx="1333440" cy="466920"/>
                  <a:chOff x="2705040" y="4829040"/>
                  <a:chExt cx="1333440" cy="466920"/>
                </a:xfrm>
              </p:grpSpPr>
              <p:sp>
                <p:nvSpPr>
                  <p:cNvPr id="318" name=""/>
                  <p:cNvSpPr/>
                  <p:nvPr/>
                </p:nvSpPr>
                <p:spPr>
                  <a:xfrm>
                    <a:off x="270504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4464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20" name=""/>
              <p:cNvGrpSpPr/>
              <p:nvPr/>
            </p:nvGrpSpPr>
            <p:grpSpPr>
              <a:xfrm>
                <a:off x="3360600" y="4183200"/>
                <a:ext cx="22320" cy="620640"/>
                <a:chOff x="3360600" y="4183200"/>
                <a:chExt cx="22320" cy="620640"/>
              </a:xfrm>
            </p:grpSpPr>
            <p:sp>
              <p:nvSpPr>
                <p:cNvPr id="321" name=""/>
                <p:cNvSpPr/>
                <p:nvPr/>
              </p:nvSpPr>
              <p:spPr>
                <a:xfrm>
                  <a:off x="336060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3829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23" name=""/>
          <p:cNvGrpSpPr/>
          <p:nvPr/>
        </p:nvGrpSpPr>
        <p:grpSpPr>
          <a:xfrm>
            <a:off x="4919760" y="2320920"/>
            <a:ext cx="3834000" cy="3600360"/>
            <a:chOff x="4919760" y="2320920"/>
            <a:chExt cx="3834000" cy="3600360"/>
          </a:xfrm>
        </p:grpSpPr>
        <p:grpSp>
          <p:nvGrpSpPr>
            <p:cNvPr id="324" name=""/>
            <p:cNvGrpSpPr/>
            <p:nvPr/>
          </p:nvGrpSpPr>
          <p:grpSpPr>
            <a:xfrm>
              <a:off x="4919760" y="2320920"/>
              <a:ext cx="3834000" cy="3600360"/>
              <a:chOff x="4919760" y="2320920"/>
              <a:chExt cx="3834000" cy="3600360"/>
            </a:xfrm>
          </p:grpSpPr>
          <p:grpSp>
            <p:nvGrpSpPr>
              <p:cNvPr id="325" name=""/>
              <p:cNvGrpSpPr/>
              <p:nvPr/>
            </p:nvGrpSpPr>
            <p:grpSpPr>
              <a:xfrm>
                <a:off x="5243400" y="5324400"/>
                <a:ext cx="1122480" cy="596880"/>
                <a:chOff x="5243400" y="5324400"/>
                <a:chExt cx="1122480" cy="596880"/>
              </a:xfrm>
            </p:grpSpPr>
            <p:sp>
              <p:nvSpPr>
                <p:cNvPr id="326" name=""/>
                <p:cNvSpPr/>
                <p:nvPr/>
              </p:nvSpPr>
              <p:spPr>
                <a:xfrm>
                  <a:off x="52434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327" name=""/>
                <p:cNvSpPr/>
                <p:nvPr/>
              </p:nvSpPr>
              <p:spPr>
                <a:xfrm>
                  <a:off x="5481720" y="558468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64162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329" name=""/>
              <p:cNvGrpSpPr/>
              <p:nvPr/>
            </p:nvGrpSpPr>
            <p:grpSpPr>
              <a:xfrm>
                <a:off x="4919760" y="3067200"/>
                <a:ext cx="1438560" cy="615960"/>
                <a:chOff x="4919760" y="3067200"/>
                <a:chExt cx="1438560" cy="615960"/>
              </a:xfrm>
            </p:grpSpPr>
            <p:sp>
              <p:nvSpPr>
                <p:cNvPr id="330" name=""/>
                <p:cNvSpPr/>
                <p:nvPr/>
              </p:nvSpPr>
              <p:spPr>
                <a:xfrm>
                  <a:off x="50349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331" name=""/>
                <p:cNvSpPr/>
                <p:nvPr/>
              </p:nvSpPr>
              <p:spPr>
                <a:xfrm>
                  <a:off x="49197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7500960" y="3067200"/>
                <a:ext cx="1252800" cy="615960"/>
                <a:chOff x="7500960" y="3067200"/>
                <a:chExt cx="1252800" cy="615960"/>
              </a:xfrm>
            </p:grpSpPr>
            <p:sp>
              <p:nvSpPr>
                <p:cNvPr id="333" name=""/>
                <p:cNvSpPr/>
                <p:nvPr/>
              </p:nvSpPr>
              <p:spPr>
                <a:xfrm>
                  <a:off x="763128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334" name=""/>
                <p:cNvSpPr/>
                <p:nvPr/>
              </p:nvSpPr>
              <p:spPr>
                <a:xfrm>
                  <a:off x="75009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5" name=""/>
              <p:cNvSpPr/>
              <p:nvPr/>
            </p:nvSpPr>
            <p:spPr>
              <a:xfrm>
                <a:off x="72946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336" name=""/>
              <p:cNvGrpSpPr/>
              <p:nvPr/>
            </p:nvGrpSpPr>
            <p:grpSpPr>
              <a:xfrm>
                <a:off x="6039000" y="2638440"/>
                <a:ext cx="1739880" cy="466560"/>
                <a:chOff x="6039000" y="2638440"/>
                <a:chExt cx="1739880" cy="466560"/>
              </a:xfrm>
            </p:grpSpPr>
            <p:sp>
              <p:nvSpPr>
                <p:cNvPr id="337" name=""/>
                <p:cNvSpPr/>
                <p:nvPr/>
              </p:nvSpPr>
              <p:spPr>
                <a:xfrm>
                  <a:off x="603900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8976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5137200" y="3701880"/>
                <a:ext cx="1333440" cy="1594080"/>
                <a:chOff x="5137200" y="3701880"/>
                <a:chExt cx="1333440" cy="1594080"/>
              </a:xfrm>
            </p:grpSpPr>
            <p:grpSp>
              <p:nvGrpSpPr>
                <p:cNvPr id="340" name=""/>
                <p:cNvGrpSpPr/>
                <p:nvPr/>
              </p:nvGrpSpPr>
              <p:grpSpPr>
                <a:xfrm>
                  <a:off x="5137200" y="3701880"/>
                  <a:ext cx="1333440" cy="1594080"/>
                  <a:chOff x="5137200" y="3701880"/>
                  <a:chExt cx="1333440" cy="1594080"/>
                </a:xfrm>
              </p:grpSpPr>
              <p:grpSp>
                <p:nvGrpSpPr>
                  <p:cNvPr id="341" name=""/>
                  <p:cNvGrpSpPr/>
                  <p:nvPr/>
                </p:nvGrpSpPr>
                <p:grpSpPr>
                  <a:xfrm>
                    <a:off x="5137200" y="3701880"/>
                    <a:ext cx="1333440" cy="466920"/>
                    <a:chOff x="5137200" y="3701880"/>
                    <a:chExt cx="1333440" cy="466920"/>
                  </a:xfrm>
                </p:grpSpPr>
                <p:sp>
                  <p:nvSpPr>
                    <p:cNvPr id="342" name=""/>
                    <p:cNvSpPr/>
                    <p:nvPr/>
                  </p:nvSpPr>
                  <p:spPr>
                    <a:xfrm>
                      <a:off x="51372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768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5137200" y="4829040"/>
                    <a:ext cx="1333440" cy="466920"/>
                    <a:chOff x="5137200" y="4829040"/>
                    <a:chExt cx="1333440" cy="466920"/>
                  </a:xfrm>
                </p:grpSpPr>
                <p:sp>
                  <p:nvSpPr>
                    <p:cNvPr id="345" name=""/>
                    <p:cNvSpPr/>
                    <p:nvPr/>
                  </p:nvSpPr>
                  <p:spPr>
                    <a:xfrm>
                      <a:off x="51372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1768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47" name=""/>
                <p:cNvGrpSpPr/>
                <p:nvPr/>
              </p:nvGrpSpPr>
              <p:grpSpPr>
                <a:xfrm>
                  <a:off x="5792760" y="4183200"/>
                  <a:ext cx="22320" cy="620640"/>
                  <a:chOff x="5792760" y="4183200"/>
                  <a:chExt cx="22320" cy="620640"/>
                </a:xfrm>
              </p:grpSpPr>
              <p:sp>
                <p:nvSpPr>
                  <p:cNvPr id="348" name=""/>
                  <p:cNvSpPr/>
                  <p:nvPr/>
                </p:nvSpPr>
                <p:spPr>
                  <a:xfrm>
                    <a:off x="57927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8150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50" name=""/>
              <p:cNvGrpSpPr/>
              <p:nvPr/>
            </p:nvGrpSpPr>
            <p:grpSpPr>
              <a:xfrm>
                <a:off x="6224760" y="3171960"/>
                <a:ext cx="390240" cy="482400"/>
                <a:chOff x="6224760" y="3171960"/>
                <a:chExt cx="390240" cy="482400"/>
              </a:xfrm>
            </p:grpSpPr>
            <p:sp>
              <p:nvSpPr>
                <p:cNvPr id="351" name=""/>
                <p:cNvSpPr/>
                <p:nvPr/>
              </p:nvSpPr>
              <p:spPr>
                <a:xfrm flipH="1">
                  <a:off x="6224760" y="3171960"/>
                  <a:ext cx="39024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62928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7338960" y="3171960"/>
                <a:ext cx="390600" cy="482400"/>
                <a:chOff x="7338960" y="3171960"/>
                <a:chExt cx="390600" cy="482400"/>
              </a:xfrm>
            </p:grpSpPr>
            <p:sp>
              <p:nvSpPr>
                <p:cNvPr id="354" name=""/>
                <p:cNvSpPr/>
                <p:nvPr/>
              </p:nvSpPr>
              <p:spPr>
                <a:xfrm>
                  <a:off x="73389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3659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7289640" y="3701880"/>
                <a:ext cx="1333800" cy="1594080"/>
                <a:chOff x="7289640" y="3701880"/>
                <a:chExt cx="1333800" cy="1594080"/>
              </a:xfrm>
            </p:grpSpPr>
            <p:grpSp>
              <p:nvGrpSpPr>
                <p:cNvPr id="357" name=""/>
                <p:cNvGrpSpPr/>
                <p:nvPr/>
              </p:nvGrpSpPr>
              <p:grpSpPr>
                <a:xfrm>
                  <a:off x="7289640" y="3701880"/>
                  <a:ext cx="1333800" cy="1594080"/>
                  <a:chOff x="7289640" y="3701880"/>
                  <a:chExt cx="1333800" cy="1594080"/>
                </a:xfrm>
              </p:grpSpPr>
              <p:grpSp>
                <p:nvGrpSpPr>
                  <p:cNvPr id="358" name=""/>
                  <p:cNvGrpSpPr/>
                  <p:nvPr/>
                </p:nvGrpSpPr>
                <p:grpSpPr>
                  <a:xfrm>
                    <a:off x="7289640" y="3701880"/>
                    <a:ext cx="1333800" cy="466920"/>
                    <a:chOff x="7289640" y="3701880"/>
                    <a:chExt cx="1333800" cy="466920"/>
                  </a:xfrm>
                </p:grpSpPr>
                <p:sp>
                  <p:nvSpPr>
                    <p:cNvPr id="359" name=""/>
                    <p:cNvSpPr/>
                    <p:nvPr/>
                  </p:nvSpPr>
                  <p:spPr>
                    <a:xfrm>
                      <a:off x="7289640" y="370188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329600" y="3753000"/>
                      <a:ext cx="125388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1" name=""/>
                  <p:cNvGrpSpPr/>
                  <p:nvPr/>
                </p:nvGrpSpPr>
                <p:grpSpPr>
                  <a:xfrm>
                    <a:off x="7289640" y="4829040"/>
                    <a:ext cx="1333800" cy="466920"/>
                    <a:chOff x="7289640" y="4829040"/>
                    <a:chExt cx="1333800" cy="466920"/>
                  </a:xfrm>
                </p:grpSpPr>
                <p:sp>
                  <p:nvSpPr>
                    <p:cNvPr id="362" name=""/>
                    <p:cNvSpPr/>
                    <p:nvPr/>
                  </p:nvSpPr>
                  <p:spPr>
                    <a:xfrm>
                      <a:off x="7289640" y="482904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329600" y="4879800"/>
                      <a:ext cx="125388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64" name=""/>
                <p:cNvGrpSpPr/>
                <p:nvPr/>
              </p:nvGrpSpPr>
              <p:grpSpPr>
                <a:xfrm>
                  <a:off x="7945560" y="4183200"/>
                  <a:ext cx="21960" cy="620640"/>
                  <a:chOff x="7945560" y="4183200"/>
                  <a:chExt cx="21960" cy="620640"/>
                </a:xfrm>
              </p:grpSpPr>
              <p:sp>
                <p:nvSpPr>
                  <p:cNvPr id="365" name=""/>
                  <p:cNvSpPr/>
                  <p:nvPr/>
                </p:nvSpPr>
                <p:spPr>
                  <a:xfrm>
                    <a:off x="79455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675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367" name=""/>
            <p:cNvSpPr/>
            <p:nvPr/>
          </p:nvSpPr>
          <p:spPr>
            <a:xfrm flipH="1">
              <a:off x="6527520" y="3137040"/>
              <a:ext cx="291960" cy="17715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a:off x="6591240" y="3282840"/>
              <a:ext cx="247680" cy="151128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953400" y="3137040"/>
              <a:ext cx="285480" cy="177804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934320" y="3327480"/>
              <a:ext cx="228600" cy="139680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erse Engineering</a:t>
            </a:r>
            <a:endParaRPr b="0" lang="en-US" sz="3600" spc="-1" strike="noStrike">
              <a:solidFill>
                <a:srgbClr val="ffffff"/>
              </a:solidFill>
              <a:latin typeface="Century Schoolbook"/>
            </a:endParaRPr>
          </a:p>
        </p:txBody>
      </p:sp>
      <p:sp>
        <p:nvSpPr>
          <p:cNvPr id="372"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empt to understand architecture through recove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facts that might be availabl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guid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s to extract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inconsist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provide too much inform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issu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131" name=""/>
          <p:cNvGraphicFramePr/>
          <p:nvPr/>
        </p:nvGraphicFramePr>
        <p:xfrm>
          <a:off x="7905600" y="50760"/>
          <a:ext cx="1159200" cy="1282680"/>
        </p:xfrm>
        <a:graphic>
          <a:graphicData uri="http://schemas.openxmlformats.org/presentationml/2006/ole">
            <p:oleObj r:id="rId1" spid="">
              <p:embed/>
              <p:pic>
                <p:nvPicPr>
                  <p:cNvPr id="132" name="" descr=""/>
                  <p:cNvPicPr/>
                  <p:nvPr/>
                </p:nvPicPr>
                <p:blipFill>
                  <a:blip r:embed="rId2"/>
                  <a:stretch/>
                </p:blipFill>
                <p:spPr>
                  <a:xfrm>
                    <a:off x="7905600" y="50760"/>
                    <a:ext cx="1159200" cy="1282680"/>
                  </a:xfrm>
                  <a:prstGeom prst="rect">
                    <a:avLst/>
                  </a:prstGeom>
                  <a:ln w="0">
                    <a:noFill/>
                  </a:ln>
                </p:spPr>
              </p:pic>
            </p:oleObj>
          </a:graphicData>
        </a:graphic>
      </p:graphicFrame>
      <p:sp>
        <p:nvSpPr>
          <p:cNvPr id="133" name=""/>
          <p:cNvSpPr/>
          <p:nvPr/>
        </p:nvSpPr>
        <p:spPr>
          <a:xfrm>
            <a:off x="596880" y="311148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rchitecture manifests differences in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and its architecture are tightly coupl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keletal basis for system development can reduce risk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re a proven, reusable means for achieving architectural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ensure that an implemented system conforms to its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76" name="PlaceHolder 2"/>
          <p:cNvSpPr>
            <a:spLocks noGrp="1"/>
          </p:cNvSpPr>
          <p:nvPr>
            <p:ph/>
          </p:nvPr>
        </p:nvSpPr>
        <p:spPr>
          <a:xfrm>
            <a:off x="923760" y="1782720"/>
            <a:ext cx="79660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rchitectures beget the teams that build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onents that compose the architectures.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 that is usually reflected i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eams is the modular or logical structure.  Wh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 you think that is the case?  What would be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vantages and disadvantages of basing tea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components of some of the other commo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s, such as the proces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are design patterns, considered as a group,</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 from architectural styles, considered a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rou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1</a:t>
            </a:r>
            <a:endParaRPr b="0" lang="en-US" sz="3600" spc="-1" strike="noStrike">
              <a:solidFill>
                <a:srgbClr val="ffffff"/>
              </a:solidFill>
              <a:latin typeface="Century Schoolbook"/>
            </a:endParaRPr>
          </a:p>
        </p:txBody>
      </p:sp>
      <p:sp>
        <p:nvSpPr>
          <p:cNvPr id="135" name="PlaceHolder 2"/>
          <p:cNvSpPr>
            <a:spLocks noGrp="1"/>
          </p:cNvSpPr>
          <p:nvPr>
            <p:ph/>
          </p:nvPr>
        </p:nvSpPr>
        <p:spPr>
          <a:xfrm>
            <a:off x="911160" y="1782720"/>
            <a:ext cx="7508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structure and organizational structure are rel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usually the module or logical structure) drives the project organizatio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ork breakdown structure depends on initial decomposition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teams are (often) associated with infrastructure (communications, operat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2 </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established, a project organizational structure is difficult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communication across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s communication within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same effect as reducing coupling among architectural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arge amount of cross-team communication is a sign of poor initial architectural decompos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frastructure Team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teams cut across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attention to infrastructure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organizational priorities and reuse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ds stability to architecture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skeleton for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Organization and Reuse</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760" y="1795320"/>
            <a:ext cx="78645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s structure reflects the way it does busines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lso reflect the organization’s structure. </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business units make reuse difficult across independent projects from different business unit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that cross business units tend to have a duplication of central functions, such as database func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take organizational consequences into account when structuring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44" name=""/>
          <p:cNvGraphicFramePr/>
          <p:nvPr/>
        </p:nvGraphicFramePr>
        <p:xfrm>
          <a:off x="7905600" y="50760"/>
          <a:ext cx="1159200" cy="1282680"/>
        </p:xfrm>
        <a:graphic>
          <a:graphicData uri="http://schemas.openxmlformats.org/presentationml/2006/ole">
            <p:oleObj r:id="rId1" spid="">
              <p:embed/>
              <p:pic>
                <p:nvPicPr>
                  <p:cNvPr id="145" name="" descr=""/>
                  <p:cNvPicPr/>
                  <p:nvPr/>
                </p:nvPicPr>
                <p:blipFill>
                  <a:blip r:embed="rId2"/>
                  <a:stretch/>
                </p:blipFill>
                <p:spPr>
                  <a:xfrm>
                    <a:off x="7905600" y="50760"/>
                    <a:ext cx="1159200" cy="1282680"/>
                  </a:xfrm>
                  <a:prstGeom prst="rect">
                    <a:avLst/>
                  </a:prstGeom>
                  <a:ln w="0">
                    <a:noFill/>
                  </a:ln>
                </p:spPr>
              </p:pic>
            </p:oleObj>
          </a:graphicData>
        </a:graphic>
      </p:graphicFrame>
      <p:sp>
        <p:nvSpPr>
          <p:cNvPr id="146" name=""/>
          <p:cNvSpPr/>
          <p:nvPr/>
        </p:nvSpPr>
        <p:spPr>
          <a:xfrm>
            <a:off x="596880" y="347976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keletal System</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928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 a system prescrib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functionality to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nd communication among components and component typ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keletal system provides a development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implement coordination an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loy “uses structure” to add function incrementally and deploy subs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7T14:38:13Z</cp:lastPrinted>
  <dcterms:modified xsi:type="dcterms:W3CDTF">1998-10-20T13:56:54Z</dcterms:modified>
  <cp:revision>222</cp:revision>
  <dc:subject/>
  <dc:title>Cover Slide Example</dc:title>
</cp:coreProperties>
</file>