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69D56D5-4CD0-48E1-B64B-750F9EF2F7E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33560" y="657360"/>
            <a:ext cx="4321080" cy="3240000"/>
          </a:xfrm>
          <a:prstGeom prst="rect">
            <a:avLst/>
          </a:prstGeom>
          <a:ln w="0">
            <a:noFill/>
          </a:ln>
        </p:spPr>
      </p:sp>
      <p:sp>
        <p:nvSpPr>
          <p:cNvPr id="2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This lecture discusses both component-based development and the development of product lin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31760" y="657360"/>
            <a:ext cx="4324320" cy="3240000"/>
          </a:xfrm>
          <a:prstGeom prst="rect">
            <a:avLst/>
          </a:prstGeom>
          <a:ln w="0">
            <a:noFill/>
          </a:ln>
        </p:spPr>
      </p:sp>
      <p:sp>
        <p:nvSpPr>
          <p:cNvPr id="251" name="PlaceHolder 2"/>
          <p:cNvSpPr>
            <a:spLocks noGrp="1"/>
          </p:cNvSpPr>
          <p:nvPr>
            <p:ph type="body"/>
          </p:nvPr>
        </p:nvSpPr>
        <p:spPr>
          <a:xfrm>
            <a:off x="917280" y="4213080"/>
            <a:ext cx="4924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wnside to product line development is that the creation of core assets pushes up the cost of the first product.  You must plan for tailorable, generic, robust components that lend themselves to reuse.  You must also make the decision whether to try to recoup costs from early customers of the system and lower prices later, or take the risk of keeping prices low and spreading the cost across the entire (future)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ution is also a product line issue.  What do you do with already deployed products when the product line evolves?  Keeping products compatible with the product line takes time and effort.  But not doing so may make future upgrades of the product more time consuming because either it will need to be brought into compliance with the then-latest product line components, or it will not be able to take advantage of new functions added to the product line.  And, suppose that new functions need to be added to a product.  Are these functions within the product line’s scope?  If they are, the product can simply be built anew from the asset base.  But if they are not, a decision must be made.  Either the product spins off from the product line, or the asset base must be updated to expand its scope to include the new functions.  Updating the product line may be the wisest choice if the new functionality is likely to be used in future products, but this capability comes at the cost of the time necessary to update the product line asse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n organization has a product line and the product line architecture is going to evolve (as it must), there must be an organizational entity that has responsibility for the architecture and other core assets of the product line.  Clearly, the developers of each product cannot be the owners of the asset base since modifications of the core will affect all of the products, not just the one to be modified.  Thus, once an artifact has been recognized as an important core asset, an organizational unit must manage it and the other core asse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31760" y="657360"/>
            <a:ext cx="4324320" cy="3240000"/>
          </a:xfrm>
          <a:prstGeom prst="rect">
            <a:avLst/>
          </a:prstGeom>
          <a:ln w="0">
            <a:noFill/>
          </a:ln>
        </p:spPr>
      </p:sp>
      <p:sp>
        <p:nvSpPr>
          <p:cNvPr id="2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ructure of the product line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interface with the marketers (specification of general requirements) and the product production group (detailed requirements specifications).  In turn, the marketers have the challenge of selling customers not just one product, but variant products in the product line.  The marketers are also responsible for communicating customer needs to both organizations, and the managers are responsible for deciding which needs are satisfied by the core assets group and which by the product produ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separate organizational entities, one of which manages the core assets and one of which actually builds the products, means that both organizational managers and the product managers must understand what it means to have a product line and how that affects both future products and customers.  They need to understand that although the core development group should not be made up entirely of the developers of the product, some sharing of personnel between groups is desirable to attain sharing of knowledge between the two ent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necessary to understand the roles needed by the various units.  The personnel within the core assets group must know how to do abstraction and continually look for generalizations of functions.  The personnel within the product production group must understand how to engineer from existing components and must understand the customer problem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31760" y="657360"/>
            <a:ext cx="4324320" cy="3240000"/>
          </a:xfrm>
          <a:prstGeom prst="rect">
            <a:avLst/>
          </a:prstGeom>
          <a:ln w="0">
            <a:noFill/>
          </a:ln>
        </p:spPr>
      </p:sp>
      <p:sp>
        <p:nvSpPr>
          <p:cNvPr id="25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component- based developmen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31760" y="657360"/>
            <a:ext cx="4324320" cy="3240000"/>
          </a:xfrm>
          <a:prstGeom prst="rect">
            <a:avLst/>
          </a:prstGeom>
          <a:ln w="0">
            <a:noFill/>
          </a:ln>
        </p:spPr>
      </p:sp>
      <p:sp>
        <p:nvSpPr>
          <p:cNvPr id="257" name="PlaceHolder 2"/>
          <p:cNvSpPr>
            <a:spLocks noGrp="1"/>
          </p:cNvSpPr>
          <p:nvPr>
            <p:ph type="body"/>
          </p:nvPr>
        </p:nvSpPr>
        <p:spPr>
          <a:xfrm>
            <a:off x="917640" y="4213080"/>
            <a:ext cx="47340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seldom the case these days that every part of a software system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d by the organization that is fielding it.  The percentage of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ed from pre-existing components is much higher than only a few yea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go.  “Buy, don’t build” is the anthem of the software community today.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ying means less control over every aspect of a system’s development.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is loss of control be reconciled with our desire for quality?  Part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lies in our assertion that, for large systems, quality lives primarily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other part of the answer is that one must take care to integ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so that they do not compromise the architecture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t helps to manife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systems as component-based products promises a dazzling arr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able to take faster advantage of new products and new technolog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gnificantly reduced time-to-market because off-the-shelf components are ready to u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er employee productivity, with the emphasis not on coding but on reusing and integr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ing developers to specialize in the application area of the organization, rather than focusing on programm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reliable components because the components used in your system were developed for a whole class of systems, and other users will probably have found more of the problems than if the component was build specifically for on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hangeable systems because replacement components can be inserted in place of older, less satisfactory on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extensible systems because new kinds of components can be inserted, allowing the system to perform some function it wasn’t able to do befo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31760" y="657360"/>
            <a:ext cx="4324320" cy="3240000"/>
          </a:xfrm>
          <a:prstGeom prst="rect">
            <a:avLst/>
          </a:prstGeom>
          <a:ln w="0">
            <a:noFill/>
          </a:ln>
        </p:spPr>
      </p:sp>
      <p:sp>
        <p:nvSpPr>
          <p:cNvPr id="2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fundamental tension between wanting to maintain open systems using commercial off-the-shelf components and needing to achieve the required quality goals for the system.  Components that were not developed specifically for your system may not meet all of your requirements - they may not even work with the other components you pair them with.  Worse, you may not know if they are suitable or not until you buy them and try them, because component interfaces are notoriously poor at specifying their quality attributes - How secure is the compiler you’re using right now?  How reliable is the mail system on your desktop?  How accurate is the math library that your applications depend on?  And what happens when you discover that the answer to any of these questions is, “not enoug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often “almost compatible,” where “almost” is a euphemism for “no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insidious is the case where components appear to work together - the assembled code compiles and even executes - but the system produces the wrong answer because the components don’t work together quite as expected.  The errors can be subtle, especially in real-time or parallel systems in which the components might rely on seemingly innocuous assumptions about the timing or relative ordering of each other’s operations, or even more likely, may have been developed assuming that no other components are even involved in their opera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31760" y="657360"/>
            <a:ext cx="4324320" cy="3240000"/>
          </a:xfrm>
          <a:prstGeom prst="rect">
            <a:avLst/>
          </a:prstGeom>
          <a:ln w="0">
            <a:noFill/>
          </a:ln>
        </p:spPr>
      </p:sp>
      <p:sp>
        <p:nvSpPr>
          <p:cNvPr id="261"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drawbacks of buying components are that product evolution is out of your control and may be undesirable.  Vendors may change or update the component versions and not support older versions of the components on which your core assets depend.  Worse yet, vendors may go out of busi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can be architectural incompatibilities or “architectural mismatch.”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is a term coined to describe problems in integrating component-based systems.  The problem is a mismatch between the assumptions that are embodied in separately developed components.  This mismatch often manifests itself architecturally, such as when two components disagree about which one invokes the other.  Architectural mismatch usually shows up at system integration time - the system won’t compile, won’t link, or won’t ru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31760" y="657360"/>
            <a:ext cx="4324320" cy="3240000"/>
          </a:xfrm>
          <a:prstGeom prst="rect">
            <a:avLst/>
          </a:prstGeom>
          <a:ln w="0">
            <a:noFill/>
          </a:ln>
        </p:spPr>
      </p:sp>
      <p:sp>
        <p:nvSpPr>
          <p:cNvPr id="2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architectural mismatch.</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31760" y="657360"/>
            <a:ext cx="4324320" cy="3240000"/>
          </a:xfrm>
          <a:prstGeom prst="rect">
            <a:avLst/>
          </a:prstGeom>
          <a:ln w="0">
            <a:noFill/>
          </a:ln>
        </p:spPr>
      </p:sp>
      <p:sp>
        <p:nvSpPr>
          <p:cNvPr id="265"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essential for building a component-based syste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dentifies the components that must be built or bought, as well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rmining the requirements for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ng components may be troublesome due to the components’ differ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about each other.  So, what can you do abou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smatch?  Besides changing your requirements so that yesterday’s bug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morrow’s feature (which is often a viable option), you have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 those cases you haven’t avoided by careful </a:t>
            </a:r>
            <a:r>
              <a:rPr b="0" lang="en-US" sz="1000" spc="-1" strike="noStrike" u="sng">
                <a:solidFill>
                  <a:srgbClr val="000000"/>
                </a:solidFill>
                <a:uFillTx/>
                <a:latin typeface="Arial"/>
              </a:rPr>
              <a:t>qualification</a:t>
            </a:r>
            <a:r>
              <a:rPr b="0" lang="en-US" sz="1000" spc="-1" strike="noStrike">
                <a:solidFill>
                  <a:srgbClr val="000000"/>
                </a:solidFill>
                <a:latin typeface="Arial"/>
              </a:rPr>
              <a:t>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air those cases you’ve detected by </a:t>
            </a:r>
            <a:r>
              <a:rPr b="0" lang="en-US" sz="1000" spc="-1" strike="noStrike" u="sng">
                <a:solidFill>
                  <a:srgbClr val="000000"/>
                </a:solidFill>
                <a:uFillTx/>
                <a:latin typeface="Arial"/>
              </a:rPr>
              <a:t>adapting</a:t>
            </a:r>
            <a:r>
              <a:rPr b="0" lang="en-US" sz="1000" spc="-1" strike="noStrike">
                <a:solidFill>
                  <a:srgbClr val="000000"/>
                </a:solidFill>
                <a:latin typeface="Arial"/>
              </a:rPr>
              <a:t> the component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31760" y="657360"/>
            <a:ext cx="4324320" cy="3240000"/>
          </a:xfrm>
          <a:prstGeom prst="rect">
            <a:avLst/>
          </a:prstGeom>
          <a:ln w="0">
            <a:noFill/>
          </a:ln>
        </p:spPr>
      </p:sp>
      <p:sp>
        <p:nvSpPr>
          <p:cNvPr id="26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precise about what component functions and interactions are expected.  Pay careful attention to interfaces, the interactions among program functions.  This is easy to do if you build your own components, but more problematic if you are buying components because documentation (if any) accompanying the products may not specify interactions and required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face</a:t>
            </a:r>
            <a:r>
              <a:rPr b="0" lang="en-US" sz="1000" spc="-1" strike="noStrike">
                <a:solidFill>
                  <a:srgbClr val="000000"/>
                </a:solidFill>
                <a:latin typeface="Arial"/>
              </a:rPr>
              <a:t> means more than just “application program interface.”  It includes all the assumptions that components can make about each other, including performance, use of shared resources, and interconnection mechanisms.</a:t>
            </a:r>
            <a:r>
              <a:rPr b="0" lang="en-US" sz="1100" spc="-1" strike="noStrike">
                <a:solidFill>
                  <a:srgbClr val="000000"/>
                </a:solidFill>
                <a:latin typeface="Arial"/>
              </a:rPr>
              <a:t>  </a:t>
            </a:r>
            <a:r>
              <a:rPr b="0" lang="en-US" sz="1000" spc="-1" strike="noStrike">
                <a:solidFill>
                  <a:srgbClr val="000000"/>
                </a:solidFill>
                <a:latin typeface="Arial"/>
              </a:rPr>
              <a:t>Interface assumptions can take two forms.</a:t>
            </a:r>
            <a:r>
              <a:rPr b="0" i="1" lang="en-US" sz="1000" spc="-1" strike="noStrike">
                <a:solidFill>
                  <a:srgbClr val="000000"/>
                </a:solidFill>
                <a:latin typeface="Arial"/>
              </a:rPr>
              <a:t>  </a:t>
            </a:r>
            <a:r>
              <a:rPr b="0" lang="en-US" sz="1000" spc="-1" strike="noStrike" u="sng">
                <a:solidFill>
                  <a:srgbClr val="000000"/>
                </a:solidFill>
                <a:uFillTx/>
                <a:latin typeface="Arial"/>
              </a:rPr>
              <a:t>Provides </a:t>
            </a:r>
            <a:r>
              <a:rPr b="0" lang="en-US" sz="1000" spc="-1" strike="noStrike">
                <a:solidFill>
                  <a:srgbClr val="000000"/>
                </a:solidFill>
                <a:latin typeface="Arial"/>
              </a:rPr>
              <a:t>assumptions describe the services that a component provides to its users or clients.  </a:t>
            </a:r>
            <a:r>
              <a:rPr b="0" lang="en-US" sz="1000" spc="-1" strike="noStrike" u="sng">
                <a:solidFill>
                  <a:srgbClr val="000000"/>
                </a:solidFill>
                <a:uFillTx/>
                <a:latin typeface="Arial"/>
              </a:rPr>
              <a:t>Requires</a:t>
            </a:r>
            <a:r>
              <a:rPr b="0" lang="en-US" sz="1000" spc="-1" strike="noStrike">
                <a:solidFill>
                  <a:srgbClr val="000000"/>
                </a:solidFill>
                <a:latin typeface="Arial"/>
              </a:rPr>
              <a:t> assumptions detail those services or resources that a component must have available in order to correctly function.  A mismatch between two components occurs when each other’s provide and requires assumptions do not match 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31760" y="657360"/>
            <a:ext cx="4324320" cy="3240000"/>
          </a:xfrm>
          <a:prstGeom prst="rect">
            <a:avLst/>
          </a:prstGeom>
          <a:ln w="0">
            <a:noFill/>
          </a:ln>
        </p:spPr>
      </p:sp>
      <p:sp>
        <p:nvSpPr>
          <p:cNvPr id="2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standards help, but often do not specify complete interfaces in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the wo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ey do, how do you know that a component is compli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ten, rigorous component qualification is requi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over a component’s “requires” assum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y and augment a component’s “provides” assump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31760" y="657360"/>
            <a:ext cx="4324320" cy="3240000"/>
          </a:xfrm>
          <a:prstGeom prst="rect">
            <a:avLst/>
          </a:prstGeom>
          <a:ln w="0">
            <a:noFill/>
          </a:ln>
        </p:spPr>
      </p:sp>
      <p:sp>
        <p:nvSpPr>
          <p:cNvPr id="23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31760" y="657360"/>
            <a:ext cx="4324320" cy="3240000"/>
          </a:xfrm>
          <a:prstGeom prst="rect">
            <a:avLst/>
          </a:prstGeom>
          <a:ln w="0">
            <a:noFill/>
          </a:ln>
        </p:spPr>
      </p:sp>
      <p:sp>
        <p:nvSpPr>
          <p:cNvPr id="271"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way to repair architectural mismatch is to change the code of one or mor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atic components.  However, this is often not possible.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seldom arrive with their source code.  An old component’s source cod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lost or the only person who understood its code may be gone.  Even it if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e, changing a component may not be desirable.  If it is used in more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system - the whole premise of component-based systems - now it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d in multiple versions if the change to make it work in the new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render it unusable for some of the old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lternative to changing the code is to insert code that mediates the intera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mismatched components, in such a way as to fix the mismatch.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classes of repair code:  wrappers, bridges, and medi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rappers</a:t>
            </a:r>
            <a:r>
              <a:rPr b="0" lang="en-US" sz="1000" spc="-1" strike="noStrike">
                <a:solidFill>
                  <a:srgbClr val="000000"/>
                </a:solidFill>
                <a:latin typeface="Arial"/>
              </a:rPr>
              <a:t>:  The term “wrappers” implies a form of encapsulation whereby some component is encased in an alternative abstraction.  The term simply means that clients access the wrapped component services only through an alternative interface provides by the wrapper.  Wrapping a component can be though of as yielding an alternative interface to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ridges</a:t>
            </a:r>
            <a:r>
              <a:rPr b="0" lang="en-US" sz="1000" spc="-1" strike="noStrike">
                <a:solidFill>
                  <a:srgbClr val="000000"/>
                </a:solidFill>
                <a:latin typeface="Arial"/>
              </a:rPr>
              <a:t>:  A bridge works like a UNIX filter.  It is separately invoked by some external agent (which may or may not be one of the components which the bridge spans) and runs separately from any of the components.  A bridge will translate between some requires assumptions of a component to some provides function of some other componen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ediators</a:t>
            </a:r>
            <a:r>
              <a:rPr b="0" lang="en-US" sz="1000" spc="-1" strike="noStrike">
                <a:solidFill>
                  <a:srgbClr val="000000"/>
                </a:solidFill>
                <a:latin typeface="Arial"/>
              </a:rPr>
              <a:t>:  Mediators exhibit qualities of both bridges and wrappers.  However, it also incorporates a planning function that in effect results in runtime determination of which bridge to use between component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31760" y="657360"/>
            <a:ext cx="4324320" cy="3240000"/>
          </a:xfrm>
          <a:prstGeom prst="rect">
            <a:avLst/>
          </a:prstGeom>
          <a:ln w="0">
            <a:noFill/>
          </a:ln>
        </p:spPr>
      </p:sp>
      <p:sp>
        <p:nvSpPr>
          <p:cNvPr id="2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mature domain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31760" y="657360"/>
            <a:ext cx="4324320" cy="3240000"/>
          </a:xfrm>
          <a:prstGeom prst="rect">
            <a:avLst/>
          </a:prstGeom>
          <a:ln w="0">
            <a:noFill/>
          </a:ln>
        </p:spPr>
      </p:sp>
      <p:sp>
        <p:nvSpPr>
          <p:cNvPr id="2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s there enough demand for component development to mak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ly feasible to develop specialized components for a given dom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hen that domain ma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 domain is a body of specialized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duct or system often belongs to many domains.  For example,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information system may comprise knowledge abo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base management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manag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31760" y="657360"/>
            <a:ext cx="4324320" cy="3240000"/>
          </a:xfrm>
          <a:prstGeom prst="rect">
            <a:avLst/>
          </a:prstGeom>
          <a:ln w="0">
            <a:noFill/>
          </a:ln>
        </p:spPr>
      </p:sp>
      <p:sp>
        <p:nvSpPr>
          <p:cNvPr id="27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systems are possible in mature domains because of established standards for designs and design deci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ilers, database management systems, operating systems, and network communication systems, to name a few, have standard well-documented reference architectures.  The existence of standard designs and sets of design decisions is the sign of a mature dom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31760" y="657360"/>
            <a:ext cx="4324320" cy="3240000"/>
          </a:xfrm>
          <a:prstGeom prst="rect">
            <a:avLst/>
          </a:prstGeom>
          <a:ln w="0">
            <a:noFill/>
          </a:ln>
        </p:spPr>
      </p:sp>
      <p:sp>
        <p:nvSpPr>
          <p:cNvPr id="2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mal standard software architecture will prescribe a set of components with defined interfaces among them.  If the domain is one with sufficiently powerful market forces, component vendors will arise to produce particular components, for example, databases, user-interface widgets, telecommunication packages, and so fort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andard may be formal, in the sense that a standards body has issued a formal definition for the architecture.  Operating systems and network communications systems both have formally approved standards.  Database management systems, however, have an informally standardized architecture that describes how functionality is divided and gives a formal standard that pertains to query languages.  In other cases where the standard is less formal - say with a compiler - the architecture is “standard” in the sense that architects designing one of these systems would not spend time inventing its architecture.  Rather, they would consult an authoritative source such as a textbook, adopt the solution they found there, and press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mon thread through both “formal” and “informal” architectural standards is the notion of a community of developers who, either spontaneously or under market or government/regulatory pressures get together to define and formalize the design decisions.  This saves other developers from having to work from first principl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31760" y="657360"/>
            <a:ext cx="4324320" cy="3240000"/>
          </a:xfrm>
          <a:prstGeom prst="rect">
            <a:avLst/>
          </a:prstGeom>
          <a:ln w="0">
            <a:noFill/>
          </a:ln>
        </p:spPr>
      </p:sp>
      <p:sp>
        <p:nvSpPr>
          <p:cNvPr id="2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e an early stage of domain maturation.  They come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archer’s desire for abstract explanations of commonality and differences among their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desire for a principled basis for comparison of systems other than just features that the systems prov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nderstanding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pproximation of work assign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31760" y="657360"/>
            <a:ext cx="4324320" cy="3240000"/>
          </a:xfrm>
          <a:prstGeom prst="rect">
            <a:avLst/>
          </a:prstGeom>
          <a:ln w="0">
            <a:noFill/>
          </a:ln>
        </p:spPr>
      </p:sp>
      <p:sp>
        <p:nvSpPr>
          <p:cNvPr id="2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the next stage of maturity in a domain.  They c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developers in a large user community who want to be able to interchange components from different systems and to interoperate among th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s grou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change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le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31760" y="657360"/>
            <a:ext cx="4324320" cy="3240000"/>
          </a:xfrm>
          <a:prstGeom prst="rect">
            <a:avLst/>
          </a:prstGeom>
          <a:ln w="0">
            <a:noFill/>
          </a:ln>
        </p:spPr>
      </p:sp>
      <p:sp>
        <p:nvSpPr>
          <p:cNvPr id="2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 are the next phase of maturity in a domain.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chines that automatically generate components based on known variabi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generators are the highest level of domain maturity.  The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system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31760" y="657360"/>
            <a:ext cx="4324320" cy="3240000"/>
          </a:xfrm>
          <a:prstGeom prst="rect">
            <a:avLst/>
          </a:prstGeom>
          <a:ln w="0">
            <a:noFill/>
          </a:ln>
        </p:spPr>
      </p:sp>
      <p:sp>
        <p:nvSpPr>
          <p:cNvPr id="28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product lines and component-based systems rely on architectures to allow different versions of the system to be fielded quickly and reliably.  Architectures are skeletal frameworks on which products and product lines can be built, and they represent the commonalties underlying the each of the products in a product fami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ismatch is a danger in component-based systems.  Mismatch can be detected (and, hopefully, avoided) or repai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ure domains tend to produce common architectural models and reus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31760" y="657360"/>
            <a:ext cx="4324320" cy="3240000"/>
          </a:xfrm>
          <a:prstGeom prst="rect">
            <a:avLst/>
          </a:prstGeom>
          <a:ln w="0">
            <a:noFill/>
          </a:ln>
        </p:spPr>
      </p:sp>
      <p:sp>
        <p:nvSpPr>
          <p:cNvPr id="28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31760" y="657360"/>
            <a:ext cx="4324320" cy="3240000"/>
          </a:xfrm>
          <a:prstGeom prst="rect">
            <a:avLst/>
          </a:prstGeom>
          <a:ln w="0">
            <a:noFill/>
          </a:ln>
        </p:spPr>
      </p:sp>
      <p:sp>
        <p:nvSpPr>
          <p:cNvPr id="2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several ways to reuse an architecture within an organization.  Among these are the development of a product line, and the development of systems that are based on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roduct line, an architecture is used as the basis for building a related set of products that share a managed set of features that together address a particular market seg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component-based system development, an architecture is used as a skeletal framework in which to plug replace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31760" y="657360"/>
            <a:ext cx="4324320" cy="3240000"/>
          </a:xfrm>
          <a:prstGeom prst="rect">
            <a:avLst/>
          </a:prstGeom>
          <a:ln w="0">
            <a:noFill/>
          </a:ln>
        </p:spPr>
      </p:sp>
      <p:sp>
        <p:nvSpPr>
          <p:cNvPr id="29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31760" y="657360"/>
            <a:ext cx="4324320" cy="3240000"/>
          </a:xfrm>
          <a:prstGeom prst="rect">
            <a:avLst/>
          </a:prstGeom>
          <a:ln w="0">
            <a:noFill/>
          </a:ln>
        </p:spPr>
      </p:sp>
      <p:sp>
        <p:nvSpPr>
          <p:cNvPr id="239"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ncepts of product lines and component-based development are rela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ynergisti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development is one way to produce an architecture-based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achieves different features by replacing discret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require avoiding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to make the components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correct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mature domains, the architecture (and especially the set of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omes standard, the result of consensu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the ideas of architectural mismatch and mature domains later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31760" y="657360"/>
            <a:ext cx="4324320" cy="3240000"/>
          </a:xfrm>
          <a:prstGeom prst="rect">
            <a:avLst/>
          </a:prstGeom>
          <a:ln w="0">
            <a:noFill/>
          </a:ln>
        </p:spPr>
      </p:sp>
      <p:sp>
        <p:nvSpPr>
          <p:cNvPr id="2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product lin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31760" y="657360"/>
            <a:ext cx="4324320" cy="3240000"/>
          </a:xfrm>
          <a:prstGeom prst="rect">
            <a:avLst/>
          </a:prstGeom>
          <a:ln w="0">
            <a:noFill/>
          </a:ln>
        </p:spPr>
      </p:sp>
      <p:sp>
        <p:nvSpPr>
          <p:cNvPr id="243"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discussing the construction of an individ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However, for an organization, an architecture represents a signific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estment of both time and effort of its senior talent.  It is natural to wan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ximize this investment by reusing an architecture on multiple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n organization is producing multiple similar systems and reusing the s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nd components associated with that architecture), it enjoys s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benefits, including reduced cost of construction and reduced tim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rket.  This is the lure of the software product line (as previously defined):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lection of systems sharing a managed set of features constructed from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et of core software assets.  These assets include a bas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set of common, perhaps tailorable, components that populate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examples of product lin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an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ght bulb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31760" y="657360"/>
            <a:ext cx="4324320" cy="3240000"/>
          </a:xfrm>
          <a:prstGeom prst="rect">
            <a:avLst/>
          </a:prstGeom>
          <a:ln w="0">
            <a:noFill/>
          </a:ln>
        </p:spPr>
      </p:sp>
      <p:sp>
        <p:nvSpPr>
          <p:cNvPr id="24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built using a common set of assets epitomize </a:t>
            </a:r>
            <a:r>
              <a:rPr b="0" lang="en-US" sz="1000" spc="-1" strike="noStrike" u="sng">
                <a:solidFill>
                  <a:srgbClr val="000000"/>
                </a:solidFill>
                <a:uFillTx/>
                <a:latin typeface="Arial"/>
              </a:rPr>
              <a:t>strategic, planned</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use</a:t>
            </a:r>
            <a:r>
              <a:rPr b="0" lang="en-US" sz="1000" spc="-1" strike="noStrike">
                <a:solidFill>
                  <a:srgbClr val="000000"/>
                </a:solidFill>
                <a:latin typeface="Arial"/>
              </a:rPr>
              <a:t> of those assets.  By focusing on the commonalties, different product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easily be added to the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vidual systems (products) are modifications of a (hypothetical) central c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Products share both a commonality (the underlying core asse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ability (individual components that allow for a variety of function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are produced by focusing on the commonalties as much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ilor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ntiating tailor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ng, rather than buil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ing integration, not cod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31760" y="657360"/>
            <a:ext cx="4324320" cy="3240000"/>
          </a:xfrm>
          <a:prstGeom prst="rect">
            <a:avLst/>
          </a:prstGeom>
          <a:ln w="0">
            <a:noFill/>
          </a:ln>
        </p:spPr>
      </p:sp>
      <p:sp>
        <p:nvSpPr>
          <p:cNvPr id="2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epitomize reuse, sometimes in ways that are not immediate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ident.  Consider the following assets over and above the architecture that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reused across members of a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architecture itself</a:t>
            </a:r>
            <a:r>
              <a:rPr b="0" lang="en-US" sz="1000" spc="-1" strike="noStrike">
                <a:solidFill>
                  <a:srgbClr val="000000"/>
                </a:solidFill>
                <a:latin typeface="Arial"/>
              </a:rPr>
              <a:t>.  This forms a skeletal system into which components can be plug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oftware components and legacy systems</a:t>
            </a:r>
            <a:r>
              <a:rPr b="0" lang="en-US" sz="1000" spc="-1" strike="noStrike">
                <a:solidFill>
                  <a:srgbClr val="000000"/>
                </a:solidFill>
                <a:latin typeface="Arial"/>
              </a:rPr>
              <a:t>.  Components are applicable across individual products.  Far and above mere code, component reuse includes the (often difficult) initial work of deciding on requirements and the initial design decisions.  Design successes are captured and reused; design dead ends are avoided, not repeated.  This includes the design of the component’s interface, its documentation, its test plans and procedures, and any models (such as performance models) used to predict or measure its behavior.  One set of reusable components is the system’s user interface, which represents an enormous and vital set of design decision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onnel and their expertise</a:t>
            </a:r>
            <a:r>
              <a:rPr b="0" lang="en-US" sz="1000" spc="-1" strike="noStrike">
                <a:solidFill>
                  <a:srgbClr val="000000"/>
                </a:solidFill>
                <a:latin typeface="Arial"/>
              </a:rPr>
              <a:t>.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siness/management assets</a:t>
            </a:r>
            <a:r>
              <a:rPr b="0" lang="en-US" sz="1000" spc="-1" strike="noStrike">
                <a:solidFill>
                  <a:srgbClr val="000000"/>
                </a:solidFill>
                <a:latin typeface="Arial"/>
              </a:rPr>
              <a:t>.  Budgeting and scheduling are more predictable because past experience is a high-fidelity indicator of future performance.  Marketing literature exists which can be reused with few (if any) additions or changes.  Existing processes and tools can frequently be reused in building other, related produc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31760" y="657360"/>
            <a:ext cx="4324320" cy="3240000"/>
          </a:xfrm>
          <a:prstGeom prst="rect">
            <a:avLst/>
          </a:prstGeom>
          <a:ln w="0">
            <a:noFill/>
          </a:ln>
        </p:spPr>
      </p:sp>
      <p:sp>
        <p:nvSpPr>
          <p:cNvPr id="2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of reuse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fect reduction or elimination</a:t>
            </a:r>
            <a:r>
              <a:rPr b="0" lang="en-US" sz="1000" spc="-1" strike="noStrike">
                <a:solidFill>
                  <a:srgbClr val="000000"/>
                </a:solidFill>
                <a:latin typeface="Arial"/>
              </a:rPr>
              <a:t>.  Overall quality increases because errors eliminated in a component on one product raise the quality of the corresponding components in all the other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formance issues</a:t>
            </a:r>
            <a:r>
              <a:rPr b="0" lang="en-US" sz="1000" spc="-1" strike="noStrike">
                <a:solidFill>
                  <a:srgbClr val="000000"/>
                </a:solidFill>
                <a:latin typeface="Arial"/>
              </a:rPr>
              <a:t>.  Performance models, schedulability analysis, distributed system issues (such as proving absence of deadlock), allocation of processes to processors, fault-tolerance schemes, and network load policies all carry over from product to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 planning</a:t>
            </a:r>
            <a:r>
              <a:rPr b="0" lang="en-US" sz="1000" spc="-1" strike="noStrike">
                <a:solidFill>
                  <a:srgbClr val="000000"/>
                </a:solidFill>
                <a:latin typeface="Arial"/>
              </a:rPr>
              <a:t>.  Project plans become more accurate because all products are produced in the same way.  As just mentioned, budgeting and scheduling are more predictable because past experience is a high-fidelity indicator of future performance.  Work breakdown structures need not be invented each time.  Teams, team size, and team composition are all known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of reuse, there is a </a:t>
            </a:r>
            <a:r>
              <a:rPr b="0" lang="en-US" sz="1000" spc="-1" strike="noStrike" u="sng">
                <a:solidFill>
                  <a:srgbClr val="000000"/>
                </a:solidFill>
                <a:uFillTx/>
                <a:latin typeface="Arial"/>
              </a:rPr>
              <a:t>reduction in time to market</a:t>
            </a:r>
            <a:r>
              <a:rPr b="0" lang="en-US" sz="1000" spc="-1" strike="noStrike">
                <a:solidFill>
                  <a:srgbClr val="000000"/>
                </a:solidFill>
                <a:latin typeface="Arial"/>
              </a:rPr>
              <a:t>, due to shorter development cycles.  </a:t>
            </a:r>
            <a:r>
              <a:rPr b="0" lang="en-US" sz="1000" spc="-1" strike="noStrike" u="sng">
                <a:solidFill>
                  <a:srgbClr val="000000"/>
                </a:solidFill>
                <a:uFillTx/>
                <a:latin typeface="Arial"/>
              </a:rPr>
              <a:t>Staffing can be reduced</a:t>
            </a:r>
            <a:r>
              <a:rPr b="0" lang="en-US" sz="1000" spc="-1" strike="noStrike">
                <a:solidFill>
                  <a:srgbClr val="000000"/>
                </a:solidFill>
                <a:latin typeface="Arial"/>
              </a:rPr>
              <a:t> because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D1BAFEF7-A243-4D94-9F9F-65520E440BE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1840"/>
            <a:ext cx="7313760" cy="174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6AB33E31-7D60-4AB4-82DE-31676D528A6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8200" y="1898280"/>
            <a:ext cx="7713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5: Architecture as a Reusable Asse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Issue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core assets pushes cost of first product up: you must plan and price according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 as product line assets evolve, do you back-fit products?  As products evolve, do you back-fit product line as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Unit that maintains core assets should be separate from units that produce products (and report to custom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Organization/Roles</a:t>
            </a:r>
            <a:endParaRPr b="0" lang="en-US" sz="3600" spc="-1" strike="noStrike">
              <a:solidFill>
                <a:srgbClr val="ffffff"/>
              </a:solidFill>
              <a:latin typeface="Century Schoolbook"/>
            </a:endParaRPr>
          </a:p>
        </p:txBody>
      </p:sp>
      <p:sp>
        <p:nvSpPr>
          <p:cNvPr id="149" name=""/>
          <p:cNvSpPr/>
          <p:nvPr/>
        </p:nvSpPr>
        <p:spPr>
          <a:xfrm>
            <a:off x="1719360" y="1746360"/>
            <a:ext cx="40273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942240" y="1746360"/>
            <a:ext cx="10969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48560" y="1835280"/>
            <a:ext cx="1162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Marketers</a:t>
            </a:r>
            <a:endParaRPr b="0" lang="en-US" sz="1600" spc="-1" strike="noStrike">
              <a:solidFill>
                <a:srgbClr val="ffffff"/>
              </a:solidFill>
              <a:latin typeface="Times New Roman"/>
            </a:endParaRPr>
          </a:p>
        </p:txBody>
      </p:sp>
      <p:sp>
        <p:nvSpPr>
          <p:cNvPr id="152" name=""/>
          <p:cNvSpPr/>
          <p:nvPr/>
        </p:nvSpPr>
        <p:spPr>
          <a:xfrm>
            <a:off x="6916320" y="1835280"/>
            <a:ext cx="1148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Customer</a:t>
            </a:r>
            <a:endParaRPr b="0" lang="en-US" sz="1600" spc="-1" strike="noStrike">
              <a:solidFill>
                <a:srgbClr val="ffffff"/>
              </a:solidFill>
              <a:latin typeface="Times New Roman"/>
            </a:endParaRPr>
          </a:p>
        </p:txBody>
      </p:sp>
      <p:sp>
        <p:nvSpPr>
          <p:cNvPr id="153" name=""/>
          <p:cNvSpPr/>
          <p:nvPr/>
        </p:nvSpPr>
        <p:spPr>
          <a:xfrm>
            <a:off x="5764680" y="1623960"/>
            <a:ext cx="11469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line</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4" name=""/>
          <p:cNvSpPr/>
          <p:nvPr/>
        </p:nvSpPr>
        <p:spPr>
          <a:xfrm>
            <a:off x="5689440" y="2147760"/>
            <a:ext cx="131328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55" name=""/>
          <p:cNvSpPr/>
          <p:nvPr/>
        </p:nvSpPr>
        <p:spPr>
          <a:xfrm>
            <a:off x="4901400" y="3278160"/>
            <a:ext cx="10875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6" name=""/>
          <p:cNvSpPr/>
          <p:nvPr/>
        </p:nvSpPr>
        <p:spPr>
          <a:xfrm>
            <a:off x="1460520" y="3276720"/>
            <a:ext cx="115452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         </a:t>
            </a:r>
            <a:r>
              <a:rPr b="0" lang="en-US" sz="1400" spc="-1" strike="noStrike">
                <a:solidFill>
                  <a:srgbClr val="ffffff"/>
                </a:solidFill>
                <a:latin typeface="Arial"/>
              </a:rPr>
              <a:t>Asse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7" name=""/>
          <p:cNvSpPr/>
          <p:nvPr/>
        </p:nvSpPr>
        <p:spPr>
          <a:xfrm>
            <a:off x="7474680" y="4110120"/>
            <a:ext cx="8895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ystems</a:t>
            </a:r>
            <a:endParaRPr b="0" lang="en-US" sz="1400" spc="-1" strike="noStrike">
              <a:solidFill>
                <a:srgbClr val="ffffff"/>
              </a:solidFill>
              <a:latin typeface="Times New Roman"/>
            </a:endParaRPr>
          </a:p>
        </p:txBody>
      </p:sp>
      <p:sp>
        <p:nvSpPr>
          <p:cNvPr id="158" name=""/>
          <p:cNvSpPr/>
          <p:nvPr/>
        </p:nvSpPr>
        <p:spPr>
          <a:xfrm>
            <a:off x="3023280" y="2540160"/>
            <a:ext cx="1505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ustomer</a:t>
            </a:r>
            <a:r>
              <a:rPr b="0" lang="en-US" sz="1200" spc="-1" strike="noStrike">
                <a:solidFill>
                  <a:srgbClr val="ffffff"/>
                </a:solidFill>
                <a:latin typeface="Arial"/>
              </a:rPr>
              <a:t> </a:t>
            </a:r>
            <a:r>
              <a:rPr b="0" lang="en-US" sz="1400" spc="-1" strike="noStrike">
                <a:solidFill>
                  <a:srgbClr val="ffffff"/>
                </a:solidFill>
                <a:latin typeface="Arial"/>
              </a:rPr>
              <a:t>needs</a:t>
            </a:r>
            <a:endParaRPr b="0" lang="en-US" sz="1400" spc="-1" strike="noStrike">
              <a:solidFill>
                <a:srgbClr val="ffffff"/>
              </a:solidFill>
              <a:latin typeface="Times New Roman"/>
            </a:endParaRPr>
          </a:p>
        </p:txBody>
      </p:sp>
      <p:sp>
        <p:nvSpPr>
          <p:cNvPr id="159" name=""/>
          <p:cNvSpPr/>
          <p:nvPr/>
        </p:nvSpPr>
        <p:spPr>
          <a:xfrm>
            <a:off x="2475000" y="230040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0" y="2536920"/>
            <a:ext cx="204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01800" y="2536920"/>
            <a:ext cx="324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726000" y="2284560"/>
            <a:ext cx="0" cy="2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5762520" y="2047680"/>
            <a:ext cx="11718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4" name=""/>
          <p:cNvSpPr/>
          <p:nvPr/>
        </p:nvSpPr>
        <p:spPr>
          <a:xfrm>
            <a:off x="5762520" y="2151000"/>
            <a:ext cx="1171800" cy="1800"/>
          </a:xfrm>
          <a:prstGeom prst="line">
            <a:avLst/>
          </a:prstGeom>
          <a:ln w="12600">
            <a:solidFill>
              <a:srgbClr val="ffffff"/>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5" name=""/>
          <p:cNvSpPr/>
          <p:nvPr/>
        </p:nvSpPr>
        <p:spPr>
          <a:xfrm flipH="1">
            <a:off x="7405560" y="2276640"/>
            <a:ext cx="5040" cy="28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flipV="1">
            <a:off x="6143400" y="5122440"/>
            <a:ext cx="125244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7516800" y="2284560"/>
            <a:ext cx="0" cy="2950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6105600" y="5243400"/>
            <a:ext cx="141120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69" name=""/>
          <p:cNvSpPr/>
          <p:nvPr/>
        </p:nvSpPr>
        <p:spPr>
          <a:xfrm>
            <a:off x="1415880" y="3898800"/>
            <a:ext cx="193392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760760" y="4383000"/>
            <a:ext cx="121428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Core assets</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1" name=""/>
          <p:cNvSpPr/>
          <p:nvPr/>
        </p:nvSpPr>
        <p:spPr>
          <a:xfrm>
            <a:off x="1464480" y="4795920"/>
            <a:ext cx="1879920" cy="1197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domai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design with ease &amp; skill</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abstrac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are technically curren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mediate</a:t>
            </a:r>
            <a:endParaRPr b="0" lang="en-US" sz="1200" spc="-1" strike="noStrike">
              <a:solidFill>
                <a:srgbClr val="ffffff"/>
              </a:solidFill>
              <a:latin typeface="Times New Roman"/>
            </a:endParaRPr>
          </a:p>
        </p:txBody>
      </p:sp>
      <p:sp>
        <p:nvSpPr>
          <p:cNvPr id="172" name=""/>
          <p:cNvSpPr/>
          <p:nvPr/>
        </p:nvSpPr>
        <p:spPr>
          <a:xfrm>
            <a:off x="4116240" y="3898800"/>
            <a:ext cx="201168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42520" y="4383000"/>
            <a:ext cx="18543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Product production</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4" name=""/>
          <p:cNvSpPr/>
          <p:nvPr/>
        </p:nvSpPr>
        <p:spPr>
          <a:xfrm>
            <a:off x="4140360" y="4795920"/>
            <a:ext cx="2222280" cy="1395720"/>
          </a:xfrm>
          <a:prstGeom prst="rect">
            <a:avLst/>
          </a:prstGeom>
          <a:noFill/>
          <a:ln w="0">
            <a:noFill/>
          </a:ln>
        </p:spPr>
        <p:style>
          <a:lnRef idx="0"/>
          <a:fillRef idx="0"/>
          <a:effectRef idx="0"/>
          <a:fontRef idx="minor"/>
        </p:style>
        <p:txBody>
          <a:bodyPr lIns="101520" rIns="101520" tIns="50760" bIns="50760" anchor="t">
            <a:spAutoFit/>
          </a:bodyPr>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customer</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problems</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engineer from </a:t>
            </a:r>
            <a:r>
              <a:rPr b="0" lang="en-US" sz="1200" spc="-1" strike="noStrike">
                <a:solidFill>
                  <a:srgbClr val="000000"/>
                </a:solidFill>
                <a:latin typeface="Arial"/>
              </a:rPr>
              <a:t>	</a:t>
            </a:r>
            <a:r>
              <a:rPr b="0" lang="en-US" sz="1200" spc="-1" strike="noStrike">
                <a:solidFill>
                  <a:srgbClr val="000000"/>
                </a:solidFill>
                <a:latin typeface="Arial"/>
              </a:rPr>
              <a:t> “building blocks”</a:t>
            </a:r>
            <a:endParaRPr b="0" lang="en-US" sz="1200" spc="-1" strike="noStrike">
              <a:solidFill>
                <a:srgbClr val="ffffff"/>
              </a:solidFill>
              <a:latin typeface="Times New Roman"/>
            </a:endParaRPr>
          </a:p>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customize</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have implementation</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expertise</a:t>
            </a:r>
            <a:endParaRPr b="0" lang="en-US" sz="1200" spc="-1" strike="noStrike">
              <a:solidFill>
                <a:srgbClr val="ffffff"/>
              </a:solidFill>
              <a:latin typeface="Times New Roman"/>
            </a:endParaRPr>
          </a:p>
        </p:txBody>
      </p:sp>
      <p:sp>
        <p:nvSpPr>
          <p:cNvPr id="175" name=""/>
          <p:cNvSpPr/>
          <p:nvPr/>
        </p:nvSpPr>
        <p:spPr>
          <a:xfrm>
            <a:off x="1726560" y="6189840"/>
            <a:ext cx="1397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velop assets</a:t>
            </a:r>
            <a:endParaRPr b="0" lang="en-US" sz="1400" spc="-1" strike="noStrike">
              <a:solidFill>
                <a:srgbClr val="ffffff"/>
              </a:solidFill>
              <a:latin typeface="Times New Roman"/>
            </a:endParaRPr>
          </a:p>
        </p:txBody>
      </p:sp>
      <p:sp>
        <p:nvSpPr>
          <p:cNvPr id="176" name=""/>
          <p:cNvSpPr/>
          <p:nvPr/>
        </p:nvSpPr>
        <p:spPr>
          <a:xfrm>
            <a:off x="4447440" y="6191280"/>
            <a:ext cx="134820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hoose assets</a:t>
            </a:r>
            <a:endParaRPr b="0" lang="en-US" sz="1400" spc="-1" strike="noStrike">
              <a:solidFill>
                <a:srgbClr val="ffffff"/>
              </a:solidFill>
              <a:latin typeface="Times New Roman"/>
            </a:endParaRPr>
          </a:p>
        </p:txBody>
      </p:sp>
      <p:sp>
        <p:nvSpPr>
          <p:cNvPr id="177" name=""/>
          <p:cNvSpPr/>
          <p:nvPr/>
        </p:nvSpPr>
        <p:spPr>
          <a:xfrm>
            <a:off x="3364560" y="4753080"/>
            <a:ext cx="74160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ssets</a:t>
            </a:r>
            <a:endParaRPr b="0" lang="en-US" sz="1400" spc="-1" strike="noStrike">
              <a:solidFill>
                <a:srgbClr val="ffffff"/>
              </a:solidFill>
              <a:latin typeface="Times New Roman"/>
            </a:endParaRPr>
          </a:p>
        </p:txBody>
      </p:sp>
      <p:sp>
        <p:nvSpPr>
          <p:cNvPr id="178" name=""/>
          <p:cNvSpPr/>
          <p:nvPr/>
        </p:nvSpPr>
        <p:spPr>
          <a:xfrm>
            <a:off x="3365640" y="4757760"/>
            <a:ext cx="745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365640" y="5059440"/>
            <a:ext cx="745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95320" y="3959280"/>
            <a:ext cx="38941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92120" y="3927600"/>
            <a:ext cx="1150200" cy="463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Managers</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Direct vision</a:t>
            </a:r>
            <a:endParaRPr b="0" lang="en-US" sz="1200" spc="-1" strike="noStrike">
              <a:solidFill>
                <a:srgbClr val="ffffff"/>
              </a:solidFill>
              <a:latin typeface="Times New Roman"/>
            </a:endParaRPr>
          </a:p>
        </p:txBody>
      </p:sp>
      <p:sp>
        <p:nvSpPr>
          <p:cNvPr id="182" name=""/>
          <p:cNvSpPr/>
          <p:nvPr/>
        </p:nvSpPr>
        <p:spPr>
          <a:xfrm>
            <a:off x="6208920" y="4110120"/>
            <a:ext cx="1244520" cy="464040"/>
          </a:xfrm>
          <a:prstGeom prst="rect">
            <a:avLst/>
          </a:prstGeom>
          <a:noFill/>
          <a:ln w="0">
            <a:noFill/>
          </a:ln>
        </p:spPr>
        <p:style>
          <a:lnRef idx="0"/>
          <a:fillRef idx="0"/>
          <a:effectRef idx="0"/>
          <a:fontRef idx="minor"/>
        </p:style>
        <p:txBody>
          <a:bodyPr wrap="none" lIns="101520" rIns="101520" tIns="50760" bIns="50760" anchor="t">
            <a:spAutoFit/>
          </a:bodyPr>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tailed</a:t>
            </a:r>
            <a:endParaRPr b="0" lang="en-US" sz="1400" spc="-1" strike="noStrike">
              <a:solidFill>
                <a:srgbClr val="ffffff"/>
              </a:solidFill>
              <a:latin typeface="Times New Roman"/>
            </a:endParaRPr>
          </a:p>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83" name=""/>
          <p:cNvSpPr/>
          <p:nvPr/>
        </p:nvSpPr>
        <p:spPr>
          <a:xfrm>
            <a:off x="4753080" y="2533680"/>
            <a:ext cx="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951440" y="230364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87" name=""/>
          <p:cNvSpPr/>
          <p:nvPr/>
        </p:nvSpPr>
        <p:spPr>
          <a:xfrm>
            <a:off x="419040" y="266688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577280" y="279360"/>
          <a:ext cx="1323720" cy="1465200"/>
        </p:xfrm>
        <a:graphic>
          <a:graphicData uri="http://schemas.openxmlformats.org/presentationml/2006/ole">
            <p:oleObj r:id="rId1" spid="">
              <p:embed/>
              <p:pic>
                <p:nvPicPr>
                  <p:cNvPr id="189"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Based System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39960" y="1771560"/>
            <a:ext cx="72770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ly any system is built completely from scratch these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better to buy components that fulfill your requirements than to build th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ly adopt new products/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 high productivity: reuse/integrate, not code/t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 on application area,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more reli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 changeable, extensibl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947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1</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400" y="1782720"/>
            <a:ext cx="7750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don’t know if a component meets all of your requirements until you try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ecure is it?  How rel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its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hat are “almost” compatible: “almost” is a euphemism for “no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atibilities may not appear until after the system has been deployed and may be difficult or impossible to resol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2</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evolution is out of your control and may be undesir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y go out of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can be architectural incompatibilities:  “architectural mismatch” due to different architectural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98" name=""/>
          <p:cNvSpPr/>
          <p:nvPr/>
        </p:nvSpPr>
        <p:spPr>
          <a:xfrm>
            <a:off x="419040" y="342900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7577280" y="279360"/>
          <a:ext cx="1323720" cy="1465200"/>
        </p:xfrm>
        <a:graphic>
          <a:graphicData uri="http://schemas.openxmlformats.org/presentationml/2006/ole">
            <p:oleObj r:id="rId1" spid="">
              <p:embed/>
              <p:pic>
                <p:nvPicPr>
                  <p:cNvPr id="200"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Mismatch</a:t>
            </a:r>
            <a:endParaRPr b="0" lang="en-US" sz="3600" spc="-1" strike="noStrike">
              <a:solidFill>
                <a:srgbClr val="ffffff"/>
              </a:solidFill>
              <a:latin typeface="Century Schoolbook"/>
            </a:endParaRPr>
          </a:p>
        </p:txBody>
      </p:sp>
      <p:sp>
        <p:nvSpPr>
          <p:cNvPr id="2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essential for building a component-based system.  Architectur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es components to be built/bought</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requirements for the compon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components may be troublesome due to architectural mismatch (i.e., the components’ differing assumptions about each oth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an you do about architectural mismatch?</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ct it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air 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9880" y="842760"/>
            <a:ext cx="7921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1</a:t>
            </a:r>
            <a:endParaRPr b="0" lang="en-US" sz="3600" spc="-1" strike="noStrike">
              <a:solidFill>
                <a:srgbClr val="ffffff"/>
              </a:solidFill>
              <a:latin typeface="Century Schoolbook"/>
            </a:endParaRPr>
          </a:p>
        </p:txBody>
      </p:sp>
      <p:sp>
        <p:nvSpPr>
          <p:cNvPr id="20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precise about what component functions and interactions are expec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s more than application program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ll the assumptions that components can make about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shared resourc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a:t>
            </a:r>
            <a:r>
              <a:rPr b="1" i="1" lang="en-US" sz="2400" spc="-1" strike="noStrike">
                <a:solidFill>
                  <a:srgbClr val="ffffff"/>
                </a:solidFill>
                <a:latin typeface="Arial"/>
              </a:rPr>
              <a:t> provides</a:t>
            </a:r>
            <a:r>
              <a:rPr b="1" lang="en-US" sz="2400" spc="-1" strike="noStrike">
                <a:solidFill>
                  <a:srgbClr val="ffffff"/>
                </a:solidFill>
                <a:latin typeface="Arial"/>
              </a:rPr>
              <a:t>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t>
            </a:r>
            <a:r>
              <a:rPr b="1" i="1" lang="en-US" sz="2400" spc="-1" strike="noStrike">
                <a:solidFill>
                  <a:srgbClr val="ffffff"/>
                </a:solidFill>
                <a:latin typeface="Arial"/>
              </a:rPr>
              <a:t>requires</a:t>
            </a:r>
            <a:r>
              <a:rPr b="1" lang="en-US" sz="2400" spc="-1" strike="noStrike">
                <a:solidFill>
                  <a:srgbClr val="ffffff"/>
                </a:solidFill>
                <a:latin typeface="Arial"/>
              </a:rPr>
              <a:t> assum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2</a:t>
            </a:r>
            <a:endParaRPr b="0" lang="en-US" sz="3600" spc="-1" strike="noStrike">
              <a:solidFill>
                <a:srgbClr val="ffffff"/>
              </a:solidFill>
              <a:latin typeface="Century Schoolbook"/>
            </a:endParaRPr>
          </a:p>
        </p:txBody>
      </p:sp>
      <p:sp>
        <p:nvSpPr>
          <p:cNvPr id="206"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help, but often do not specify complete interfaces in this sense of the wor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 if they do, how do you know that a component is compli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rigorous component qualification is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 a component’s “requires”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ify and augment a component’s “provides”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is an asset that can be reused within an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 product line is, and the role architecture plays in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enables the construction of component-bas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pproaches for dealing with component mismatc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airing Architectural Mismatch</a:t>
            </a:r>
            <a:endParaRPr b="0" lang="en-US" sz="3600" spc="-1" strike="noStrike">
              <a:solidFill>
                <a:srgbClr val="ffffff"/>
              </a:solidFill>
              <a:latin typeface="Century Schoolbook"/>
            </a:endParaRPr>
          </a:p>
        </p:txBody>
      </p:sp>
      <p:sp>
        <p:nvSpPr>
          <p:cNvPr id="20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ing legacy software by changing the   implementation of one or mor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ing new software to fix the mismat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apper: introduce new interface, replace all old calls with calls to new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dge: similar to UNIX filters; separately invoked, separately ru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tor: includes a </a:t>
            </a:r>
            <a:r>
              <a:rPr b="1" i="1" lang="en-US" sz="2400" spc="-1" strike="noStrike">
                <a:solidFill>
                  <a:srgbClr val="ffffff"/>
                </a:solidFill>
                <a:latin typeface="Arial"/>
              </a:rPr>
              <a:t>planning</a:t>
            </a:r>
            <a:r>
              <a:rPr b="1" lang="en-US" sz="2400" spc="-1" strike="noStrike">
                <a:solidFill>
                  <a:srgbClr val="ffffff"/>
                </a:solidFill>
                <a:latin typeface="Arial"/>
              </a:rPr>
              <a:t> function that (at runtime) chooses which bridges to use to mediate between two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1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ature domains</a:t>
            </a:r>
            <a:endParaRPr b="1" lang="en-US" sz="2400" spc="-1" strike="noStrike">
              <a:solidFill>
                <a:srgbClr val="ffffff"/>
              </a:solidFill>
              <a:latin typeface="Arial"/>
            </a:endParaRPr>
          </a:p>
        </p:txBody>
      </p:sp>
      <p:sp>
        <p:nvSpPr>
          <p:cNvPr id="211" name=""/>
          <p:cNvSpPr/>
          <p:nvPr/>
        </p:nvSpPr>
        <p:spPr>
          <a:xfrm>
            <a:off x="419040" y="41403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2" name=""/>
          <p:cNvGraphicFramePr/>
          <p:nvPr/>
        </p:nvGraphicFramePr>
        <p:xfrm>
          <a:off x="7577280" y="279360"/>
          <a:ext cx="1323720" cy="1465200"/>
        </p:xfrm>
        <a:graphic>
          <a:graphicData uri="http://schemas.openxmlformats.org/presentationml/2006/ole">
            <p:oleObj r:id="rId1" spid="">
              <p:embed/>
              <p:pic>
                <p:nvPicPr>
                  <p:cNvPr id="213"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omain</a:t>
            </a:r>
            <a:endParaRPr b="0" lang="en-US" sz="3600" spc="-1" strike="noStrike">
              <a:solidFill>
                <a:srgbClr val="ffffff"/>
              </a:solidFill>
              <a:latin typeface="Century Schoolbook"/>
            </a:endParaRPr>
          </a:p>
        </p:txBody>
      </p:sp>
      <p:sp>
        <p:nvSpPr>
          <p:cNvPr id="21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omain is a body of specialized knowled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duct or system often belongs to many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 a management information system may comprise knowledge abo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manag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r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s are possible in mature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feature standard well-documente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mmunication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rchitectures create component mark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andards can be formal or inform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ecisions have been made and agreed to by a community; this saves developers from having to work from first princip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1</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er’s desire for 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desire for basis for comparison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nderstanding of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pproximation of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2</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grou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3</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yield rapid production of 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yield rapid production of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810800"/>
            <a:ext cx="7301160" cy="44564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product lines and component-based systems rely on architectures to allow different versions of the system to be fielded quickly and reliab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 is a danger in component-based systems.  Mismatch can be detected or repai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tend to produce common architectural models and reus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229"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me writers draw a distinction betwee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product line </a:t>
            </a:r>
            <a:r>
              <a:rPr b="1" lang="en-US" sz="2400" spc="-1" strike="noStrike">
                <a:solidFill>
                  <a:srgbClr val="ffffff"/>
                </a:solidFill>
                <a:latin typeface="Arial"/>
              </a:rPr>
              <a:t>(a set of products that toge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dress a certain market segment or mission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product family</a:t>
            </a:r>
            <a:r>
              <a:rPr b="1" lang="en-US" sz="2400" spc="-1" strike="noStrike">
                <a:solidFill>
                  <a:srgbClr val="ffffff"/>
                </a:solidFill>
                <a:latin typeface="Arial"/>
              </a:rPr>
              <a:t> (a set of products built from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et of software assets).  Under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inction, a product line need not be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if the products are built independently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other.  In this lecture, w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cribing a product line built as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Can you describe a product line tha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 product family?  Can you describ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family that is not a product 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ays to Reuse an Architecture Within an Organization </a:t>
            </a:r>
            <a:endParaRPr b="0" lang="en-US" sz="3600" spc="-1" strike="noStrike">
              <a:solidFill>
                <a:srgbClr val="ffffff"/>
              </a:solidFill>
              <a:latin typeface="Century Schoolbook"/>
            </a:endParaRPr>
          </a:p>
        </p:txBody>
      </p:sp>
      <p:sp>
        <p:nvSpPr>
          <p:cNvPr id="130" name="PlaceHolder 2"/>
          <p:cNvSpPr>
            <a:spLocks noGrp="1"/>
          </p:cNvSpPr>
          <p:nvPr>
            <p:ph/>
          </p:nvPr>
        </p:nvSpPr>
        <p:spPr>
          <a:xfrm>
            <a:off x="911160" y="2171880"/>
            <a:ext cx="7313760" cy="4155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Use an architecture as the basis for building a related set of products that share a managed set of features that together address a particular market seg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 development: Use an architecture as a skeletal framework in which to plug replace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2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uppose a company builds two similar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ing a large set of common assets, including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architecture.  Clearly thes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m a product line.  Suppose th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 only an architecture but no component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they still a product line?  Suppose they sh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ly a single component.  What then?  Sup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ll they share is the same operating syst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programming language runtime libraries.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y a product line then?  Suppose tha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 asset between them is the same team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s.  What about th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and Component-Based Development</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2184120"/>
            <a:ext cx="7711920" cy="42195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wo concepts are related and synergistic.</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 is one way to produce an architecture-based product lin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duct line achieves different features by replacing discrete compon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require avoiding </a:t>
            </a:r>
            <a:r>
              <a:rPr b="1" i="1" lang="en-US" sz="2400" spc="-1" strike="noStrike">
                <a:solidFill>
                  <a:srgbClr val="ffffff"/>
                </a:solidFill>
                <a:latin typeface="Arial"/>
              </a:rPr>
              <a:t>architectural mismatch</a:t>
            </a:r>
            <a:r>
              <a:rPr b="1" lang="en-US" sz="2400" spc="-1" strike="noStrike">
                <a:solidFill>
                  <a:srgbClr val="ffffff"/>
                </a:solidFill>
                <a:latin typeface="Arial"/>
              </a:rPr>
              <a:t> to make the components work together correct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ture domains, the architecture (and especially the set of components) becomes standard, the result of consens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35" name=""/>
          <p:cNvSpPr/>
          <p:nvPr/>
        </p:nvSpPr>
        <p:spPr>
          <a:xfrm>
            <a:off x="419040" y="19177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6" name=""/>
          <p:cNvGraphicFramePr/>
          <p:nvPr/>
        </p:nvGraphicFramePr>
        <p:xfrm>
          <a:off x="7628040" y="254160"/>
          <a:ext cx="1323720" cy="1465200"/>
        </p:xfrm>
        <a:graphic>
          <a:graphicData uri="http://schemas.openxmlformats.org/presentationml/2006/ole">
            <p:oleObj r:id="rId1" spid="">
              <p:embed/>
              <p:pic>
                <p:nvPicPr>
                  <p:cNvPr id="137"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1</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75880"/>
            <a:ext cx="730116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represents a significant investment.  Why use it for only on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form the foundation for a product line that allows competitive advantage in the marketplac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aircra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a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bul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2</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 built using a common set of assets epitomize strategic, planned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 systems (products) are modifications of a (hypothetical) central cor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 are produced b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ntiating tailor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ng, rather than buil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ing integration, not co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3</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potential exist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components and legacy system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and design decis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orithm researc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lans, test case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nel and their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management as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s and budg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litera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and too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4</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of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ct reduction: defect fixed in one product automatically fixed for all future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erformance issues addressed for all products (e.g., schedulability, deadlock, distributed system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more accurate because all products are produced in the same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5:27Z</cp:lastPrinted>
  <dcterms:modified xsi:type="dcterms:W3CDTF">1998-10-20T13:54:02Z</dcterms:modified>
  <cp:revision>192</cp:revision>
  <dc:subject/>
  <dc:title>Cover Slide Example</dc:title>
</cp:coreProperties>
</file>