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D78B5CE-1C4E-4516-928F-1D624367012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3560" y="657360"/>
            <a:ext cx="4321080" cy="3240000"/>
          </a:xfrm>
          <a:prstGeom prst="rect">
            <a:avLst/>
          </a:prstGeom>
          <a:ln w="0">
            <a:noFill/>
          </a:ln>
        </p:spPr>
      </p:sp>
      <p:sp>
        <p:nvSpPr>
          <p:cNvPr id="69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a set of design operations that an architect can use to transform one architecture into another.  We present the unit operations and then show how they have been applied in the historical evolution of user-interface reference models, which have been evolving since the early 1980s.  We trace this evolution to understand it in terms of the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1760" y="657360"/>
            <a:ext cx="4324320" cy="3240000"/>
          </a:xfrm>
          <a:prstGeom prst="rect">
            <a:avLst/>
          </a:prstGeom>
          <a:ln w="0">
            <a:noFill/>
          </a:ln>
        </p:spPr>
      </p:sp>
      <p:sp>
        <p:nvSpPr>
          <p:cNvPr id="71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lication is the operation of duplicating a component within an architecture.  This technique is used to enhance reliability (fault tolerance) by enabling redundant operations and to enhance performance by data cach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sharing is an operation that encapsulates either data or services and shares them among multiple independent consumers.  Typically, there is a resource manager that provides the sole access to the resour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hared resources are often costly to build initially, they enhance the integrability, portability, and modifiability of systems, primarily because they reduce the coupling among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shared software resources are databases, blackboards, integrated software engineering tool environments, and servers in client-server systems.  In each of these cases, shared resources enhance the integrability of the system.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1760" y="657360"/>
            <a:ext cx="4324320" cy="3240000"/>
          </a:xfrm>
          <a:prstGeom prst="rect">
            <a:avLst/>
          </a:prstGeom>
          <a:ln w="0">
            <a:noFill/>
          </a:ln>
        </p:spPr>
      </p:sp>
      <p:sp>
        <p:nvSpPr>
          <p:cNvPr id="719"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nterested not only in the ways in which unit operations help or hinder the achievement of qualities, but also in the manner in which quality attributes interact.  It is obvious that one cannot maximize all quality attribut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alm of software, we are interested in understanding the effect and interactions of unit operations with respect to scalability, integrability, portability, performance (sequential and concurrent), fault tolerance, ease of system creation, overall system modifiability, individual component modifiability, and reusability.  Based on surveys of expert software designers, we can summarize the gross relationships among the six unit operations just discussed and the 11 distinct quality attributes mentioned in this paragrap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 in the table indicates a positive relationship between an operation and a quality attribute: that is, the use of this operation aids in the achievement of the quality goal.  A “-” in the table indicates the opposite effect.  Finally, a blank cell indicates that, depending on the context of use, the operation might have a positive or negative effect.  For example, part-whole decomposition aids in portability if and only if the portions that change from platform to platform have been isolated into a single part.  Otherwise, the decomposition actually hinders decomposition because the changes to be made are nonlocal; they are spread out among the parts.  Similarly, the blank in the portability entry for resource sharing is because portability is enhanced when the shared resource is the only thing that needs to be ported (and hence the changes are local) and is reduced when both the shared resource and the users of the resource need to be changed (so changes are nonloc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is not meant to present a final authority with respect to unit operations and quality attributes.  The point is that these operations have complex interactions, and the effect of a unit operation in terms of a quality attribute is not a simple on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call from the previous lecture the definition of reference architecture, as presented on the slid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1760" y="657360"/>
            <a:ext cx="432432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We will now present an example of the ways in which engineering principles, manifested as unit operations applied to architectural decisions, help (or hinder) the achievement of desired quality goals.  The method consists of determining the functions that the architecture must compute and then applying unit operations that transform the structural realization of these functions according to the quality requirements.  Unit operations represent a response to each quality attribute in isolation.  Our examples of unit operations are drawn from the domain of human-computer interface (HCI), and in particular, from the tools that are used to build user interfa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begins with examining the monolithic model of architecture, and follows the application of various unit operations in two paths, representing a timeline of development, to arrive at the PAC-AMODEUS model.  Part-whole decomposition is applied to the monolithic model to evolve into either the Seeheim model or the model-view-controller paradigm.  In turn, the Seeheim model evolves into Arch/Slinky by applying abstraction, and MVC evolves into PAC through application of is-a decomposition.  PAC and Arch/Slinky are then unified to form the PAC/AMODEUS model of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each of these steps in turn on the following slid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8006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tep in understanding any class of systems in a given domain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 the functions that such a class of systems must compute.  Thu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ing the HCI software architectures, the first step is to determin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al set of functions that such architectures must suppo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ystem with an interactive user interface, there are three functions tha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must prov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sentation:  the interaction with the user (such as a window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he underlying purpose of the system (such as a data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of the decomposition of the main task to be accomplished by the user into subtasks and the sequencing of those subtask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nolithic model, all of the system’s functions are tangled together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gle module.  The structure of the monolithic model is shown in the graphic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nolithic model is simply an implementation model.  It is widely used because it is obvious (requiring little analysis), and it provides good efficiency because application and interface functions can be directly connected rather than passing through (and incurring the overhead of) intercomponent communication layers.  Thus, the functions are lumped together in a single structural compon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w, let us look at the monolithic model from the point of view of modifiability and portability because those qualities are frequently demanded of the user interface portion of the system.  The highly influential Seeheim model of HCI software was the result of a workshop (held in Seeheim, Germany - hence the name) for HCI tool developers.  These developers attempted to describe a common software architecture for HCI tools that addressed their concerns of modifiability and por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ese goals, the unit operation of abstraction was invoked (although the Seeheim workshop participants certainly did not think of it using that term) because this operation best addressed the achievement of the desired qualiti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1760" y="657360"/>
            <a:ext cx="4324320" cy="3240000"/>
          </a:xfrm>
          <a:prstGeom prst="rect">
            <a:avLst/>
          </a:prstGeom>
          <a:ln w="0">
            <a:noFill/>
          </a:ln>
        </p:spPr>
      </p:sp>
      <p:sp>
        <p:nvSpPr>
          <p:cNvPr id="73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hieve the desired goals of portability and modifiability, the operation of abstraction was applied.  Because of the need to mitigate the effects on the user interface of replacing the presentation toolkit, the presentation function was isolated in its own component.  In order to insulate against modifications to the dialogue (typically the most heavily modified portion of an interactive system) or to the application, the Seeheim participants again appealed to separation and isolated the dialogue and application each into their own component.  Following the two applications of part-whole decomposition, the monolithic model had been transformed as shown in the figure abov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1760" y="657360"/>
            <a:ext cx="4324320" cy="3240000"/>
          </a:xfrm>
          <a:prstGeom prst="rect">
            <a:avLst/>
          </a:prstGeom>
          <a:ln w="0">
            <a:noFill/>
          </a:ln>
        </p:spPr>
      </p:sp>
      <p:sp>
        <p:nvSpPr>
          <p:cNvPr id="69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1760" y="657360"/>
            <a:ext cx="432432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derivation is not quite complete.  A fourth element, the arrow linking presentation and application, was included so that large amounts of data moving from the application interface to the presentation would not have to flow through the dialogue control component.  This is an example of layer bridging, or compression.  The operation of compression is used to achieve performance efficiency, at the cost of most other quality factors:  modifiability, scalability, and so on.  The designers of the Seeheim model deemed this an acceptable trade-off, given the efficiency demands of user interfaces when providing real-time responses to user input (semantic feedback, for example).  The designers attempted to limit the use of this layer bridge to cases in which the dialogue control is not interested in the actual data.  Such a restriction is not enforced by the architecture, however.</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1760" y="657360"/>
            <a:ext cx="432432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mentioned, the separation of the presentation function supports modifiability by mitigating the effects on the user interface of replacing the presentation toolkit, the presentation function.  Portability is achieved because different toolkits can be inser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olation of the application function allows modifications without affecting the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paration of the dialogue function allows the use of the interface to be changed without changing the look (presentation) of the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blems arise when modifications affect all three functions.  For example, adding a function to application requires a change to application to implement the function, a change to presentation so that the user can see the function, and a change to dialogue so that the user can interact with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day’s complex systems where interaction between the system and the user (via the user interface) requires using real-time semantic feedback (such as with an icon being grabbed by the mouse and dragged across the desktop, with a + or - sign always displayed to indicate when the mouse button can be released or not).  The computations required take up a great deal of memory space, which can slow performance unless compression is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ng the architecture into layers of functions requires separation notations for presentation, application, and dialogue; this is cumbersom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1760" y="657360"/>
            <a:ext cx="4324320" cy="3240000"/>
          </a:xfrm>
          <a:prstGeom prst="rect">
            <a:avLst/>
          </a:prstGeom>
          <a:ln w="0">
            <a:noFill/>
          </a:ln>
        </p:spPr>
      </p:sp>
      <p:sp>
        <p:nvSpPr>
          <p:cNvPr id="74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showed how application of part-whole decomposition resulted in a layered architecture.  We will now look at a different application of part-whole decomposition, to arrive at an object-oriented approach, MVC.</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applied part-whole decomposition “horizontally” to result in a complete separation of each function from the others.  The MVC paradigm applies part-whole decomposition “vertically” to “slice” the monolithic model into pieces, in which functions are grouped and then the groups are separ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VC addresses the same quality requirements (modifiability and portability) as did the Seeheim, but the unit operations are applied in a different way.  Let us first consider modifiability.  We assume it is likely that one collection of functionality and its dialogue and presentation (say all of the code associated with a single application object) is going to be modified independently of the rest of the application.  this requires the use of the operation of part-whole decomposition, which best supports the goal of limiting the effects or scope of modification.  The application of part-whole decomposition results in an architecture as shown abov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consideration is that they system must be ported to different input and output devices.  To address this consideration, we apply separation, but this time to the presentation portion of all of the individual components identified on the previous slide.  We want to separate input and output devices not only from the dialogue and application (but without dividing the dialogue and application), but from each other as well.  This yields the architecture shown above, in which the presentation has been separated from dialogue/application, and the input and output portions of the presentation have been separated from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e see as a result of applying these operations is the original version of the model (the dialogue and application of a particular object), the view (output), and the controller (input).  Hence the name of this paradigm:  model view controll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1760" y="657360"/>
            <a:ext cx="4324320" cy="3240000"/>
          </a:xfrm>
          <a:prstGeom prst="rect">
            <a:avLst/>
          </a:prstGeom>
          <a:ln w="0">
            <a:noFill/>
          </a:ln>
        </p:spPr>
      </p:sp>
      <p:sp>
        <p:nvSpPr>
          <p:cNvPr id="74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Seeheim model assumed that the most important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ard against are porting from toolkit to toolkit and insulating the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and presentation from changes in each other, MVC assum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s are likely to occur between different functional objects.  It theref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es the minimization of the effect of such changes its primary quality goal.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doing, MVC promo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ependent modification of objects and their presentation, by separating the objects (dialogue/application) and presentation lay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t the object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to describe whole application (e.g., Smalltalk)</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1760" y="657360"/>
            <a:ext cx="432432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components are separated makes it cumbersome to reuse widgets across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decomposed in this way do not support portabi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actions involving output presentations from multiple objects are difficult to coordinate.  For example, if there are two boxes connected by a line, it is difficult to make the line stretch to continue connecting the boxes if one box is moved further away from the other.</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1760" y="657360"/>
            <a:ext cx="432432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f the problems with MVC were addressed by evolving this architecture into PAC, using is-a decomposition in addition to the part-whole decomposi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 agent decomposes into a hierarchy of PAC agents.  This is “is-a” decomposition, where each subcomponent represents a specialization of its parent’s functionality.  On the other hand, there is also “part-whole” decomposition that separates a subcomponent into presentation (P), application (A), and control (C).  So, part-whole decomposition is used to derive the P, the A, and the C, and then the C is decomposed into other PAC agents using the is-a decomposition.  This is pictur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useful if a designer can map one of these styles to the needs of a problem at hand.  However, how to create an architecture that differs from an existing style or how to create an architecture from first principles is not clear.  Are there atomic operations of architecture, and, if so, what are their effects on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t least partially answer this question, we present a set of design operations that are commonly used in software architectures and describe how these operations help to achieve qualities.  We call these design operations unit operations, following the long-time practice in chemical engineering.  These software operations are abstraction, compression, part-whole decomposi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a decomposition, repl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1760" y="657360"/>
            <a:ext cx="432432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ke MVC, PAC starts out by slicing the monolithic model “vertically” so that presentation (P), application (A), and dialogue (called control, and designated by C) functions are grouped together as PAC agents.  As in MVC, the agents are decomposed so that application and control are separated from presentation to support modifi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 complex interactive system is a large piece of software, we would like to support the quality of scalability.  This quality, applied to a group of components, is supported by the unit operation of part-whole decomposition.  Applying this operation, each PAC triple can be decomposed into parts.  Now the name control, rather than dialogue, is more meaningful, since this subcomponent needs to control its parts as well as mediate the interaction between application and presentation.  In this way, the structure above is completely derived from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31760" y="657360"/>
            <a:ext cx="4324320" cy="3240000"/>
          </a:xfrm>
          <a:prstGeom prst="rect">
            <a:avLst/>
          </a:prstGeom>
          <a:ln w="0">
            <a:noFill/>
          </a:ln>
        </p:spPr>
      </p:sp>
      <p:sp>
        <p:nvSpPr>
          <p:cNvPr id="75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PAC was advantageous in providing a better alignment with separation of concerns in user interface software, it also became apparent as PAC was used to build interactive systems that the architectures decomposed in this way did not support portability.  This is because a system that is completely decomposed into uniform parts will not be able to localize the effects of porting.  For example, each component in the system may have some user-interface-specific code in it.  In terms of PAC, each agent may have a presentation subcomponent, and each of the subcomponents would have to be individually ported.  When unit operations conflict with each other, either one of the desired quality goals needs to be compromised, or the domain of application of a unit operation needs to be limited.  The latter strategy was used in the case of PAC.  Given that part-whole decomposition helps to ensure scalability of a function, it is applied in a limited fashion, only to the dialogue.  This permits the dialogue to be decomposed into manageable, codable chunks, each of which can then be reintegrated to the whole via a regular composition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aknesses of PAC are fewer than the weaknesses of MVC.  Reuse of widgets is the responsibility of each agent.  On the other hand, by having a hierarchy, layers for portability can be introduced by having a portability agent, and interactions among presentation objects can be managed by having an agent that manages the interactions and that decomposes into the individual object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031760" y="657360"/>
            <a:ext cx="4324320" cy="3240000"/>
          </a:xfrm>
          <a:prstGeom prst="rect">
            <a:avLst/>
          </a:prstGeom>
          <a:ln w="0">
            <a:noFill/>
          </a:ln>
        </p:spPr>
      </p:sp>
      <p:sp>
        <p:nvSpPr>
          <p:cNvPr id="75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ame time that MVC was being elaborated into PAC, Seeheim was elaborated into a model called Arch/Slinky.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031760" y="657360"/>
            <a:ext cx="4324320" cy="3240000"/>
          </a:xfrm>
          <a:prstGeom prst="rect">
            <a:avLst/>
          </a:prstGeom>
          <a:ln w="0">
            <a:noFill/>
          </a:ln>
        </p:spPr>
      </p:sp>
      <p:sp>
        <p:nvSpPr>
          <p:cNvPr id="76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Seeheim model separated the architecture into three layers: application, presentation, and dialogue.  This resulted in some well-known problems, however.  For example, there is the possibility that presentation and dialogue interact, so that replacement of the presentation toolkit requires the dialogue to be rewritten in order to use the idiosyncratic objects and attributes of the new toolkit.  Similarly, if the dialogue is modified, one does not want to have to maintain several related modifications, one per toolkit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mitigate the interaction of portability and component modifiability (i.e., replacing the toolkit and modifying the dialogue), designers applied the unit operation of abstraction.  By interposing an adapter between the presentation and dialogue, the connection between them is made indirect.  The adapter function maps between the presentation and dialogue, manifesting a virtual presentation toolkit to the dialogue, forcing the dialogue to conform to the abstractions presented by the virtual tool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ly, if replacing the application (for example, in an interface to a multidatabase) occurs frequently, one would once again appeal to the mechanism of abstraction, inserting a component between the application and dialogue that maps between the two to create a virtual application that adds a buffering mechanism to the dialogue from changes in the operating environ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se two additional components yields a five-component model, as shown on the following slid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31760" y="657360"/>
            <a:ext cx="4324320" cy="3240000"/>
          </a:xfrm>
          <a:prstGeom prst="rect">
            <a:avLst/>
          </a:prstGeom>
          <a:ln w="0">
            <a:noFill/>
          </a:ln>
        </p:spPr>
      </p:sp>
      <p:sp>
        <p:nvSpPr>
          <p:cNvPr id="76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addition of the virtual toolkit between presentation and dialogue, and the virtual application between dialogue and application.  The arrangement of the components in this way produces a visual metaphor of an arch, in which the foundations of the arch are presentation and application, and the keystone is dialogue.  Hence, the term “ar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model also has the ability to expand and contract the allocation of functions to components, much as the child’s toy called a “Slinky” (a long, loosely coiled spring) seems to move when it is played with by shifting the weight of the spring, causing one part of the spring to expand while the other part contracts.  For example, in a given implementation architecture, the dialogue, virtual application, and application might be placed in distinct structural components (expanded) or might be implemented in a single structure (contracted).  Furthermore, on occasion, the entire arch might be compressed into a single component.  For example, most modern toolkits contain a file selection box, a widget that allows one to navigate around a file system, selecting directories, patterns of files, and individual files.  A file selection box thus contains an application (the file system and the knowledge of how to navigate around it), a presentation (the buttons, lists, and text input fields that make up the file selection box), and a dialogue (which controls what occurs when a user selects a directory or file or clicks the OK button).  A sophisticated toolkit might make this file selection box work with several presentations and several file systems, and so this widget - a single presentation component - would contain an entire miniature arch structure.  The recognition of the fluid nature of allocating functions to structures let the developers of the arch model to add the Slinky metaphor to the metamodel:  the Arch/Slinky reference architecture was bor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31760" y="657360"/>
            <a:ext cx="4324320" cy="3240000"/>
          </a:xfrm>
          <a:prstGeom prst="rect">
            <a:avLst/>
          </a:prstGeom>
          <a:ln w="0">
            <a:noFill/>
          </a:ln>
        </p:spPr>
      </p:sp>
      <p:sp>
        <p:nvSpPr>
          <p:cNvPr id="76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ngths of Arch/Slinky are the strengths of Seeheim, with the addition of more portability enhancers (the two new layers).  The weaknesses are the same as those of Seeheim, with more performance problems due to the additional lay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31760" y="657360"/>
            <a:ext cx="4324320" cy="3240000"/>
          </a:xfrm>
          <a:prstGeom prst="rect">
            <a:avLst/>
          </a:prstGeom>
          <a:ln w="0">
            <a:noFill/>
          </a:ln>
        </p:spPr>
      </p:sp>
      <p:sp>
        <p:nvSpPr>
          <p:cNvPr id="76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see how the PAC and Arch/Slinky models combined to form a software architecture called PAC/AMODEU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31760" y="657360"/>
            <a:ext cx="4324320" cy="3240000"/>
          </a:xfrm>
          <a:prstGeom prst="rect">
            <a:avLst/>
          </a:prstGeom>
          <a:ln w="0">
            <a:noFill/>
          </a:ln>
        </p:spPr>
      </p:sp>
      <p:sp>
        <p:nvSpPr>
          <p:cNvPr id="76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part-whole decomposition (as exemplified by PAC) is restricted to apply to only the dialogue component, a PAC model of dialogue can be embedded within the larger Arch/Slinky model of an entire interactive system.  (Recall that Arch/Slinky applied abstraction layers between dialogue and the application and presentation layers.)  This derives the software architectures known as the PAC-AMODEUS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DEUS stands for “assimilating models of designers, users, and system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31760" y="657360"/>
            <a:ext cx="4324320" cy="3240000"/>
          </a:xfrm>
          <a:prstGeom prst="rect">
            <a:avLst/>
          </a:prstGeom>
          <a:ln w="0">
            <a:noFill/>
          </a:ln>
        </p:spPr>
      </p:sp>
      <p:sp>
        <p:nvSpPr>
          <p:cNvPr id="77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AMODEUS architecture is derived by applying part-whole decomposition (as exemplified by PAC) to the dialogue component of the Arch/Slinky model, which uses abstraction.  Thus, the two threads of HCI software architectures - layered and object-oriented - are combine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31760" y="657360"/>
            <a:ext cx="4324320" cy="3240000"/>
          </a:xfrm>
          <a:prstGeom prst="rect">
            <a:avLst/>
          </a:prstGeom>
          <a:ln w="0">
            <a:noFill/>
          </a:ln>
        </p:spPr>
      </p:sp>
      <p:sp>
        <p:nvSpPr>
          <p:cNvPr id="77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AMODEUS captures the strengths of both PAC (in terms of support of modifiability) and Arch/Slinking (in terms of support of portability).  The weakness is that there is a performance penalty because of all the subpar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well-defined, well documented sets of design solutions that can be applied as an “off-the-shelf” means of achieving known quality properties in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different from architectural styles and design patterns in that they are more primitive.  Styles and design patterns are derived from the engineering principles reflected by unit operations.  As a consequence, unit operations are more abstract than styles, design patterns, and reference architectures, as they are farther from implementation.  Therefore, unit operations affect the qualities of the architectures which result from them, but they are not design solutions in themselv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31760" y="657360"/>
            <a:ext cx="4324320" cy="3240000"/>
          </a:xfrm>
          <a:prstGeom prst="rect">
            <a:avLst/>
          </a:prstGeom>
          <a:ln w="0">
            <a:noFill/>
          </a:ln>
        </p:spPr>
      </p:sp>
      <p:sp>
        <p:nvSpPr>
          <p:cNvPr id="77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31760" y="657360"/>
            <a:ext cx="4324320" cy="3240000"/>
          </a:xfrm>
          <a:prstGeom prst="rect">
            <a:avLst/>
          </a:prstGeom>
          <a:ln w="0">
            <a:noFill/>
          </a:ln>
        </p:spPr>
      </p:sp>
      <p:sp>
        <p:nvSpPr>
          <p:cNvPr id="77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31760" y="657360"/>
            <a:ext cx="4324320" cy="3240000"/>
          </a:xfrm>
          <a:prstGeom prst="rect">
            <a:avLst/>
          </a:prstGeom>
          <a:ln w="0">
            <a:noFill/>
          </a:ln>
        </p:spPr>
      </p:sp>
      <p:sp>
        <p:nvSpPr>
          <p:cNvPr id="77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31760" y="657360"/>
            <a:ext cx="4324320" cy="3240000"/>
          </a:xfrm>
          <a:prstGeom prst="rect">
            <a:avLst/>
          </a:prstGeom>
          <a:ln w="0">
            <a:noFill/>
          </a:ln>
        </p:spPr>
      </p:sp>
      <p:sp>
        <p:nvSpPr>
          <p:cNvPr id="78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31760" y="657360"/>
            <a:ext cx="4324320" cy="3240000"/>
          </a:xfrm>
          <a:prstGeom prst="rect">
            <a:avLst/>
          </a:prstGeom>
          <a:ln w="0">
            <a:noFill/>
          </a:ln>
        </p:spPr>
      </p:sp>
      <p:sp>
        <p:nvSpPr>
          <p:cNvPr id="78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1760" y="657360"/>
            <a:ext cx="4324320" cy="3240000"/>
          </a:xfrm>
          <a:prstGeom prst="rect">
            <a:avLst/>
          </a:prstGeom>
          <a:ln w="0">
            <a:noFill/>
          </a:ln>
        </p:spPr>
      </p:sp>
      <p:sp>
        <p:nvSpPr>
          <p:cNvPr id="705"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ion is the operation of creating a virtual machine.  A virtual machine is a component whose function is to hide its underlying implementation.  Virtual machines are often complex pieces of software to create, but once created, they can be adopted and reused by other software components, thus simplifying their creation and maintenance (because they reference a set of abstract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bstraction, you have one component, which you analyze for commonalties, then separate into two components:  one is the general view and the other is the specialization.  Abstraction (as virtual machines) is found where there is a need to emulate some piece of functionality that is not native to the development platform (such as simulating a parallel computation on a single processor).  It is also commonly used in layered systems, as discussed in the previous lecture.  A third use is to provide a common interface to a heterogeneous set of underlying implementations, such as portable user-interface toolkits).  In this way, the user interface portion of the software is written only once, in terms of an abstraction provided by the toolki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the operation of removing layers or interfaces that sepa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These layers may be software (process boundar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calls) or hardware (separate processors).  In compressing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akes separate components or functions and puts them together in a sing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story of software engineering and computer science has tended aw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compression:  abstract data types, the client-server paradigm, distrib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parallel computing, and object-oriented development are all example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ddition</a:t>
            </a:r>
            <a:r>
              <a:rPr b="0" lang="en-US" sz="1000" spc="-1" strike="noStrike">
                <a:solidFill>
                  <a:srgbClr val="000000"/>
                </a:solidFill>
                <a:latin typeface="Arial"/>
              </a:rPr>
              <a:t> of lay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used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 system performance by eliminating the overhead of traversing the layers between the functions or by circumventing layering when it does not provide needed ser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ed up system development by eliminating the requirement that different parts of a system’s functionality be placed in separate software componen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is the operation of separating a large system component into two or more smaller components.  This can be done in two ways:  part-whole or is-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art-whole decomposition, each of a restricted set of subcomponents represents nonoverlapping portions of the functionality, and every component in the system can be built only from this small set of subcomponents.  Examples of this type of operation include model view controllers and flight simulato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1760" y="657360"/>
            <a:ext cx="432432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is-a decomposition, each of the subcomponents represents a specialization of its parent’s functionality.  There is a hierarchical decomposition with inheritance, in which each subcomponent retains part of the parent layer’s functionality, but with eventual compartmentalization of specialization.  Examples include PAC and class hierarchi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0E01F93D-0518-484C-A5E3-900184C5E37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35360"/>
            <a:ext cx="7313760" cy="169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574D2F50-D6D5-40D3-90CB-A728FEAD10F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12520" y="888840"/>
            <a:ext cx="7848360" cy="3137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6: Unit Operations and HCI Reference Archite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lication as a Unit Operation</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the exact duplication of a component within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used for enhancing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redundant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enhancement (data caching)</a:t>
            </a:r>
            <a:endParaRPr b="1" lang="en-US" sz="2400" spc="-1" strike="noStrike">
              <a:solidFill>
                <a:srgbClr val="ffffff"/>
              </a:solidFill>
              <a:latin typeface="Arial"/>
            </a:endParaRPr>
          </a:p>
        </p:txBody>
      </p:sp>
      <p:sp>
        <p:nvSpPr>
          <p:cNvPr id="169" name=""/>
          <p:cNvSpPr/>
          <p:nvPr/>
        </p:nvSpPr>
        <p:spPr>
          <a:xfrm>
            <a:off x="2241720" y="48769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594240" y="528948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375080" y="4591080"/>
            <a:ext cx="1854360" cy="1396800"/>
            <a:chOff x="4375080" y="4591080"/>
            <a:chExt cx="1854360" cy="1396800"/>
          </a:xfrm>
        </p:grpSpPr>
        <p:sp>
          <p:nvSpPr>
            <p:cNvPr id="172" name=""/>
            <p:cNvSpPr/>
            <p:nvPr/>
          </p:nvSpPr>
          <p:spPr>
            <a:xfrm>
              <a:off x="4946760" y="459108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56320" y="478152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565520" y="497196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375080" y="51624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6720" y="840960"/>
            <a:ext cx="7756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ource Sharing as a Unit Operation</a:t>
            </a:r>
            <a:endParaRPr b="0" lang="en-US" sz="3600" spc="-1" strike="noStrike">
              <a:solidFill>
                <a:srgbClr val="ffffff"/>
              </a:solidFill>
              <a:latin typeface="Century Schoolbook"/>
            </a:endParaRPr>
          </a:p>
        </p:txBody>
      </p:sp>
      <p:sp>
        <p:nvSpPr>
          <p:cNvPr id="177" name="PlaceHolder 2"/>
          <p:cNvSpPr>
            <a:spLocks noGrp="1"/>
          </p:cNvSpPr>
          <p:nvPr>
            <p:ph/>
          </p:nvPr>
        </p:nvSpPr>
        <p:spPr>
          <a:xfrm>
            <a:off x="936720" y="2036880"/>
            <a:ext cx="7648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encapsulates either data or services and shares them among multiple independent consu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databa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s in client/servers</a:t>
            </a:r>
            <a:endParaRPr b="1" lang="en-US" sz="2400" spc="-1" strike="noStrike">
              <a:solidFill>
                <a:srgbClr val="ffffff"/>
              </a:solidFill>
              <a:latin typeface="Arial"/>
            </a:endParaRPr>
          </a:p>
        </p:txBody>
      </p:sp>
      <p:sp>
        <p:nvSpPr>
          <p:cNvPr id="178" name=""/>
          <p:cNvSpPr/>
          <p:nvPr/>
        </p:nvSpPr>
        <p:spPr>
          <a:xfrm>
            <a:off x="6305400" y="46800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8166240" y="4527720"/>
            <a:ext cx="666720" cy="1104840"/>
            <a:chOff x="8166240" y="4527720"/>
            <a:chExt cx="666720" cy="1104840"/>
          </a:xfrm>
        </p:grpSpPr>
        <p:sp>
          <p:nvSpPr>
            <p:cNvPr id="180" name=""/>
            <p:cNvSpPr/>
            <p:nvPr/>
          </p:nvSpPr>
          <p:spPr>
            <a:xfrm>
              <a:off x="816624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816624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7632720" y="5105520"/>
            <a:ext cx="52056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632720" y="472392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05476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5476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753160" y="472428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727600" y="5105520"/>
            <a:ext cx="54612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6360" y="8409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 </a:t>
            </a:r>
            <a:r>
              <a:rPr b="0" lang="en-US" sz="3600" spc="-1" strike="noStrike">
                <a:solidFill>
                  <a:srgbClr val="ffffff"/>
                </a:solidFill>
                <a:latin typeface="Century Schoolbook"/>
              </a:rPr>
              <a:t>Unit Operations and Qualitie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89" name=""/>
          <p:cNvSpPr/>
          <p:nvPr/>
        </p:nvSpPr>
        <p:spPr>
          <a:xfrm>
            <a:off x="947880" y="4592520"/>
            <a:ext cx="7640640" cy="203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Abstrac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Compress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Part-whole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is-a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plica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source sharing</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90" name=""/>
          <p:cNvSpPr/>
          <p:nvPr/>
        </p:nvSpPr>
        <p:spPr>
          <a:xfrm>
            <a:off x="2963880" y="258120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36720" y="545292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38160" y="484668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38160" y="515160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4366440" y="730080"/>
            <a:ext cx="2896200" cy="4571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l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tial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urrent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ult toler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system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component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usability</a:t>
            </a:r>
            <a:endParaRPr b="0" lang="en-US" sz="1600" spc="-1" strike="noStrike">
              <a:solidFill>
                <a:srgbClr val="ffffff"/>
              </a:solidFill>
              <a:latin typeface="Times New Roman"/>
            </a:endParaRPr>
          </a:p>
        </p:txBody>
      </p:sp>
      <p:sp>
        <p:nvSpPr>
          <p:cNvPr id="195" name=""/>
          <p:cNvSpPr/>
          <p:nvPr/>
        </p:nvSpPr>
        <p:spPr>
          <a:xfrm>
            <a:off x="938160" y="57578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938160" y="60483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38160" y="63374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38160" y="45291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909960" y="43848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3548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748040" y="4384800"/>
            <a:ext cx="0" cy="19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159520" y="4400640"/>
            <a:ext cx="0" cy="19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51324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37120" y="435456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3626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77556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18668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562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59780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0892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a:t>
            </a:r>
            <a:endParaRPr b="0" lang="en-US" sz="3600" spc="-1" strike="noStrike">
              <a:solidFill>
                <a:srgbClr val="ffffff"/>
              </a:solidFill>
              <a:latin typeface="Century Schoolbook"/>
            </a:endParaRPr>
          </a:p>
        </p:txBody>
      </p:sp>
      <p:sp>
        <p:nvSpPr>
          <p:cNvPr id="21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 division of functionality, together with data flow between the piec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Unit Operations to Build Reference Architectures</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2189160"/>
            <a:ext cx="730116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 and weaknesses of unit operations can be demonstrated by exploring human-computer interface (HCI) referenc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I reference architectures are important in their own right since user interface typically accounts for 50% of the cost of a syste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934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a:t>
            </a:r>
            <a:br>
              <a:rPr sz="3600"/>
            </a:br>
            <a:r>
              <a:rPr b="0" lang="en-US" sz="3600" spc="-1" strike="noStrike">
                <a:solidFill>
                  <a:srgbClr val="ffffff"/>
                </a:solidFill>
                <a:latin typeface="Century Schoolbook"/>
              </a:rPr>
              <a:t>Reference Architectures</a:t>
            </a:r>
            <a:endParaRPr b="0" lang="en-US" sz="3600" spc="-1" strike="noStrike">
              <a:solidFill>
                <a:srgbClr val="ffffff"/>
              </a:solidFill>
              <a:latin typeface="Century Schoolbook"/>
            </a:endParaRPr>
          </a:p>
        </p:txBody>
      </p:sp>
      <p:sp>
        <p:nvSpPr>
          <p:cNvPr id="216" name=""/>
          <p:cNvSpPr/>
          <p:nvPr/>
        </p:nvSpPr>
        <p:spPr>
          <a:xfrm>
            <a:off x="250560" y="3019320"/>
            <a:ext cx="19299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nolith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a:t>
            </a:r>
            <a:endParaRPr b="0" lang="en-US" sz="2400" spc="-1" strike="noStrike">
              <a:solidFill>
                <a:srgbClr val="ffffff"/>
              </a:solidFill>
              <a:latin typeface="Times New Roman"/>
            </a:endParaRPr>
          </a:p>
        </p:txBody>
      </p:sp>
      <p:sp>
        <p:nvSpPr>
          <p:cNvPr id="217" name=""/>
          <p:cNvSpPr/>
          <p:nvPr/>
        </p:nvSpPr>
        <p:spPr>
          <a:xfrm>
            <a:off x="7094160" y="309420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18" name=""/>
          <p:cNvSpPr/>
          <p:nvPr/>
        </p:nvSpPr>
        <p:spPr>
          <a:xfrm>
            <a:off x="2903040" y="39067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219" name=""/>
          <p:cNvSpPr/>
          <p:nvPr/>
        </p:nvSpPr>
        <p:spPr>
          <a:xfrm>
            <a:off x="5282280" y="390672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20" name=""/>
          <p:cNvSpPr/>
          <p:nvPr/>
        </p:nvSpPr>
        <p:spPr>
          <a:xfrm>
            <a:off x="2486160" y="254808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eeheim</a:t>
            </a:r>
            <a:endParaRPr b="0" lang="en-US" sz="2400" spc="-1" strike="noStrike">
              <a:solidFill>
                <a:srgbClr val="ffffff"/>
              </a:solidFill>
              <a:latin typeface="Times New Roman"/>
            </a:endParaRPr>
          </a:p>
        </p:txBody>
      </p:sp>
      <p:sp>
        <p:nvSpPr>
          <p:cNvPr id="221" name=""/>
          <p:cNvSpPr/>
          <p:nvPr/>
        </p:nvSpPr>
        <p:spPr>
          <a:xfrm>
            <a:off x="5177880" y="259380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22" name=""/>
          <p:cNvSpPr/>
          <p:nvPr/>
        </p:nvSpPr>
        <p:spPr>
          <a:xfrm flipV="1">
            <a:off x="1930320" y="2806560"/>
            <a:ext cx="58428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44800" y="3784680"/>
            <a:ext cx="7999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0560" y="304488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5" name=""/>
          <p:cNvSpPr/>
          <p:nvPr/>
        </p:nvSpPr>
        <p:spPr>
          <a:xfrm>
            <a:off x="2217960" y="356544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6" name=""/>
          <p:cNvSpPr/>
          <p:nvPr/>
        </p:nvSpPr>
        <p:spPr>
          <a:xfrm>
            <a:off x="3852720" y="280656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32040" y="407664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06960" y="288288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994360" y="350496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908880" y="25430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31" name=""/>
          <p:cNvSpPr/>
          <p:nvPr/>
        </p:nvSpPr>
        <p:spPr>
          <a:xfrm>
            <a:off x="4192920" y="381960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32" name=""/>
          <p:cNvGraphicFramePr/>
          <p:nvPr/>
        </p:nvGraphicFramePr>
        <p:xfrm>
          <a:off x="7918560" y="50760"/>
          <a:ext cx="1158840" cy="1282680"/>
        </p:xfrm>
        <a:graphic>
          <a:graphicData uri="http://schemas.openxmlformats.org/presentationml/2006/ole">
            <p:oleObj r:id="rId1" spid="">
              <p:embed/>
              <p:pic>
                <p:nvPicPr>
                  <p:cNvPr id="233"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 for Interactive Systems</a:t>
            </a:r>
            <a:endParaRPr b="0" lang="en-US" sz="3600" spc="-1" strike="noStrike">
              <a:solidFill>
                <a:srgbClr val="ffffff"/>
              </a:solidFill>
              <a:latin typeface="Century Schoolbook"/>
            </a:endParaRPr>
          </a:p>
        </p:txBody>
      </p:sp>
      <p:sp>
        <p:nvSpPr>
          <p:cNvPr id="235" name="PlaceHolder 2"/>
          <p:cNvSpPr>
            <a:spLocks noGrp="1"/>
          </p:cNvSpPr>
          <p:nvPr>
            <p:ph/>
          </p:nvPr>
        </p:nvSpPr>
        <p:spPr>
          <a:xfrm>
            <a:off x="936720" y="2197080"/>
            <a:ext cx="730080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teractive system provides three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controls interaction with user</a:t>
            </a:r>
            <a:r>
              <a:rPr b="1" lang="en-US" sz="2400" spc="-1" strike="noStrike">
                <a:solidFill>
                  <a:srgbClr val="ffffff"/>
                </a:solidFill>
                <a:latin typeface="Arial"/>
              </a:rPr>
              <a:t>	</a:t>
            </a:r>
            <a:r>
              <a:rPr b="1" lang="en-US" sz="2400" spc="-1" strike="noStrike">
                <a:solidFill>
                  <a:srgbClr val="ffffff"/>
                </a:solidFill>
                <a:latin typeface="Arial"/>
              </a:rPr>
              <a:t>(example: windows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underlying purpose of system (example: databas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 decomposes/sequences user tasks (example: intera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unctions are lumped together in a single structure, it is a </a:t>
            </a:r>
            <a:r>
              <a:rPr b="1" i="1" lang="en-US" sz="2400" spc="-1" strike="noStrike">
                <a:solidFill>
                  <a:srgbClr val="ffffff"/>
                </a:solidFill>
                <a:latin typeface="Arial"/>
              </a:rPr>
              <a:t>monolithic architecture</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a:t>
            </a:r>
            <a:endParaRPr b="0" lang="en-US" sz="3600" spc="-1" strike="noStrike">
              <a:solidFill>
                <a:srgbClr val="ffffff"/>
              </a:solidFill>
              <a:latin typeface="Century Schoolbook"/>
            </a:endParaRPr>
          </a:p>
        </p:txBody>
      </p:sp>
      <p:sp>
        <p:nvSpPr>
          <p:cNvPr id="237" name=""/>
          <p:cNvSpPr/>
          <p:nvPr/>
        </p:nvSpPr>
        <p:spPr>
          <a:xfrm>
            <a:off x="1525680" y="2394000"/>
            <a:ext cx="6126120" cy="24890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27360" y="2801880"/>
            <a:ext cx="2030760" cy="1645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esentation</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alogue</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ppli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User Interface Quality Goals Through Unit Operations</a:t>
            </a:r>
            <a:endParaRPr b="0" lang="en-US" sz="3600" spc="-1" strike="noStrike">
              <a:solidFill>
                <a:srgbClr val="ffffff"/>
              </a:solidFill>
              <a:latin typeface="Century Schoolbook"/>
            </a:endParaRPr>
          </a:p>
        </p:txBody>
      </p:sp>
      <p:sp>
        <p:nvSpPr>
          <p:cNvPr id="240" name="PlaceHolder 2"/>
          <p:cNvSpPr>
            <a:spLocks noGrp="1"/>
          </p:cNvSpPr>
          <p:nvPr>
            <p:ph/>
          </p:nvPr>
        </p:nvSpPr>
        <p:spPr>
          <a:xfrm>
            <a:off x="923760" y="2201400"/>
            <a:ext cx="7445520" cy="3907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ypical user interface goals are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ying the unit operation of part-whole decomposition supports the modifiability goal and abstraction supports the portability goa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eheim Reference Architecture</a:t>
            </a:r>
            <a:endParaRPr b="0" lang="en-US" sz="3600" spc="-1" strike="noStrike">
              <a:solidFill>
                <a:srgbClr val="ffffff"/>
              </a:solidFill>
              <a:latin typeface="Century Schoolbook"/>
            </a:endParaRPr>
          </a:p>
        </p:txBody>
      </p:sp>
      <p:sp>
        <p:nvSpPr>
          <p:cNvPr id="242" name="PlaceHolder 2"/>
          <p:cNvSpPr>
            <a:spLocks noGrp="1"/>
          </p:cNvSpPr>
          <p:nvPr>
            <p:ph/>
          </p:nvPr>
        </p:nvSpPr>
        <p:spPr>
          <a:xfrm>
            <a:off x="923760" y="17575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eheim reference architecture applies part -whole decomposition to the monolithic 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43" name=""/>
          <p:cNvGrpSpPr/>
          <p:nvPr/>
        </p:nvGrpSpPr>
        <p:grpSpPr>
          <a:xfrm>
            <a:off x="2919240" y="2813040"/>
            <a:ext cx="3645000" cy="3460680"/>
            <a:chOff x="2919240" y="2813040"/>
            <a:chExt cx="3645000" cy="3460680"/>
          </a:xfrm>
        </p:grpSpPr>
        <p:sp>
          <p:nvSpPr>
            <p:cNvPr id="244" name=""/>
            <p:cNvSpPr/>
            <p:nvPr/>
          </p:nvSpPr>
          <p:spPr>
            <a:xfrm>
              <a:off x="2919240" y="281304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9240" y="412416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19240" y="5442120"/>
              <a:ext cx="3645000" cy="8316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791160" y="309096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48" name=""/>
            <p:cNvSpPr/>
            <p:nvPr/>
          </p:nvSpPr>
          <p:spPr>
            <a:xfrm>
              <a:off x="3981600" y="440208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49" name=""/>
            <p:cNvSpPr/>
            <p:nvPr/>
          </p:nvSpPr>
          <p:spPr>
            <a:xfrm>
              <a:off x="3870000" y="571356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50" name=""/>
            <p:cNvSpPr/>
            <p:nvPr/>
          </p:nvSpPr>
          <p:spPr>
            <a:xfrm>
              <a:off x="4735440" y="369108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35440" y="499752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usefulness of unit operations and list six types of these oper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each type of unit operation in terms of their effects on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how unit operations may be used to create new architectural styles an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evolution of the human computer interaction reference architectures in terms of unit oper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Seeheim</a:t>
            </a:r>
            <a:endParaRPr b="0" lang="en-US" sz="3600" spc="-1" strike="noStrike">
              <a:solidFill>
                <a:srgbClr val="ffffff"/>
              </a:solidFill>
              <a:latin typeface="Century Schoolbook"/>
            </a:endParaRPr>
          </a:p>
        </p:txBody>
      </p:sp>
      <p:sp>
        <p:nvSpPr>
          <p:cNvPr id="253" name="PlaceHolder 2"/>
          <p:cNvSpPr>
            <a:spLocks noGrp="1"/>
          </p:cNvSpPr>
          <p:nvPr>
            <p:ph/>
          </p:nvPr>
        </p:nvSpPr>
        <p:spPr>
          <a:xfrm>
            <a:off x="923400" y="1782360"/>
            <a:ext cx="7301160" cy="83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mpression to ameliorate performance problems</a:t>
            </a:r>
            <a:endParaRPr b="1" lang="en-US" sz="2400" spc="-1" strike="noStrike">
              <a:solidFill>
                <a:srgbClr val="ffffff"/>
              </a:solidFill>
              <a:latin typeface="Arial"/>
            </a:endParaRPr>
          </a:p>
        </p:txBody>
      </p:sp>
      <p:sp>
        <p:nvSpPr>
          <p:cNvPr id="254" name=""/>
          <p:cNvSpPr/>
          <p:nvPr/>
        </p:nvSpPr>
        <p:spPr>
          <a:xfrm>
            <a:off x="6448320" y="305748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451560" y="572436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83560" y="3060720"/>
            <a:ext cx="0" cy="266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 name=""/>
          <p:cNvGrpSpPr/>
          <p:nvPr/>
        </p:nvGrpSpPr>
        <p:grpSpPr>
          <a:xfrm>
            <a:off x="2779560" y="2673360"/>
            <a:ext cx="3645000" cy="3460680"/>
            <a:chOff x="2779560" y="2673360"/>
            <a:chExt cx="3645000" cy="3460680"/>
          </a:xfrm>
        </p:grpSpPr>
        <p:sp>
          <p:nvSpPr>
            <p:cNvPr id="258" name=""/>
            <p:cNvSpPr/>
            <p:nvPr/>
          </p:nvSpPr>
          <p:spPr>
            <a:xfrm>
              <a:off x="2779560" y="267336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779560" y="398448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779560" y="5302080"/>
              <a:ext cx="3645000" cy="8319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651480" y="295128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62" name=""/>
            <p:cNvSpPr/>
            <p:nvPr/>
          </p:nvSpPr>
          <p:spPr>
            <a:xfrm>
              <a:off x="3841920" y="426240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63" name=""/>
            <p:cNvSpPr/>
            <p:nvPr/>
          </p:nvSpPr>
          <p:spPr>
            <a:xfrm>
              <a:off x="3730320" y="557388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64" name=""/>
            <p:cNvSpPr/>
            <p:nvPr/>
          </p:nvSpPr>
          <p:spPr>
            <a:xfrm>
              <a:off x="4595760" y="355140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95760" y="485784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Seeheim Reference Architectur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49320" y="2196720"/>
            <a:ext cx="7300800" cy="419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presentation function supports port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application layer allows modification of function without affecting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dialogue allows modifications to user interaction without rewriting the pres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48960" y="842760"/>
            <a:ext cx="7839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Seeheim Reference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184480"/>
            <a:ext cx="767412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difications affect all three func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performance problems with sophisticated semantic feedback (which result in the need for compres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the architecture leads to separate notations for dialogue, presentation, and application layer; this is cumberso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27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72" name=""/>
          <p:cNvSpPr/>
          <p:nvPr/>
        </p:nvSpPr>
        <p:spPr>
          <a:xfrm>
            <a:off x="73609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73" name=""/>
          <p:cNvSpPr/>
          <p:nvPr/>
        </p:nvSpPr>
        <p:spPr>
          <a:xfrm>
            <a:off x="3068640" y="39877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VC</a:t>
            </a:r>
            <a:endParaRPr b="0" lang="en-US" sz="2400" spc="-1" strike="noStrike">
              <a:solidFill>
                <a:srgbClr val="ffffff"/>
              </a:solidFill>
              <a:latin typeface="Times New Roman"/>
            </a:endParaRPr>
          </a:p>
        </p:txBody>
      </p:sp>
      <p:sp>
        <p:nvSpPr>
          <p:cNvPr id="274" name=""/>
          <p:cNvSpPr/>
          <p:nvPr/>
        </p:nvSpPr>
        <p:spPr>
          <a:xfrm>
            <a:off x="554868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75" name=""/>
          <p:cNvSpPr/>
          <p:nvPr/>
        </p:nvSpPr>
        <p:spPr>
          <a:xfrm>
            <a:off x="29296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276" name=""/>
          <p:cNvSpPr/>
          <p:nvPr/>
        </p:nvSpPr>
        <p:spPr>
          <a:xfrm>
            <a:off x="54442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77" name=""/>
          <p:cNvSpPr/>
          <p:nvPr/>
        </p:nvSpPr>
        <p:spPr>
          <a:xfrm flipV="1">
            <a:off x="2019240" y="2971440"/>
            <a:ext cx="96516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44800" y="3822840"/>
            <a:ext cx="1079280" cy="317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4973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0" name=""/>
          <p:cNvSpPr/>
          <p:nvPr/>
        </p:nvSpPr>
        <p:spPr>
          <a:xfrm>
            <a:off x="24847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1" name=""/>
          <p:cNvSpPr/>
          <p:nvPr/>
        </p:nvSpPr>
        <p:spPr>
          <a:xfrm>
            <a:off x="411948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9880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7372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626112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17564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86" name=""/>
          <p:cNvSpPr/>
          <p:nvPr/>
        </p:nvSpPr>
        <p:spPr>
          <a:xfrm>
            <a:off x="44596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87" name=""/>
          <p:cNvGraphicFramePr/>
          <p:nvPr/>
        </p:nvGraphicFramePr>
        <p:xfrm>
          <a:off x="7918560" y="50760"/>
          <a:ext cx="1158840" cy="1282680"/>
        </p:xfrm>
        <a:graphic>
          <a:graphicData uri="http://schemas.openxmlformats.org/presentationml/2006/ole">
            <p:oleObj r:id="rId1" spid="">
              <p:embed/>
              <p:pic>
                <p:nvPicPr>
                  <p:cNvPr id="28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1 </a:t>
            </a:r>
            <a:endParaRPr b="0" lang="en-US" sz="3600" spc="-1" strike="noStrike">
              <a:solidFill>
                <a:srgbClr val="ffffff"/>
              </a:solidFill>
              <a:latin typeface="Century Schoolbook"/>
            </a:endParaRPr>
          </a:p>
        </p:txBody>
      </p:sp>
      <p:sp>
        <p:nvSpPr>
          <p:cNvPr id="29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VC paradigm applies part-whole decomposition to portions of the monolithic </a:t>
            </a:r>
            <a:br>
              <a:rPr sz="2400"/>
            </a:br>
            <a:r>
              <a:rPr b="1" lang="en-US" sz="2400" spc="-1" strike="noStrike">
                <a:solidFill>
                  <a:srgbClr val="ffffff"/>
                </a:solidFill>
                <a:latin typeface="Arial"/>
              </a:rPr>
              <a:t>reference architecture.  </a:t>
            </a:r>
            <a:endParaRPr b="1" lang="en-US" sz="2400" spc="-1" strike="noStrike">
              <a:solidFill>
                <a:srgbClr val="ffffff"/>
              </a:solidFill>
              <a:latin typeface="Arial"/>
            </a:endParaRPr>
          </a:p>
        </p:txBody>
      </p:sp>
      <p:grpSp>
        <p:nvGrpSpPr>
          <p:cNvPr id="291" name=""/>
          <p:cNvGrpSpPr/>
          <p:nvPr/>
        </p:nvGrpSpPr>
        <p:grpSpPr>
          <a:xfrm>
            <a:off x="396720" y="3247920"/>
            <a:ext cx="8423280" cy="1235160"/>
            <a:chOff x="396720" y="3247920"/>
            <a:chExt cx="8423280" cy="1235160"/>
          </a:xfrm>
        </p:grpSpPr>
        <p:grpSp>
          <p:nvGrpSpPr>
            <p:cNvPr id="292" name=""/>
            <p:cNvGrpSpPr/>
            <p:nvPr/>
          </p:nvGrpSpPr>
          <p:grpSpPr>
            <a:xfrm>
              <a:off x="5737320" y="3836880"/>
              <a:ext cx="360360" cy="57240"/>
              <a:chOff x="5737320" y="3836880"/>
              <a:chExt cx="360360" cy="57240"/>
            </a:xfrm>
          </p:grpSpPr>
          <p:sp>
            <p:nvSpPr>
              <p:cNvPr id="293" name=""/>
              <p:cNvSpPr/>
              <p:nvPr/>
            </p:nvSpPr>
            <p:spPr>
              <a:xfrm>
                <a:off x="573732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4" name=""/>
              <p:cNvSpPr/>
              <p:nvPr/>
            </p:nvSpPr>
            <p:spPr>
              <a:xfrm>
                <a:off x="588960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5" name=""/>
              <p:cNvSpPr/>
              <p:nvPr/>
            </p:nvSpPr>
            <p:spPr>
              <a:xfrm>
                <a:off x="6041880" y="3836880"/>
                <a:ext cx="5580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96" name=""/>
            <p:cNvGrpSpPr/>
            <p:nvPr/>
          </p:nvGrpSpPr>
          <p:grpSpPr>
            <a:xfrm>
              <a:off x="396720" y="3247920"/>
              <a:ext cx="2543400" cy="1235160"/>
              <a:chOff x="396720" y="3247920"/>
              <a:chExt cx="2543400" cy="1235160"/>
            </a:xfrm>
          </p:grpSpPr>
          <p:sp>
            <p:nvSpPr>
              <p:cNvPr id="297" name=""/>
              <p:cNvSpPr/>
              <p:nvPr/>
            </p:nvSpPr>
            <p:spPr>
              <a:xfrm>
                <a:off x="396720" y="3247920"/>
                <a:ext cx="254340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264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299" name=""/>
            <p:cNvGrpSpPr/>
            <p:nvPr/>
          </p:nvGrpSpPr>
          <p:grpSpPr>
            <a:xfrm>
              <a:off x="3025800" y="3247920"/>
              <a:ext cx="2543040" cy="1235160"/>
              <a:chOff x="3025800" y="3247920"/>
              <a:chExt cx="2543040" cy="1235160"/>
            </a:xfrm>
          </p:grpSpPr>
          <p:sp>
            <p:nvSpPr>
              <p:cNvPr id="300" name=""/>
              <p:cNvSpPr/>
              <p:nvPr/>
            </p:nvSpPr>
            <p:spPr>
              <a:xfrm>
                <a:off x="302580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11360" y="3365640"/>
                <a:ext cx="17719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302" name=""/>
            <p:cNvGrpSpPr/>
            <p:nvPr/>
          </p:nvGrpSpPr>
          <p:grpSpPr>
            <a:xfrm>
              <a:off x="6276960" y="3247920"/>
              <a:ext cx="2543040" cy="1235160"/>
              <a:chOff x="6276960" y="3247920"/>
              <a:chExt cx="2543040" cy="1235160"/>
            </a:xfrm>
          </p:grpSpPr>
          <p:sp>
            <p:nvSpPr>
              <p:cNvPr id="303" name=""/>
              <p:cNvSpPr/>
              <p:nvPr/>
            </p:nvSpPr>
            <p:spPr>
              <a:xfrm>
                <a:off x="627696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6288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2</a:t>
            </a:r>
            <a:endParaRPr b="0" lang="en-US" sz="3600" spc="-1" strike="noStrike">
              <a:solidFill>
                <a:srgbClr val="ffffff"/>
              </a:solidFill>
              <a:latin typeface="Century Schoolbook"/>
            </a:endParaRPr>
          </a:p>
        </p:txBody>
      </p:sp>
      <p:sp>
        <p:nvSpPr>
          <p:cNvPr id="30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input = “control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alogue application =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application not 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7" name=""/>
          <p:cNvGrpSpPr/>
          <p:nvPr/>
        </p:nvGrpSpPr>
        <p:grpSpPr>
          <a:xfrm>
            <a:off x="3660840" y="4314960"/>
            <a:ext cx="1976400" cy="1522440"/>
            <a:chOff x="3660840" y="4314960"/>
            <a:chExt cx="1976400" cy="1522440"/>
          </a:xfrm>
        </p:grpSpPr>
        <p:sp>
          <p:nvSpPr>
            <p:cNvPr id="308" name=""/>
            <p:cNvSpPr/>
            <p:nvPr/>
          </p:nvSpPr>
          <p:spPr>
            <a:xfrm>
              <a:off x="3745080" y="5224320"/>
              <a:ext cx="1787400" cy="61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90800" y="5262480"/>
              <a:ext cx="1703520" cy="53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066560" y="5276880"/>
              <a:ext cx="1157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alogu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a:t>
              </a:r>
              <a:endParaRPr b="0" lang="en-US" sz="1600" spc="-1" strike="noStrike">
                <a:solidFill>
                  <a:srgbClr val="ffffff"/>
                </a:solidFill>
                <a:latin typeface="Times New Roman"/>
              </a:endParaRPr>
            </a:p>
          </p:txBody>
        </p:sp>
        <p:sp>
          <p:nvSpPr>
            <p:cNvPr id="311" name=""/>
            <p:cNvSpPr/>
            <p:nvPr/>
          </p:nvSpPr>
          <p:spPr>
            <a:xfrm>
              <a:off x="3660840" y="4316400"/>
              <a:ext cx="961920" cy="46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93960" y="4346640"/>
              <a:ext cx="897120" cy="401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827520" y="4410000"/>
              <a:ext cx="6361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a:t>
              </a:r>
              <a:endParaRPr b="0" lang="en-US" sz="1600" spc="-1" strike="noStrike">
                <a:solidFill>
                  <a:srgbClr val="ffffff"/>
                </a:solidFill>
                <a:latin typeface="Times New Roman"/>
              </a:endParaRPr>
            </a:p>
          </p:txBody>
        </p:sp>
        <p:sp>
          <p:nvSpPr>
            <p:cNvPr id="314" name=""/>
            <p:cNvSpPr/>
            <p:nvPr/>
          </p:nvSpPr>
          <p:spPr>
            <a:xfrm>
              <a:off x="4772160" y="4417920"/>
              <a:ext cx="793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a:t>
              </a:r>
              <a:endParaRPr b="0" lang="en-US" sz="1600" spc="-1" strike="noStrike">
                <a:solidFill>
                  <a:srgbClr val="ffffff"/>
                </a:solidFill>
                <a:latin typeface="Times New Roman"/>
              </a:endParaRPr>
            </a:p>
          </p:txBody>
        </p:sp>
        <p:sp>
          <p:nvSpPr>
            <p:cNvPr id="315" name=""/>
            <p:cNvSpPr/>
            <p:nvPr/>
          </p:nvSpPr>
          <p:spPr>
            <a:xfrm>
              <a:off x="4675320" y="4314960"/>
              <a:ext cx="961920" cy="46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708440" y="4344840"/>
              <a:ext cx="897120" cy="401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162320" y="4797360"/>
              <a:ext cx="12960" cy="416160"/>
              <a:chOff x="4162320" y="4797360"/>
              <a:chExt cx="12960" cy="416160"/>
            </a:xfrm>
          </p:grpSpPr>
          <p:sp>
            <p:nvSpPr>
              <p:cNvPr id="318" name=""/>
              <p:cNvSpPr/>
              <p:nvPr/>
            </p:nvSpPr>
            <p:spPr>
              <a:xfrm>
                <a:off x="416232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752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5114880" y="4797360"/>
              <a:ext cx="12600" cy="416160"/>
              <a:chOff x="5114880" y="4797360"/>
              <a:chExt cx="12600" cy="416160"/>
            </a:xfrm>
          </p:grpSpPr>
          <p:sp>
            <p:nvSpPr>
              <p:cNvPr id="321" name=""/>
              <p:cNvSpPr/>
              <p:nvPr/>
            </p:nvSpPr>
            <p:spPr>
              <a:xfrm>
                <a:off x="511488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274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MVC</a:t>
            </a:r>
            <a:endParaRPr b="0" lang="en-US" sz="3600" spc="-1" strike="noStrike">
              <a:solidFill>
                <a:srgbClr val="ffffff"/>
              </a:solidFill>
              <a:latin typeface="Century Schoolbook"/>
            </a:endParaRPr>
          </a:p>
        </p:txBody>
      </p:sp>
      <p:sp>
        <p:nvSpPr>
          <p:cNvPr id="3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promo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modification of objects and their pres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t the object leve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to describe whole application (e.g., Smalltal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MVC</a:t>
            </a:r>
            <a:endParaRPr b="0" lang="en-US" sz="3600" spc="-1" strike="noStrike">
              <a:solidFill>
                <a:srgbClr val="ffffff"/>
              </a:solidFill>
              <a:latin typeface="Century Schoolbook"/>
            </a:endParaRPr>
          </a:p>
        </p:txBody>
      </p:sp>
      <p:sp>
        <p:nvSpPr>
          <p:cNvPr id="3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cumbersome to reuse widgets acros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is the responsibility of individual objects, rather than a system function.  This is typically fixed by using laye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ons involving presentations from multiple objects are difficult to coordinate (e.g., it is difficult to stretch a line that connects two boxes as one box is move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328"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329" name=""/>
          <p:cNvSpPr/>
          <p:nvPr/>
        </p:nvSpPr>
        <p:spPr>
          <a:xfrm>
            <a:off x="73357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330" name=""/>
          <p:cNvSpPr/>
          <p:nvPr/>
        </p:nvSpPr>
        <p:spPr>
          <a:xfrm>
            <a:off x="314424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331" name=""/>
          <p:cNvSpPr/>
          <p:nvPr/>
        </p:nvSpPr>
        <p:spPr>
          <a:xfrm>
            <a:off x="5448600" y="4000680"/>
            <a:ext cx="82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AC</a:t>
            </a:r>
            <a:endParaRPr b="0" lang="en-US" sz="2400" spc="-1" strike="noStrike">
              <a:solidFill>
                <a:srgbClr val="ffffff"/>
              </a:solidFill>
              <a:latin typeface="Times New Roman"/>
            </a:endParaRPr>
          </a:p>
        </p:txBody>
      </p:sp>
      <p:sp>
        <p:nvSpPr>
          <p:cNvPr id="332" name=""/>
          <p:cNvSpPr/>
          <p:nvPr/>
        </p:nvSpPr>
        <p:spPr>
          <a:xfrm>
            <a:off x="29044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333" name=""/>
          <p:cNvSpPr/>
          <p:nvPr/>
        </p:nvSpPr>
        <p:spPr>
          <a:xfrm>
            <a:off x="54190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334" name=""/>
          <p:cNvSpPr/>
          <p:nvPr/>
        </p:nvSpPr>
        <p:spPr>
          <a:xfrm flipV="1">
            <a:off x="2006640" y="2971800"/>
            <a:ext cx="95256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095560" y="3848040"/>
            <a:ext cx="1003320" cy="292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7176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7" name=""/>
          <p:cNvSpPr/>
          <p:nvPr/>
        </p:nvSpPr>
        <p:spPr>
          <a:xfrm>
            <a:off x="245916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8" name=""/>
          <p:cNvSpPr/>
          <p:nvPr/>
        </p:nvSpPr>
        <p:spPr>
          <a:xfrm>
            <a:off x="4094280" y="2933640"/>
            <a:ext cx="13665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24852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623556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5008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343" name=""/>
          <p:cNvSpPr/>
          <p:nvPr/>
        </p:nvSpPr>
        <p:spPr>
          <a:xfrm>
            <a:off x="44344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344" name=""/>
          <p:cNvGraphicFramePr/>
          <p:nvPr/>
        </p:nvGraphicFramePr>
        <p:xfrm>
          <a:off x="7918560" y="50760"/>
          <a:ext cx="1158840" cy="1282680"/>
        </p:xfrm>
        <a:graphic>
          <a:graphicData uri="http://schemas.openxmlformats.org/presentationml/2006/ole">
            <p:oleObj r:id="rId1" spid="">
              <p:embed/>
              <p:pic>
                <p:nvPicPr>
                  <p:cNvPr id="345"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sentation Application Control (PAC) Reference Architecture</a:t>
            </a:r>
            <a:endParaRPr b="0" lang="en-US" sz="3200" spc="-1" strike="noStrike">
              <a:solidFill>
                <a:srgbClr val="ffffff"/>
              </a:solidFill>
              <a:latin typeface="Century Schoolbook"/>
            </a:endParaRPr>
          </a:p>
        </p:txBody>
      </p:sp>
      <p:sp>
        <p:nvSpPr>
          <p:cNvPr id="347" name="PlaceHolder 2"/>
          <p:cNvSpPr>
            <a:spLocks noGrp="1"/>
          </p:cNvSpPr>
          <p:nvPr>
            <p:ph/>
          </p:nvPr>
        </p:nvSpPr>
        <p:spPr>
          <a:xfrm>
            <a:off x="936720" y="2171880"/>
            <a:ext cx="7813440" cy="414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 within a PAC ag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 to hierarchically decompose ag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826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it operation is a codification of design operations that can be applied directly to an architecture.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 Reference Architecture</a:t>
            </a:r>
            <a:endParaRPr b="0" lang="en-US" sz="3600" spc="-1" strike="noStrike">
              <a:solidFill>
                <a:srgbClr val="ffffff"/>
              </a:solidFill>
              <a:latin typeface="Century Schoolbook"/>
            </a:endParaRPr>
          </a:p>
        </p:txBody>
      </p:sp>
      <p:grpSp>
        <p:nvGrpSpPr>
          <p:cNvPr id="349" name=""/>
          <p:cNvGrpSpPr/>
          <p:nvPr/>
        </p:nvGrpSpPr>
        <p:grpSpPr>
          <a:xfrm>
            <a:off x="2602080" y="1449360"/>
            <a:ext cx="3989160" cy="4507560"/>
            <a:chOff x="2602080" y="1449360"/>
            <a:chExt cx="3989160" cy="4507560"/>
          </a:xfrm>
        </p:grpSpPr>
        <p:grpSp>
          <p:nvGrpSpPr>
            <p:cNvPr id="350" name=""/>
            <p:cNvGrpSpPr/>
            <p:nvPr/>
          </p:nvGrpSpPr>
          <p:grpSpPr>
            <a:xfrm>
              <a:off x="4086360" y="3755880"/>
              <a:ext cx="993600" cy="853200"/>
              <a:chOff x="4086360" y="3755880"/>
              <a:chExt cx="993600" cy="853200"/>
            </a:xfrm>
          </p:grpSpPr>
          <p:grpSp>
            <p:nvGrpSpPr>
              <p:cNvPr id="351" name=""/>
              <p:cNvGrpSpPr/>
              <p:nvPr/>
            </p:nvGrpSpPr>
            <p:grpSpPr>
              <a:xfrm>
                <a:off x="4086360" y="3755880"/>
                <a:ext cx="977760" cy="307080"/>
                <a:chOff x="4086360" y="3755880"/>
                <a:chExt cx="977760" cy="307080"/>
              </a:xfrm>
            </p:grpSpPr>
            <p:grpSp>
              <p:nvGrpSpPr>
                <p:cNvPr id="352" name=""/>
                <p:cNvGrpSpPr/>
                <p:nvPr/>
              </p:nvGrpSpPr>
              <p:grpSpPr>
                <a:xfrm>
                  <a:off x="4086360" y="3755880"/>
                  <a:ext cx="439560" cy="303840"/>
                  <a:chOff x="4086360" y="3755880"/>
                  <a:chExt cx="439560" cy="303840"/>
                </a:xfrm>
              </p:grpSpPr>
              <p:sp>
                <p:nvSpPr>
                  <p:cNvPr id="353" name=""/>
                  <p:cNvSpPr/>
                  <p:nvPr/>
                </p:nvSpPr>
                <p:spPr>
                  <a:xfrm>
                    <a:off x="4086360" y="378936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21280" y="381780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136400" y="375588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56" name=""/>
                <p:cNvGrpSpPr/>
                <p:nvPr/>
              </p:nvGrpSpPr>
              <p:grpSpPr>
                <a:xfrm>
                  <a:off x="4624560" y="3759120"/>
                  <a:ext cx="439560" cy="303840"/>
                  <a:chOff x="4624560" y="3759120"/>
                  <a:chExt cx="439560" cy="303840"/>
                </a:xfrm>
              </p:grpSpPr>
              <p:sp>
                <p:nvSpPr>
                  <p:cNvPr id="357" name=""/>
                  <p:cNvSpPr/>
                  <p:nvPr/>
                </p:nvSpPr>
                <p:spPr>
                  <a:xfrm>
                    <a:off x="4624560" y="37908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659480" y="3821040"/>
                    <a:ext cx="3711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676040" y="37591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60" name=""/>
              <p:cNvSpPr/>
              <p:nvPr/>
            </p:nvSpPr>
            <p:spPr>
              <a:xfrm>
                <a:off x="4087800" y="433404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122720" y="436572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403160" y="430524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63" name=""/>
              <p:cNvGrpSpPr/>
              <p:nvPr/>
            </p:nvGrpSpPr>
            <p:grpSpPr>
              <a:xfrm>
                <a:off x="4313160" y="4010040"/>
                <a:ext cx="17640" cy="315720"/>
                <a:chOff x="4313160" y="4010040"/>
                <a:chExt cx="17640" cy="315720"/>
              </a:xfrm>
            </p:grpSpPr>
            <p:sp>
              <p:nvSpPr>
                <p:cNvPr id="364" name=""/>
                <p:cNvSpPr/>
                <p:nvPr/>
              </p:nvSpPr>
              <p:spPr>
                <a:xfrm>
                  <a:off x="431316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3080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4842000" y="4010040"/>
                <a:ext cx="17280" cy="315720"/>
                <a:chOff x="4842000" y="4010040"/>
                <a:chExt cx="17280" cy="315720"/>
              </a:xfrm>
            </p:grpSpPr>
            <p:sp>
              <p:nvSpPr>
                <p:cNvPr id="367" name=""/>
                <p:cNvSpPr/>
                <p:nvPr/>
              </p:nvSpPr>
              <p:spPr>
                <a:xfrm>
                  <a:off x="484200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85928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69" name=""/>
            <p:cNvGrpSpPr/>
            <p:nvPr/>
          </p:nvGrpSpPr>
          <p:grpSpPr>
            <a:xfrm>
              <a:off x="5597640" y="2714760"/>
              <a:ext cx="993600" cy="852840"/>
              <a:chOff x="5597640" y="2714760"/>
              <a:chExt cx="993600" cy="852840"/>
            </a:xfrm>
          </p:grpSpPr>
          <p:grpSp>
            <p:nvGrpSpPr>
              <p:cNvPr id="370" name=""/>
              <p:cNvGrpSpPr/>
              <p:nvPr/>
            </p:nvGrpSpPr>
            <p:grpSpPr>
              <a:xfrm>
                <a:off x="5597640" y="2714760"/>
                <a:ext cx="977760" cy="305280"/>
                <a:chOff x="5597640" y="2714760"/>
                <a:chExt cx="977760" cy="305280"/>
              </a:xfrm>
            </p:grpSpPr>
            <p:grpSp>
              <p:nvGrpSpPr>
                <p:cNvPr id="371" name=""/>
                <p:cNvGrpSpPr/>
                <p:nvPr/>
              </p:nvGrpSpPr>
              <p:grpSpPr>
                <a:xfrm>
                  <a:off x="5597640" y="2714760"/>
                  <a:ext cx="438120" cy="303840"/>
                  <a:chOff x="5597640" y="2714760"/>
                  <a:chExt cx="438120" cy="303840"/>
                </a:xfrm>
              </p:grpSpPr>
              <p:sp>
                <p:nvSpPr>
                  <p:cNvPr id="372" name=""/>
                  <p:cNvSpPr/>
                  <p:nvPr/>
                </p:nvSpPr>
                <p:spPr>
                  <a:xfrm>
                    <a:off x="5597640" y="2747880"/>
                    <a:ext cx="43812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632560" y="2776680"/>
                    <a:ext cx="3697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64768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75" name=""/>
                <p:cNvGrpSpPr/>
                <p:nvPr/>
              </p:nvGrpSpPr>
              <p:grpSpPr>
                <a:xfrm>
                  <a:off x="6135840" y="2716200"/>
                  <a:ext cx="439560" cy="303840"/>
                  <a:chOff x="6135840" y="2716200"/>
                  <a:chExt cx="439560" cy="303840"/>
                </a:xfrm>
              </p:grpSpPr>
              <p:sp>
                <p:nvSpPr>
                  <p:cNvPr id="376" name=""/>
                  <p:cNvSpPr/>
                  <p:nvPr/>
                </p:nvSpPr>
                <p:spPr>
                  <a:xfrm>
                    <a:off x="6135840" y="274968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170760" y="277812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18588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79" name=""/>
              <p:cNvSpPr/>
              <p:nvPr/>
            </p:nvSpPr>
            <p:spPr>
              <a:xfrm>
                <a:off x="559908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634000" y="3322800"/>
                <a:ext cx="92556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1444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82" name=""/>
              <p:cNvGrpSpPr/>
              <p:nvPr/>
            </p:nvGrpSpPr>
            <p:grpSpPr>
              <a:xfrm>
                <a:off x="5823000" y="2968560"/>
                <a:ext cx="19080" cy="316080"/>
                <a:chOff x="5823000" y="2968560"/>
                <a:chExt cx="19080" cy="316080"/>
              </a:xfrm>
            </p:grpSpPr>
            <p:sp>
              <p:nvSpPr>
                <p:cNvPr id="383" name=""/>
                <p:cNvSpPr/>
                <p:nvPr/>
              </p:nvSpPr>
              <p:spPr>
                <a:xfrm>
                  <a:off x="582300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84208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 name=""/>
              <p:cNvGrpSpPr/>
              <p:nvPr/>
            </p:nvGrpSpPr>
            <p:grpSpPr>
              <a:xfrm>
                <a:off x="6351480" y="2968560"/>
                <a:ext cx="19080" cy="316080"/>
                <a:chOff x="6351480" y="2968560"/>
                <a:chExt cx="19080" cy="316080"/>
              </a:xfrm>
            </p:grpSpPr>
            <p:sp>
              <p:nvSpPr>
                <p:cNvPr id="386" name=""/>
                <p:cNvSpPr/>
                <p:nvPr/>
              </p:nvSpPr>
              <p:spPr>
                <a:xfrm>
                  <a:off x="63514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3705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2602080" y="2714760"/>
              <a:ext cx="993600" cy="852840"/>
              <a:chOff x="2602080" y="2714760"/>
              <a:chExt cx="993600" cy="852840"/>
            </a:xfrm>
          </p:grpSpPr>
          <p:grpSp>
            <p:nvGrpSpPr>
              <p:cNvPr id="389" name=""/>
              <p:cNvGrpSpPr/>
              <p:nvPr/>
            </p:nvGrpSpPr>
            <p:grpSpPr>
              <a:xfrm>
                <a:off x="2602080" y="2714760"/>
                <a:ext cx="977760" cy="305280"/>
                <a:chOff x="2602080" y="2714760"/>
                <a:chExt cx="977760" cy="305280"/>
              </a:xfrm>
            </p:grpSpPr>
            <p:grpSp>
              <p:nvGrpSpPr>
                <p:cNvPr id="390" name=""/>
                <p:cNvGrpSpPr/>
                <p:nvPr/>
              </p:nvGrpSpPr>
              <p:grpSpPr>
                <a:xfrm>
                  <a:off x="2602080" y="2714760"/>
                  <a:ext cx="439560" cy="303840"/>
                  <a:chOff x="2602080" y="2714760"/>
                  <a:chExt cx="439560" cy="303840"/>
                </a:xfrm>
              </p:grpSpPr>
              <p:sp>
                <p:nvSpPr>
                  <p:cNvPr id="391" name=""/>
                  <p:cNvSpPr/>
                  <p:nvPr/>
                </p:nvSpPr>
                <p:spPr>
                  <a:xfrm>
                    <a:off x="2602080" y="2747880"/>
                    <a:ext cx="43956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637000" y="277668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5212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94" name=""/>
                <p:cNvGrpSpPr/>
                <p:nvPr/>
              </p:nvGrpSpPr>
              <p:grpSpPr>
                <a:xfrm>
                  <a:off x="3139920" y="2716200"/>
                  <a:ext cx="439920" cy="303840"/>
                  <a:chOff x="3139920" y="2716200"/>
                  <a:chExt cx="439920" cy="303840"/>
                </a:xfrm>
              </p:grpSpPr>
              <p:sp>
                <p:nvSpPr>
                  <p:cNvPr id="395" name=""/>
                  <p:cNvSpPr/>
                  <p:nvPr/>
                </p:nvSpPr>
                <p:spPr>
                  <a:xfrm>
                    <a:off x="3139920" y="27496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74840" y="27781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9176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98" name=""/>
              <p:cNvSpPr/>
              <p:nvPr/>
            </p:nvSpPr>
            <p:spPr>
              <a:xfrm>
                <a:off x="260352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638440" y="3322800"/>
                <a:ext cx="92700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1888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01" name=""/>
              <p:cNvGrpSpPr/>
              <p:nvPr/>
            </p:nvGrpSpPr>
            <p:grpSpPr>
              <a:xfrm>
                <a:off x="2828880" y="2968560"/>
                <a:ext cx="19080" cy="316080"/>
                <a:chOff x="2828880" y="2968560"/>
                <a:chExt cx="19080" cy="316080"/>
              </a:xfrm>
            </p:grpSpPr>
            <p:sp>
              <p:nvSpPr>
                <p:cNvPr id="402" name=""/>
                <p:cNvSpPr/>
                <p:nvPr/>
              </p:nvSpPr>
              <p:spPr>
                <a:xfrm>
                  <a:off x="28288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8479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3357720" y="2968560"/>
                <a:ext cx="17280" cy="316080"/>
                <a:chOff x="3357720" y="2968560"/>
                <a:chExt cx="17280" cy="316080"/>
              </a:xfrm>
            </p:grpSpPr>
            <p:sp>
              <p:nvSpPr>
                <p:cNvPr id="405" name=""/>
                <p:cNvSpPr/>
                <p:nvPr/>
              </p:nvSpPr>
              <p:spPr>
                <a:xfrm>
                  <a:off x="335772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37500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7" name=""/>
            <p:cNvGrpSpPr/>
            <p:nvPr/>
          </p:nvGrpSpPr>
          <p:grpSpPr>
            <a:xfrm>
              <a:off x="4092480" y="1449360"/>
              <a:ext cx="993960" cy="853200"/>
              <a:chOff x="4092480" y="1449360"/>
              <a:chExt cx="993960" cy="853200"/>
            </a:xfrm>
          </p:grpSpPr>
          <p:grpSp>
            <p:nvGrpSpPr>
              <p:cNvPr id="408" name=""/>
              <p:cNvGrpSpPr/>
              <p:nvPr/>
            </p:nvGrpSpPr>
            <p:grpSpPr>
              <a:xfrm>
                <a:off x="4092480" y="1449360"/>
                <a:ext cx="978120" cy="305280"/>
                <a:chOff x="4092480" y="1449360"/>
                <a:chExt cx="978120" cy="305280"/>
              </a:xfrm>
            </p:grpSpPr>
            <p:grpSp>
              <p:nvGrpSpPr>
                <p:cNvPr id="409" name=""/>
                <p:cNvGrpSpPr/>
                <p:nvPr/>
              </p:nvGrpSpPr>
              <p:grpSpPr>
                <a:xfrm>
                  <a:off x="4092480" y="1449360"/>
                  <a:ext cx="438120" cy="303840"/>
                  <a:chOff x="4092480" y="1449360"/>
                  <a:chExt cx="438120" cy="303840"/>
                </a:xfrm>
              </p:grpSpPr>
              <p:sp>
                <p:nvSpPr>
                  <p:cNvPr id="410" name=""/>
                  <p:cNvSpPr/>
                  <p:nvPr/>
                </p:nvSpPr>
                <p:spPr>
                  <a:xfrm>
                    <a:off x="4092480" y="148284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127400" y="151128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42520" y="14493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13" name=""/>
                <p:cNvGrpSpPr/>
                <p:nvPr/>
              </p:nvGrpSpPr>
              <p:grpSpPr>
                <a:xfrm>
                  <a:off x="4630680" y="1450800"/>
                  <a:ext cx="439920" cy="303840"/>
                  <a:chOff x="4630680" y="1450800"/>
                  <a:chExt cx="439920" cy="303840"/>
                </a:xfrm>
              </p:grpSpPr>
              <p:sp>
                <p:nvSpPr>
                  <p:cNvPr id="414" name=""/>
                  <p:cNvSpPr/>
                  <p:nvPr/>
                </p:nvSpPr>
                <p:spPr>
                  <a:xfrm>
                    <a:off x="4630680" y="14842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665600" y="15127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80720" y="14508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17" name=""/>
              <p:cNvSpPr/>
              <p:nvPr/>
            </p:nvSpPr>
            <p:spPr>
              <a:xfrm>
                <a:off x="4094280" y="202716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129200" y="205884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409640" y="199872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20" name=""/>
              <p:cNvGrpSpPr/>
              <p:nvPr/>
            </p:nvGrpSpPr>
            <p:grpSpPr>
              <a:xfrm>
                <a:off x="4319640" y="1703520"/>
                <a:ext cx="17280" cy="315720"/>
                <a:chOff x="4319640" y="1703520"/>
                <a:chExt cx="17280" cy="315720"/>
              </a:xfrm>
            </p:grpSpPr>
            <p:sp>
              <p:nvSpPr>
                <p:cNvPr id="421" name=""/>
                <p:cNvSpPr/>
                <p:nvPr/>
              </p:nvSpPr>
              <p:spPr>
                <a:xfrm>
                  <a:off x="431964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33692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4846680" y="1703520"/>
                <a:ext cx="19080" cy="315720"/>
                <a:chOff x="4846680" y="1703520"/>
                <a:chExt cx="19080" cy="315720"/>
              </a:xfrm>
            </p:grpSpPr>
            <p:sp>
              <p:nvSpPr>
                <p:cNvPr id="424" name=""/>
                <p:cNvSpPr/>
                <p:nvPr/>
              </p:nvSpPr>
              <p:spPr>
                <a:xfrm>
                  <a:off x="484668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6576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3179880" y="2293560"/>
              <a:ext cx="1301760" cy="322200"/>
              <a:chOff x="3179880" y="2293560"/>
              <a:chExt cx="1301760" cy="322200"/>
            </a:xfrm>
          </p:grpSpPr>
          <p:sp>
            <p:nvSpPr>
              <p:cNvPr id="427" name=""/>
              <p:cNvSpPr/>
              <p:nvPr/>
            </p:nvSpPr>
            <p:spPr>
              <a:xfrm flipV="1">
                <a:off x="3179880" y="2293560"/>
                <a:ext cx="1301760" cy="3222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279600" y="2327040"/>
                <a:ext cx="1133640" cy="284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638600" y="2303280"/>
              <a:ext cx="1247760" cy="298440"/>
              <a:chOff x="4638600" y="2303280"/>
              <a:chExt cx="1247760" cy="298440"/>
            </a:xfrm>
          </p:grpSpPr>
          <p:sp>
            <p:nvSpPr>
              <p:cNvPr id="430" name=""/>
              <p:cNvSpPr/>
              <p:nvPr/>
            </p:nvSpPr>
            <p:spPr>
              <a:xfrm flipH="1" flipV="1">
                <a:off x="4638600" y="230328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flipV="1">
                <a:off x="4702320" y="2329920"/>
                <a:ext cx="1085760" cy="265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a:off x="4575240" y="2305080"/>
              <a:ext cx="0" cy="1471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597640" y="5103720"/>
              <a:ext cx="993600" cy="853200"/>
              <a:chOff x="5597640" y="5103720"/>
              <a:chExt cx="993600" cy="853200"/>
            </a:xfrm>
          </p:grpSpPr>
          <p:grpSp>
            <p:nvGrpSpPr>
              <p:cNvPr id="434" name=""/>
              <p:cNvGrpSpPr/>
              <p:nvPr/>
            </p:nvGrpSpPr>
            <p:grpSpPr>
              <a:xfrm>
                <a:off x="5597640" y="5103720"/>
                <a:ext cx="977760" cy="305640"/>
                <a:chOff x="5597640" y="5103720"/>
                <a:chExt cx="977760" cy="305640"/>
              </a:xfrm>
            </p:grpSpPr>
            <p:grpSp>
              <p:nvGrpSpPr>
                <p:cNvPr id="435" name=""/>
                <p:cNvGrpSpPr/>
                <p:nvPr/>
              </p:nvGrpSpPr>
              <p:grpSpPr>
                <a:xfrm>
                  <a:off x="5597640" y="5103720"/>
                  <a:ext cx="438120" cy="303840"/>
                  <a:chOff x="5597640" y="5103720"/>
                  <a:chExt cx="438120" cy="303840"/>
                </a:xfrm>
              </p:grpSpPr>
              <p:sp>
                <p:nvSpPr>
                  <p:cNvPr id="436" name=""/>
                  <p:cNvSpPr/>
                  <p:nvPr/>
                </p:nvSpPr>
                <p:spPr>
                  <a:xfrm>
                    <a:off x="5597640" y="513720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632560" y="5165640"/>
                    <a:ext cx="3697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4768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39" name=""/>
                <p:cNvGrpSpPr/>
                <p:nvPr/>
              </p:nvGrpSpPr>
              <p:grpSpPr>
                <a:xfrm>
                  <a:off x="6135840" y="5105520"/>
                  <a:ext cx="439560" cy="303840"/>
                  <a:chOff x="6135840" y="5105520"/>
                  <a:chExt cx="439560" cy="303840"/>
                </a:xfrm>
              </p:grpSpPr>
              <p:sp>
                <p:nvSpPr>
                  <p:cNvPr id="440" name=""/>
                  <p:cNvSpPr/>
                  <p:nvPr/>
                </p:nvSpPr>
                <p:spPr>
                  <a:xfrm>
                    <a:off x="6135840" y="513864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70760" y="516744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18588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43" name=""/>
              <p:cNvSpPr/>
              <p:nvPr/>
            </p:nvSpPr>
            <p:spPr>
              <a:xfrm>
                <a:off x="559908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634000" y="5713560"/>
                <a:ext cx="92556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91444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46" name=""/>
              <p:cNvGrpSpPr/>
              <p:nvPr/>
            </p:nvGrpSpPr>
            <p:grpSpPr>
              <a:xfrm>
                <a:off x="5823000" y="5357880"/>
                <a:ext cx="19080" cy="315720"/>
                <a:chOff x="5823000" y="5357880"/>
                <a:chExt cx="19080" cy="315720"/>
              </a:xfrm>
            </p:grpSpPr>
            <p:sp>
              <p:nvSpPr>
                <p:cNvPr id="447" name=""/>
                <p:cNvSpPr/>
                <p:nvPr/>
              </p:nvSpPr>
              <p:spPr>
                <a:xfrm>
                  <a:off x="582300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4208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6351480" y="5357880"/>
                <a:ext cx="19080" cy="315720"/>
                <a:chOff x="6351480" y="5357880"/>
                <a:chExt cx="19080" cy="315720"/>
              </a:xfrm>
            </p:grpSpPr>
            <p:sp>
              <p:nvSpPr>
                <p:cNvPr id="450" name=""/>
                <p:cNvSpPr/>
                <p:nvPr/>
              </p:nvSpPr>
              <p:spPr>
                <a:xfrm>
                  <a:off x="63514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705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2" name=""/>
            <p:cNvGrpSpPr/>
            <p:nvPr/>
          </p:nvGrpSpPr>
          <p:grpSpPr>
            <a:xfrm>
              <a:off x="2602080" y="5103720"/>
              <a:ext cx="993600" cy="853200"/>
              <a:chOff x="2602080" y="5103720"/>
              <a:chExt cx="993600" cy="853200"/>
            </a:xfrm>
          </p:grpSpPr>
          <p:grpSp>
            <p:nvGrpSpPr>
              <p:cNvPr id="453" name=""/>
              <p:cNvGrpSpPr/>
              <p:nvPr/>
            </p:nvGrpSpPr>
            <p:grpSpPr>
              <a:xfrm>
                <a:off x="2602080" y="5103720"/>
                <a:ext cx="977760" cy="305640"/>
                <a:chOff x="2602080" y="5103720"/>
                <a:chExt cx="977760" cy="305640"/>
              </a:xfrm>
            </p:grpSpPr>
            <p:grpSp>
              <p:nvGrpSpPr>
                <p:cNvPr id="454" name=""/>
                <p:cNvGrpSpPr/>
                <p:nvPr/>
              </p:nvGrpSpPr>
              <p:grpSpPr>
                <a:xfrm>
                  <a:off x="2602080" y="5103720"/>
                  <a:ext cx="439560" cy="303840"/>
                  <a:chOff x="2602080" y="5103720"/>
                  <a:chExt cx="439560" cy="303840"/>
                </a:xfrm>
              </p:grpSpPr>
              <p:sp>
                <p:nvSpPr>
                  <p:cNvPr id="455" name=""/>
                  <p:cNvSpPr/>
                  <p:nvPr/>
                </p:nvSpPr>
                <p:spPr>
                  <a:xfrm>
                    <a:off x="2602080" y="51372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637000" y="516564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5212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58" name=""/>
                <p:cNvGrpSpPr/>
                <p:nvPr/>
              </p:nvGrpSpPr>
              <p:grpSpPr>
                <a:xfrm>
                  <a:off x="3139920" y="5105520"/>
                  <a:ext cx="439920" cy="303840"/>
                  <a:chOff x="3139920" y="5105520"/>
                  <a:chExt cx="439920" cy="303840"/>
                </a:xfrm>
              </p:grpSpPr>
              <p:sp>
                <p:nvSpPr>
                  <p:cNvPr id="459" name=""/>
                  <p:cNvSpPr/>
                  <p:nvPr/>
                </p:nvSpPr>
                <p:spPr>
                  <a:xfrm>
                    <a:off x="3139920" y="513864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174840" y="5167440"/>
                    <a:ext cx="3715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9176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62" name=""/>
              <p:cNvSpPr/>
              <p:nvPr/>
            </p:nvSpPr>
            <p:spPr>
              <a:xfrm>
                <a:off x="260352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638440" y="5713560"/>
                <a:ext cx="92700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888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65" name=""/>
              <p:cNvGrpSpPr/>
              <p:nvPr/>
            </p:nvGrpSpPr>
            <p:grpSpPr>
              <a:xfrm>
                <a:off x="2828880" y="5357880"/>
                <a:ext cx="19080" cy="315720"/>
                <a:chOff x="2828880" y="5357880"/>
                <a:chExt cx="19080" cy="315720"/>
              </a:xfrm>
            </p:grpSpPr>
            <p:sp>
              <p:nvSpPr>
                <p:cNvPr id="466" name=""/>
                <p:cNvSpPr/>
                <p:nvPr/>
              </p:nvSpPr>
              <p:spPr>
                <a:xfrm>
                  <a:off x="28288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8479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3357720" y="5357880"/>
                <a:ext cx="17280" cy="315720"/>
                <a:chOff x="3357720" y="5357880"/>
                <a:chExt cx="17280" cy="315720"/>
              </a:xfrm>
            </p:grpSpPr>
            <p:sp>
              <p:nvSpPr>
                <p:cNvPr id="469" name=""/>
                <p:cNvSpPr/>
                <p:nvPr/>
              </p:nvSpPr>
              <p:spPr>
                <a:xfrm>
                  <a:off x="335772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7500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1" name=""/>
            <p:cNvGrpSpPr/>
            <p:nvPr/>
          </p:nvGrpSpPr>
          <p:grpSpPr>
            <a:xfrm>
              <a:off x="3160800" y="4640400"/>
              <a:ext cx="1303200" cy="320400"/>
              <a:chOff x="3160800" y="4640400"/>
              <a:chExt cx="1303200" cy="320400"/>
            </a:xfrm>
          </p:grpSpPr>
          <p:sp>
            <p:nvSpPr>
              <p:cNvPr id="472" name=""/>
              <p:cNvSpPr/>
              <p:nvPr/>
            </p:nvSpPr>
            <p:spPr>
              <a:xfrm flipV="1">
                <a:off x="3160800" y="4640400"/>
                <a:ext cx="1303200" cy="320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63760" y="4672080"/>
                <a:ext cx="1133640" cy="285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754520" y="4696920"/>
              <a:ext cx="1247760" cy="298440"/>
              <a:chOff x="4754520" y="4696920"/>
              <a:chExt cx="1247760" cy="298440"/>
            </a:xfrm>
          </p:grpSpPr>
          <p:sp>
            <p:nvSpPr>
              <p:cNvPr id="475" name=""/>
              <p:cNvSpPr/>
              <p:nvPr/>
            </p:nvSpPr>
            <p:spPr>
              <a:xfrm flipH="1" flipV="1">
                <a:off x="4754520" y="469692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4818240" y="4726080"/>
                <a:ext cx="1085760" cy="264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7" name=""/>
          <p:cNvSpPr/>
          <p:nvPr/>
        </p:nvSpPr>
        <p:spPr>
          <a:xfrm>
            <a:off x="1378800" y="5964120"/>
            <a:ext cx="599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2860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 presentation</a:t>
            </a:r>
            <a:r>
              <a:rPr b="0" lang="en-US" sz="2000" spc="-1" strike="noStrike">
                <a:solidFill>
                  <a:srgbClr val="ffffff"/>
                </a:solidFill>
                <a:latin typeface="Arial"/>
              </a:rPr>
              <a:t>	</a:t>
            </a:r>
            <a:r>
              <a:rPr b="0" lang="en-US" sz="2000" spc="-1" strike="noStrike">
                <a:solidFill>
                  <a:srgbClr val="ffffff"/>
                </a:solidFill>
                <a:latin typeface="Arial"/>
              </a:rPr>
              <a:t>A = application</a:t>
            </a:r>
            <a:r>
              <a:rPr b="0" lang="en-US" sz="2000" spc="-1" strike="noStrike">
                <a:solidFill>
                  <a:srgbClr val="ffffff"/>
                </a:solidFill>
                <a:latin typeface="Arial"/>
              </a:rPr>
              <a:t>	</a:t>
            </a:r>
            <a:r>
              <a:rPr b="0" lang="en-US" sz="2000" spc="-1" strike="noStrike">
                <a:solidFill>
                  <a:srgbClr val="ffffff"/>
                </a:solidFill>
                <a:latin typeface="Arial"/>
              </a:rPr>
              <a:t>C = contr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and Weakness of PAC</a:t>
            </a:r>
            <a:endParaRPr b="0" lang="en-US" sz="3600" spc="-1" strike="noStrike">
              <a:solidFill>
                <a:srgbClr val="ffffff"/>
              </a:solidFill>
              <a:latin typeface="Century Schoolbook"/>
            </a:endParaRPr>
          </a:p>
        </p:txBody>
      </p:sp>
      <p:sp>
        <p:nvSpPr>
          <p:cNvPr id="479" name="PlaceHolder 2"/>
          <p:cNvSpPr>
            <a:spLocks noGrp="1"/>
          </p:cNvSpPr>
          <p:nvPr>
            <p:ph/>
          </p:nvPr>
        </p:nvSpPr>
        <p:spPr>
          <a:xfrm>
            <a:off x="936360" y="1778040"/>
            <a:ext cx="728820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s better with separations of concerns in user interface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modifiability of dialogue through hierarchical decomposi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doesn’t deal with reuse and consistency of user interface widg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48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482" name=""/>
          <p:cNvSpPr/>
          <p:nvPr/>
        </p:nvSpPr>
        <p:spPr>
          <a:xfrm>
            <a:off x="727200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483" name=""/>
          <p:cNvSpPr/>
          <p:nvPr/>
        </p:nvSpPr>
        <p:spPr>
          <a:xfrm>
            <a:off x="308088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484" name=""/>
          <p:cNvSpPr/>
          <p:nvPr/>
        </p:nvSpPr>
        <p:spPr>
          <a:xfrm>
            <a:off x="545976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485" name=""/>
          <p:cNvSpPr/>
          <p:nvPr/>
        </p:nvSpPr>
        <p:spPr>
          <a:xfrm>
            <a:off x="284076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486" name=""/>
          <p:cNvSpPr/>
          <p:nvPr/>
        </p:nvSpPr>
        <p:spPr>
          <a:xfrm>
            <a:off x="535536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linky</a:t>
            </a:r>
            <a:endParaRPr b="0" lang="en-US" sz="2000" spc="-1" strike="noStrike">
              <a:solidFill>
                <a:srgbClr val="ffffff"/>
              </a:solidFill>
              <a:latin typeface="Times New Roman"/>
            </a:endParaRPr>
          </a:p>
        </p:txBody>
      </p:sp>
      <p:sp>
        <p:nvSpPr>
          <p:cNvPr id="487" name=""/>
          <p:cNvSpPr/>
          <p:nvPr/>
        </p:nvSpPr>
        <p:spPr>
          <a:xfrm flipV="1">
            <a:off x="1943280" y="2971440"/>
            <a:ext cx="952200" cy="444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120760" y="3835440"/>
            <a:ext cx="91440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240840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0" name=""/>
          <p:cNvSpPr/>
          <p:nvPr/>
        </p:nvSpPr>
        <p:spPr>
          <a:xfrm>
            <a:off x="239580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1" name=""/>
          <p:cNvSpPr/>
          <p:nvPr/>
        </p:nvSpPr>
        <p:spPr>
          <a:xfrm>
            <a:off x="403056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80988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8480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617220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08672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496" name=""/>
          <p:cNvSpPr/>
          <p:nvPr/>
        </p:nvSpPr>
        <p:spPr>
          <a:xfrm>
            <a:off x="437076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497" name=""/>
          <p:cNvGraphicFramePr/>
          <p:nvPr/>
        </p:nvGraphicFramePr>
        <p:xfrm>
          <a:off x="7918560" y="50760"/>
          <a:ext cx="1158840" cy="1282680"/>
        </p:xfrm>
        <a:graphic>
          <a:graphicData uri="http://schemas.openxmlformats.org/presentationml/2006/ole">
            <p:oleObj r:id="rId1" spid="">
              <p:embed/>
              <p:pic>
                <p:nvPicPr>
                  <p:cNvPr id="49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30240" y="842760"/>
            <a:ext cx="75153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1</a:t>
            </a:r>
            <a:endParaRPr b="0" lang="en-US" sz="3200" spc="-1" strike="noStrike">
              <a:solidFill>
                <a:srgbClr val="ffffff"/>
              </a:solidFill>
              <a:latin typeface="Century Schoolbook"/>
            </a:endParaRPr>
          </a:p>
        </p:txBody>
      </p:sp>
      <p:sp>
        <p:nvSpPr>
          <p:cNvPr id="500" name="PlaceHolder 2"/>
          <p:cNvSpPr>
            <a:spLocks noGrp="1"/>
          </p:cNvSpPr>
          <p:nvPr>
            <p:ph/>
          </p:nvPr>
        </p:nvSpPr>
        <p:spPr>
          <a:xfrm>
            <a:off x="923400" y="17193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Seeheim to Arch/Slinky: applied abstraction to presentation and ap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presentation and dialogu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application layers and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s a five-component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2</a:t>
            </a:r>
            <a:endParaRPr b="0" lang="en-US" sz="3200" spc="-1" strike="noStrike">
              <a:solidFill>
                <a:srgbClr val="ffffff"/>
              </a:solidFill>
              <a:latin typeface="Century Schoolbook"/>
            </a:endParaRPr>
          </a:p>
        </p:txBody>
      </p:sp>
      <p:grpSp>
        <p:nvGrpSpPr>
          <p:cNvPr id="502" name=""/>
          <p:cNvGrpSpPr/>
          <p:nvPr/>
        </p:nvGrpSpPr>
        <p:grpSpPr>
          <a:xfrm>
            <a:off x="730080" y="2022480"/>
            <a:ext cx="7734600" cy="3657600"/>
            <a:chOff x="730080" y="2022480"/>
            <a:chExt cx="7734600" cy="3657600"/>
          </a:xfrm>
        </p:grpSpPr>
        <p:sp>
          <p:nvSpPr>
            <p:cNvPr id="503" name=""/>
            <p:cNvSpPr/>
            <p:nvPr/>
          </p:nvSpPr>
          <p:spPr>
            <a:xfrm>
              <a:off x="3524400" y="20224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043520" y="2222640"/>
              <a:ext cx="11300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505" name=""/>
            <p:cNvSpPr/>
            <p:nvPr/>
          </p:nvSpPr>
          <p:spPr>
            <a:xfrm>
              <a:off x="6330960" y="4944960"/>
              <a:ext cx="213372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706800" y="5145120"/>
              <a:ext cx="1346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507" name=""/>
            <p:cNvSpPr/>
            <p:nvPr/>
          </p:nvSpPr>
          <p:spPr>
            <a:xfrm>
              <a:off x="5492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586120" y="3570120"/>
              <a:ext cx="2030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application</a:t>
              </a:r>
              <a:endParaRPr b="0" lang="en-US" sz="1800" spc="-1" strike="noStrike">
                <a:solidFill>
                  <a:srgbClr val="ffffff"/>
                </a:solidFill>
                <a:latin typeface="Times New Roman"/>
              </a:endParaRPr>
            </a:p>
          </p:txBody>
        </p:sp>
        <p:sp>
          <p:nvSpPr>
            <p:cNvPr id="509" name=""/>
            <p:cNvSpPr/>
            <p:nvPr/>
          </p:nvSpPr>
          <p:spPr>
            <a:xfrm>
              <a:off x="1658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29240" y="3570120"/>
              <a:ext cx="15386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toolkit</a:t>
              </a:r>
              <a:endParaRPr b="0" lang="en-US" sz="1800" spc="-1" strike="noStrike">
                <a:solidFill>
                  <a:srgbClr val="ffffff"/>
                </a:solidFill>
                <a:latin typeface="Times New Roman"/>
              </a:endParaRPr>
            </a:p>
          </p:txBody>
        </p:sp>
        <p:sp>
          <p:nvSpPr>
            <p:cNvPr id="511" name=""/>
            <p:cNvSpPr/>
            <p:nvPr/>
          </p:nvSpPr>
          <p:spPr>
            <a:xfrm>
              <a:off x="730080" y="4925880"/>
              <a:ext cx="2135520" cy="736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049400" y="5149800"/>
              <a:ext cx="15127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513" name=""/>
            <p:cNvSpPr/>
            <p:nvPr/>
          </p:nvSpPr>
          <p:spPr>
            <a:xfrm flipV="1">
              <a:off x="1943280" y="4133880"/>
              <a:ext cx="622080" cy="7891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12408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6609960" y="4147920"/>
              <a:ext cx="622440" cy="7873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546264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rch/Slinky</a:t>
            </a:r>
            <a:endParaRPr b="0" lang="en-US" sz="3600" spc="-1" strike="noStrike">
              <a:solidFill>
                <a:srgbClr val="ffffff"/>
              </a:solidFill>
              <a:latin typeface="Century Schoolbook"/>
            </a:endParaRPr>
          </a:p>
        </p:txBody>
      </p:sp>
      <p:sp>
        <p:nvSpPr>
          <p:cNvPr id="518" name="PlaceHolder 2"/>
          <p:cNvSpPr>
            <a:spLocks noGrp="1"/>
          </p:cNvSpPr>
          <p:nvPr>
            <p:ph/>
          </p:nvPr>
        </p:nvSpPr>
        <p:spPr>
          <a:xfrm>
            <a:off x="936360" y="22096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abstraction enhances portability of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abstraction introduces performance penal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a:t>
            </a:r>
            <a:endParaRPr b="0" lang="en-US" sz="3600" spc="-1" strike="noStrike">
              <a:solidFill>
                <a:srgbClr val="ffffff"/>
              </a:solidFill>
              <a:latin typeface="Century Schoolbook"/>
            </a:endParaRPr>
          </a:p>
        </p:txBody>
      </p:sp>
      <p:sp>
        <p:nvSpPr>
          <p:cNvPr id="520"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521" name=""/>
          <p:cNvSpPr/>
          <p:nvPr/>
        </p:nvSpPr>
        <p:spPr>
          <a:xfrm>
            <a:off x="732276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MODEUS</a:t>
            </a:r>
            <a:endParaRPr b="0" lang="en-US" sz="2000" spc="-1" strike="noStrike">
              <a:solidFill>
                <a:srgbClr val="ffffff"/>
              </a:solidFill>
              <a:latin typeface="Times New Roman"/>
            </a:endParaRPr>
          </a:p>
        </p:txBody>
      </p:sp>
      <p:sp>
        <p:nvSpPr>
          <p:cNvPr id="522" name=""/>
          <p:cNvSpPr/>
          <p:nvPr/>
        </p:nvSpPr>
        <p:spPr>
          <a:xfrm>
            <a:off x="319500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523" name=""/>
          <p:cNvSpPr/>
          <p:nvPr/>
        </p:nvSpPr>
        <p:spPr>
          <a:xfrm>
            <a:off x="557424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524" name=""/>
          <p:cNvSpPr/>
          <p:nvPr/>
        </p:nvSpPr>
        <p:spPr>
          <a:xfrm>
            <a:off x="295524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525" name=""/>
          <p:cNvSpPr/>
          <p:nvPr/>
        </p:nvSpPr>
        <p:spPr>
          <a:xfrm>
            <a:off x="546984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526" name=""/>
          <p:cNvSpPr/>
          <p:nvPr/>
        </p:nvSpPr>
        <p:spPr>
          <a:xfrm flipV="1">
            <a:off x="1930320" y="2971440"/>
            <a:ext cx="107964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108160" y="3772080"/>
            <a:ext cx="104148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225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29" name=""/>
          <p:cNvSpPr/>
          <p:nvPr/>
        </p:nvSpPr>
        <p:spPr>
          <a:xfrm>
            <a:off x="25099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30" name=""/>
          <p:cNvSpPr/>
          <p:nvPr/>
        </p:nvSpPr>
        <p:spPr>
          <a:xfrm>
            <a:off x="414504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92436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9928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V="1">
            <a:off x="6286680" y="3631680"/>
            <a:ext cx="107928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20120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535" name=""/>
          <p:cNvSpPr/>
          <p:nvPr/>
        </p:nvSpPr>
        <p:spPr>
          <a:xfrm>
            <a:off x="448524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536" name=""/>
          <p:cNvGraphicFramePr/>
          <p:nvPr/>
        </p:nvGraphicFramePr>
        <p:xfrm>
          <a:off x="7918560" y="50760"/>
          <a:ext cx="1158840" cy="1282680"/>
        </p:xfrm>
        <a:graphic>
          <a:graphicData uri="http://schemas.openxmlformats.org/presentationml/2006/ole">
            <p:oleObj r:id="rId1" spid="">
              <p:embed/>
              <p:pic>
                <p:nvPicPr>
                  <p:cNvPr id="537"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fied Reference Architecture: PAC-AMODEUS*</a:t>
            </a:r>
            <a:endParaRPr b="0" lang="en-US" sz="3600" spc="-1" strike="noStrike">
              <a:solidFill>
                <a:srgbClr val="ffffff"/>
              </a:solidFill>
              <a:latin typeface="Century Schoolbook"/>
            </a:endParaRPr>
          </a:p>
        </p:txBody>
      </p:sp>
      <p:sp>
        <p:nvSpPr>
          <p:cNvPr id="539" name="PlaceHolder 2"/>
          <p:cNvSpPr>
            <a:spLocks noGrp="1"/>
          </p:cNvSpPr>
          <p:nvPr>
            <p:ph/>
          </p:nvPr>
        </p:nvSpPr>
        <p:spPr>
          <a:xfrm>
            <a:off x="923400" y="2197080"/>
            <a:ext cx="78138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hierarchically applied part-whole decomposition to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Slinky applied abstraction to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DEUS = assimilating models of designers, users, an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grpSp>
        <p:nvGrpSpPr>
          <p:cNvPr id="541" name=""/>
          <p:cNvGrpSpPr/>
          <p:nvPr/>
        </p:nvGrpSpPr>
        <p:grpSpPr>
          <a:xfrm>
            <a:off x="2351160" y="1405080"/>
            <a:ext cx="4132080" cy="4838400"/>
            <a:chOff x="2351160" y="1405080"/>
            <a:chExt cx="4132080" cy="4838400"/>
          </a:xfrm>
        </p:grpSpPr>
        <p:sp>
          <p:nvSpPr>
            <p:cNvPr id="542" name=""/>
            <p:cNvSpPr/>
            <p:nvPr/>
          </p:nvSpPr>
          <p:spPr>
            <a:xfrm>
              <a:off x="3624120" y="1405080"/>
              <a:ext cx="158760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896640" y="1419120"/>
              <a:ext cx="104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esentation</a:t>
              </a:r>
              <a:endParaRPr b="0" lang="en-US" sz="1200" spc="-1" strike="noStrike">
                <a:solidFill>
                  <a:srgbClr val="ffffff"/>
                </a:solidFill>
                <a:latin typeface="Times New Roman"/>
              </a:endParaRPr>
            </a:p>
          </p:txBody>
        </p:sp>
        <p:sp>
          <p:nvSpPr>
            <p:cNvPr id="544" name=""/>
            <p:cNvSpPr/>
            <p:nvPr/>
          </p:nvSpPr>
          <p:spPr>
            <a:xfrm flipV="1">
              <a:off x="4408560" y="1706040"/>
              <a:ext cx="3240" cy="2336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945240" y="593892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pplication</a:t>
              </a:r>
              <a:endParaRPr b="0" lang="en-US" sz="1200" spc="-1" strike="noStrike">
                <a:solidFill>
                  <a:srgbClr val="ffffff"/>
                </a:solidFill>
                <a:latin typeface="Times New Roman"/>
              </a:endParaRPr>
            </a:p>
          </p:txBody>
        </p:sp>
        <p:sp>
          <p:nvSpPr>
            <p:cNvPr id="546" name=""/>
            <p:cNvSpPr/>
            <p:nvPr/>
          </p:nvSpPr>
          <p:spPr>
            <a:xfrm>
              <a:off x="3715920" y="534996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application</a:t>
              </a:r>
              <a:endParaRPr b="0" lang="en-US" sz="1200" spc="-1" strike="noStrike">
                <a:solidFill>
                  <a:srgbClr val="ffffff"/>
                </a:solidFill>
                <a:latin typeface="Times New Roman"/>
              </a:endParaRPr>
            </a:p>
          </p:txBody>
        </p:sp>
        <p:sp>
          <p:nvSpPr>
            <p:cNvPr id="547" name=""/>
            <p:cNvSpPr/>
            <p:nvPr/>
          </p:nvSpPr>
          <p:spPr>
            <a:xfrm>
              <a:off x="3881880" y="197172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toolkit</a:t>
              </a:r>
              <a:endParaRPr b="0" lang="en-US" sz="1200" spc="-1" strike="noStrike">
                <a:solidFill>
                  <a:srgbClr val="ffffff"/>
                </a:solidFill>
                <a:latin typeface="Times New Roman"/>
              </a:endParaRPr>
            </a:p>
          </p:txBody>
        </p:sp>
        <p:sp>
          <p:nvSpPr>
            <p:cNvPr id="548" name=""/>
            <p:cNvSpPr/>
            <p:nvPr/>
          </p:nvSpPr>
          <p:spPr>
            <a:xfrm>
              <a:off x="2351160" y="2533680"/>
              <a:ext cx="4132080" cy="2573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094200" y="2860560"/>
              <a:ext cx="2633400" cy="1984320"/>
              <a:chOff x="3094200" y="2860560"/>
              <a:chExt cx="2633400" cy="1984320"/>
            </a:xfrm>
          </p:grpSpPr>
          <p:grpSp>
            <p:nvGrpSpPr>
              <p:cNvPr id="550" name=""/>
              <p:cNvGrpSpPr/>
              <p:nvPr/>
            </p:nvGrpSpPr>
            <p:grpSpPr>
              <a:xfrm>
                <a:off x="4170240" y="3827520"/>
                <a:ext cx="490680" cy="426960"/>
                <a:chOff x="4170240" y="3827520"/>
                <a:chExt cx="490680" cy="426960"/>
              </a:xfrm>
            </p:grpSpPr>
            <p:grpSp>
              <p:nvGrpSpPr>
                <p:cNvPr id="551" name=""/>
                <p:cNvGrpSpPr/>
                <p:nvPr/>
              </p:nvGrpSpPr>
              <p:grpSpPr>
                <a:xfrm>
                  <a:off x="4170240" y="3827520"/>
                  <a:ext cx="482760" cy="153720"/>
                  <a:chOff x="4170240" y="3827520"/>
                  <a:chExt cx="482760" cy="153720"/>
                </a:xfrm>
              </p:grpSpPr>
              <p:grpSp>
                <p:nvGrpSpPr>
                  <p:cNvPr id="552" name=""/>
                  <p:cNvGrpSpPr/>
                  <p:nvPr/>
                </p:nvGrpSpPr>
                <p:grpSpPr>
                  <a:xfrm>
                    <a:off x="4170240" y="3827520"/>
                    <a:ext cx="212760" cy="152280"/>
                    <a:chOff x="4170240" y="3827520"/>
                    <a:chExt cx="212760" cy="152280"/>
                  </a:xfrm>
                </p:grpSpPr>
                <p:sp>
                  <p:nvSpPr>
                    <p:cNvPr id="553" name=""/>
                    <p:cNvSpPr/>
                    <p:nvPr/>
                  </p:nvSpPr>
                  <p:spPr>
                    <a:xfrm>
                      <a:off x="4170240" y="38466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4" name=""/>
                    <p:cNvSpPr/>
                    <p:nvPr/>
                  </p:nvSpPr>
                  <p:spPr>
                    <a:xfrm>
                      <a:off x="4187880" y="386064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4192200" y="38275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56" name=""/>
                  <p:cNvGrpSpPr/>
                  <p:nvPr/>
                </p:nvGrpSpPr>
                <p:grpSpPr>
                  <a:xfrm>
                    <a:off x="4438800" y="3828960"/>
                    <a:ext cx="214200" cy="152280"/>
                    <a:chOff x="4438800" y="3828960"/>
                    <a:chExt cx="214200" cy="152280"/>
                  </a:xfrm>
                </p:grpSpPr>
                <p:sp>
                  <p:nvSpPr>
                    <p:cNvPr id="557" name=""/>
                    <p:cNvSpPr/>
                    <p:nvPr/>
                  </p:nvSpPr>
                  <p:spPr>
                    <a:xfrm>
                      <a:off x="4438800" y="384804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8" name=""/>
                    <p:cNvSpPr/>
                    <p:nvPr/>
                  </p:nvSpPr>
                  <p:spPr>
                    <a:xfrm>
                      <a:off x="4457880" y="3862440"/>
                      <a:ext cx="1774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59" name=""/>
                    <p:cNvSpPr/>
                    <p:nvPr/>
                  </p:nvSpPr>
                  <p:spPr>
                    <a:xfrm>
                      <a:off x="4462200" y="38289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60" name=""/>
                <p:cNvSpPr/>
                <p:nvPr/>
              </p:nvSpPr>
              <p:spPr>
                <a:xfrm>
                  <a:off x="4170240" y="4119480"/>
                  <a:ext cx="4906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189320" y="4135320"/>
                  <a:ext cx="455760" cy="74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62" name=""/>
                <p:cNvSpPr/>
                <p:nvPr/>
              </p:nvSpPr>
              <p:spPr>
                <a:xfrm>
                  <a:off x="4325760" y="41022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63" name=""/>
                <p:cNvGrpSpPr/>
                <p:nvPr/>
              </p:nvGrpSpPr>
              <p:grpSpPr>
                <a:xfrm>
                  <a:off x="4280040" y="3954600"/>
                  <a:ext cx="9360" cy="156960"/>
                  <a:chOff x="4280040" y="3954600"/>
                  <a:chExt cx="9360" cy="156960"/>
                </a:xfrm>
              </p:grpSpPr>
              <p:sp>
                <p:nvSpPr>
                  <p:cNvPr id="564" name=""/>
                  <p:cNvSpPr/>
                  <p:nvPr/>
                </p:nvSpPr>
                <p:spPr>
                  <a:xfrm>
                    <a:off x="428004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28940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566" name=""/>
                <p:cNvGrpSpPr/>
                <p:nvPr/>
              </p:nvGrpSpPr>
              <p:grpSpPr>
                <a:xfrm>
                  <a:off x="4545000" y="3954600"/>
                  <a:ext cx="9360" cy="156960"/>
                  <a:chOff x="4545000" y="3954600"/>
                  <a:chExt cx="9360" cy="156960"/>
                </a:xfrm>
              </p:grpSpPr>
              <p:sp>
                <p:nvSpPr>
                  <p:cNvPr id="567" name=""/>
                  <p:cNvSpPr/>
                  <p:nvPr/>
                </p:nvSpPr>
                <p:spPr>
                  <a:xfrm>
                    <a:off x="454500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5436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5237280" y="3435480"/>
                <a:ext cx="490320" cy="426960"/>
                <a:chOff x="5237280" y="3435480"/>
                <a:chExt cx="490320" cy="426960"/>
              </a:xfrm>
            </p:grpSpPr>
            <p:grpSp>
              <p:nvGrpSpPr>
                <p:cNvPr id="570" name=""/>
                <p:cNvGrpSpPr/>
                <p:nvPr/>
              </p:nvGrpSpPr>
              <p:grpSpPr>
                <a:xfrm>
                  <a:off x="5237280" y="3435480"/>
                  <a:ext cx="482400" cy="153720"/>
                  <a:chOff x="5237280" y="3435480"/>
                  <a:chExt cx="482400" cy="153720"/>
                </a:xfrm>
              </p:grpSpPr>
              <p:grpSp>
                <p:nvGrpSpPr>
                  <p:cNvPr id="571" name=""/>
                  <p:cNvGrpSpPr/>
                  <p:nvPr/>
                </p:nvGrpSpPr>
                <p:grpSpPr>
                  <a:xfrm>
                    <a:off x="5237280" y="3435480"/>
                    <a:ext cx="212760" cy="152280"/>
                    <a:chOff x="5237280" y="3435480"/>
                    <a:chExt cx="212760" cy="152280"/>
                  </a:xfrm>
                </p:grpSpPr>
                <p:sp>
                  <p:nvSpPr>
                    <p:cNvPr id="572" name=""/>
                    <p:cNvSpPr/>
                    <p:nvPr/>
                  </p:nvSpPr>
                  <p:spPr>
                    <a:xfrm>
                      <a:off x="5237280" y="345600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73" name=""/>
                    <p:cNvSpPr/>
                    <p:nvPr/>
                  </p:nvSpPr>
                  <p:spPr>
                    <a:xfrm>
                      <a:off x="525456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74" name=""/>
                    <p:cNvSpPr/>
                    <p:nvPr/>
                  </p:nvSpPr>
                  <p:spPr>
                    <a:xfrm>
                      <a:off x="525924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75" name=""/>
                  <p:cNvGrpSpPr/>
                  <p:nvPr/>
                </p:nvGrpSpPr>
                <p:grpSpPr>
                  <a:xfrm>
                    <a:off x="5505480" y="3436920"/>
                    <a:ext cx="214200" cy="152280"/>
                    <a:chOff x="5505480" y="3436920"/>
                    <a:chExt cx="214200" cy="152280"/>
                  </a:xfrm>
                </p:grpSpPr>
                <p:sp>
                  <p:nvSpPr>
                    <p:cNvPr id="576" name=""/>
                    <p:cNvSpPr/>
                    <p:nvPr/>
                  </p:nvSpPr>
                  <p:spPr>
                    <a:xfrm>
                      <a:off x="5505480" y="345600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77" name=""/>
                    <p:cNvSpPr/>
                    <p:nvPr/>
                  </p:nvSpPr>
                  <p:spPr>
                    <a:xfrm>
                      <a:off x="5524560" y="3470400"/>
                      <a:ext cx="17784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552888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79" name=""/>
                <p:cNvSpPr/>
                <p:nvPr/>
              </p:nvSpPr>
              <p:spPr>
                <a:xfrm>
                  <a:off x="5237280" y="3727440"/>
                  <a:ext cx="49032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56360" y="3743280"/>
                  <a:ext cx="4554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81" name=""/>
                <p:cNvSpPr/>
                <p:nvPr/>
              </p:nvSpPr>
              <p:spPr>
                <a:xfrm>
                  <a:off x="539280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82" name=""/>
                <p:cNvGrpSpPr/>
                <p:nvPr/>
              </p:nvGrpSpPr>
              <p:grpSpPr>
                <a:xfrm>
                  <a:off x="5346720" y="3562200"/>
                  <a:ext cx="9360" cy="158760"/>
                  <a:chOff x="5346720" y="3562200"/>
                  <a:chExt cx="9360" cy="158760"/>
                </a:xfrm>
              </p:grpSpPr>
              <p:sp>
                <p:nvSpPr>
                  <p:cNvPr id="583" name=""/>
                  <p:cNvSpPr/>
                  <p:nvPr/>
                </p:nvSpPr>
                <p:spPr>
                  <a:xfrm>
                    <a:off x="534672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35608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11680" y="3562200"/>
                  <a:ext cx="9720" cy="158760"/>
                  <a:chOff x="5611680" y="3562200"/>
                  <a:chExt cx="9720" cy="158760"/>
                </a:xfrm>
              </p:grpSpPr>
              <p:sp>
                <p:nvSpPr>
                  <p:cNvPr id="586" name=""/>
                  <p:cNvSpPr/>
                  <p:nvPr/>
                </p:nvSpPr>
                <p:spPr>
                  <a:xfrm>
                    <a:off x="561168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6214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094200" y="3435480"/>
                <a:ext cx="490320" cy="426960"/>
                <a:chOff x="3094200" y="3435480"/>
                <a:chExt cx="490320" cy="426960"/>
              </a:xfrm>
            </p:grpSpPr>
            <p:grpSp>
              <p:nvGrpSpPr>
                <p:cNvPr id="589" name=""/>
                <p:cNvGrpSpPr/>
                <p:nvPr/>
              </p:nvGrpSpPr>
              <p:grpSpPr>
                <a:xfrm>
                  <a:off x="3094200" y="3435480"/>
                  <a:ext cx="482400" cy="153720"/>
                  <a:chOff x="3094200" y="3435480"/>
                  <a:chExt cx="482400" cy="153720"/>
                </a:xfrm>
              </p:grpSpPr>
              <p:grpSp>
                <p:nvGrpSpPr>
                  <p:cNvPr id="590" name=""/>
                  <p:cNvGrpSpPr/>
                  <p:nvPr/>
                </p:nvGrpSpPr>
                <p:grpSpPr>
                  <a:xfrm>
                    <a:off x="3094200" y="3435480"/>
                    <a:ext cx="212400" cy="152280"/>
                    <a:chOff x="3094200" y="3435480"/>
                    <a:chExt cx="212400" cy="152280"/>
                  </a:xfrm>
                </p:grpSpPr>
                <p:sp>
                  <p:nvSpPr>
                    <p:cNvPr id="591" name=""/>
                    <p:cNvSpPr/>
                    <p:nvPr/>
                  </p:nvSpPr>
                  <p:spPr>
                    <a:xfrm>
                      <a:off x="3094200" y="3456000"/>
                      <a:ext cx="21240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92" name=""/>
                    <p:cNvSpPr/>
                    <p:nvPr/>
                  </p:nvSpPr>
                  <p:spPr>
                    <a:xfrm>
                      <a:off x="311148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93" name=""/>
                    <p:cNvSpPr/>
                    <p:nvPr/>
                  </p:nvSpPr>
                  <p:spPr>
                    <a:xfrm>
                      <a:off x="311616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94" name=""/>
                  <p:cNvGrpSpPr/>
                  <p:nvPr/>
                </p:nvGrpSpPr>
                <p:grpSpPr>
                  <a:xfrm>
                    <a:off x="3363840" y="3436920"/>
                    <a:ext cx="212760" cy="152280"/>
                    <a:chOff x="3363840" y="3436920"/>
                    <a:chExt cx="212760" cy="152280"/>
                  </a:xfrm>
                </p:grpSpPr>
                <p:sp>
                  <p:nvSpPr>
                    <p:cNvPr id="595" name=""/>
                    <p:cNvSpPr/>
                    <p:nvPr/>
                  </p:nvSpPr>
                  <p:spPr>
                    <a:xfrm>
                      <a:off x="3363840" y="34560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96" name=""/>
                    <p:cNvSpPr/>
                    <p:nvPr/>
                  </p:nvSpPr>
                  <p:spPr>
                    <a:xfrm>
                      <a:off x="3381480" y="347040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7" name=""/>
                    <p:cNvSpPr/>
                    <p:nvPr/>
                  </p:nvSpPr>
                  <p:spPr>
                    <a:xfrm>
                      <a:off x="338580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98" name=""/>
                <p:cNvSpPr/>
                <p:nvPr/>
              </p:nvSpPr>
              <p:spPr>
                <a:xfrm>
                  <a:off x="3095640" y="3727440"/>
                  <a:ext cx="4888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12920" y="3743280"/>
                  <a:ext cx="45576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00" name=""/>
                <p:cNvSpPr/>
                <p:nvPr/>
              </p:nvSpPr>
              <p:spPr>
                <a:xfrm>
                  <a:off x="324972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01" name=""/>
                <p:cNvGrpSpPr/>
                <p:nvPr/>
              </p:nvGrpSpPr>
              <p:grpSpPr>
                <a:xfrm>
                  <a:off x="3203640" y="3562200"/>
                  <a:ext cx="9360" cy="158760"/>
                  <a:chOff x="3203640" y="3562200"/>
                  <a:chExt cx="9360" cy="158760"/>
                </a:xfrm>
              </p:grpSpPr>
              <p:sp>
                <p:nvSpPr>
                  <p:cNvPr id="602" name=""/>
                  <p:cNvSpPr/>
                  <p:nvPr/>
                </p:nvSpPr>
                <p:spPr>
                  <a:xfrm>
                    <a:off x="320364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2130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04" name=""/>
                <p:cNvGrpSpPr/>
                <p:nvPr/>
              </p:nvGrpSpPr>
              <p:grpSpPr>
                <a:xfrm>
                  <a:off x="3468600" y="3562200"/>
                  <a:ext cx="9720" cy="158760"/>
                  <a:chOff x="3468600" y="3562200"/>
                  <a:chExt cx="9720" cy="158760"/>
                </a:xfrm>
              </p:grpSpPr>
              <p:sp>
                <p:nvSpPr>
                  <p:cNvPr id="605" name=""/>
                  <p:cNvSpPr/>
                  <p:nvPr/>
                </p:nvSpPr>
                <p:spPr>
                  <a:xfrm>
                    <a:off x="346860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47832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4173480" y="2860560"/>
                <a:ext cx="490680" cy="426960"/>
                <a:chOff x="4173480" y="2860560"/>
                <a:chExt cx="490680" cy="426960"/>
              </a:xfrm>
            </p:grpSpPr>
            <p:grpSp>
              <p:nvGrpSpPr>
                <p:cNvPr id="608" name=""/>
                <p:cNvGrpSpPr/>
                <p:nvPr/>
              </p:nvGrpSpPr>
              <p:grpSpPr>
                <a:xfrm>
                  <a:off x="4173480" y="2860560"/>
                  <a:ext cx="482760" cy="154080"/>
                  <a:chOff x="4173480" y="2860560"/>
                  <a:chExt cx="482760" cy="154080"/>
                </a:xfrm>
              </p:grpSpPr>
              <p:grpSp>
                <p:nvGrpSpPr>
                  <p:cNvPr id="609" name=""/>
                  <p:cNvGrpSpPr/>
                  <p:nvPr/>
                </p:nvGrpSpPr>
                <p:grpSpPr>
                  <a:xfrm>
                    <a:off x="4173480" y="2860560"/>
                    <a:ext cx="212760" cy="152280"/>
                    <a:chOff x="4173480" y="2860560"/>
                    <a:chExt cx="212760" cy="152280"/>
                  </a:xfrm>
                </p:grpSpPr>
                <p:sp>
                  <p:nvSpPr>
                    <p:cNvPr id="610" name=""/>
                    <p:cNvSpPr/>
                    <p:nvPr/>
                  </p:nvSpPr>
                  <p:spPr>
                    <a:xfrm>
                      <a:off x="4173480" y="287964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611" name=""/>
                    <p:cNvSpPr/>
                    <p:nvPr/>
                  </p:nvSpPr>
                  <p:spPr>
                    <a:xfrm>
                      <a:off x="4191120" y="289548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12" name=""/>
                    <p:cNvSpPr/>
                    <p:nvPr/>
                  </p:nvSpPr>
                  <p:spPr>
                    <a:xfrm>
                      <a:off x="4195440" y="28605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13" name=""/>
                  <p:cNvGrpSpPr/>
                  <p:nvPr/>
                </p:nvGrpSpPr>
                <p:grpSpPr>
                  <a:xfrm>
                    <a:off x="4441680" y="2862360"/>
                    <a:ext cx="214560" cy="152280"/>
                    <a:chOff x="4441680" y="2862360"/>
                    <a:chExt cx="214560" cy="152280"/>
                  </a:xfrm>
                </p:grpSpPr>
                <p:sp>
                  <p:nvSpPr>
                    <p:cNvPr id="614" name=""/>
                    <p:cNvSpPr/>
                    <p:nvPr/>
                  </p:nvSpPr>
                  <p:spPr>
                    <a:xfrm>
                      <a:off x="4441680" y="2881440"/>
                      <a:ext cx="2145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15" name=""/>
                    <p:cNvSpPr/>
                    <p:nvPr/>
                  </p:nvSpPr>
                  <p:spPr>
                    <a:xfrm>
                      <a:off x="4459320" y="289548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6" name=""/>
                    <p:cNvSpPr/>
                    <p:nvPr/>
                  </p:nvSpPr>
                  <p:spPr>
                    <a:xfrm>
                      <a:off x="4465440" y="28623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17" name=""/>
                <p:cNvSpPr/>
                <p:nvPr/>
              </p:nvSpPr>
              <p:spPr>
                <a:xfrm>
                  <a:off x="4173480" y="3152880"/>
                  <a:ext cx="4906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3168720"/>
                  <a:ext cx="4572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19" name=""/>
                <p:cNvSpPr/>
                <p:nvPr/>
              </p:nvSpPr>
              <p:spPr>
                <a:xfrm>
                  <a:off x="4329000" y="313524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20" name=""/>
                <p:cNvGrpSpPr/>
                <p:nvPr/>
              </p:nvGrpSpPr>
              <p:grpSpPr>
                <a:xfrm>
                  <a:off x="4282920" y="2987640"/>
                  <a:ext cx="9720" cy="157320"/>
                  <a:chOff x="4282920" y="2987640"/>
                  <a:chExt cx="9720" cy="157320"/>
                </a:xfrm>
              </p:grpSpPr>
              <p:sp>
                <p:nvSpPr>
                  <p:cNvPr id="621" name=""/>
                  <p:cNvSpPr/>
                  <p:nvPr/>
                </p:nvSpPr>
                <p:spPr>
                  <a:xfrm>
                    <a:off x="428292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9264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23" name=""/>
                <p:cNvGrpSpPr/>
                <p:nvPr/>
              </p:nvGrpSpPr>
              <p:grpSpPr>
                <a:xfrm>
                  <a:off x="4548240" y="2987640"/>
                  <a:ext cx="7920" cy="157320"/>
                  <a:chOff x="4548240" y="2987640"/>
                  <a:chExt cx="7920" cy="157320"/>
                </a:xfrm>
              </p:grpSpPr>
              <p:sp>
                <p:nvSpPr>
                  <p:cNvPr id="624" name=""/>
                  <p:cNvSpPr/>
                  <p:nvPr/>
                </p:nvSpPr>
                <p:spPr>
                  <a:xfrm>
                    <a:off x="454824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55616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26" name=""/>
              <p:cNvGrpSpPr/>
              <p:nvPr/>
            </p:nvGrpSpPr>
            <p:grpSpPr>
              <a:xfrm>
                <a:off x="3475080" y="3284280"/>
                <a:ext cx="888840" cy="150840"/>
                <a:chOff x="3475080" y="3284280"/>
                <a:chExt cx="888840" cy="150840"/>
              </a:xfrm>
            </p:grpSpPr>
            <p:sp>
              <p:nvSpPr>
                <p:cNvPr id="627" name=""/>
                <p:cNvSpPr/>
                <p:nvPr/>
              </p:nvSpPr>
              <p:spPr>
                <a:xfrm flipV="1">
                  <a:off x="3475080" y="3284280"/>
                  <a:ext cx="88884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3544920" y="3298320"/>
                  <a:ext cx="77292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4441680" y="3287880"/>
                <a:ext cx="889200" cy="150480"/>
                <a:chOff x="4441680" y="3287880"/>
                <a:chExt cx="889200" cy="150480"/>
              </a:xfrm>
            </p:grpSpPr>
            <p:sp>
              <p:nvSpPr>
                <p:cNvPr id="630" name=""/>
                <p:cNvSpPr/>
                <p:nvPr/>
              </p:nvSpPr>
              <p:spPr>
                <a:xfrm flipH="1" flipV="1">
                  <a:off x="4441680" y="3287880"/>
                  <a:ext cx="889200" cy="150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flipV="1">
                  <a:off x="4489200" y="3301560"/>
                  <a:ext cx="77148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
              <p:cNvSpPr/>
              <p:nvPr/>
            </p:nvSpPr>
            <p:spPr>
              <a:xfrm>
                <a:off x="4411800" y="3260880"/>
                <a:ext cx="0" cy="576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3" name=""/>
              <p:cNvGrpSpPr/>
              <p:nvPr/>
            </p:nvGrpSpPr>
            <p:grpSpPr>
              <a:xfrm>
                <a:off x="5141880" y="4417920"/>
                <a:ext cx="490680" cy="426960"/>
                <a:chOff x="5141880" y="4417920"/>
                <a:chExt cx="490680" cy="426960"/>
              </a:xfrm>
            </p:grpSpPr>
            <p:grpSp>
              <p:nvGrpSpPr>
                <p:cNvPr id="634" name=""/>
                <p:cNvGrpSpPr/>
                <p:nvPr/>
              </p:nvGrpSpPr>
              <p:grpSpPr>
                <a:xfrm>
                  <a:off x="5141880" y="4417920"/>
                  <a:ext cx="482760" cy="154080"/>
                  <a:chOff x="5141880" y="4417920"/>
                  <a:chExt cx="482760" cy="154080"/>
                </a:xfrm>
              </p:grpSpPr>
              <p:grpSp>
                <p:nvGrpSpPr>
                  <p:cNvPr id="635" name=""/>
                  <p:cNvGrpSpPr/>
                  <p:nvPr/>
                </p:nvGrpSpPr>
                <p:grpSpPr>
                  <a:xfrm>
                    <a:off x="5141880" y="4417920"/>
                    <a:ext cx="212760" cy="152280"/>
                    <a:chOff x="5141880" y="4417920"/>
                    <a:chExt cx="212760" cy="152280"/>
                  </a:xfrm>
                </p:grpSpPr>
                <p:sp>
                  <p:nvSpPr>
                    <p:cNvPr id="636" name=""/>
                    <p:cNvSpPr/>
                    <p:nvPr/>
                  </p:nvSpPr>
                  <p:spPr>
                    <a:xfrm>
                      <a:off x="5141880" y="4438800"/>
                      <a:ext cx="2127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37" name=""/>
                    <p:cNvSpPr/>
                    <p:nvPr/>
                  </p:nvSpPr>
                  <p:spPr>
                    <a:xfrm>
                      <a:off x="515952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38" name=""/>
                    <p:cNvSpPr/>
                    <p:nvPr/>
                  </p:nvSpPr>
                  <p:spPr>
                    <a:xfrm>
                      <a:off x="516384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39" name=""/>
                  <p:cNvGrpSpPr/>
                  <p:nvPr/>
                </p:nvGrpSpPr>
                <p:grpSpPr>
                  <a:xfrm>
                    <a:off x="5411880" y="4419720"/>
                    <a:ext cx="212760" cy="152280"/>
                    <a:chOff x="5411880" y="4419720"/>
                    <a:chExt cx="212760" cy="152280"/>
                  </a:xfrm>
                </p:grpSpPr>
                <p:sp>
                  <p:nvSpPr>
                    <p:cNvPr id="640" name=""/>
                    <p:cNvSpPr/>
                    <p:nvPr/>
                  </p:nvSpPr>
                  <p:spPr>
                    <a:xfrm>
                      <a:off x="541188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41" name=""/>
                    <p:cNvSpPr/>
                    <p:nvPr/>
                  </p:nvSpPr>
                  <p:spPr>
                    <a:xfrm>
                      <a:off x="5429160" y="4454640"/>
                      <a:ext cx="17964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42" name=""/>
                    <p:cNvSpPr/>
                    <p:nvPr/>
                  </p:nvSpPr>
                  <p:spPr>
                    <a:xfrm>
                      <a:off x="543384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43" name=""/>
                <p:cNvSpPr/>
                <p:nvPr/>
              </p:nvSpPr>
              <p:spPr>
                <a:xfrm>
                  <a:off x="514368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160960" y="4726080"/>
                  <a:ext cx="45576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45" name=""/>
                <p:cNvSpPr/>
                <p:nvPr/>
              </p:nvSpPr>
              <p:spPr>
                <a:xfrm>
                  <a:off x="529740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46" name=""/>
                <p:cNvGrpSpPr/>
                <p:nvPr/>
              </p:nvGrpSpPr>
              <p:grpSpPr>
                <a:xfrm>
                  <a:off x="5251320" y="4545000"/>
                  <a:ext cx="9720" cy="158760"/>
                  <a:chOff x="5251320" y="4545000"/>
                  <a:chExt cx="9720" cy="158760"/>
                </a:xfrm>
              </p:grpSpPr>
              <p:sp>
                <p:nvSpPr>
                  <p:cNvPr id="647" name=""/>
                  <p:cNvSpPr/>
                  <p:nvPr/>
                </p:nvSpPr>
                <p:spPr>
                  <a:xfrm>
                    <a:off x="52513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2610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49" name=""/>
                <p:cNvGrpSpPr/>
                <p:nvPr/>
              </p:nvGrpSpPr>
              <p:grpSpPr>
                <a:xfrm>
                  <a:off x="5516640" y="4545000"/>
                  <a:ext cx="9360" cy="158760"/>
                  <a:chOff x="5516640" y="4545000"/>
                  <a:chExt cx="9360" cy="158760"/>
                </a:xfrm>
              </p:grpSpPr>
              <p:sp>
                <p:nvSpPr>
                  <p:cNvPr id="650" name=""/>
                  <p:cNvSpPr/>
                  <p:nvPr/>
                </p:nvSpPr>
                <p:spPr>
                  <a:xfrm>
                    <a:off x="551664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52600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102120" y="4417920"/>
                <a:ext cx="490320" cy="426960"/>
                <a:chOff x="3102120" y="4417920"/>
                <a:chExt cx="490320" cy="426960"/>
              </a:xfrm>
            </p:grpSpPr>
            <p:grpSp>
              <p:nvGrpSpPr>
                <p:cNvPr id="653" name=""/>
                <p:cNvGrpSpPr/>
                <p:nvPr/>
              </p:nvGrpSpPr>
              <p:grpSpPr>
                <a:xfrm>
                  <a:off x="3102120" y="4417920"/>
                  <a:ext cx="482400" cy="154080"/>
                  <a:chOff x="3102120" y="4417920"/>
                  <a:chExt cx="482400" cy="154080"/>
                </a:xfrm>
              </p:grpSpPr>
              <p:grpSp>
                <p:nvGrpSpPr>
                  <p:cNvPr id="654" name=""/>
                  <p:cNvGrpSpPr/>
                  <p:nvPr/>
                </p:nvGrpSpPr>
                <p:grpSpPr>
                  <a:xfrm>
                    <a:off x="3102120" y="4417920"/>
                    <a:ext cx="214200" cy="152280"/>
                    <a:chOff x="3102120" y="4417920"/>
                    <a:chExt cx="214200" cy="152280"/>
                  </a:xfrm>
                </p:grpSpPr>
                <p:sp>
                  <p:nvSpPr>
                    <p:cNvPr id="655" name=""/>
                    <p:cNvSpPr/>
                    <p:nvPr/>
                  </p:nvSpPr>
                  <p:spPr>
                    <a:xfrm>
                      <a:off x="3102120" y="4438800"/>
                      <a:ext cx="21420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56" name=""/>
                    <p:cNvSpPr/>
                    <p:nvPr/>
                  </p:nvSpPr>
                  <p:spPr>
                    <a:xfrm>
                      <a:off x="311940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57" name=""/>
                    <p:cNvSpPr/>
                    <p:nvPr/>
                  </p:nvSpPr>
                  <p:spPr>
                    <a:xfrm>
                      <a:off x="312408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58" name=""/>
                  <p:cNvGrpSpPr/>
                  <p:nvPr/>
                </p:nvGrpSpPr>
                <p:grpSpPr>
                  <a:xfrm>
                    <a:off x="3371760" y="4419720"/>
                    <a:ext cx="212760" cy="152280"/>
                    <a:chOff x="3371760" y="4419720"/>
                    <a:chExt cx="212760" cy="152280"/>
                  </a:xfrm>
                </p:grpSpPr>
                <p:sp>
                  <p:nvSpPr>
                    <p:cNvPr id="659" name=""/>
                    <p:cNvSpPr/>
                    <p:nvPr/>
                  </p:nvSpPr>
                  <p:spPr>
                    <a:xfrm>
                      <a:off x="337176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60" name=""/>
                    <p:cNvSpPr/>
                    <p:nvPr/>
                  </p:nvSpPr>
                  <p:spPr>
                    <a:xfrm>
                      <a:off x="3389400" y="445464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61" name=""/>
                    <p:cNvSpPr/>
                    <p:nvPr/>
                  </p:nvSpPr>
                  <p:spPr>
                    <a:xfrm>
                      <a:off x="339372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62" name=""/>
                <p:cNvSpPr/>
                <p:nvPr/>
              </p:nvSpPr>
              <p:spPr>
                <a:xfrm>
                  <a:off x="310356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121200" y="4726080"/>
                  <a:ext cx="45720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64" name=""/>
                <p:cNvSpPr/>
                <p:nvPr/>
              </p:nvSpPr>
              <p:spPr>
                <a:xfrm>
                  <a:off x="325764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65" name=""/>
                <p:cNvGrpSpPr/>
                <p:nvPr/>
              </p:nvGrpSpPr>
              <p:grpSpPr>
                <a:xfrm>
                  <a:off x="3213000" y="4545000"/>
                  <a:ext cx="7920" cy="158760"/>
                  <a:chOff x="3213000" y="4545000"/>
                  <a:chExt cx="7920" cy="158760"/>
                </a:xfrm>
              </p:grpSpPr>
              <p:sp>
                <p:nvSpPr>
                  <p:cNvPr id="666" name=""/>
                  <p:cNvSpPr/>
                  <p:nvPr/>
                </p:nvSpPr>
                <p:spPr>
                  <a:xfrm>
                    <a:off x="321300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22092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68" name=""/>
                <p:cNvGrpSpPr/>
                <p:nvPr/>
              </p:nvGrpSpPr>
              <p:grpSpPr>
                <a:xfrm>
                  <a:off x="3476520" y="4545000"/>
                  <a:ext cx="9720" cy="158760"/>
                  <a:chOff x="3476520" y="4545000"/>
                  <a:chExt cx="9720" cy="158760"/>
                </a:xfrm>
              </p:grpSpPr>
              <p:sp>
                <p:nvSpPr>
                  <p:cNvPr id="669" name=""/>
                  <p:cNvSpPr/>
                  <p:nvPr/>
                </p:nvSpPr>
                <p:spPr>
                  <a:xfrm>
                    <a:off x="34765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4862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71" name=""/>
              <p:cNvGrpSpPr/>
              <p:nvPr/>
            </p:nvGrpSpPr>
            <p:grpSpPr>
              <a:xfrm>
                <a:off x="3484440" y="4266720"/>
                <a:ext cx="887400" cy="150840"/>
                <a:chOff x="3484440" y="4266720"/>
                <a:chExt cx="887400" cy="150840"/>
              </a:xfrm>
            </p:grpSpPr>
            <p:sp>
              <p:nvSpPr>
                <p:cNvPr id="672" name=""/>
                <p:cNvSpPr/>
                <p:nvPr/>
              </p:nvSpPr>
              <p:spPr>
                <a:xfrm flipV="1">
                  <a:off x="3484440" y="426672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552840" y="428256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4" name=""/>
              <p:cNvGrpSpPr/>
              <p:nvPr/>
            </p:nvGrpSpPr>
            <p:grpSpPr>
              <a:xfrm>
                <a:off x="4451040" y="4269960"/>
                <a:ext cx="887400" cy="150840"/>
                <a:chOff x="4451040" y="4269960"/>
                <a:chExt cx="887400" cy="150840"/>
              </a:xfrm>
            </p:grpSpPr>
            <p:sp>
              <p:nvSpPr>
                <p:cNvPr id="675" name=""/>
                <p:cNvSpPr/>
                <p:nvPr/>
              </p:nvSpPr>
              <p:spPr>
                <a:xfrm flipH="1" flipV="1">
                  <a:off x="4451040" y="426996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flipV="1">
                  <a:off x="4497120" y="428580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7" name=""/>
            <p:cNvSpPr/>
            <p:nvPr/>
          </p:nvSpPr>
          <p:spPr>
            <a:xfrm flipV="1">
              <a:off x="4411800" y="567072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4411800" y="508788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4410000" y="2286000"/>
              <a:ext cx="324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618000" y="194940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3618000" y="53308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618000" y="59212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066200" y="2576520"/>
              <a:ext cx="788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ialogu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t>
            </a:r>
            <a:br>
              <a:rPr sz="3600"/>
            </a:b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sp>
        <p:nvSpPr>
          <p:cNvPr id="685" name="PlaceHolder 2"/>
          <p:cNvSpPr>
            <a:spLocks noGrp="1"/>
          </p:cNvSpPr>
          <p:nvPr>
            <p:ph/>
          </p:nvPr>
        </p:nvSpPr>
        <p:spPr>
          <a:xfrm>
            <a:off x="936360" y="21970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supports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performance penalty for all subpar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Vs. Unit Operation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pre-packaged off-the-shelf design solutions that have known quality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the steps that one applies to derive styles, patterns, and reference architectur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ffect the quality properties of the styles they lead to, but are not design solutions by themsel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goals can lead to differen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by themselves are insufficient to achieve quality goals; rather, they are used to understand architectural design o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represent primitive design decisions that lead to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6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used in cases where existing styles are not appropri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in isolation will not yield an architecture.  Additional techniques are required for achieving quality go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760" y="1757520"/>
            <a:ext cx="7839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nsider a large system with which you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iar.  Can you see how unit operations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 to it?  In what ways were they used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what reasons.  If they were not used, has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used difficultie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Unit operations are extremely coarse grained.</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s are always tempered by particular</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ctional requirements and by other qualit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rements (as Ralph Waldo Emerson - an earl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ftware engineer - noted, “Every good quality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xious if unmixed”).  Can you think of ways in</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ich the application of unit operations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empered by the environment in which they are</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95"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Choose an architectural style and try to derive 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rom a monolithic model using unit operation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 the qualities that the unit operations impar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ch those for which the style is kn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Choose a blank entry in the table on page 12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ry to decide when the corresponding quality 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or in conflict with the un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per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ion as a Unit Oper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creates a virtual machine (a component whose function is to hide its underlying imple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ed target platform (when that is distinct from development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interface to heterogeneous set of underlying implementations (such as user interface toolkits)</a:t>
            </a:r>
            <a:endParaRPr b="1" lang="en-US" sz="2400" spc="-1" strike="noStrike">
              <a:solidFill>
                <a:srgbClr val="ffffff"/>
              </a:solidFill>
              <a:latin typeface="Arial"/>
            </a:endParaRPr>
          </a:p>
        </p:txBody>
      </p:sp>
      <p:sp>
        <p:nvSpPr>
          <p:cNvPr id="135" name=""/>
          <p:cNvSpPr/>
          <p:nvPr/>
        </p:nvSpPr>
        <p:spPr>
          <a:xfrm>
            <a:off x="3054240" y="5632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175360" y="554364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75360" y="607680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343400" y="5803920"/>
            <a:ext cx="838080" cy="24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68960" y="6058080"/>
            <a:ext cx="799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ression as a Unit Operation</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combines two components into a single compon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is used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 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 layer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minate overhead from 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up system development</a:t>
            </a:r>
            <a:endParaRPr b="1" lang="en-US" sz="2400" spc="-1" strike="noStrike">
              <a:solidFill>
                <a:srgbClr val="ffffff"/>
              </a:solidFill>
              <a:latin typeface="Arial"/>
            </a:endParaRPr>
          </a:p>
        </p:txBody>
      </p:sp>
      <p:sp>
        <p:nvSpPr>
          <p:cNvPr id="142" name=""/>
          <p:cNvSpPr/>
          <p:nvPr/>
        </p:nvSpPr>
        <p:spPr>
          <a:xfrm>
            <a:off x="5022720" y="52135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495520" y="507348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95520" y="586116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809880" y="5283360"/>
            <a:ext cx="116856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784320" y="5689440"/>
            <a:ext cx="1181160" cy="38124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composition as a Unit Operation</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reaks up a large component into smaller pieces. It can be done in two way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rt-Whole Decomposition</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mponent in the system can be built from a fixed small set of subcomponents.  Example: model view controller, flight simul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supporting integrability, extensibility, and understand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mall number of component types gives a small number of component type interfaces.</a:t>
            </a:r>
            <a:endParaRPr b="1" lang="en-US" sz="2400" spc="-1" strike="noStrike">
              <a:solidFill>
                <a:srgbClr val="ffffff"/>
              </a:solidFill>
              <a:latin typeface="Arial"/>
            </a:endParaRPr>
          </a:p>
        </p:txBody>
      </p:sp>
      <p:sp>
        <p:nvSpPr>
          <p:cNvPr id="151" name=""/>
          <p:cNvSpPr/>
          <p:nvPr/>
        </p:nvSpPr>
        <p:spPr>
          <a:xfrm>
            <a:off x="25336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22840" y="5883120"/>
            <a:ext cx="7236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784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584600" y="5883120"/>
            <a:ext cx="12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9640" y="5464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A Decomposition</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458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component represents a specialization of its parent’s functionality.  Examples: PAC, class hierarch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reuse by increments. </a:t>
            </a:r>
            <a:endParaRPr b="1" lang="en-US" sz="2400" spc="-1" strike="noStrike">
              <a:solidFill>
                <a:srgbClr val="ffffff"/>
              </a:solidFill>
              <a:latin typeface="Arial"/>
            </a:endParaRPr>
          </a:p>
        </p:txBody>
      </p:sp>
      <p:sp>
        <p:nvSpPr>
          <p:cNvPr id="158" name=""/>
          <p:cNvSpPr/>
          <p:nvPr/>
        </p:nvSpPr>
        <p:spPr>
          <a:xfrm>
            <a:off x="2521080" y="440064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73600" y="478800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26160" y="419724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213520" y="4559400"/>
            <a:ext cx="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26160" y="492120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213520" y="5283360"/>
            <a:ext cx="0" cy="355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2616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86728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45200" y="5283360"/>
            <a:ext cx="59688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2T15:14:40Z</cp:lastPrinted>
  <dcterms:modified xsi:type="dcterms:W3CDTF">1998-10-20T13:04:49Z</dcterms:modified>
  <cp:revision>322</cp:revision>
  <dc:subject/>
  <dc:title>Cover Slide Example</dc:title>
</cp:coreProperties>
</file>