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309BA9D-4DC3-4E85-8C75-A25D8B268F87}"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CF6D04F0-A055-4CCB-8694-07EBA7E5355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411BFAB1-1EAD-4AF4-B5EF-6D80535AB97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8: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4:07:58Z</dcterms:modified>
  <cp:revision>275</cp:revision>
  <dc:subject/>
  <dc:title>Cover Slide Example</dc:title>
</cp:coreProperties>
</file>